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984840"/>
            <a:ext cx="8382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98484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98484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984840"/>
            <a:ext cx="269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84840"/>
            <a:ext cx="8382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31240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Economic Impact of IC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Perspective from the Age of Stea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6476760" cy="1828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154800" bIns="15480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ck Craf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upport from the Economic and Social Research Council under grant R000239536 is gratefully acknowled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T Contribution to US Labour Productivity Grow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% points per ye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523880"/>
          <a:ext cx="8383680" cy="46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836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Oliner and Sichel (2003)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gress of Computing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Cost MIPS-E ($199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295280"/>
          <a:ext cx="837432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7432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Nordbaus (2001)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pacts of GPTs on Grow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CT much bigger impact on American growth in recent past than steam ever had on UK grow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sts of computing have fallen much faster than did costs of steam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ciety seems to be getting better at exploiting GPTs more rapid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ailway Capital Authoris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£m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066680"/>
          <a:ext cx="83822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5029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Gayer, Rostow &amp; Schwartz (1953)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lway Share Pri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une 1840=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WR and LNWR in the 1840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1735200"/>
          <a:ext cx="754380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35200"/>
                    <a:ext cx="7543800" cy="477828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ENUE GROW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676520"/>
          <a:ext cx="83804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0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cial Savin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asis of Fogel’s celebrated analysis of the impact of railroads on American economic grow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sures the benefits to users of a new technology from reductions in costs (area under the demand cur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y of the users may be in other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LWAY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676520"/>
          <a:ext cx="83804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0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S OF RETUR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9640"/>
            <a:ext cx="8382240" cy="38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erage private rate of return = 5%, 1830-7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erage social rate of return = 15%, 1830-7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conomic History Perspec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help to mak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tter sense of today’s worl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 not to over-react to changes in the economic environme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s from Railway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way mania ended in te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from railways less than optimists had hop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s exceeded expectations ... but so did cost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reduced pr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gained much more than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eight Social Savings from Railways, c.191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% GD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752480"/>
          <a:ext cx="8381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419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s:  Coatsworth (1981); Summerhill (2003)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SDAQ Composite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981080"/>
          <a:ext cx="83822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43434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ew Economy and Stock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was a bubble but fundamentals (trend growth) had improv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t.coms experience would not have surprised someone who lived through the 1840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conomic gains from ICT not a mirage but few of them will be reaped by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es Innovation Generate Supernormal Profits?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Nordhaus,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novators capture abou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2% of the total socia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ai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rom technological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propriability i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7%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depreciation i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gh (20% per ye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US stock market valuation of ‘new economy’ firms grew between 1995 and 2000 at a rate that implied owners could captu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90% of the social 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et the appropriability of gains from IC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nlikely to m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at of earlier technologies including rail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cial Savings from ICT, 1992-9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% GD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38160">
                    <a:solidFill>
                      <a:srgbClr val="99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Bayoumi &amp; Haacker (2002)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gration of internation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d by reductions in transport and communications costs ….. both steam and ICT do th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s the effect to centralize or disperse economic activ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port/Communication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34880"/>
                <a:tab algn="l" pos="652320"/>
                <a:tab algn="l" pos="870120"/>
                <a:tab algn="l" pos="1087560"/>
                <a:tab algn="l" pos="1305000"/>
                <a:tab algn="l" pos="1522440"/>
                <a:tab algn="l" pos="1739880"/>
                <a:tab algn="l" pos="1957320"/>
                <a:tab algn="l" pos="2174760"/>
                <a:tab algn="l" pos="2392200"/>
                <a:tab algn="l" pos="2610000"/>
                <a:tab algn="l" pos="2827440"/>
                <a:tab algn="l" pos="3044880"/>
                <a:tab algn="l" pos="3262320"/>
                <a:tab algn="l" pos="3479760"/>
                <a:tab algn="l" pos="3697200"/>
                <a:tab algn="l" pos="3914640"/>
                <a:tab algn="l" pos="4132440"/>
                <a:tab algn="l" pos="4349880"/>
                <a:tab algn="l" pos="45673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RY HIG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is disper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34880"/>
                <a:tab algn="l" pos="652320"/>
                <a:tab algn="l" pos="870120"/>
                <a:tab algn="l" pos="1087560"/>
                <a:tab algn="l" pos="1305000"/>
                <a:tab algn="l" pos="1522440"/>
                <a:tab algn="l" pos="1739880"/>
                <a:tab algn="l" pos="1957320"/>
                <a:tab algn="l" pos="2174760"/>
                <a:tab algn="l" pos="2392200"/>
                <a:tab algn="l" pos="2610000"/>
                <a:tab algn="l" pos="2827440"/>
                <a:tab algn="l" pos="3044880"/>
                <a:tab algn="l" pos="3262320"/>
                <a:tab algn="l" pos="3479760"/>
                <a:tab algn="l" pos="3697200"/>
                <a:tab algn="l" pos="3914640"/>
                <a:tab algn="l" pos="4132440"/>
                <a:tab algn="l" pos="4349880"/>
                <a:tab algn="l" pos="45673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34880"/>
                <a:tab algn="l" pos="652320"/>
                <a:tab algn="l" pos="870120"/>
                <a:tab algn="l" pos="1087560"/>
                <a:tab algn="l" pos="1305000"/>
                <a:tab algn="l" pos="1522440"/>
                <a:tab algn="l" pos="1739880"/>
                <a:tab algn="l" pos="1957320"/>
                <a:tab algn="l" pos="2174760"/>
                <a:tab algn="l" pos="2392200"/>
                <a:tab algn="l" pos="2610000"/>
                <a:tab algn="l" pos="2827440"/>
                <a:tab algn="l" pos="3044880"/>
                <a:tab algn="l" pos="3262320"/>
                <a:tab algn="l" pos="3479760"/>
                <a:tab algn="l" pos="3697200"/>
                <a:tab algn="l" pos="3914640"/>
                <a:tab algn="l" pos="4132440"/>
                <a:tab algn="l" pos="4349880"/>
                <a:tab algn="l" pos="45673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RY LOW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is disper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34880"/>
                <a:tab algn="l" pos="652320"/>
                <a:tab algn="l" pos="870120"/>
                <a:tab algn="l" pos="1087560"/>
                <a:tab algn="l" pos="1305000"/>
                <a:tab algn="l" pos="1522440"/>
                <a:tab algn="l" pos="1739880"/>
                <a:tab algn="l" pos="1957320"/>
                <a:tab algn="l" pos="2174760"/>
                <a:tab algn="l" pos="2392200"/>
                <a:tab algn="l" pos="2610000"/>
                <a:tab algn="l" pos="2827440"/>
                <a:tab algn="l" pos="3044880"/>
                <a:tab algn="l" pos="3262320"/>
                <a:tab algn="l" pos="3479760"/>
                <a:tab algn="l" pos="3697200"/>
                <a:tab algn="l" pos="3914640"/>
                <a:tab algn="l" pos="4132440"/>
                <a:tab algn="l" pos="4349880"/>
                <a:tab algn="l" pos="45673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34880"/>
                <a:tab algn="l" pos="652320"/>
                <a:tab algn="l" pos="870120"/>
                <a:tab algn="l" pos="1087560"/>
                <a:tab algn="l" pos="1305000"/>
                <a:tab algn="l" pos="1522440"/>
                <a:tab algn="l" pos="1739880"/>
                <a:tab algn="l" pos="1957320"/>
                <a:tab algn="l" pos="2174760"/>
                <a:tab algn="l" pos="2392200"/>
                <a:tab algn="l" pos="2610000"/>
                <a:tab algn="l" pos="2827440"/>
                <a:tab algn="l" pos="3044880"/>
                <a:tab algn="l" pos="3262320"/>
                <a:tab algn="l" pos="3479760"/>
                <a:tab algn="l" pos="3697200"/>
                <a:tab algn="l" pos="3914640"/>
                <a:tab algn="l" pos="4132440"/>
                <a:tab algn="l" pos="4349880"/>
                <a:tab algn="l" pos="45673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MEDIA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gglomeration with feedback effects based on large markets and link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am Power and Industrial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 transport costs for goods rather than services both on land and at s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y moved closer to natural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ufacturing cities proliferated in Europe and North Amer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ely not the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lways and Effective City Siz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bour productivity in cities rises with own city size and numbers of population ‘within reach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0 minutes seems to be the cut-off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1906, population within 30 km raises productivity, in 1840 within 6 k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s railways had substantial productivity externalities perhaps around 10% GDP in 1906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rafts and Leunig, forthcom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neral Purpose Technologies 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Lipsey et al, 199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time are found to have many uses and complementarities … are perva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have much scope for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ually come to be widely used and lead to (large) rise in aggregate productivity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may have no positive impact on growth or even imply a slowdown p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l Cost of Ocean Shipping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10 = 1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Harley (1988)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am-Powered Global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d manufacturing and the 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t arable agriculture, especially land r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not destroy Lancashire text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 Anglo-American wage gap by 28% poi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’Rourke, 199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at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600200"/>
          <a:ext cx="8077320" cy="4282920"/>
        </p:xfrm>
        <a:graphic>
          <a:graphicData uri="http://schemas.openxmlformats.org/drawingml/2006/table">
            <a:tbl>
              <a:tblPr/>
              <a:tblGrid>
                <a:gridCol w="1594080"/>
                <a:gridCol w="3457440"/>
                <a:gridCol w="3025800"/>
              </a:tblGrid>
              <a:tr h="1041480">
                <a:tc>
                  <a:txBody>
                    <a:bodyPr lIns="90000" rIns="90000" tIns="154800" bIns="154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and and Wale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/d per quart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 of Liverpool/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154800" bIns="154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2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/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09640">
                <a:tc>
                  <a:txBody>
                    <a:bodyPr lIns="90000" rIns="90000" tIns="154800" bIns="154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8/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09640">
                <a:tc>
                  <a:txBody>
                    <a:bodyPr lIns="90000" rIns="90000" tIns="154800" bIns="154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5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11080">
                <a:tc>
                  <a:txBody>
                    <a:bodyPr lIns="90000" rIns="90000" tIns="154800" bIns="154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4800" bIns="154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s:  Harley (1980); Mitchell (1988)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Production and Mass Distribu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handler, 197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bs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American industry in lat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gration of the mark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llowing completion of main rail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d American industrial geography …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ntralizing rather than disper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T and Industrial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re outsourcing: reduced gains from vertical integr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es trade in business services including mutually beneficial offsh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 cities continue to have the great advantage of lots of people close toge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ployer Wage Costs, 200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/hou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9040" y="1447920"/>
          <a:ext cx="77706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447920"/>
                    <a:ext cx="7770600" cy="4647960"/>
                  </a:xfrm>
                  <a:prstGeom prst="rect">
                    <a:avLst/>
                  </a:prstGeom>
                  <a:ln w="9360">
                    <a:solidFill>
                      <a:srgbClr val="99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ureau of Labor Statistics, McKinsey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fshoring of Computer and Business Serv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in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or bo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untri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oss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dividu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; reduces business costs and lowers prices to consumers in OEC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orts of computer and business services =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0.4% US GDP in 20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idence suggests no net employment reduction from outsourcing in U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Amiti &amp; Wei,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nteractions and D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57240">
                    <a:solidFill>
                      <a:srgbClr val="33cc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Venables (2001)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conomic Geography and International Inequal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Redding and Venables,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(60-70%) cross-country income variation accounted for simply by location relative to other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rket access (export deman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pplier access (import suppl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50% closer to trading partners would raise income by about 25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ld Market A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 Redding &amp; Venables (2004)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he Solow Productivity Parado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You can see the computer age everywhere except in the productivity stat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obert Solow, 198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ath of Dist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uld have truly dramatic effect on world distribution of economic activity and inc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“greatly exaggerated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enables some things to go to the periphery but enhances the strengths of the core at the same time (e.g. strengthens London as a financial cent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steam, ICT rearranges geography but doesn’t abolish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Should do a Course in Economic Histor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dder but wiser investors who lost their savings in the dot.com boom and bu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owth economists baffled by the Solow Productivity Parado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tectionist politicians who believe that offshoring will undermine our prospe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am as a General Purpose Techn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am Engines, Railways, Steam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mes Watt’s Invention : 176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rpool &amp; Manchester Railway : 18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amship crosses the Atlantic : 183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rces of Power, 1760-190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ousand Horsepow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676520"/>
          <a:ext cx="8382240" cy="4190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>
                      <a:noFill/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576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576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576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61c51"/>
                      </a:solidFill>
                    </a:lnL>
                    <a:lnR w="28080">
                      <a:solidFill>
                        <a:srgbClr val="e61c51"/>
                      </a:solidFill>
                    </a:lnR>
                    <a:lnT w="28080">
                      <a:solidFill>
                        <a:srgbClr val="e61c51"/>
                      </a:solidFill>
                    </a:lnT>
                    <a:lnB w="28080">
                      <a:solidFill>
                        <a:srgbClr val="e61c51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Kanefsky (1979a, p338); not including internal combustion engin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am Engine Techn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k a long time to become cost effective in most s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al consumption per hp per hour fell from 30 lb pre-Watt to 12.5 lb for Watt engine to 2 lb by 1900 when psi reached 200 compared with 6 in 17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ig breakthrough was not James Watt but the move to the high pressure steam engine after 18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FP spillovers were unimportant prior to 1850 but may have been significant after 18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tal Cost and Annual Cost per Steam Horsepower per ye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£ curr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76520"/>
          <a:ext cx="8305920" cy="38862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5720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timates are for a benchmark textile mill in a low coal cost region like 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Steam Contribution to Growth of Labour Produ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% per ye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676520"/>
          <a:ext cx="83822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22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ource: Crafts (2003): includes railway, steamships, steam eng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5:30:03Z</dcterms:created>
  <dc:creator>Linda Sampson</dc:creator>
  <dc:description/>
  <dc:language>en-US</dc:language>
  <cp:lastModifiedBy>IT Services</cp:lastModifiedBy>
  <dcterms:modified xsi:type="dcterms:W3CDTF">2005-03-10T13:11:53Z</dcterms:modified>
  <cp:revision>47</cp:revision>
  <dc:subject/>
  <dc:title>ECONOMIC PERSPECTIVES ON TECHNOLOGICAL CHANGE</dc:title>
</cp:coreProperties>
</file>