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ct" ContentType="image/x-pict"/>
  <Override PartName="/ppt/media/image10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18.jpeg" ContentType="image/jpeg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9.pct" ContentType="image/x-pict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s autism an extreme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f the male brain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on Baron-Co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ism Research C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ridge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1119240" cy="1143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ex differences in the mind: 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classical vie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tial ability (right hemisphe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es &gt; fe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guage (left hemisphe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males &gt; 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ematical 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es &gt; fe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4343400" cy="298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581640" cy="316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90720" y="762120"/>
            <a:ext cx="362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&gt; gir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y vehicles, constructional toys, and mechanical  t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343400"/>
            <a:ext cx="36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&gt; bo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lls, enacting soc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emotional the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2222" t="0" r="0" b="0"/>
          <a:stretch/>
        </p:blipFill>
        <p:spPr>
          <a:xfrm>
            <a:off x="4724280" y="380880"/>
            <a:ext cx="3853080" cy="2960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2209680" cy="281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95280" y="76212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es &gt; fem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hs, computing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s, engineering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l-ma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962520"/>
            <a:ext cx="419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males &gt; m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school teaching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rsing, social wor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wo psychological process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mpathizing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entify a person’s thoughts and feel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spond to these with an appropriate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ystemizing (S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alyse or build a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chanical, natural, abstract, collect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ifferent profil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7040" y="1752120"/>
            <a:ext cx="7791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 &gt; E : more common in ma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 &gt; S : more common in fema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 &gt;&gt; E : more common in autis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81280" y="380880"/>
            <a:ext cx="510552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mpathiz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8640" y="228240"/>
            <a:ext cx="392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ystemiz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Empathy Quotient (EQ): 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ally enjoy caring for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often tell me I went too far in driving my point home in a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Empathy Quotient 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(max = 80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7914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7.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1.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.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Systemizing Quotient (SQ): exampl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I listen to a piece of music, I always notice the way it’s structu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re was a problem with the electrical wiring in my home, I’d be able to fix it my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riad of difficulti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in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 m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iz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952880" y="2590920"/>
            <a:ext cx="2438640" cy="182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648320" y="2514600"/>
            <a:ext cx="304560" cy="1905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980720" y="2514600"/>
            <a:ext cx="2971800" cy="1905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Systemizing Quotient (SQ)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(max = 80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.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.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.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.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29718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16002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761760" y="3657600"/>
            <a:ext cx="647640" cy="647640"/>
          </a:xfrm>
          <a:prstGeom prst="rtTriangle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33360" y="2286000"/>
            <a:ext cx="647640" cy="647640"/>
          </a:xfrm>
          <a:prstGeom prst="rtTriangle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1447560" y="2971800"/>
            <a:ext cx="647640" cy="647640"/>
          </a:xfrm>
          <a:prstGeom prst="rtTriangle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19160" y="1600200"/>
            <a:ext cx="647640" cy="647640"/>
          </a:xfrm>
          <a:prstGeom prst="rtTriangle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133720" y="228564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47920" y="297144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62120" y="365724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819520" y="159984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133720" y="5028840"/>
            <a:ext cx="647640" cy="64764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2819520" y="4343040"/>
            <a:ext cx="647640" cy="64764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505320" y="3657240"/>
            <a:ext cx="647640" cy="64764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191120" y="2971440"/>
            <a:ext cx="647640" cy="64764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133360" y="502920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819160" y="434340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504960" y="365760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190760" y="297180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43434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50292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50292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6576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505320" y="29714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2819520" y="36572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133720" y="43430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133360" y="43434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2819160" y="36576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04960" y="29718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36576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29718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447560" y="36576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1447920" y="36572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133360" y="29718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819160" y="22860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2133720" y="29714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819520" y="22856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16002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98640" y="1341360"/>
            <a:ext cx="1800" cy="442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36560" y="3641760"/>
            <a:ext cx="4318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47800" y="27957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4780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29000" y="3557520"/>
            <a:ext cx="11448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114800" y="3557520"/>
            <a:ext cx="11448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057400" y="35575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71600" y="35575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42433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43200" y="49291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743200" y="56149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3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35575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3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743200" y="1500120"/>
            <a:ext cx="11448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3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47800" y="14241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2892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70080" y="346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47800" y="41673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6056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47800" y="48531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05360" y="346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3536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47800" y="21099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79480" y="1011240"/>
            <a:ext cx="1981440" cy="5022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mpathiz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90600" y="2733840"/>
            <a:ext cx="502200" cy="1738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ystemiz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66840"/>
            <a:ext cx="7467840" cy="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13316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eme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60892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9016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337104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75192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eme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124160"/>
            <a:ext cx="60984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3743280"/>
            <a:ext cx="609840" cy="38088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3362400"/>
            <a:ext cx="609840" cy="3808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4680" y="2981160"/>
            <a:ext cx="6098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2224080"/>
            <a:ext cx="2743200" cy="37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3240" y="2604960"/>
            <a:ext cx="60948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3505320" y="15998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190760" y="22860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3504960" y="16002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761760" y="43434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762120" y="43430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2860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3434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1447560" y="50292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50292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4191120" y="22856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1447920" y="50288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43434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0292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22860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6002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16002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2860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800" y="901800"/>
            <a:ext cx="7773840" cy="5056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92680" y="195120"/>
            <a:ext cx="48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individuals, not their s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61437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tter plot of EQ and SQ sc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759040" y="223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1676520"/>
          <a:ext cx="8305560" cy="3892320"/>
        </p:xfrm>
        <a:graphic>
          <a:graphicData uri="http://schemas.openxmlformats.org/drawingml/2006/table">
            <a:tbl>
              <a:tblPr/>
              <a:tblGrid>
                <a:gridCol w="1522440"/>
                <a:gridCol w="1766880"/>
                <a:gridCol w="1481040"/>
                <a:gridCol w="1808280"/>
                <a:gridCol w="17269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pe 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E &gt; 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pe 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E = 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pe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 &gt; 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eme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 &gt;&gt; 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219320" y="533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centage showing each brain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88280" cy="2901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83200" y="13525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rca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30200" y="13478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3200" y="5052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spici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92280" y="50436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pir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358040" cy="2889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72760" y="13636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occup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0600" y="50468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si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87600" y="505296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l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60840" y="13572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te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cf4ea"/>
                </a:solidFill>
                <a:latin typeface="Times New Roman"/>
              </a:rPr>
              <a:t>Eyes Tes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f4ea"/>
                </a:solidFill>
                <a:latin typeface="Times New Roman"/>
              </a:rPr>
              <a:t>(max = 2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ema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2.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.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9.5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.6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6.6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.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her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.3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ther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8.9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25399" t="0" r="29881" b="59790"/>
          <a:stretch/>
        </p:blipFill>
        <p:spPr>
          <a:xfrm>
            <a:off x="380880" y="533520"/>
            <a:ext cx="7423200" cy="5603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848720" y="1219320"/>
            <a:ext cx="1295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69520" y="40687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7480" y="6172200"/>
            <a:ext cx="37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MRI whilst empathi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833480" y="542880"/>
            <a:ext cx="546912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inding the target (speed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ema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66.7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6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46.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2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7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her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2.8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ther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48.6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1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riad of strength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lets of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sessio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eti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ilit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th system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havi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ystemiz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505320"/>
            <a:ext cx="2667240" cy="1218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429000"/>
            <a:ext cx="30456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240" y="3505320"/>
            <a:ext cx="3048120" cy="1218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0" t="0" r="17964" b="79233"/>
          <a:stretch/>
        </p:blipFill>
        <p:spPr>
          <a:xfrm>
            <a:off x="152280" y="1295280"/>
            <a:ext cx="8839440" cy="17528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23880" y="3657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x differences whilst systemiz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ye contact at 12-18 months ol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an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rl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2.0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2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y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6.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is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5.3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.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esting for sex differences 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 newbor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25314" t="37500" r="33750" b="15000"/>
          <a:stretch/>
        </p:blipFill>
        <p:spPr>
          <a:xfrm>
            <a:off x="2286000" y="274320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% of babies showing a looking preference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c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bi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q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irl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y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43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iological mechanism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95280" y="266688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etal testoster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l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nital Adrenal Hyperplas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A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rner’s Syndrome (X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cf4ea"/>
                </a:solidFill>
                <a:latin typeface="Times New Roman"/>
              </a:rPr>
              <a:t>Amniocentesis: </a:t>
            </a:r>
            <a:br>
              <a:rPr sz="4400"/>
            </a:br>
            <a:r>
              <a:rPr b="0" lang="en-GB" sz="4400" spc="-1" strike="noStrike">
                <a:solidFill>
                  <a:srgbClr val="8cf4ea"/>
                </a:solidFill>
                <a:latin typeface="Times New Roman"/>
              </a:rPr>
              <a:t>testing Geschwind’s theory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31372" t="29922" r="34509" b="28052"/>
          <a:stretch/>
        </p:blipFill>
        <p:spPr>
          <a:xfrm>
            <a:off x="6019920" y="2057400"/>
            <a:ext cx="1990440" cy="205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410080" y="3733920"/>
            <a:ext cx="534852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etal testoster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fluen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ter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0" t="43637" r="0" b="0"/>
          <a:stretch/>
        </p:blipFill>
        <p:spPr>
          <a:xfrm>
            <a:off x="228600" y="1981080"/>
            <a:ext cx="499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oetal testosterone predict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ye contact (12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guage (18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relationships (48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interests (48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14604" t="0" r="14604" b="0"/>
          <a:stretch/>
        </p:blipFill>
        <p:spPr>
          <a:xfrm>
            <a:off x="6019920" y="2514600"/>
            <a:ext cx="25686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677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cf4ea"/>
                </a:solidFill>
                <a:latin typeface="Times New Roman"/>
              </a:rPr>
              <a:t>Assortative mating of two systemizers?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th parents faster on the Embedded Figures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th parents have a higher A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th parents have higher rate of engineering among their fa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cf4ea"/>
                </a:solidFill>
                <a:latin typeface="Times New Roman"/>
              </a:rPr>
              <a:t>The ‘autistic spectrum’: </a:t>
            </a:r>
            <a:br>
              <a:rPr sz="4400"/>
            </a:br>
            <a:r>
              <a:rPr b="0" lang="en-GB" sz="4400" spc="-1" strike="noStrike">
                <a:solidFill>
                  <a:srgbClr val="8cf4ea"/>
                </a:solidFill>
                <a:latin typeface="Times New Roman"/>
              </a:rPr>
              <a:t>brain type S?</a:t>
            </a:r>
            <a:br>
              <a:rPr sz="4400"/>
            </a:br>
            <a:br>
              <a:rPr sz="4400"/>
            </a:br>
            <a:r>
              <a:rPr b="0" lang="en-GB" sz="3200" spc="-1" strike="noStrike">
                <a:solidFill>
                  <a:srgbClr val="8cf4ea"/>
                </a:solidFill>
                <a:latin typeface="Times New Roman"/>
              </a:rPr>
              <a:t>Autism Spectrum Quotient (AQ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57040" y="3048120"/>
            <a:ext cx="779148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5.8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6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hematicia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1.5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6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le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.8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6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ema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5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569440" y="12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curious incident of the dog in the night”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te of autis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ths student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8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 popul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5%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he autistic spectrum: 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two subgroup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c au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point on the IQ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es language 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perger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s of normal IQ or ab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language 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29718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16002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761760" y="3657600"/>
            <a:ext cx="647640" cy="647640"/>
          </a:xfrm>
          <a:prstGeom prst="rtTriangle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2133360" y="2286000"/>
            <a:ext cx="647640" cy="647640"/>
          </a:xfrm>
          <a:prstGeom prst="rtTriangle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1447560" y="2971800"/>
            <a:ext cx="647640" cy="647640"/>
          </a:xfrm>
          <a:prstGeom prst="rtTriangle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2819160" y="1600200"/>
            <a:ext cx="647640" cy="647640"/>
          </a:xfrm>
          <a:prstGeom prst="rtTriangle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2133720" y="228564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1447920" y="297144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762120" y="365724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2819520" y="159984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2133720" y="5028840"/>
            <a:ext cx="647640" cy="64764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2819520" y="4343040"/>
            <a:ext cx="647640" cy="64764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3505320" y="3657240"/>
            <a:ext cx="647640" cy="64764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4191120" y="2971440"/>
            <a:ext cx="647640" cy="64764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133360" y="502920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2819160" y="434340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3504960" y="365760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4190760" y="297180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43434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50292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0292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36576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505320" y="29714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2819520" y="36572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2133720" y="43430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33360" y="43434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2819160" y="36576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504960" y="29718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6576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29718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1447560" y="36576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1447920" y="36572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2133360" y="29718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2819160" y="22860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2133720" y="29714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819520" y="22856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1120" y="16002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98640" y="1341360"/>
            <a:ext cx="1800" cy="442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36560" y="3641760"/>
            <a:ext cx="4318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47800" y="27957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4780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429000" y="3557520"/>
            <a:ext cx="11448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114800" y="3557520"/>
            <a:ext cx="11448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057400" y="35575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371600" y="35575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743200" y="42433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743200" y="49291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743200" y="56149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3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3557520"/>
            <a:ext cx="9540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3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743200" y="1500120"/>
            <a:ext cx="11448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3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47800" y="14241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2892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70080" y="346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47800" y="41673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6056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47800" y="48531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478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05360" y="346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5360" y="3463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47800" y="21099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79480" y="1011240"/>
            <a:ext cx="1981440" cy="5022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mpathiz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90600" y="2733840"/>
            <a:ext cx="502200" cy="1738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ystemiz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366840"/>
            <a:ext cx="7467840" cy="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91320" y="413316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eme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260892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299016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337104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3751920"/>
            <a:ext cx="2133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eme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24680" y="4124160"/>
            <a:ext cx="60984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24680" y="3743280"/>
            <a:ext cx="609840" cy="38088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24680" y="3362400"/>
            <a:ext cx="609840" cy="3808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24680" y="2981160"/>
            <a:ext cx="6098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91320" y="2224080"/>
            <a:ext cx="2743200" cy="37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23240" y="2604960"/>
            <a:ext cx="60948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3505320" y="15998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4190760" y="22860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3504960" y="16002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761760" y="4343400"/>
            <a:ext cx="647640" cy="64764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762120" y="434304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22860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43434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5400000">
            <a:off x="1447560" y="5029200"/>
            <a:ext cx="647640" cy="647640"/>
          </a:xfrm>
          <a:prstGeom prst="rtTriangl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5029200"/>
            <a:ext cx="64764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4191120" y="22856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1447920" y="5028840"/>
            <a:ext cx="647640" cy="64764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91120" y="43434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1120" y="5029200"/>
            <a:ext cx="647640" cy="6476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22860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16002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47920" y="16002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2286000"/>
            <a:ext cx="647640" cy="647640"/>
          </a:xfrm>
          <a:prstGeom prst="rect">
            <a:avLst/>
          </a:prstGeom>
          <a:solidFill>
            <a:srgbClr val="0000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3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ome of our tea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57040" y="2285640"/>
            <a:ext cx="77914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dsey K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tes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ly Wheelwright, Ofer Go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etal testoster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ecca Knickmey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vetlana Lutchma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born bab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nnifer Connel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Bak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roimag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 Bullmore, Chris Ashw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ard 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799920" cy="9144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59400" y="290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523880" y="3276720"/>
            <a:ext cx="739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ww.autismresearchcentre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1503360"/>
            <a:ext cx="44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more information, vis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Genetics of autism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in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bling risk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‘broader phenotype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031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cf4ea"/>
                </a:solidFill>
                <a:latin typeface="Times New Roman"/>
              </a:rPr>
              <a:t>Autism: the sex ratio 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utism spectrum: 4:1 (male:fema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perger Syndrome: 9: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Hans Asperger (1944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utistic personality is an extreme variant of male intelligenc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autistic individual the male pattern is exaggerated to the extrem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cf4ea"/>
                </a:solidFill>
                <a:latin typeface="Times New Roman"/>
              </a:rPr>
              <a:t>Sex vs. Gende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 1960’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ender’ referred to the inflection of no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72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ohn Money distinguished ‘sex’ from ‘gender’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John/Joan case (David Reimer) (1965-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day in the US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ender’ has replaced ‘sex’, as if it is a synony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f4ea"/>
                </a:solidFill>
                <a:latin typeface="Times New Roman"/>
              </a:rPr>
              <a:t>(At least) 6 ways to think about sex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romosomal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nadal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ain se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der id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der behavi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xual ori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5T11:00:24Z</dcterms:created>
  <dc:creator>Simon Baron-Cohen</dc:creator>
  <dc:description/>
  <dc:language>en-US</dc:language>
  <cp:lastModifiedBy>Simon Baron-Cohen</cp:lastModifiedBy>
  <cp:lastPrinted>2009-04-22T19:24:48Z</cp:lastPrinted>
  <dcterms:modified xsi:type="dcterms:W3CDTF">2005-04-02T04:54:58Z</dcterms:modified>
  <cp:revision>290</cp:revision>
  <dc:subject/>
  <dc:title>Is Autism an Extreme of the Male Brain?</dc:title>
</cp:coreProperties>
</file>