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40570-6CB4-49FF-89F1-687D41A8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10B2F-AE0E-43A4-AAA2-56A1654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378C4-46F2-4921-9580-AF5BCE9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9E731-9E67-44A0-9B4A-7E2D8F2B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3F181-9F55-4584-A324-ED8D530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246E5-75E8-4B8E-B59C-796ADC2A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78D5-BFE6-4320-A0D9-2BD5EDC6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0C26B-84A0-4017-B247-D9DF3DD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129C2-140D-4A6D-9E87-AC320EC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99953-FF39-47D1-84E8-BE48903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2D898-C278-48F3-A14F-7EE82260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5B1A7-578A-4C5A-B89B-DB4CAF48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593F-76EC-45A2-8FAF-000B1FAD545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24000" cy="12222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CB73-2DE7-4CF3-99BC-F57DC36DCCA5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5025-62E8-4AB7-8CCE-A8D9B579E5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87680" cy="5818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2133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rgentina’s ongoing policy challen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7848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entral Bank of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lfonso Prat-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over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Lecture delivered at the London School of Economics,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a benchmark interest ra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206360" y="1905120"/>
            <a:ext cx="6718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19320" y="12193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ving the way to a formal Inflation Targeting reg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39960" y="1706400"/>
            <a:ext cx="726408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19320" y="9907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arly there but not q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95160" y="1689120"/>
            <a:ext cx="73202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llenges for Banking Polic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ck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6668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isk aversion and asymmetric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32767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lance-sheet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utdated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42670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nks l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51460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51460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27920" y="58482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ahoma"/>
              </a:rPr>
              <a:t>TO GUIDE BANKS TO FIX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3733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overeign debt restru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o many constraints, too few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36520" y="2179800"/>
            <a:ext cx="6767640" cy="79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1160" y="2455920"/>
            <a:ext cx="66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oun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92240" y="2455920"/>
            <a:ext cx="44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ris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09880" y="2193840"/>
            <a:ext cx="75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Deposi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83880" y="244476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real chan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61520" y="2693880"/>
            <a:ext cx="14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ill Sans MT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39480" y="231948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NW re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19680" y="2593800"/>
            <a:ext cx="60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han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0120" y="25938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02880" y="2568600"/>
            <a:ext cx="142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Gill Sans MT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97240" y="2209680"/>
            <a:ext cx="50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Fisca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97000" y="2438280"/>
            <a:ext cx="10994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Contribu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(% of GD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36560" y="2205000"/>
            <a:ext cx="672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IMF ne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79880" y="2455920"/>
            <a:ext cx="126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disbursemen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31080" y="2706840"/>
            <a:ext cx="82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(mill. US$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760" y="2973240"/>
            <a:ext cx="55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Mex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21680" y="297324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4 - '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82320" y="29732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1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30280" y="29732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46200" y="297324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9,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25480" y="297324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0.6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0360" y="32227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1680" y="322272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4 - '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2320" y="322272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4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74200" y="322272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46200" y="322272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5,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01080" y="322272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5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3920" y="3473280"/>
            <a:ext cx="45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Kor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21680" y="347328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7 - '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800" y="347328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57640" y="347328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6200" y="347328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31,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68680" y="34732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6.06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6120" y="372420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ndones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21680" y="372420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7 - '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82320" y="372420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88520" y="3724200"/>
            <a:ext cx="47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18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46200" y="372420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6,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25480" y="372420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0.3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1840" y="397512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Thail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21680" y="397512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7 - '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800" y="397512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57640" y="397512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46200" y="397512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43,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8680" y="397512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3.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3720" y="4226040"/>
            <a:ext cx="63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Ecua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21680" y="422604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98 - '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82320" y="42260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30280" y="422604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5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46200" y="422604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21,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27000" y="4226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2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6480" y="4475160"/>
            <a:ext cx="52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Tur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44360" y="44751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00 -'0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82320" y="447516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2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57640" y="44751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9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6200" y="4475160"/>
            <a:ext cx="46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30,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25480" y="4475160"/>
            <a:ext cx="517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13.4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0720" y="472608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Simple aver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67560" y="4726080"/>
            <a:ext cx="39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5160" y="4726080"/>
            <a:ext cx="39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2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90480" y="472608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3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7440" y="47260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6.1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3520" y="522756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21680" y="5227560"/>
            <a:ext cx="59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'81 - '8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82320" y="5227560"/>
            <a:ext cx="38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3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74200" y="522756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-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05600" y="5227560"/>
            <a:ext cx="32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5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63720" y="5227560"/>
            <a:ext cx="22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s.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2680" y="5477040"/>
            <a:ext cx="82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1160" y="5477040"/>
            <a:ext cx="60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'02 - '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95920" y="5477040"/>
            <a:ext cx="53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41,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5160" y="5477040"/>
            <a:ext cx="39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3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18840" y="5477040"/>
            <a:ext cx="47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11,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91360" y="547704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-9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680" y="6010200"/>
            <a:ext cx="415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(1) between the beginning of the crisis and the deposits troug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840" y="6261120"/>
            <a:ext cx="25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(2) Net Worth, two year after the cri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520" y="2171880"/>
            <a:ext cx="676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520" y="217188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6520" y="2952720"/>
            <a:ext cx="676764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520" y="4714920"/>
            <a:ext cx="676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520" y="471492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520" y="4964040"/>
            <a:ext cx="676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520" y="496404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520" y="5214960"/>
            <a:ext cx="676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520" y="5214960"/>
            <a:ext cx="67676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36520" y="5716440"/>
            <a:ext cx="676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6520" y="5716440"/>
            <a:ext cx="67676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838920" y="4813200"/>
            <a:ext cx="1809720" cy="890640"/>
            <a:chOff x="6838920" y="4813200"/>
            <a:chExt cx="1809720" cy="890640"/>
          </a:xfrm>
        </p:grpSpPr>
        <p:sp>
          <p:nvSpPr>
            <p:cNvPr id="454" name=""/>
            <p:cNvSpPr/>
            <p:nvPr/>
          </p:nvSpPr>
          <p:spPr>
            <a:xfrm>
              <a:off x="7315200" y="4813200"/>
              <a:ext cx="1333440" cy="8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838920" y="4963680"/>
              <a:ext cx="380880" cy="614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15200" y="4813200"/>
              <a:ext cx="1333440" cy="89064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7594920" y="4819680"/>
            <a:ext cx="985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-US$6.5 bill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57400" y="5027760"/>
            <a:ext cx="1309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including cash-flow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90760" y="5237280"/>
            <a:ext cx="48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with IF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81920" y="5445000"/>
            <a:ext cx="61920" cy="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791400" y="3009960"/>
            <a:ext cx="1971360" cy="777960"/>
            <a:chOff x="6791400" y="3009960"/>
            <a:chExt cx="1971360" cy="777960"/>
          </a:xfrm>
        </p:grpSpPr>
        <p:sp>
          <p:nvSpPr>
            <p:cNvPr id="462" name=""/>
            <p:cNvSpPr/>
            <p:nvPr/>
          </p:nvSpPr>
          <p:spPr>
            <a:xfrm>
              <a:off x="7149240" y="3009960"/>
              <a:ext cx="1613520" cy="77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91400" y="3098880"/>
              <a:ext cx="243360" cy="63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9240" y="3009960"/>
              <a:ext cx="1613520" cy="7779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079400" y="3016080"/>
            <a:ext cx="1446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approx. US$50 bill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64000" y="3225960"/>
            <a:ext cx="147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including US Treasur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30560" y="3433680"/>
            <a:ext cx="37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fu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219320" y="990720"/>
            <a:ext cx="5333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aling with the pas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219320" y="990720"/>
            <a:ext cx="5333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t focused on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328760" y="1865160"/>
            <a:ext cx="6672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asy go, easy c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219320" y="1943280"/>
            <a:ext cx="6718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066680" y="457200"/>
            <a:ext cx="6553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nks are back in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49320" y="3367080"/>
            <a:ext cx="482760" cy="2637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54240" y="3367080"/>
            <a:ext cx="482760" cy="1189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0960" y="3367080"/>
            <a:ext cx="480960" cy="14637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65880" y="3367080"/>
            <a:ext cx="482400" cy="547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72240" y="3286080"/>
            <a:ext cx="482760" cy="81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87520" y="2776680"/>
            <a:ext cx="1440" cy="354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87520" y="63230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87520" y="57326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87520" y="51404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87520" y="45496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87520" y="39592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87520" y="33670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87520" y="27766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87520" y="3367080"/>
            <a:ext cx="6029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54280" y="1898640"/>
            <a:ext cx="199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Consolidated e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56960" y="607212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8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3680" y="462456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4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68600" y="490068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5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73520" y="398448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-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02920" y="300996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Gill Sans MT"/>
              </a:rPr>
              <a:t>0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86920" y="6219720"/>
            <a:ext cx="22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58200" y="56293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8200" y="5037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8200" y="44467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58200" y="38559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01760" y="32637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01760" y="26733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45440" y="64738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67640" y="6473880"/>
            <a:ext cx="31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52400" y="6473880"/>
            <a:ext cx="37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I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35720" y="647388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II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48200" y="647388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IV.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28680" y="2374920"/>
            <a:ext cx="81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50360" y="239724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R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nking business: upside much greater than downs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2571840"/>
            <a:ext cx="1800" cy="381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34960" y="638820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34960" y="56246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34960" y="48610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34960" y="40971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4960" y="333360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34960" y="25718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34960" y="6388200"/>
            <a:ext cx="625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43496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09700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75904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40848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068720" y="63356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73076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39280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05484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70248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364520" y="6335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474920" y="453024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563840" y="4517640"/>
            <a:ext cx="759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639800" y="4492800"/>
            <a:ext cx="889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728720" y="4428720"/>
            <a:ext cx="76320" cy="637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805040" y="441612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893960" y="4363920"/>
            <a:ext cx="75960" cy="52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969920" y="4300560"/>
            <a:ext cx="88920" cy="63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58840" y="4300560"/>
            <a:ext cx="763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5160" y="4325760"/>
            <a:ext cx="889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224080" y="4287600"/>
            <a:ext cx="7632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300400" y="4249800"/>
            <a:ext cx="7776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8160" y="4249800"/>
            <a:ext cx="889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67080" y="4275000"/>
            <a:ext cx="75960" cy="12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43040" y="4287960"/>
            <a:ext cx="889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31960" y="4287960"/>
            <a:ext cx="7632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708280" y="431280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97200" y="4313160"/>
            <a:ext cx="763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73520" y="431316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62440" y="4325760"/>
            <a:ext cx="7596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8400" y="4325760"/>
            <a:ext cx="889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7320" y="4325760"/>
            <a:ext cx="76320" cy="12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203640" y="4312800"/>
            <a:ext cx="9036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94000" y="4313160"/>
            <a:ext cx="7632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70320" y="4325760"/>
            <a:ext cx="88920" cy="12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59240" y="4325760"/>
            <a:ext cx="75960" cy="51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35200" y="4376880"/>
            <a:ext cx="88920" cy="270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24120" y="4403880"/>
            <a:ext cx="763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00440" y="4416480"/>
            <a:ext cx="889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9360" y="4416480"/>
            <a:ext cx="7632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65680" y="4454640"/>
            <a:ext cx="7596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941640" y="446688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30560" y="4467240"/>
            <a:ext cx="763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106880" y="4454280"/>
            <a:ext cx="903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97240" y="4454640"/>
            <a:ext cx="763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73560" y="445464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62480" y="4505400"/>
            <a:ext cx="7632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38800" y="454356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27720" y="4556160"/>
            <a:ext cx="7596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03680" y="469584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92600" y="4708440"/>
            <a:ext cx="76320" cy="381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68920" y="4746600"/>
            <a:ext cx="88920" cy="1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7840" y="4746600"/>
            <a:ext cx="75960" cy="88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933800" y="4835520"/>
            <a:ext cx="90720" cy="63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24520" y="4898880"/>
            <a:ext cx="7596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0480" y="492444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9400" y="4975200"/>
            <a:ext cx="7632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65720" y="505152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54640" y="5102280"/>
            <a:ext cx="76320" cy="101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30960" y="5203800"/>
            <a:ext cx="7596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06920" y="5280120"/>
            <a:ext cx="88920" cy="50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95840" y="5330880"/>
            <a:ext cx="76320" cy="90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72160" y="5421240"/>
            <a:ext cx="88920" cy="203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61080" y="5624640"/>
            <a:ext cx="76320" cy="88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37400" y="5713560"/>
            <a:ext cx="90360" cy="633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927760" y="5637240"/>
            <a:ext cx="7632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04080" y="5637240"/>
            <a:ext cx="88920" cy="76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3000" y="5713560"/>
            <a:ext cx="7596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68960" y="5751360"/>
            <a:ext cx="88920" cy="51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57880" y="5802480"/>
            <a:ext cx="76320" cy="75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34200" y="5878440"/>
            <a:ext cx="88920" cy="637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23120" y="5942160"/>
            <a:ext cx="75960" cy="37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99080" y="5979960"/>
            <a:ext cx="88920" cy="637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88000" y="6043680"/>
            <a:ext cx="763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64320" y="6068880"/>
            <a:ext cx="8892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53240" y="6094440"/>
            <a:ext cx="777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31000" y="610704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919920" y="6106680"/>
            <a:ext cx="763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96240" y="6107040"/>
            <a:ext cx="759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072200" y="610668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161120" y="6094080"/>
            <a:ext cx="763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37440" y="6094440"/>
            <a:ext cx="8892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26360" y="6107040"/>
            <a:ext cx="76320" cy="1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402680" y="6094080"/>
            <a:ext cx="88560" cy="12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91240" y="6068520"/>
            <a:ext cx="76320" cy="25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567560" y="6043680"/>
            <a:ext cx="88920" cy="25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53640" y="2049480"/>
            <a:ext cx="189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Loans to Private S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82240" y="6272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82240" y="55101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82240" y="47466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82240" y="398304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82240" y="32194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4120" y="24573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5640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8400" y="650232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Sep-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77240" y="650232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May-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4216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30120" y="650232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Sep-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48960" y="650232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May-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1388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14440" y="650232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Sep-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33280" y="650232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May-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85600" y="650232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Ene-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74600" y="2163600"/>
            <a:ext cx="697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ARS bill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2440" y="3754440"/>
            <a:ext cx="1170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49920" y="3767040"/>
            <a:ext cx="505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Dec-98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97280" y="3995640"/>
            <a:ext cx="79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23% of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49640" y="4237200"/>
            <a:ext cx="344160" cy="37800"/>
          </a:xfrm>
          <a:custGeom>
            <a:avLst/>
            <a:gdLst/>
            <a:ahLst/>
            <a:rect l="l" t="t" r="r" b="b"/>
            <a:pathLst>
              <a:path w="217" h="24">
                <a:moveTo>
                  <a:pt x="0" y="0"/>
                </a:moveTo>
                <a:lnTo>
                  <a:pt x="0" y="16"/>
                </a:lnTo>
                <a:lnTo>
                  <a:pt x="217" y="24"/>
                </a:lnTo>
                <a:lnTo>
                  <a:pt x="217" y="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42360" y="6018120"/>
            <a:ext cx="280800" cy="2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6560" y="5573880"/>
            <a:ext cx="915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95400" y="558648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Apr-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38360" y="5815080"/>
            <a:ext cx="71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7% of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682720" y="2762280"/>
            <a:ext cx="5077080" cy="1436760"/>
            <a:chOff x="2682720" y="2762280"/>
            <a:chExt cx="5077080" cy="1436760"/>
          </a:xfrm>
        </p:grpSpPr>
        <p:sp>
          <p:nvSpPr>
            <p:cNvPr id="630" name=""/>
            <p:cNvSpPr/>
            <p:nvPr/>
          </p:nvSpPr>
          <p:spPr>
            <a:xfrm>
              <a:off x="2682720" y="416088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71640" y="41482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47960" y="41227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36880" y="40971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25800" y="40719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14720" y="40464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91040" y="402120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81400" y="39956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70320" y="39704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59240" y="39448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35200" y="3932280"/>
              <a:ext cx="5112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24120" y="3906720"/>
              <a:ext cx="5112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13040" y="38815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1960" y="385596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78280" y="38307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67200" y="38052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56120" y="37800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6480" y="375444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22800" y="37288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11720" y="3703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00640" y="36910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89560" y="366552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65520" y="36399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54440" y="36147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43360" y="35892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19680" y="35640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08600" y="35384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97520" y="351324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87880" y="3487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64200" y="34750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53120" y="34495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42040" y="34243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30960" y="33987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06920" y="3371760"/>
              <a:ext cx="50760" cy="270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8"/>
                  </a:moveTo>
                  <a:lnTo>
                    <a:pt x="0" y="17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95840" y="33465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84760" y="33210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73680" y="32958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50000" y="3270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40360" y="32576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9280" y="32320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18200" y="320688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94520" y="31813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83440" y="31561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72360" y="31305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61280" y="3105000"/>
              <a:ext cx="3780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8"/>
                  </a:moveTo>
                  <a:lnTo>
                    <a:pt x="0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37240" y="30798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6160" y="30542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15080" y="30416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91400" y="3016080"/>
              <a:ext cx="522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81760" y="29908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70680" y="29653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59600" y="29401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35920" y="29145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24840" y="28893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13760" y="28638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02680" y="283860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78640" y="28130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6"/>
                  </a:moveTo>
                  <a:lnTo>
                    <a:pt x="0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67560" y="28004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8"/>
                  </a:moveTo>
                  <a:lnTo>
                    <a:pt x="0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6480" y="2774880"/>
              <a:ext cx="5256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8"/>
                  </a:move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46840" y="2762280"/>
              <a:ext cx="1296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772400" y="2774880"/>
            <a:ext cx="139680" cy="3256200"/>
            <a:chOff x="7772400" y="2774880"/>
            <a:chExt cx="139680" cy="3256200"/>
          </a:xfrm>
        </p:grpSpPr>
        <p:sp>
          <p:nvSpPr>
            <p:cNvPr id="691" name=""/>
            <p:cNvSpPr/>
            <p:nvPr/>
          </p:nvSpPr>
          <p:spPr>
            <a:xfrm>
              <a:off x="7835760" y="2825640"/>
              <a:ext cx="1800" cy="31417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2400" y="277488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88"/>
                  </a:moveTo>
                  <a:lnTo>
                    <a:pt x="40" y="0"/>
                  </a:lnTo>
                  <a:lnTo>
                    <a:pt x="0" y="88"/>
                  </a:lnTo>
                  <a:lnTo>
                    <a:pt x="40" y="56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72400" y="5891040"/>
              <a:ext cx="139680" cy="1400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0"/>
                  </a:moveTo>
                  <a:lnTo>
                    <a:pt x="40" y="88"/>
                  </a:lnTo>
                  <a:lnTo>
                    <a:pt x="88" y="0"/>
                  </a:lnTo>
                  <a:lnTo>
                    <a:pt x="4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6296040" y="4110120"/>
            <a:ext cx="1539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19520" y="4122720"/>
            <a:ext cx="130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Gill Sans MT"/>
              </a:rPr>
              <a:t>Change needed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62360" y="4351320"/>
            <a:ext cx="126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Gill Sans MT"/>
              </a:rPr>
              <a:t>reach 23% of GDP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912720" y="458136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Gill Sans MT"/>
              </a:rPr>
              <a:t>2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34040" y="2303640"/>
            <a:ext cx="10558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612920" y="2316240"/>
            <a:ext cx="45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Apr-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77400" y="2546280"/>
            <a:ext cx="79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ill Sans MT"/>
              </a:rPr>
              <a:t>23% of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9907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unny side of the business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1674720"/>
            <a:ext cx="72392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-152280" y="2895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anks can now deploy AR$12.5 for every AR$1 of capital, to EVERY borrower, regardless of its 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-457200" y="3657600"/>
          <a:ext cx="10439280" cy="27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3657600"/>
                    <a:ext cx="1043928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-573120" y="1981080"/>
            <a:ext cx="971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NZ" sz="2800" spc="-1" strike="noStrike" u="sng">
                <a:solidFill>
                  <a:srgbClr val="333399"/>
                </a:solidFill>
                <a:uFillTx/>
                <a:latin typeface="Tahoma"/>
              </a:rPr>
              <a:t>No borrower discr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anks need to lend to the privat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tor; they are free to do so now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glass is half ful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143000" y="1693800"/>
            <a:ext cx="6858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And the right policy mi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025720" y="2835360"/>
            <a:ext cx="1406520" cy="22680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2240" y="3062160"/>
            <a:ext cx="1407960" cy="181080"/>
          </a:xfrm>
          <a:prstGeom prst="rect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40200" y="3062160"/>
            <a:ext cx="1408320" cy="2826000"/>
            <a:chOff x="4840200" y="3062160"/>
            <a:chExt cx="1408320" cy="2826000"/>
          </a:xfrm>
        </p:grpSpPr>
        <p:sp>
          <p:nvSpPr>
            <p:cNvPr id="108" name=""/>
            <p:cNvSpPr/>
            <p:nvPr/>
          </p:nvSpPr>
          <p:spPr>
            <a:xfrm>
              <a:off x="4840200" y="3062160"/>
              <a:ext cx="1408320" cy="208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40200" y="3083040"/>
              <a:ext cx="1408320" cy="2052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40200" y="3103560"/>
              <a:ext cx="1408320" cy="2052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0200" y="3124080"/>
              <a:ext cx="1408320" cy="190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0200" y="3143160"/>
              <a:ext cx="1408320" cy="20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0200" y="3164040"/>
              <a:ext cx="1408320" cy="2052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0200" y="3184560"/>
              <a:ext cx="1408320" cy="2052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0200" y="3205080"/>
              <a:ext cx="1408320" cy="208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40200" y="3225960"/>
              <a:ext cx="1408320" cy="20520"/>
            </a:xfrm>
            <a:prstGeom prst="rect">
              <a:avLst/>
            </a:prstGeom>
            <a:solidFill>
              <a:srgbClr val="494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40200" y="3246480"/>
              <a:ext cx="1408320" cy="2052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40200" y="3267000"/>
              <a:ext cx="1408320" cy="20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0200" y="3287880"/>
              <a:ext cx="1408320" cy="2052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40200" y="3308400"/>
              <a:ext cx="1408320" cy="2052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40200" y="3328920"/>
              <a:ext cx="1408320" cy="20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40200" y="3349800"/>
              <a:ext cx="1408320" cy="2052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0200" y="3370320"/>
              <a:ext cx="1408320" cy="2052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0200" y="3390840"/>
              <a:ext cx="1408320" cy="190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0200" y="3409920"/>
              <a:ext cx="1408320" cy="2052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40200" y="3430440"/>
              <a:ext cx="1408320" cy="208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40200" y="3451320"/>
              <a:ext cx="1408320" cy="2052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40200" y="3471840"/>
              <a:ext cx="1408320" cy="2052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0200" y="3492360"/>
              <a:ext cx="1408320" cy="208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40200" y="3513240"/>
              <a:ext cx="1408320" cy="2052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0200" y="3533760"/>
              <a:ext cx="1408320" cy="1908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40200" y="3552840"/>
              <a:ext cx="1408320" cy="2052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40200" y="3573360"/>
              <a:ext cx="1408320" cy="2088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40200" y="3594240"/>
              <a:ext cx="1408320" cy="2052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40200" y="3614760"/>
              <a:ext cx="1408320" cy="2052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0200" y="3635280"/>
              <a:ext cx="1408320" cy="208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0200" y="3656160"/>
              <a:ext cx="1408320" cy="2052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40200" y="3676680"/>
              <a:ext cx="1408320" cy="2052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0200" y="3697200"/>
              <a:ext cx="1408320" cy="208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0200" y="3718080"/>
              <a:ext cx="1408320" cy="2052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40200" y="3738600"/>
              <a:ext cx="1408320" cy="2052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40200" y="3759120"/>
              <a:ext cx="1408320" cy="20880"/>
            </a:xfrm>
            <a:prstGeom prst="rect">
              <a:avLst/>
            </a:prstGeom>
            <a:solidFill>
              <a:srgbClr val="575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0200" y="3780000"/>
              <a:ext cx="1408320" cy="2052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40200" y="3800520"/>
              <a:ext cx="1408320" cy="1908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40200" y="3819600"/>
              <a:ext cx="1408320" cy="2052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0200" y="3840120"/>
              <a:ext cx="1408320" cy="2052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0200" y="3860640"/>
              <a:ext cx="1408320" cy="2088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40200" y="3881520"/>
              <a:ext cx="1408320" cy="2052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40200" y="3902040"/>
              <a:ext cx="1408320" cy="20520"/>
            </a:xfrm>
            <a:prstGeom prst="rect">
              <a:avLst/>
            </a:prstGeom>
            <a:solidFill>
              <a:srgbClr val="5c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40200" y="3922560"/>
              <a:ext cx="1408320" cy="208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40200" y="3943440"/>
              <a:ext cx="1408320" cy="1908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40200" y="3962520"/>
              <a:ext cx="1408320" cy="2052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0200" y="3983040"/>
              <a:ext cx="1408320" cy="2052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40200" y="4003560"/>
              <a:ext cx="1408320" cy="208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40200" y="4024440"/>
              <a:ext cx="1408320" cy="2052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40200" y="4044960"/>
              <a:ext cx="1408320" cy="2052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40200" y="4065480"/>
              <a:ext cx="1408320" cy="208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40200" y="4086360"/>
              <a:ext cx="1408320" cy="2052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40200" y="4106880"/>
              <a:ext cx="1408320" cy="20520"/>
            </a:xfrm>
            <a:prstGeom prst="rect">
              <a:avLst/>
            </a:prstGeom>
            <a:solidFill>
              <a:srgbClr val="666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40200" y="4127400"/>
              <a:ext cx="1408320" cy="2088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0200" y="4148280"/>
              <a:ext cx="1408320" cy="2052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0200" y="4168800"/>
              <a:ext cx="1408320" cy="2052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0200" y="4189320"/>
              <a:ext cx="1408320" cy="20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0200" y="4210200"/>
              <a:ext cx="1408320" cy="19080"/>
            </a:xfrm>
            <a:prstGeom prst="rect">
              <a:avLst/>
            </a:prstGeom>
            <a:solidFill>
              <a:srgbClr val="6b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40200" y="4229280"/>
              <a:ext cx="1408320" cy="2052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40200" y="4249800"/>
              <a:ext cx="1408320" cy="2052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40200" y="4270320"/>
              <a:ext cx="1408320" cy="2052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40200" y="4290840"/>
              <a:ext cx="1408320" cy="20880"/>
            </a:xfrm>
            <a:prstGeom prst="rect">
              <a:avLst/>
            </a:prstGeom>
            <a:solidFill>
              <a:srgbClr val="6f6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40200" y="4311720"/>
              <a:ext cx="1408320" cy="2052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40200" y="4332240"/>
              <a:ext cx="1408320" cy="2052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40200" y="4352760"/>
              <a:ext cx="1408320" cy="19080"/>
            </a:xfrm>
            <a:prstGeom prst="rect">
              <a:avLst/>
            </a:prstGeom>
            <a:solidFill>
              <a:srgbClr val="717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40200" y="4371840"/>
              <a:ext cx="1408320" cy="208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40200" y="4392720"/>
              <a:ext cx="1408320" cy="2052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40200" y="4413240"/>
              <a:ext cx="1408320" cy="2052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40200" y="4433760"/>
              <a:ext cx="1408320" cy="20880"/>
            </a:xfrm>
            <a:prstGeom prst="rect">
              <a:avLst/>
            </a:prstGeom>
            <a:solidFill>
              <a:srgbClr val="757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0200" y="4454640"/>
              <a:ext cx="1408320" cy="21960"/>
            </a:xfrm>
            <a:prstGeom prst="rect">
              <a:avLst/>
            </a:prstGeom>
            <a:solidFill>
              <a:srgbClr val="777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40200" y="4476600"/>
              <a:ext cx="1408320" cy="190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40200" y="4495680"/>
              <a:ext cx="1408320" cy="208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40200" y="4516560"/>
              <a:ext cx="1408320" cy="2052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40200" y="4537080"/>
              <a:ext cx="1408320" cy="2052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40200" y="4557600"/>
              <a:ext cx="1408320" cy="2088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40200" y="4578480"/>
              <a:ext cx="1408320" cy="20520"/>
            </a:xfrm>
            <a:prstGeom prst="rect">
              <a:avLst/>
            </a:prstGeom>
            <a:solidFill>
              <a:srgbClr val="7c7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40200" y="4599000"/>
              <a:ext cx="1408320" cy="2052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40200" y="4619520"/>
              <a:ext cx="1408320" cy="1908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40200" y="4638600"/>
              <a:ext cx="1408320" cy="20880"/>
            </a:xfrm>
            <a:prstGeom prst="rect">
              <a:avLst/>
            </a:prstGeom>
            <a:solidFill>
              <a:srgbClr val="7e7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0200" y="4659480"/>
              <a:ext cx="1408320" cy="2052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40200" y="4680000"/>
              <a:ext cx="1408320" cy="2052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0200" y="4700520"/>
              <a:ext cx="1408320" cy="2088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0200" y="4721400"/>
              <a:ext cx="1408320" cy="2052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40200" y="4741920"/>
              <a:ext cx="1408320" cy="2052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40200" y="4762440"/>
              <a:ext cx="1408320" cy="1908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40200" y="4781520"/>
              <a:ext cx="1408320" cy="2052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40200" y="4802040"/>
              <a:ext cx="1408320" cy="208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40200" y="4822920"/>
              <a:ext cx="1408320" cy="2052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40200" y="4843440"/>
              <a:ext cx="1408320" cy="2052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40200" y="4863960"/>
              <a:ext cx="1408320" cy="2232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40200" y="4886280"/>
              <a:ext cx="1408320" cy="190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40200" y="4905360"/>
              <a:ext cx="1408320" cy="2052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0200" y="4925880"/>
              <a:ext cx="1408320" cy="2088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0200" y="4946760"/>
              <a:ext cx="1408320" cy="2052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0200" y="4967280"/>
              <a:ext cx="1408320" cy="2052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40200" y="4987800"/>
              <a:ext cx="1408320" cy="208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40200" y="5008680"/>
              <a:ext cx="1408320" cy="2052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40200" y="5029200"/>
              <a:ext cx="1408320" cy="1908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0200" y="5048280"/>
              <a:ext cx="1408320" cy="2052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40200" y="5068800"/>
              <a:ext cx="1408320" cy="208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0200" y="5089680"/>
              <a:ext cx="1408320" cy="2052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40200" y="5110200"/>
              <a:ext cx="1408320" cy="2052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0200" y="5130720"/>
              <a:ext cx="1408320" cy="20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0200" y="5151600"/>
              <a:ext cx="1408320" cy="2052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0200" y="5172120"/>
              <a:ext cx="1408320" cy="19080"/>
            </a:xfrm>
            <a:prstGeom prst="rect">
              <a:avLst/>
            </a:prstGeom>
            <a:solidFill>
              <a:srgbClr val="909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40200" y="5191200"/>
              <a:ext cx="1408320" cy="2052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0200" y="5211720"/>
              <a:ext cx="1408320" cy="2052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40200" y="5232240"/>
              <a:ext cx="1408320" cy="208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40200" y="5253120"/>
              <a:ext cx="1408320" cy="2052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40200" y="5273640"/>
              <a:ext cx="1408320" cy="2232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0200" y="5295960"/>
              <a:ext cx="1408320" cy="190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0200" y="5315040"/>
              <a:ext cx="1408320" cy="2052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40200" y="5335560"/>
              <a:ext cx="1408320" cy="2052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40200" y="5356080"/>
              <a:ext cx="1408320" cy="2088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40200" y="5376960"/>
              <a:ext cx="1408320" cy="2052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40200" y="5397480"/>
              <a:ext cx="1408320" cy="2052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40200" y="5418000"/>
              <a:ext cx="1408320" cy="20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40200" y="5438880"/>
              <a:ext cx="1408320" cy="190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0200" y="5457960"/>
              <a:ext cx="1408320" cy="2052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0200" y="5478480"/>
              <a:ext cx="1408320" cy="2052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40200" y="5499000"/>
              <a:ext cx="1408320" cy="208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0200" y="5519880"/>
              <a:ext cx="1408320" cy="2052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40200" y="5540400"/>
              <a:ext cx="1408320" cy="2052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40200" y="5560920"/>
              <a:ext cx="1408320" cy="20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40200" y="5581800"/>
              <a:ext cx="1408320" cy="190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40200" y="5600880"/>
              <a:ext cx="1408320" cy="2052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40200" y="5621400"/>
              <a:ext cx="1408320" cy="2052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40200" y="5641920"/>
              <a:ext cx="1408320" cy="2052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40200" y="5662440"/>
              <a:ext cx="1408320" cy="20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0200" y="5683320"/>
              <a:ext cx="1408320" cy="2232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40200" y="5705640"/>
              <a:ext cx="1408320" cy="1872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40200" y="5724360"/>
              <a:ext cx="1408320" cy="20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40200" y="5745240"/>
              <a:ext cx="1408320" cy="2052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0200" y="5765760"/>
              <a:ext cx="1408320" cy="2052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40200" y="5786280"/>
              <a:ext cx="1408320" cy="20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0200" y="5807160"/>
              <a:ext cx="1408320" cy="2052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40200" y="5827680"/>
              <a:ext cx="1408320" cy="2052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40200" y="5848200"/>
              <a:ext cx="1408320" cy="190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0200" y="5867280"/>
              <a:ext cx="1408320" cy="20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40200" y="3062160"/>
            <a:ext cx="1408320" cy="2826000"/>
          </a:xfrm>
          <a:prstGeom prst="rect">
            <a:avLst/>
          </a:prstGeom>
          <a:noFill/>
          <a:ln w="7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69840" y="2487600"/>
            <a:ext cx="1800" cy="4019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9840" y="6507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9840" y="5934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69840" y="5359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69840" y="47862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9840" y="4210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69840" y="3637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69840" y="30621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69840" y="2487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9840" y="3062160"/>
            <a:ext cx="633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69840" y="30160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04040" y="301608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2280" y="1811160"/>
            <a:ext cx="5788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Real Interest Rate, Real Exchange Rate and Primary Surplus 2003-2004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10480" y="2058840"/>
            <a:ext cx="6598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(Real Exchange Rate % change and Real Interest Rate and Primary Surplus differe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37560" y="2298600"/>
            <a:ext cx="2138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against 1994-2001 avera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94960" y="25844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3,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84200" y="330660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3,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8680" y="5952960"/>
            <a:ext cx="29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49,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5160" y="640872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5160" y="583416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5160" y="526104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5160" y="468648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5160" y="411156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5160" y="3537000"/>
            <a:ext cx="20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5760" y="29638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440" y="23893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53640" y="2276640"/>
            <a:ext cx="20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 MT"/>
              </a:rPr>
              <a:t>p.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55520" y="5367240"/>
            <a:ext cx="96840" cy="96840"/>
          </a:xfrm>
          <a:prstGeom prst="rect">
            <a:avLst/>
          </a:prstGeom>
          <a:solidFill>
            <a:srgbClr val="cc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60640" y="5319720"/>
            <a:ext cx="105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rimary Surpl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55520" y="5773680"/>
            <a:ext cx="96840" cy="96840"/>
          </a:xfrm>
          <a:prstGeom prst="rect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71800" y="5726160"/>
            <a:ext cx="196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Real Interest Rate (30-day C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055520" y="6178680"/>
            <a:ext cx="96840" cy="98280"/>
            <a:chOff x="1055520" y="6178680"/>
            <a:chExt cx="96840" cy="98280"/>
          </a:xfrm>
        </p:grpSpPr>
        <p:sp>
          <p:nvSpPr>
            <p:cNvPr id="279" name=""/>
            <p:cNvSpPr/>
            <p:nvPr/>
          </p:nvSpPr>
          <p:spPr>
            <a:xfrm>
              <a:off x="1055520" y="6178680"/>
              <a:ext cx="96840" cy="14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55520" y="6180120"/>
              <a:ext cx="96840" cy="3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55520" y="6183360"/>
              <a:ext cx="96840" cy="14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5520" y="6184800"/>
              <a:ext cx="96840" cy="3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55520" y="6188040"/>
              <a:ext cx="96840" cy="180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5520" y="6189840"/>
              <a:ext cx="96840" cy="14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5520" y="6191280"/>
              <a:ext cx="96840" cy="3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5520" y="6194520"/>
              <a:ext cx="96840" cy="14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5520" y="6195960"/>
              <a:ext cx="96840" cy="18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5520" y="6197760"/>
              <a:ext cx="96840" cy="28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55520" y="6200640"/>
              <a:ext cx="96840" cy="180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55520" y="6202440"/>
              <a:ext cx="96840" cy="1440"/>
            </a:xfrm>
            <a:prstGeom prst="rect">
              <a:avLst/>
            </a:prstGeom>
            <a:solidFill>
              <a:srgbClr val="575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5520" y="6203880"/>
              <a:ext cx="96840" cy="3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55520" y="6207120"/>
              <a:ext cx="96840" cy="14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55520" y="6208560"/>
              <a:ext cx="96840" cy="180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5520" y="6210360"/>
              <a:ext cx="96840" cy="324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5520" y="6213600"/>
              <a:ext cx="96840" cy="14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55520" y="6215040"/>
              <a:ext cx="96840" cy="32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5520" y="6218280"/>
              <a:ext cx="96840" cy="1440"/>
            </a:xfrm>
            <a:prstGeom prst="rect">
              <a:avLst/>
            </a:prstGeom>
            <a:solidFill>
              <a:srgbClr val="6b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55520" y="6219720"/>
              <a:ext cx="96840" cy="180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55520" y="6221520"/>
              <a:ext cx="96840" cy="3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5520" y="6224760"/>
              <a:ext cx="96840" cy="14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5520" y="6226200"/>
              <a:ext cx="96840" cy="14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55520" y="6227640"/>
              <a:ext cx="96840" cy="324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5520" y="6230880"/>
              <a:ext cx="96840" cy="180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5520" y="6232680"/>
              <a:ext cx="96840" cy="1440"/>
            </a:xfrm>
            <a:prstGeom prst="rect">
              <a:avLst/>
            </a:prstGeom>
            <a:solidFill>
              <a:srgbClr val="7e7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55520" y="6234120"/>
              <a:ext cx="96840" cy="324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55520" y="6237360"/>
              <a:ext cx="96840" cy="14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55520" y="6238800"/>
              <a:ext cx="96840" cy="180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55520" y="6240600"/>
              <a:ext cx="96840" cy="2880"/>
            </a:xfrm>
            <a:prstGeom prst="rect">
              <a:avLst/>
            </a:prstGeom>
            <a:solidFill>
              <a:srgbClr val="878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5520" y="6243480"/>
              <a:ext cx="96840" cy="18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55520" y="6245280"/>
              <a:ext cx="96840" cy="14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55520" y="6246720"/>
              <a:ext cx="96840" cy="32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55520" y="6249960"/>
              <a:ext cx="96840" cy="14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55520" y="6251400"/>
              <a:ext cx="96840" cy="3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55520" y="6254640"/>
              <a:ext cx="96840" cy="180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5520" y="6256440"/>
              <a:ext cx="96840" cy="14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55520" y="6257880"/>
              <a:ext cx="96840" cy="3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6261120"/>
              <a:ext cx="96840" cy="14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55520" y="6262560"/>
              <a:ext cx="96840" cy="18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55520" y="6264360"/>
              <a:ext cx="96840" cy="32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55520" y="6267600"/>
              <a:ext cx="96840" cy="14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55520" y="6269040"/>
              <a:ext cx="96840" cy="14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5520" y="6270480"/>
              <a:ext cx="96840" cy="3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55520" y="6273720"/>
              <a:ext cx="96840" cy="18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5520" y="6275520"/>
              <a:ext cx="96840" cy="1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055520" y="6178680"/>
            <a:ext cx="96840" cy="98280"/>
          </a:xfrm>
          <a:prstGeom prst="rect">
            <a:avLst/>
          </a:prstGeom>
          <a:noFill/>
          <a:ln w="7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9480" y="6130800"/>
            <a:ext cx="20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Multilateral Real Exchange 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84760" y="5896080"/>
            <a:ext cx="1317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35880" y="5904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400" y="6532560"/>
            <a:ext cx="7048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xed investment finally adding to the capital sto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955800" y="1712880"/>
            <a:ext cx="71974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14400" y="8380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uman capital no longer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82640" y="1820880"/>
            <a:ext cx="7066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hallenges for Monetary Polic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put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a poor track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mmercial bank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large counterparty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32767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conomic environmen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shrinking balance sheet and uncertain money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ublic sector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division of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42670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entral Bank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 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8124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8124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75000"/>
              <a:buFont typeface="Tahoma"/>
              <a:buChar char="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1320" y="5848200"/>
            <a:ext cx="83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ahoma"/>
              </a:rPr>
              <a:t>TO TURN THE CENTRAL BANK INTO A CENTRAL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History is not on our s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62120" y="1714680"/>
            <a:ext cx="7315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131840" y="1828800"/>
            <a:ext cx="6564240" cy="46735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aftershocks of the cri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009800" y="1768320"/>
            <a:ext cx="6718320" cy="4762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90720" y="1790640"/>
            <a:ext cx="6718320" cy="47624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43000" y="1863720"/>
            <a:ext cx="6564240" cy="4673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219320" y="6400800"/>
            <a:ext cx="678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Gill Sans MT"/>
              </a:rPr>
              <a:t>* Contribution by source of money cre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ing the spot FX market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393920" y="1960560"/>
            <a:ext cx="61498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22:39:15Z</dcterms:created>
  <dc:creator> </dc:creator>
  <dc:description/>
  <dc:language>en-US</dc:language>
  <cp:lastModifiedBy>B.C.R.A.</cp:lastModifiedBy>
  <dcterms:modified xsi:type="dcterms:W3CDTF">2004-05-13T16:04:29Z</dcterms:modified>
  <cp:revision>575</cp:revision>
  <dc:subject/>
  <dc:title>Presentación de Coyuntura</dc:title>
</cp:coreProperties>
</file>