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2EFDF0-E51B-4A87-B39A-48FC86225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19B08C-CAE3-49F1-9C2C-6E8EAAC1A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15B261-6ADB-4135-81AC-512766086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50D000-CBFF-43AD-B44C-95DE95510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631CC9-0BAD-40FE-ABAB-72768761E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45DC60-7348-4267-A51F-C9C9A2B0E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E166E4-077B-41FA-93D4-BF3C6DBA3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A5DAFA-C052-41CB-A48D-D9894AD1D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60D6AC-59B1-4C95-8328-FF6188A2A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2CF4C2-BDC5-4DDB-82D1-9FB6B3594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BD8DA6-3038-4500-B8D9-02B2A5227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B6500F-2F8F-46E2-8E83-E78AD0220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64A98-8CF8-432E-ABF5-BBDCAC8AD8DC}" type="datetime">
              <a:rPr b="0" lang="en-US" sz="1400" spc="-1" strike="noStrike">
                <a:solidFill>
                  <a:srgbClr val="000000"/>
                </a:solidFill>
                <a:latin typeface="Tahoma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" name="" descr=""/>
          <p:cNvPicPr/>
          <p:nvPr/>
        </p:nvPicPr>
        <p:blipFill>
          <a:blip r:embed="rId2"/>
          <a:stretch/>
        </p:blipFill>
        <p:spPr>
          <a:xfrm>
            <a:off x="7620120" y="228600"/>
            <a:ext cx="1224000" cy="1222200"/>
          </a:xfrm>
          <a:prstGeom prst="rect">
            <a:avLst/>
          </a:prstGeom>
          <a:ln w="0">
            <a:noFill/>
          </a:ln>
        </p:spPr>
      </p:pic>
      <p:sp>
        <p:nvSpPr>
          <p:cNvPr id="10" name=""/>
          <p:cNvSpPr/>
          <p:nvPr/>
        </p:nvSpPr>
        <p:spPr>
          <a:xfrm>
            <a:off x="1150920" y="617400"/>
            <a:ext cx="779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3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8ACC3-9479-4906-BA51-35968055F79A}" type="datetime">
              <a:rPr b="0" lang="en-US" sz="1400" spc="-1" strike="noStrike">
                <a:solidFill>
                  <a:srgbClr val="1c1c1c"/>
                </a:solidFill>
                <a:latin typeface="Tahoma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4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5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A54CC-370B-4B2E-A975-99CB31224CA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5257800" y="685800"/>
            <a:ext cx="3487680" cy="581832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7720" y="213336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Argentina’s ongoing policy challeng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784872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Central Bank of Argenti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Alfonso Prat-G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Govern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Lecture delivered at the London School of Economics, May 20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294920" y="1142640"/>
            <a:ext cx="76201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reating a benchmark interest rat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52" name="" descr=""/>
          <p:cNvPicPr/>
          <p:nvPr/>
        </p:nvPicPr>
        <p:blipFill>
          <a:blip r:embed="rId1"/>
          <a:stretch/>
        </p:blipFill>
        <p:spPr>
          <a:xfrm>
            <a:off x="1206360" y="1905120"/>
            <a:ext cx="671832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/>
          <p:nvPr/>
        </p:nvSpPr>
        <p:spPr>
          <a:xfrm>
            <a:off x="1219320" y="1219320"/>
            <a:ext cx="67816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Paving the way to a formal Inflation Targeting regim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1"/>
          <a:stretch/>
        </p:blipFill>
        <p:spPr>
          <a:xfrm>
            <a:off x="939960" y="1706400"/>
            <a:ext cx="7264080" cy="515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1219320" y="990720"/>
            <a:ext cx="5257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Nearly there but not qu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1"/>
          <a:stretch/>
        </p:blipFill>
        <p:spPr>
          <a:xfrm>
            <a:off x="695160" y="1689120"/>
            <a:ext cx="7320240" cy="515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219320" y="990360"/>
            <a:ext cx="5790960" cy="533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hallenges for Banking Polic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914040" y="17521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Lack of re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9" name=""/>
          <p:cNvSpPr/>
          <p:nvPr/>
        </p:nvSpPr>
        <p:spPr>
          <a:xfrm>
            <a:off x="914400" y="2666880"/>
            <a:ext cx="79246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80880" indent="-380880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Risk aversion and asymmetric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914400" y="3276720"/>
            <a:ext cx="7543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80880" indent="-3808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Balance-sheet mismatch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914400" y="2209680"/>
            <a:ext cx="7543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80880" indent="-380880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Outdated ru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914400" y="4267080"/>
            <a:ext cx="75438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80880" indent="-380880">
              <a:lnSpc>
                <a:spcPct val="100000"/>
              </a:lnSpc>
              <a:spcBef>
                <a:spcPts val="176"/>
              </a:spcBef>
              <a:buClr>
                <a:srgbClr val="3333cc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Banks l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2514600" indent="-380880">
              <a:lnSpc>
                <a:spcPct val="100000"/>
              </a:lnSpc>
              <a:spcBef>
                <a:spcPts val="176"/>
              </a:spcBef>
              <a:buClr>
                <a:srgbClr val="3333cc"/>
              </a:buClr>
              <a:buSzPct val="75000"/>
              <a:buFont typeface="Tahoma"/>
              <a:buChar char="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instru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2514600" indent="-380880">
              <a:lnSpc>
                <a:spcPct val="100000"/>
              </a:lnSpc>
              <a:spcBef>
                <a:spcPts val="176"/>
              </a:spcBef>
              <a:buClr>
                <a:srgbClr val="3333cc"/>
              </a:buClr>
              <a:buSzPct val="75000"/>
              <a:buFont typeface="Tahoma"/>
              <a:buChar char="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pract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627920" y="5848200"/>
            <a:ext cx="603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9900"/>
                </a:solidFill>
                <a:latin typeface="Tahoma"/>
              </a:rPr>
              <a:t>TO GUIDE BANKS TO FIX THEMSEL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914400" y="3733920"/>
            <a:ext cx="7543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80880" indent="-3808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Sovereign debt restructu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990360" y="456840"/>
            <a:ext cx="6629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Too many constraints, too few resourc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6" name=""/>
          <p:cNvSpPr/>
          <p:nvPr/>
        </p:nvSpPr>
        <p:spPr>
          <a:xfrm>
            <a:off x="236520" y="2179800"/>
            <a:ext cx="6767640" cy="7905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41160" y="2455920"/>
            <a:ext cx="6638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Gill Sans MT"/>
              </a:rPr>
              <a:t>Countr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992240" y="2455920"/>
            <a:ext cx="4456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Gill Sans MT"/>
              </a:rPr>
              <a:t>Crisi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909880" y="2193840"/>
            <a:ext cx="7552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Gill Sans MT"/>
              </a:rPr>
              <a:t>Deposits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783880" y="2444760"/>
            <a:ext cx="1009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Gill Sans MT"/>
              </a:rPr>
              <a:t>real change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161520" y="2693880"/>
            <a:ext cx="1425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Gill Sans MT"/>
              </a:rPr>
              <a:t>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939480" y="2319480"/>
            <a:ext cx="7002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Gill Sans MT"/>
              </a:rPr>
              <a:t>NW real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919680" y="2593800"/>
            <a:ext cx="6026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Gill Sans MT"/>
              </a:rPr>
              <a:t>chang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70120" y="2593800"/>
            <a:ext cx="435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502880" y="2568600"/>
            <a:ext cx="1425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Gill Sans MT"/>
              </a:rPr>
              <a:t>(2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097240" y="2209680"/>
            <a:ext cx="500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Gill Sans MT"/>
              </a:rPr>
              <a:t>Fiscal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797000" y="2438280"/>
            <a:ext cx="1099440" cy="5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Gill Sans MT"/>
              </a:rPr>
              <a:t>Contribution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Gill Sans MT"/>
              </a:rPr>
              <a:t>  </a:t>
            </a:r>
            <a:r>
              <a:rPr b="1" lang="en-US" sz="1300" spc="-1" strike="noStrike">
                <a:solidFill>
                  <a:srgbClr val="000000"/>
                </a:solidFill>
                <a:latin typeface="Gill Sans MT"/>
              </a:rPr>
              <a:t>(% of GDP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136560" y="2205000"/>
            <a:ext cx="6728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Gill Sans MT"/>
              </a:rPr>
              <a:t>IMF net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879880" y="2455920"/>
            <a:ext cx="12672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Gill Sans MT"/>
              </a:rPr>
              <a:t>disbursements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6031080" y="2706840"/>
            <a:ext cx="8265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Gill Sans MT"/>
              </a:rPr>
              <a:t>(mill. US$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716760" y="2973240"/>
            <a:ext cx="5508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Gill Sans MT"/>
              </a:rPr>
              <a:t>Mexic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921680" y="2973240"/>
            <a:ext cx="5904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Gill Sans MT"/>
              </a:rPr>
              <a:t>'94 - '95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082320" y="2973240"/>
            <a:ext cx="380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Gill Sans MT"/>
              </a:rPr>
              <a:t>-15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130280" y="2973240"/>
            <a:ext cx="380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Gill Sans MT"/>
              </a:rPr>
              <a:t>-64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146200" y="2973240"/>
            <a:ext cx="4654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Gill Sans MT"/>
              </a:rPr>
              <a:t>19,3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6225480" y="2973240"/>
            <a:ext cx="5173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Gill Sans MT"/>
              </a:rPr>
              <a:t>10.67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630360" y="3222720"/>
            <a:ext cx="7963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Gill Sans MT"/>
              </a:rPr>
              <a:t>Venezuel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921680" y="3222720"/>
            <a:ext cx="5904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Gill Sans MT"/>
              </a:rPr>
              <a:t>'94 - '95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3082320" y="3222720"/>
            <a:ext cx="380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Gill Sans MT"/>
              </a:rPr>
              <a:t>-43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174200" y="3222720"/>
            <a:ext cx="2858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Gill Sans MT"/>
              </a:rPr>
              <a:t>-6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146200" y="3222720"/>
            <a:ext cx="4654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Gill Sans MT"/>
              </a:rPr>
              <a:t>15,0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6301080" y="3222720"/>
            <a:ext cx="3376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Gill Sans MT"/>
              </a:rPr>
              <a:t>-657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763920" y="3473280"/>
            <a:ext cx="4564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Gill Sans MT"/>
              </a:rPr>
              <a:t>Kore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1921680" y="3473280"/>
            <a:ext cx="5904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Gill Sans MT"/>
              </a:rPr>
              <a:t>'97 - '0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124800" y="3473280"/>
            <a:ext cx="2858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Gill Sans MT"/>
              </a:rPr>
              <a:t>-6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157640" y="3473280"/>
            <a:ext cx="326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Gill Sans MT"/>
              </a:rPr>
              <a:t>15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146200" y="3473280"/>
            <a:ext cx="4654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Gill Sans MT"/>
              </a:rPr>
              <a:t>31,2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6268680" y="3473280"/>
            <a:ext cx="4230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Gill Sans MT"/>
              </a:rPr>
              <a:t>6.069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636120" y="3724200"/>
            <a:ext cx="7689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Gill Sans MT"/>
              </a:rPr>
              <a:t>Indonesi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1921680" y="3724200"/>
            <a:ext cx="5904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Gill Sans MT"/>
              </a:rPr>
              <a:t>'97 - '0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082320" y="3724200"/>
            <a:ext cx="380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Gill Sans MT"/>
              </a:rPr>
              <a:t>-13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088520" y="3724200"/>
            <a:ext cx="4748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Gill Sans MT"/>
              </a:rPr>
              <a:t>-183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146200" y="3724200"/>
            <a:ext cx="4654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Gill Sans MT"/>
              </a:rPr>
              <a:t>56,8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6225480" y="3724200"/>
            <a:ext cx="5173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Gill Sans MT"/>
              </a:rPr>
              <a:t>10.348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81840" y="3975120"/>
            <a:ext cx="668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Gill Sans MT"/>
              </a:rPr>
              <a:t>Thailan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1921680" y="3975120"/>
            <a:ext cx="5904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Gill Sans MT"/>
              </a:rPr>
              <a:t>'97 - '0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124800" y="3975120"/>
            <a:ext cx="2858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Gill Sans MT"/>
              </a:rPr>
              <a:t>-2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157640" y="3975120"/>
            <a:ext cx="326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Gill Sans MT"/>
              </a:rPr>
              <a:t>58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5146200" y="3975120"/>
            <a:ext cx="4654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Gill Sans MT"/>
              </a:rPr>
              <a:t>43,8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268680" y="3975120"/>
            <a:ext cx="4230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Gill Sans MT"/>
              </a:rPr>
              <a:t>3.212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93720" y="4226040"/>
            <a:ext cx="6346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Gill Sans MT"/>
              </a:rPr>
              <a:t>Ecuado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1921680" y="4226040"/>
            <a:ext cx="5904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Gill Sans MT"/>
              </a:rPr>
              <a:t>'98 - '0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082320" y="4226040"/>
            <a:ext cx="380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Gill Sans MT"/>
              </a:rPr>
              <a:t>-24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130280" y="4226040"/>
            <a:ext cx="380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Gill Sans MT"/>
              </a:rPr>
              <a:t>-59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146200" y="4226040"/>
            <a:ext cx="4654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Gill Sans MT"/>
              </a:rPr>
              <a:t>21,7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6327000" y="4226040"/>
            <a:ext cx="284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Gill Sans MT"/>
              </a:rPr>
              <a:t>298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726480" y="4475160"/>
            <a:ext cx="5281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Gill Sans MT"/>
              </a:rPr>
              <a:t>Turke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944360" y="4475160"/>
            <a:ext cx="5479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Gill Sans MT"/>
              </a:rPr>
              <a:t>'00 -'02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082320" y="4475160"/>
            <a:ext cx="380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Gill Sans MT"/>
              </a:rPr>
              <a:t>-27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157640" y="4475160"/>
            <a:ext cx="326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Gill Sans MT"/>
              </a:rPr>
              <a:t>97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5146200" y="4475160"/>
            <a:ext cx="4654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Gill Sans MT"/>
              </a:rPr>
              <a:t>30,5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225480" y="4475160"/>
            <a:ext cx="5173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Gill Sans MT"/>
              </a:rPr>
              <a:t>13.419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60720" y="4726080"/>
            <a:ext cx="1262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Gill Sans MT"/>
              </a:rPr>
              <a:t>Simple averag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067560" y="4726080"/>
            <a:ext cx="3909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Gill Sans MT"/>
              </a:rPr>
              <a:t>-19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4115160" y="4726080"/>
            <a:ext cx="3909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Gill Sans MT"/>
              </a:rPr>
              <a:t>-20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190480" y="4726080"/>
            <a:ext cx="3376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Gill Sans MT"/>
              </a:rPr>
              <a:t>31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6247440" y="4726080"/>
            <a:ext cx="425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Gill Sans MT"/>
              </a:rPr>
              <a:t>6.194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623520" y="5227560"/>
            <a:ext cx="767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Gill Sans MT"/>
              </a:rPr>
              <a:t>Argentin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1921680" y="5227560"/>
            <a:ext cx="5904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Gill Sans MT"/>
              </a:rPr>
              <a:t>'81 - '82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082320" y="5227560"/>
            <a:ext cx="380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Gill Sans MT"/>
              </a:rPr>
              <a:t>-36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174200" y="5227560"/>
            <a:ext cx="2858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Gill Sans MT"/>
              </a:rPr>
              <a:t>-9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205600" y="5227560"/>
            <a:ext cx="326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Gill Sans MT"/>
              </a:rPr>
              <a:t>55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6363720" y="5227560"/>
            <a:ext cx="2246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Gill Sans MT"/>
              </a:rPr>
              <a:t>s.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62680" y="5477040"/>
            <a:ext cx="8283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Gill Sans MT"/>
              </a:rPr>
              <a:t>Argentin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1901160" y="5477040"/>
            <a:ext cx="605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Gill Sans MT"/>
              </a:rPr>
              <a:t>'02 - '03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2995920" y="5477040"/>
            <a:ext cx="532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Gill Sans MT"/>
              </a:rPr>
              <a:t>-41,8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115160" y="5477040"/>
            <a:ext cx="3909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Gill Sans MT"/>
              </a:rPr>
              <a:t>-37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5118840" y="5477040"/>
            <a:ext cx="479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Gill Sans MT"/>
              </a:rPr>
              <a:t>11,4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6291360" y="5477040"/>
            <a:ext cx="3376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Gill Sans MT"/>
              </a:rPr>
              <a:t>-93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39680" y="6010200"/>
            <a:ext cx="41598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Gill Sans MT"/>
              </a:rPr>
              <a:t>(1) between the beginning of the crisis and the deposits trough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13840" y="6261120"/>
            <a:ext cx="2506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Gill Sans MT"/>
              </a:rPr>
              <a:t>(2) Net Worth, two year after the crisi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236520" y="2171880"/>
            <a:ext cx="67676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36520" y="2171880"/>
            <a:ext cx="6767640" cy="15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36520" y="2952720"/>
            <a:ext cx="6767640" cy="31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236520" y="4714920"/>
            <a:ext cx="67676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236520" y="4714920"/>
            <a:ext cx="6767640" cy="15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236520" y="4964040"/>
            <a:ext cx="67676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36520" y="4964040"/>
            <a:ext cx="6767640" cy="15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236520" y="5214960"/>
            <a:ext cx="67676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36520" y="5214960"/>
            <a:ext cx="6767640" cy="15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236520" y="5716440"/>
            <a:ext cx="67676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236520" y="5716440"/>
            <a:ext cx="6767640" cy="16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6838920" y="4813200"/>
            <a:ext cx="1809720" cy="890640"/>
            <a:chOff x="6838920" y="4813200"/>
            <a:chExt cx="1809720" cy="890640"/>
          </a:xfrm>
        </p:grpSpPr>
        <p:sp>
          <p:nvSpPr>
            <p:cNvPr id="454" name=""/>
            <p:cNvSpPr/>
            <p:nvPr/>
          </p:nvSpPr>
          <p:spPr>
            <a:xfrm>
              <a:off x="7315200" y="4813200"/>
              <a:ext cx="1333440" cy="890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 flipV="1">
              <a:off x="6838920" y="4963680"/>
              <a:ext cx="380880" cy="61452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7315200" y="4813200"/>
              <a:ext cx="1333440" cy="890640"/>
            </a:xfrm>
            <a:prstGeom prst="rect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7" name=""/>
          <p:cNvSpPr/>
          <p:nvPr/>
        </p:nvSpPr>
        <p:spPr>
          <a:xfrm>
            <a:off x="7594920" y="4819680"/>
            <a:ext cx="985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Gill Sans MT"/>
              </a:rPr>
              <a:t>-US$6.5 billion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7457400" y="5027760"/>
            <a:ext cx="13096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Gill Sans MT"/>
              </a:rPr>
              <a:t>including cash-flow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7790760" y="5237280"/>
            <a:ext cx="4885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Gill Sans MT"/>
              </a:rPr>
              <a:t>with IFI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7981920" y="5445000"/>
            <a:ext cx="61920" cy="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1" name=""/>
          <p:cNvGrpSpPr/>
          <p:nvPr/>
        </p:nvGrpSpPr>
        <p:grpSpPr>
          <a:xfrm>
            <a:off x="6791400" y="3009960"/>
            <a:ext cx="1971360" cy="777960"/>
            <a:chOff x="6791400" y="3009960"/>
            <a:chExt cx="1971360" cy="777960"/>
          </a:xfrm>
        </p:grpSpPr>
        <p:sp>
          <p:nvSpPr>
            <p:cNvPr id="462" name=""/>
            <p:cNvSpPr/>
            <p:nvPr/>
          </p:nvSpPr>
          <p:spPr>
            <a:xfrm>
              <a:off x="7149240" y="3009960"/>
              <a:ext cx="1613520" cy="777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6791400" y="3098880"/>
              <a:ext cx="243360" cy="6336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7149240" y="3009960"/>
              <a:ext cx="1613520" cy="777960"/>
            </a:xfrm>
            <a:prstGeom prst="rect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5" name=""/>
          <p:cNvSpPr/>
          <p:nvPr/>
        </p:nvSpPr>
        <p:spPr>
          <a:xfrm>
            <a:off x="7079400" y="3016080"/>
            <a:ext cx="14468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Gill Sans MT"/>
              </a:rPr>
              <a:t>approx. US$50 billion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7164000" y="3225960"/>
            <a:ext cx="14788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Gill Sans MT"/>
              </a:rPr>
              <a:t>including US Treasury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630560" y="3433680"/>
            <a:ext cx="3772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Gill Sans MT"/>
              </a:rPr>
              <a:t>fund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"/>
          <p:cNvSpPr/>
          <p:nvPr/>
        </p:nvSpPr>
        <p:spPr>
          <a:xfrm>
            <a:off x="1219320" y="990720"/>
            <a:ext cx="53337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Dealing with the past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9" name="" descr=""/>
          <p:cNvPicPr/>
          <p:nvPr/>
        </p:nvPicPr>
        <p:blipFill>
          <a:blip r:embed="rId1"/>
          <a:stretch/>
        </p:blipFill>
        <p:spPr>
          <a:xfrm>
            <a:off x="990720" y="2057400"/>
            <a:ext cx="7238880" cy="457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"/>
          <p:cNvSpPr/>
          <p:nvPr/>
        </p:nvSpPr>
        <p:spPr>
          <a:xfrm>
            <a:off x="1219320" y="990720"/>
            <a:ext cx="53337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…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but focused on the fu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1" name="" descr=""/>
          <p:cNvPicPr/>
          <p:nvPr/>
        </p:nvPicPr>
        <p:blipFill>
          <a:blip r:embed="rId1"/>
          <a:stretch/>
        </p:blipFill>
        <p:spPr>
          <a:xfrm>
            <a:off x="1328760" y="1865160"/>
            <a:ext cx="6672240" cy="468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371240" y="1142640"/>
            <a:ext cx="7086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Easy go, easy com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473" name="" descr=""/>
          <p:cNvPicPr/>
          <p:nvPr/>
        </p:nvPicPr>
        <p:blipFill>
          <a:blip r:embed="rId1"/>
          <a:stretch/>
        </p:blipFill>
        <p:spPr>
          <a:xfrm>
            <a:off x="1219320" y="1943280"/>
            <a:ext cx="671832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"/>
          <p:cNvSpPr/>
          <p:nvPr/>
        </p:nvSpPr>
        <p:spPr>
          <a:xfrm>
            <a:off x="1066680" y="457200"/>
            <a:ext cx="65534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Banks are back in bl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1849320" y="3367080"/>
            <a:ext cx="482760" cy="26370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3054240" y="3367080"/>
            <a:ext cx="482760" cy="118908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4260960" y="3367080"/>
            <a:ext cx="480960" cy="146376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5465880" y="3367080"/>
            <a:ext cx="482400" cy="54756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672240" y="3286080"/>
            <a:ext cx="482760" cy="810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1487520" y="2776680"/>
            <a:ext cx="1440" cy="3546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1487520" y="6323040"/>
            <a:ext cx="49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1487520" y="5732640"/>
            <a:ext cx="49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1487520" y="5140440"/>
            <a:ext cx="49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1487520" y="4549680"/>
            <a:ext cx="493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1487520" y="3959280"/>
            <a:ext cx="49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1487520" y="3367080"/>
            <a:ext cx="49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1487520" y="2776680"/>
            <a:ext cx="49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1487520" y="3367080"/>
            <a:ext cx="60292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3554280" y="1898640"/>
            <a:ext cx="1997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ill Sans MT"/>
              </a:rPr>
              <a:t>Consolidated earnin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956960" y="6072120"/>
            <a:ext cx="267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3366"/>
                </a:solidFill>
                <a:latin typeface="Gill Sans MT"/>
              </a:rPr>
              <a:t>-8,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163680" y="4624560"/>
            <a:ext cx="267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3366"/>
                </a:solidFill>
                <a:latin typeface="Gill Sans MT"/>
              </a:rPr>
              <a:t>-4,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4368600" y="4900680"/>
            <a:ext cx="267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3366"/>
                </a:solidFill>
                <a:latin typeface="Gill Sans MT"/>
              </a:rPr>
              <a:t>-5,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5573520" y="3984480"/>
            <a:ext cx="267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3366"/>
                </a:solidFill>
                <a:latin typeface="Gill Sans MT"/>
              </a:rPr>
              <a:t>-1,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6802920" y="3009960"/>
            <a:ext cx="218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3366"/>
                </a:solidFill>
                <a:latin typeface="Gill Sans MT"/>
              </a:rPr>
              <a:t>0,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1186920" y="6219720"/>
            <a:ext cx="223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ill Sans MT"/>
              </a:rPr>
              <a:t>-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1258200" y="5629320"/>
            <a:ext cx="136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ill Sans MT"/>
              </a:rPr>
              <a:t>-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1258200" y="5037120"/>
            <a:ext cx="136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ill Sans MT"/>
              </a:rPr>
              <a:t>-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1258200" y="4446720"/>
            <a:ext cx="136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ill Sans MT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1258200" y="3855960"/>
            <a:ext cx="136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ill Sans MT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1301760" y="3263760"/>
            <a:ext cx="87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ill Sans MT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1301760" y="2673360"/>
            <a:ext cx="87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ill Sans MT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1945440" y="6473880"/>
            <a:ext cx="348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ill Sans MT"/>
              </a:rPr>
              <a:t>20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167640" y="6473880"/>
            <a:ext cx="317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ill Sans MT"/>
              </a:rPr>
              <a:t>I. 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4352400" y="6473880"/>
            <a:ext cx="377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ill Sans MT"/>
              </a:rPr>
              <a:t>II. 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5535720" y="6473880"/>
            <a:ext cx="436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ill Sans MT"/>
              </a:rPr>
              <a:t>III. 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6748200" y="6473880"/>
            <a:ext cx="416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ill Sans MT"/>
              </a:rPr>
              <a:t>IV. 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1228680" y="2374920"/>
            <a:ext cx="812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1350360" y="2397240"/>
            <a:ext cx="259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ill Sans MT"/>
              </a:rPr>
              <a:t>RO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990360" y="7617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Banking business: upside much greater than downsid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0" name=""/>
          <p:cNvSpPr/>
          <p:nvPr/>
        </p:nvSpPr>
        <p:spPr>
          <a:xfrm>
            <a:off x="1434960" y="2571840"/>
            <a:ext cx="1800" cy="3816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1434960" y="6388200"/>
            <a:ext cx="525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1434960" y="5624640"/>
            <a:ext cx="525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1434960" y="4861080"/>
            <a:ext cx="525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1434960" y="4097160"/>
            <a:ext cx="525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1434960" y="3333600"/>
            <a:ext cx="525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1434960" y="2571840"/>
            <a:ext cx="525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1434960" y="6388200"/>
            <a:ext cx="6259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 flipV="1">
            <a:off x="1434960" y="6335640"/>
            <a:ext cx="1800" cy="52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 flipV="1">
            <a:off x="2097000" y="6335640"/>
            <a:ext cx="1800" cy="52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 flipV="1">
            <a:off x="2759040" y="6335640"/>
            <a:ext cx="1800" cy="52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3408480" y="6335640"/>
            <a:ext cx="1440" cy="52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 flipV="1">
            <a:off x="4068720" y="6335640"/>
            <a:ext cx="1800" cy="52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 flipV="1">
            <a:off x="4730760" y="6335640"/>
            <a:ext cx="1440" cy="52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 flipV="1">
            <a:off x="5392800" y="6335640"/>
            <a:ext cx="1440" cy="52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 flipV="1">
            <a:off x="6054840" y="6335640"/>
            <a:ext cx="1440" cy="52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 flipV="1">
            <a:off x="6702480" y="6335640"/>
            <a:ext cx="1440" cy="52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 flipV="1">
            <a:off x="7364520" y="6335640"/>
            <a:ext cx="1440" cy="52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 flipV="1">
            <a:off x="1474920" y="4530240"/>
            <a:ext cx="88920" cy="5076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 flipV="1">
            <a:off x="1563840" y="4517640"/>
            <a:ext cx="75960" cy="1260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V="1">
            <a:off x="1639800" y="4492800"/>
            <a:ext cx="88920" cy="2520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 flipV="1">
            <a:off x="1728720" y="4428720"/>
            <a:ext cx="76320" cy="6372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 flipV="1">
            <a:off x="1805040" y="4416120"/>
            <a:ext cx="88920" cy="1260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 flipV="1">
            <a:off x="1893960" y="4363920"/>
            <a:ext cx="75960" cy="5256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 flipV="1">
            <a:off x="1969920" y="4300560"/>
            <a:ext cx="88920" cy="6336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2058840" y="4300560"/>
            <a:ext cx="76320" cy="2520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2135160" y="4325760"/>
            <a:ext cx="88920" cy="180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 flipV="1">
            <a:off x="2224080" y="4287600"/>
            <a:ext cx="76320" cy="3780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2300400" y="4249800"/>
            <a:ext cx="77760" cy="3816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2378160" y="4249800"/>
            <a:ext cx="88920" cy="2520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2467080" y="4275000"/>
            <a:ext cx="75960" cy="1296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2543040" y="4287960"/>
            <a:ext cx="88920" cy="144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2631960" y="4287960"/>
            <a:ext cx="76320" cy="3780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 flipV="1">
            <a:off x="2708280" y="4312800"/>
            <a:ext cx="88920" cy="1260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2797200" y="4313160"/>
            <a:ext cx="76320" cy="180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2873520" y="4313160"/>
            <a:ext cx="88920" cy="1260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2962440" y="4325760"/>
            <a:ext cx="75960" cy="180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3038400" y="4325760"/>
            <a:ext cx="88920" cy="180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3127320" y="4325760"/>
            <a:ext cx="76320" cy="1296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 flipV="1">
            <a:off x="3203640" y="4312800"/>
            <a:ext cx="90360" cy="2556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3294000" y="4313160"/>
            <a:ext cx="76320" cy="2556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 flipV="1">
            <a:off x="3370320" y="4325760"/>
            <a:ext cx="88920" cy="1296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3459240" y="4325760"/>
            <a:ext cx="75960" cy="5112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3535200" y="4376880"/>
            <a:ext cx="88920" cy="2700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3624120" y="4403880"/>
            <a:ext cx="76320" cy="1260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3700440" y="4416480"/>
            <a:ext cx="88920" cy="144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3789360" y="4416480"/>
            <a:ext cx="76320" cy="3816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3865680" y="4454640"/>
            <a:ext cx="75960" cy="2520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 flipV="1">
            <a:off x="3941640" y="4466880"/>
            <a:ext cx="88920" cy="1260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4030560" y="4467240"/>
            <a:ext cx="76320" cy="144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 flipV="1">
            <a:off x="4106880" y="4454280"/>
            <a:ext cx="90360" cy="1260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4197240" y="4454640"/>
            <a:ext cx="76320" cy="144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4273560" y="4454640"/>
            <a:ext cx="88920" cy="5076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4362480" y="4505400"/>
            <a:ext cx="76320" cy="3816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4438800" y="4543560"/>
            <a:ext cx="88920" cy="1260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4527720" y="4556160"/>
            <a:ext cx="75960" cy="13968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4603680" y="4695840"/>
            <a:ext cx="88920" cy="1260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4692600" y="4708440"/>
            <a:ext cx="76320" cy="3816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4768920" y="4746600"/>
            <a:ext cx="88920" cy="144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4857840" y="4746600"/>
            <a:ext cx="75960" cy="8892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4933800" y="4835520"/>
            <a:ext cx="90720" cy="6336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5024520" y="4898880"/>
            <a:ext cx="75960" cy="2556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5100480" y="4924440"/>
            <a:ext cx="88920" cy="5076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5189400" y="4975200"/>
            <a:ext cx="76320" cy="7632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5265720" y="5051520"/>
            <a:ext cx="88920" cy="5076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5354640" y="5102280"/>
            <a:ext cx="76320" cy="10152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5430960" y="5203800"/>
            <a:ext cx="75960" cy="7632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5506920" y="5280120"/>
            <a:ext cx="88920" cy="5076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5595840" y="5330880"/>
            <a:ext cx="76320" cy="9036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672160" y="5421240"/>
            <a:ext cx="88920" cy="20340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5761080" y="5624640"/>
            <a:ext cx="76320" cy="8892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5837400" y="5713560"/>
            <a:ext cx="90360" cy="6336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 flipV="1">
            <a:off x="5927760" y="5637240"/>
            <a:ext cx="76320" cy="13968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6004080" y="5637240"/>
            <a:ext cx="88920" cy="7632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6093000" y="5713560"/>
            <a:ext cx="75960" cy="3780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6168960" y="5751360"/>
            <a:ext cx="88920" cy="5112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6257880" y="5802480"/>
            <a:ext cx="76320" cy="7596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6334200" y="5878440"/>
            <a:ext cx="88920" cy="6372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6423120" y="5942160"/>
            <a:ext cx="75960" cy="3780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6499080" y="5979960"/>
            <a:ext cx="88920" cy="6372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588000" y="6043680"/>
            <a:ext cx="76320" cy="2520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6664320" y="6068880"/>
            <a:ext cx="88920" cy="2556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6753240" y="6094440"/>
            <a:ext cx="77760" cy="1260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6831000" y="6107040"/>
            <a:ext cx="88920" cy="1260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 flipV="1">
            <a:off x="6919920" y="6106680"/>
            <a:ext cx="76320" cy="1260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6996240" y="6107040"/>
            <a:ext cx="75960" cy="1260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 flipV="1">
            <a:off x="7072200" y="6106680"/>
            <a:ext cx="88920" cy="1260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7161120" y="6094080"/>
            <a:ext cx="76320" cy="1260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237440" y="6094440"/>
            <a:ext cx="88920" cy="1260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326360" y="6107040"/>
            <a:ext cx="76320" cy="180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7402680" y="6094080"/>
            <a:ext cx="88560" cy="1260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7491240" y="6068520"/>
            <a:ext cx="76320" cy="2556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 flipV="1">
            <a:off x="7567560" y="6043680"/>
            <a:ext cx="88920" cy="2520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3653640" y="2049480"/>
            <a:ext cx="1899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Gill Sans MT"/>
              </a:rPr>
              <a:t>Loans to Private Secto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1182240" y="6272280"/>
            <a:ext cx="1623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Gill Sans MT"/>
              </a:rPr>
              <a:t>2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1182240" y="5510160"/>
            <a:ext cx="1623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Gill Sans MT"/>
              </a:rPr>
              <a:t>4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182240" y="4746600"/>
            <a:ext cx="1623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Gill Sans MT"/>
              </a:rPr>
              <a:t>5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1182240" y="3983040"/>
            <a:ext cx="1623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Gill Sans MT"/>
              </a:rPr>
              <a:t>7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1182240" y="3219480"/>
            <a:ext cx="1623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Gill Sans MT"/>
              </a:rPr>
              <a:t>8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104120" y="2457360"/>
            <a:ext cx="243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Gill Sans MT"/>
              </a:rPr>
              <a:t>10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56400" y="6502320"/>
            <a:ext cx="4608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Gill Sans MT"/>
              </a:rPr>
              <a:t>Ene-98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958400" y="6502320"/>
            <a:ext cx="456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Gill Sans MT"/>
              </a:rPr>
              <a:t>Sep-98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2577240" y="6502320"/>
            <a:ext cx="5050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Gill Sans MT"/>
              </a:rPr>
              <a:t>May-99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3242160" y="6502320"/>
            <a:ext cx="4608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Gill Sans MT"/>
              </a:rPr>
              <a:t>Ene-0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3930120" y="6502320"/>
            <a:ext cx="456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Gill Sans MT"/>
              </a:rPr>
              <a:t>Sep-0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4548960" y="6502320"/>
            <a:ext cx="5050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Gill Sans MT"/>
              </a:rPr>
              <a:t>May-0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5213880" y="6502320"/>
            <a:ext cx="4608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Gill Sans MT"/>
              </a:rPr>
              <a:t>Ene-0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5914440" y="6502320"/>
            <a:ext cx="456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Gill Sans MT"/>
              </a:rPr>
              <a:t>Sep-0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6533280" y="6502320"/>
            <a:ext cx="5050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Gill Sans MT"/>
              </a:rPr>
              <a:t>May-0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7185600" y="6502320"/>
            <a:ext cx="4608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Gill Sans MT"/>
              </a:rPr>
              <a:t>Ene-0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1074600" y="2163600"/>
            <a:ext cx="697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Gill Sans MT"/>
              </a:rPr>
              <a:t>ARS bill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1792440" y="3754440"/>
            <a:ext cx="1170000" cy="6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149920" y="3767040"/>
            <a:ext cx="5050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0000"/>
                </a:solidFill>
                <a:latin typeface="Gill Sans MT"/>
              </a:rPr>
              <a:t>Dec-98: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1997280" y="3995640"/>
            <a:ext cx="7977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0000"/>
                </a:solidFill>
                <a:latin typeface="Gill Sans MT"/>
              </a:rPr>
              <a:t>23% of GDP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249640" y="4237200"/>
            <a:ext cx="344160" cy="37800"/>
          </a:xfrm>
          <a:custGeom>
            <a:avLst/>
            <a:gdLst/>
            <a:ahLst/>
            <a:rect l="l" t="t" r="r" b="b"/>
            <a:pathLst>
              <a:path w="217" h="24">
                <a:moveTo>
                  <a:pt x="0" y="0"/>
                </a:moveTo>
                <a:lnTo>
                  <a:pt x="0" y="16"/>
                </a:lnTo>
                <a:lnTo>
                  <a:pt x="217" y="24"/>
                </a:lnTo>
                <a:lnTo>
                  <a:pt x="217" y="8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7542360" y="6018120"/>
            <a:ext cx="280800" cy="255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6856560" y="5573880"/>
            <a:ext cx="9158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7295400" y="5586480"/>
            <a:ext cx="456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0000"/>
                </a:solidFill>
                <a:latin typeface="Gill Sans MT"/>
              </a:rPr>
              <a:t>Apr-0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7038360" y="5815080"/>
            <a:ext cx="7171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0000"/>
                </a:solidFill>
                <a:latin typeface="Gill Sans MT"/>
              </a:rPr>
              <a:t>7% of GDP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9" name=""/>
          <p:cNvGrpSpPr/>
          <p:nvPr/>
        </p:nvGrpSpPr>
        <p:grpSpPr>
          <a:xfrm>
            <a:off x="2682720" y="2762280"/>
            <a:ext cx="5077080" cy="1436760"/>
            <a:chOff x="2682720" y="2762280"/>
            <a:chExt cx="5077080" cy="1436760"/>
          </a:xfrm>
        </p:grpSpPr>
        <p:sp>
          <p:nvSpPr>
            <p:cNvPr id="630" name=""/>
            <p:cNvSpPr/>
            <p:nvPr/>
          </p:nvSpPr>
          <p:spPr>
            <a:xfrm>
              <a:off x="2682720" y="4160880"/>
              <a:ext cx="51120" cy="3816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0" y="16"/>
                  </a:moveTo>
                  <a:lnTo>
                    <a:pt x="0" y="24"/>
                  </a:lnTo>
                  <a:lnTo>
                    <a:pt x="32" y="8"/>
                  </a:lnTo>
                  <a:lnTo>
                    <a:pt x="32" y="0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771640" y="4148280"/>
              <a:ext cx="50760" cy="25200"/>
            </a:xfrm>
            <a:custGeom>
              <a:avLst/>
              <a:gdLst/>
              <a:ahLst/>
              <a:rect l="l" t="t" r="r" b="b"/>
              <a:pathLst>
                <a:path w="32" h="16">
                  <a:moveTo>
                    <a:pt x="0" y="8"/>
                  </a:moveTo>
                  <a:lnTo>
                    <a:pt x="0" y="16"/>
                  </a:lnTo>
                  <a:lnTo>
                    <a:pt x="32" y="8"/>
                  </a:lnTo>
                  <a:lnTo>
                    <a:pt x="32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2847960" y="4122720"/>
              <a:ext cx="50760" cy="25560"/>
            </a:xfrm>
            <a:custGeom>
              <a:avLst/>
              <a:gdLst/>
              <a:ahLst/>
              <a:rect l="l" t="t" r="r" b="b"/>
              <a:pathLst>
                <a:path w="32" h="16">
                  <a:moveTo>
                    <a:pt x="0" y="8"/>
                  </a:moveTo>
                  <a:lnTo>
                    <a:pt x="0" y="16"/>
                  </a:lnTo>
                  <a:lnTo>
                    <a:pt x="32" y="8"/>
                  </a:lnTo>
                  <a:lnTo>
                    <a:pt x="32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2936880" y="4097160"/>
              <a:ext cx="50760" cy="25560"/>
            </a:xfrm>
            <a:custGeom>
              <a:avLst/>
              <a:gdLst/>
              <a:ahLst/>
              <a:rect l="l" t="t" r="r" b="b"/>
              <a:pathLst>
                <a:path w="32" h="16">
                  <a:moveTo>
                    <a:pt x="0" y="8"/>
                  </a:moveTo>
                  <a:lnTo>
                    <a:pt x="0" y="16"/>
                  </a:lnTo>
                  <a:lnTo>
                    <a:pt x="32" y="8"/>
                  </a:lnTo>
                  <a:lnTo>
                    <a:pt x="32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3025800" y="4071960"/>
              <a:ext cx="50760" cy="25200"/>
            </a:xfrm>
            <a:custGeom>
              <a:avLst/>
              <a:gdLst/>
              <a:ahLst/>
              <a:rect l="l" t="t" r="r" b="b"/>
              <a:pathLst>
                <a:path w="32" h="16">
                  <a:moveTo>
                    <a:pt x="0" y="8"/>
                  </a:moveTo>
                  <a:lnTo>
                    <a:pt x="0" y="16"/>
                  </a:lnTo>
                  <a:lnTo>
                    <a:pt x="32" y="8"/>
                  </a:lnTo>
                  <a:lnTo>
                    <a:pt x="32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3114720" y="4046400"/>
              <a:ext cx="50760" cy="25560"/>
            </a:xfrm>
            <a:custGeom>
              <a:avLst/>
              <a:gdLst/>
              <a:ahLst/>
              <a:rect l="l" t="t" r="r" b="b"/>
              <a:pathLst>
                <a:path w="32" h="16">
                  <a:moveTo>
                    <a:pt x="0" y="8"/>
                  </a:moveTo>
                  <a:lnTo>
                    <a:pt x="0" y="16"/>
                  </a:lnTo>
                  <a:lnTo>
                    <a:pt x="32" y="8"/>
                  </a:lnTo>
                  <a:lnTo>
                    <a:pt x="32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3191040" y="4021200"/>
              <a:ext cx="52200" cy="25200"/>
            </a:xfrm>
            <a:custGeom>
              <a:avLst/>
              <a:gdLst/>
              <a:ahLst/>
              <a:rect l="l" t="t" r="r" b="b"/>
              <a:pathLst>
                <a:path w="33" h="16">
                  <a:moveTo>
                    <a:pt x="0" y="8"/>
                  </a:moveTo>
                  <a:lnTo>
                    <a:pt x="0" y="16"/>
                  </a:lnTo>
                  <a:lnTo>
                    <a:pt x="33" y="8"/>
                  </a:lnTo>
                  <a:lnTo>
                    <a:pt x="33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281400" y="3995640"/>
              <a:ext cx="50760" cy="25560"/>
            </a:xfrm>
            <a:custGeom>
              <a:avLst/>
              <a:gdLst/>
              <a:ahLst/>
              <a:rect l="l" t="t" r="r" b="b"/>
              <a:pathLst>
                <a:path w="32" h="16">
                  <a:moveTo>
                    <a:pt x="0" y="8"/>
                  </a:moveTo>
                  <a:lnTo>
                    <a:pt x="0" y="16"/>
                  </a:lnTo>
                  <a:lnTo>
                    <a:pt x="32" y="8"/>
                  </a:lnTo>
                  <a:lnTo>
                    <a:pt x="32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370320" y="3970440"/>
              <a:ext cx="50760" cy="25200"/>
            </a:xfrm>
            <a:custGeom>
              <a:avLst/>
              <a:gdLst/>
              <a:ahLst/>
              <a:rect l="l" t="t" r="r" b="b"/>
              <a:pathLst>
                <a:path w="32" h="16">
                  <a:moveTo>
                    <a:pt x="0" y="8"/>
                  </a:moveTo>
                  <a:lnTo>
                    <a:pt x="0" y="16"/>
                  </a:lnTo>
                  <a:lnTo>
                    <a:pt x="32" y="8"/>
                  </a:lnTo>
                  <a:lnTo>
                    <a:pt x="32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459240" y="3944880"/>
              <a:ext cx="50760" cy="25560"/>
            </a:xfrm>
            <a:custGeom>
              <a:avLst/>
              <a:gdLst/>
              <a:ahLst/>
              <a:rect l="l" t="t" r="r" b="b"/>
              <a:pathLst>
                <a:path w="32" h="16">
                  <a:moveTo>
                    <a:pt x="0" y="8"/>
                  </a:moveTo>
                  <a:lnTo>
                    <a:pt x="0" y="16"/>
                  </a:lnTo>
                  <a:lnTo>
                    <a:pt x="32" y="8"/>
                  </a:lnTo>
                  <a:lnTo>
                    <a:pt x="32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3535200" y="3932280"/>
              <a:ext cx="51120" cy="25200"/>
            </a:xfrm>
            <a:custGeom>
              <a:avLst/>
              <a:gdLst/>
              <a:ahLst/>
              <a:rect l="l" t="t" r="r" b="b"/>
              <a:pathLst>
                <a:path w="32" h="16">
                  <a:moveTo>
                    <a:pt x="0" y="8"/>
                  </a:moveTo>
                  <a:lnTo>
                    <a:pt x="0" y="16"/>
                  </a:lnTo>
                  <a:lnTo>
                    <a:pt x="32" y="8"/>
                  </a:lnTo>
                  <a:lnTo>
                    <a:pt x="32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3624120" y="3906720"/>
              <a:ext cx="51120" cy="25560"/>
            </a:xfrm>
            <a:custGeom>
              <a:avLst/>
              <a:gdLst/>
              <a:ahLst/>
              <a:rect l="l" t="t" r="r" b="b"/>
              <a:pathLst>
                <a:path w="32" h="16">
                  <a:moveTo>
                    <a:pt x="0" y="8"/>
                  </a:moveTo>
                  <a:lnTo>
                    <a:pt x="0" y="16"/>
                  </a:lnTo>
                  <a:lnTo>
                    <a:pt x="32" y="8"/>
                  </a:lnTo>
                  <a:lnTo>
                    <a:pt x="32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3713040" y="3881520"/>
              <a:ext cx="50760" cy="25200"/>
            </a:xfrm>
            <a:custGeom>
              <a:avLst/>
              <a:gdLst/>
              <a:ahLst/>
              <a:rect l="l" t="t" r="r" b="b"/>
              <a:pathLst>
                <a:path w="32" h="16">
                  <a:moveTo>
                    <a:pt x="0" y="8"/>
                  </a:moveTo>
                  <a:lnTo>
                    <a:pt x="0" y="16"/>
                  </a:lnTo>
                  <a:lnTo>
                    <a:pt x="32" y="8"/>
                  </a:lnTo>
                  <a:lnTo>
                    <a:pt x="32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801960" y="3855960"/>
              <a:ext cx="38160" cy="25560"/>
            </a:xfrm>
            <a:custGeom>
              <a:avLst/>
              <a:gdLst/>
              <a:ahLst/>
              <a:rect l="l" t="t" r="r" b="b"/>
              <a:pathLst>
                <a:path w="24" h="16">
                  <a:moveTo>
                    <a:pt x="0" y="8"/>
                  </a:moveTo>
                  <a:lnTo>
                    <a:pt x="0" y="16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3878280" y="3830760"/>
              <a:ext cx="50760" cy="25200"/>
            </a:xfrm>
            <a:custGeom>
              <a:avLst/>
              <a:gdLst/>
              <a:ahLst/>
              <a:rect l="l" t="t" r="r" b="b"/>
              <a:pathLst>
                <a:path w="32" h="16">
                  <a:moveTo>
                    <a:pt x="0" y="8"/>
                  </a:moveTo>
                  <a:lnTo>
                    <a:pt x="0" y="16"/>
                  </a:lnTo>
                  <a:lnTo>
                    <a:pt x="32" y="8"/>
                  </a:lnTo>
                  <a:lnTo>
                    <a:pt x="32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3967200" y="3805200"/>
              <a:ext cx="50760" cy="25560"/>
            </a:xfrm>
            <a:custGeom>
              <a:avLst/>
              <a:gdLst/>
              <a:ahLst/>
              <a:rect l="l" t="t" r="r" b="b"/>
              <a:pathLst>
                <a:path w="32" h="16">
                  <a:moveTo>
                    <a:pt x="0" y="8"/>
                  </a:moveTo>
                  <a:lnTo>
                    <a:pt x="0" y="16"/>
                  </a:lnTo>
                  <a:lnTo>
                    <a:pt x="32" y="8"/>
                  </a:lnTo>
                  <a:lnTo>
                    <a:pt x="32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4056120" y="3780000"/>
              <a:ext cx="50760" cy="25200"/>
            </a:xfrm>
            <a:custGeom>
              <a:avLst/>
              <a:gdLst/>
              <a:ahLst/>
              <a:rect l="l" t="t" r="r" b="b"/>
              <a:pathLst>
                <a:path w="32" h="16">
                  <a:moveTo>
                    <a:pt x="0" y="8"/>
                  </a:moveTo>
                  <a:lnTo>
                    <a:pt x="0" y="16"/>
                  </a:lnTo>
                  <a:lnTo>
                    <a:pt x="32" y="8"/>
                  </a:lnTo>
                  <a:lnTo>
                    <a:pt x="32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4146480" y="3754440"/>
              <a:ext cx="38160" cy="25560"/>
            </a:xfrm>
            <a:custGeom>
              <a:avLst/>
              <a:gdLst/>
              <a:ahLst/>
              <a:rect l="l" t="t" r="r" b="b"/>
              <a:pathLst>
                <a:path w="24" h="16">
                  <a:moveTo>
                    <a:pt x="0" y="8"/>
                  </a:moveTo>
                  <a:lnTo>
                    <a:pt x="0" y="16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4222800" y="3728880"/>
              <a:ext cx="50760" cy="25560"/>
            </a:xfrm>
            <a:custGeom>
              <a:avLst/>
              <a:gdLst/>
              <a:ahLst/>
              <a:rect l="l" t="t" r="r" b="b"/>
              <a:pathLst>
                <a:path w="32" h="16">
                  <a:moveTo>
                    <a:pt x="0" y="8"/>
                  </a:moveTo>
                  <a:lnTo>
                    <a:pt x="0" y="16"/>
                  </a:lnTo>
                  <a:lnTo>
                    <a:pt x="32" y="8"/>
                  </a:lnTo>
                  <a:lnTo>
                    <a:pt x="32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4311720" y="3703680"/>
              <a:ext cx="50760" cy="3816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0" y="16"/>
                  </a:moveTo>
                  <a:lnTo>
                    <a:pt x="0" y="24"/>
                  </a:lnTo>
                  <a:lnTo>
                    <a:pt x="32" y="8"/>
                  </a:lnTo>
                  <a:lnTo>
                    <a:pt x="32" y="0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4400640" y="3691080"/>
              <a:ext cx="50760" cy="25200"/>
            </a:xfrm>
            <a:custGeom>
              <a:avLst/>
              <a:gdLst/>
              <a:ahLst/>
              <a:rect l="l" t="t" r="r" b="b"/>
              <a:pathLst>
                <a:path w="32" h="16">
                  <a:moveTo>
                    <a:pt x="0" y="8"/>
                  </a:moveTo>
                  <a:lnTo>
                    <a:pt x="0" y="16"/>
                  </a:lnTo>
                  <a:lnTo>
                    <a:pt x="32" y="8"/>
                  </a:lnTo>
                  <a:lnTo>
                    <a:pt x="32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4489560" y="3665520"/>
              <a:ext cx="38160" cy="25560"/>
            </a:xfrm>
            <a:custGeom>
              <a:avLst/>
              <a:gdLst/>
              <a:ahLst/>
              <a:rect l="l" t="t" r="r" b="b"/>
              <a:pathLst>
                <a:path w="24" h="16">
                  <a:moveTo>
                    <a:pt x="0" y="8"/>
                  </a:moveTo>
                  <a:lnTo>
                    <a:pt x="0" y="16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4565520" y="3639960"/>
              <a:ext cx="50760" cy="25560"/>
            </a:xfrm>
            <a:custGeom>
              <a:avLst/>
              <a:gdLst/>
              <a:ahLst/>
              <a:rect l="l" t="t" r="r" b="b"/>
              <a:pathLst>
                <a:path w="32" h="16">
                  <a:moveTo>
                    <a:pt x="0" y="8"/>
                  </a:moveTo>
                  <a:lnTo>
                    <a:pt x="0" y="16"/>
                  </a:lnTo>
                  <a:lnTo>
                    <a:pt x="32" y="8"/>
                  </a:lnTo>
                  <a:lnTo>
                    <a:pt x="32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4654440" y="3614760"/>
              <a:ext cx="50760" cy="25200"/>
            </a:xfrm>
            <a:custGeom>
              <a:avLst/>
              <a:gdLst/>
              <a:ahLst/>
              <a:rect l="l" t="t" r="r" b="b"/>
              <a:pathLst>
                <a:path w="32" h="16">
                  <a:moveTo>
                    <a:pt x="0" y="8"/>
                  </a:moveTo>
                  <a:lnTo>
                    <a:pt x="0" y="16"/>
                  </a:lnTo>
                  <a:lnTo>
                    <a:pt x="32" y="8"/>
                  </a:lnTo>
                  <a:lnTo>
                    <a:pt x="32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4743360" y="3589200"/>
              <a:ext cx="50760" cy="25560"/>
            </a:xfrm>
            <a:custGeom>
              <a:avLst/>
              <a:gdLst/>
              <a:ahLst/>
              <a:rect l="l" t="t" r="r" b="b"/>
              <a:pathLst>
                <a:path w="32" h="16">
                  <a:moveTo>
                    <a:pt x="0" y="8"/>
                  </a:moveTo>
                  <a:lnTo>
                    <a:pt x="0" y="16"/>
                  </a:lnTo>
                  <a:lnTo>
                    <a:pt x="32" y="8"/>
                  </a:lnTo>
                  <a:lnTo>
                    <a:pt x="32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4819680" y="3564000"/>
              <a:ext cx="50760" cy="25200"/>
            </a:xfrm>
            <a:custGeom>
              <a:avLst/>
              <a:gdLst/>
              <a:ahLst/>
              <a:rect l="l" t="t" r="r" b="b"/>
              <a:pathLst>
                <a:path w="32" h="16">
                  <a:moveTo>
                    <a:pt x="0" y="8"/>
                  </a:moveTo>
                  <a:lnTo>
                    <a:pt x="0" y="16"/>
                  </a:lnTo>
                  <a:lnTo>
                    <a:pt x="32" y="8"/>
                  </a:lnTo>
                  <a:lnTo>
                    <a:pt x="32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4908600" y="3538440"/>
              <a:ext cx="50760" cy="25560"/>
            </a:xfrm>
            <a:custGeom>
              <a:avLst/>
              <a:gdLst/>
              <a:ahLst/>
              <a:rect l="l" t="t" r="r" b="b"/>
              <a:pathLst>
                <a:path w="32" h="16">
                  <a:moveTo>
                    <a:pt x="0" y="8"/>
                  </a:moveTo>
                  <a:lnTo>
                    <a:pt x="0" y="16"/>
                  </a:lnTo>
                  <a:lnTo>
                    <a:pt x="32" y="8"/>
                  </a:lnTo>
                  <a:lnTo>
                    <a:pt x="32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4997520" y="3513240"/>
              <a:ext cx="52200" cy="25200"/>
            </a:xfrm>
            <a:custGeom>
              <a:avLst/>
              <a:gdLst/>
              <a:ahLst/>
              <a:rect l="l" t="t" r="r" b="b"/>
              <a:pathLst>
                <a:path w="33" h="16">
                  <a:moveTo>
                    <a:pt x="0" y="8"/>
                  </a:moveTo>
                  <a:lnTo>
                    <a:pt x="0" y="16"/>
                  </a:lnTo>
                  <a:lnTo>
                    <a:pt x="33" y="8"/>
                  </a:lnTo>
                  <a:lnTo>
                    <a:pt x="33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5087880" y="3487680"/>
              <a:ext cx="50760" cy="3816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0" y="16"/>
                  </a:moveTo>
                  <a:lnTo>
                    <a:pt x="0" y="24"/>
                  </a:lnTo>
                  <a:lnTo>
                    <a:pt x="32" y="8"/>
                  </a:lnTo>
                  <a:lnTo>
                    <a:pt x="32" y="0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5164200" y="3475080"/>
              <a:ext cx="50760" cy="25200"/>
            </a:xfrm>
            <a:custGeom>
              <a:avLst/>
              <a:gdLst/>
              <a:ahLst/>
              <a:rect l="l" t="t" r="r" b="b"/>
              <a:pathLst>
                <a:path w="32" h="16">
                  <a:moveTo>
                    <a:pt x="0" y="8"/>
                  </a:moveTo>
                  <a:lnTo>
                    <a:pt x="0" y="16"/>
                  </a:lnTo>
                  <a:lnTo>
                    <a:pt x="32" y="8"/>
                  </a:lnTo>
                  <a:lnTo>
                    <a:pt x="32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5253120" y="3449520"/>
              <a:ext cx="50760" cy="25560"/>
            </a:xfrm>
            <a:custGeom>
              <a:avLst/>
              <a:gdLst/>
              <a:ahLst/>
              <a:rect l="l" t="t" r="r" b="b"/>
              <a:pathLst>
                <a:path w="32" h="16">
                  <a:moveTo>
                    <a:pt x="0" y="8"/>
                  </a:moveTo>
                  <a:lnTo>
                    <a:pt x="0" y="16"/>
                  </a:lnTo>
                  <a:lnTo>
                    <a:pt x="32" y="8"/>
                  </a:lnTo>
                  <a:lnTo>
                    <a:pt x="32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5342040" y="3424320"/>
              <a:ext cx="50760" cy="25200"/>
            </a:xfrm>
            <a:custGeom>
              <a:avLst/>
              <a:gdLst/>
              <a:ahLst/>
              <a:rect l="l" t="t" r="r" b="b"/>
              <a:pathLst>
                <a:path w="32" h="16">
                  <a:moveTo>
                    <a:pt x="0" y="8"/>
                  </a:moveTo>
                  <a:lnTo>
                    <a:pt x="0" y="16"/>
                  </a:lnTo>
                  <a:lnTo>
                    <a:pt x="32" y="8"/>
                  </a:lnTo>
                  <a:lnTo>
                    <a:pt x="32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5430960" y="3398760"/>
              <a:ext cx="50760" cy="25560"/>
            </a:xfrm>
            <a:custGeom>
              <a:avLst/>
              <a:gdLst/>
              <a:ahLst/>
              <a:rect l="l" t="t" r="r" b="b"/>
              <a:pathLst>
                <a:path w="32" h="16">
                  <a:moveTo>
                    <a:pt x="0" y="8"/>
                  </a:moveTo>
                  <a:lnTo>
                    <a:pt x="0" y="16"/>
                  </a:lnTo>
                  <a:lnTo>
                    <a:pt x="32" y="8"/>
                  </a:lnTo>
                  <a:lnTo>
                    <a:pt x="32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506920" y="3371760"/>
              <a:ext cx="50760" cy="27000"/>
            </a:xfrm>
            <a:custGeom>
              <a:avLst/>
              <a:gdLst/>
              <a:ahLst/>
              <a:rect l="l" t="t" r="r" b="b"/>
              <a:pathLst>
                <a:path w="32" h="17">
                  <a:moveTo>
                    <a:pt x="0" y="8"/>
                  </a:moveTo>
                  <a:lnTo>
                    <a:pt x="0" y="17"/>
                  </a:lnTo>
                  <a:lnTo>
                    <a:pt x="32" y="8"/>
                  </a:lnTo>
                  <a:lnTo>
                    <a:pt x="32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595840" y="3346560"/>
              <a:ext cx="50760" cy="25200"/>
            </a:xfrm>
            <a:custGeom>
              <a:avLst/>
              <a:gdLst/>
              <a:ahLst/>
              <a:rect l="l" t="t" r="r" b="b"/>
              <a:pathLst>
                <a:path w="32" h="16">
                  <a:moveTo>
                    <a:pt x="0" y="8"/>
                  </a:moveTo>
                  <a:lnTo>
                    <a:pt x="0" y="16"/>
                  </a:lnTo>
                  <a:lnTo>
                    <a:pt x="32" y="8"/>
                  </a:lnTo>
                  <a:lnTo>
                    <a:pt x="32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5684760" y="3321000"/>
              <a:ext cx="50760" cy="25560"/>
            </a:xfrm>
            <a:custGeom>
              <a:avLst/>
              <a:gdLst/>
              <a:ahLst/>
              <a:rect l="l" t="t" r="r" b="b"/>
              <a:pathLst>
                <a:path w="32" h="16">
                  <a:moveTo>
                    <a:pt x="0" y="8"/>
                  </a:moveTo>
                  <a:lnTo>
                    <a:pt x="0" y="16"/>
                  </a:lnTo>
                  <a:lnTo>
                    <a:pt x="32" y="8"/>
                  </a:lnTo>
                  <a:lnTo>
                    <a:pt x="32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773680" y="3295800"/>
              <a:ext cx="38160" cy="25200"/>
            </a:xfrm>
            <a:custGeom>
              <a:avLst/>
              <a:gdLst/>
              <a:ahLst/>
              <a:rect l="l" t="t" r="r" b="b"/>
              <a:pathLst>
                <a:path w="24" h="16">
                  <a:moveTo>
                    <a:pt x="0" y="8"/>
                  </a:moveTo>
                  <a:lnTo>
                    <a:pt x="0" y="16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850000" y="3270240"/>
              <a:ext cx="50760" cy="3816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0" y="16"/>
                  </a:moveTo>
                  <a:lnTo>
                    <a:pt x="0" y="24"/>
                  </a:lnTo>
                  <a:lnTo>
                    <a:pt x="32" y="8"/>
                  </a:lnTo>
                  <a:lnTo>
                    <a:pt x="32" y="0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940360" y="3257640"/>
              <a:ext cx="50760" cy="25200"/>
            </a:xfrm>
            <a:custGeom>
              <a:avLst/>
              <a:gdLst/>
              <a:ahLst/>
              <a:rect l="l" t="t" r="r" b="b"/>
              <a:pathLst>
                <a:path w="32" h="16">
                  <a:moveTo>
                    <a:pt x="0" y="8"/>
                  </a:moveTo>
                  <a:lnTo>
                    <a:pt x="0" y="16"/>
                  </a:lnTo>
                  <a:lnTo>
                    <a:pt x="32" y="8"/>
                  </a:lnTo>
                  <a:lnTo>
                    <a:pt x="32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6029280" y="3232080"/>
              <a:ext cx="50760" cy="25560"/>
            </a:xfrm>
            <a:custGeom>
              <a:avLst/>
              <a:gdLst/>
              <a:ahLst/>
              <a:rect l="l" t="t" r="r" b="b"/>
              <a:pathLst>
                <a:path w="32" h="16">
                  <a:moveTo>
                    <a:pt x="0" y="8"/>
                  </a:moveTo>
                  <a:lnTo>
                    <a:pt x="0" y="16"/>
                  </a:lnTo>
                  <a:lnTo>
                    <a:pt x="32" y="8"/>
                  </a:lnTo>
                  <a:lnTo>
                    <a:pt x="32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6118200" y="3206880"/>
              <a:ext cx="38160" cy="25200"/>
            </a:xfrm>
            <a:custGeom>
              <a:avLst/>
              <a:gdLst/>
              <a:ahLst/>
              <a:rect l="l" t="t" r="r" b="b"/>
              <a:pathLst>
                <a:path w="24" h="16">
                  <a:moveTo>
                    <a:pt x="0" y="8"/>
                  </a:moveTo>
                  <a:lnTo>
                    <a:pt x="0" y="16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6194520" y="3181320"/>
              <a:ext cx="50760" cy="25560"/>
            </a:xfrm>
            <a:custGeom>
              <a:avLst/>
              <a:gdLst/>
              <a:ahLst/>
              <a:rect l="l" t="t" r="r" b="b"/>
              <a:pathLst>
                <a:path w="32" h="16">
                  <a:moveTo>
                    <a:pt x="0" y="8"/>
                  </a:moveTo>
                  <a:lnTo>
                    <a:pt x="0" y="16"/>
                  </a:lnTo>
                  <a:lnTo>
                    <a:pt x="32" y="8"/>
                  </a:lnTo>
                  <a:lnTo>
                    <a:pt x="32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6283440" y="3156120"/>
              <a:ext cx="50760" cy="25200"/>
            </a:xfrm>
            <a:custGeom>
              <a:avLst/>
              <a:gdLst/>
              <a:ahLst/>
              <a:rect l="l" t="t" r="r" b="b"/>
              <a:pathLst>
                <a:path w="32" h="16">
                  <a:moveTo>
                    <a:pt x="0" y="8"/>
                  </a:moveTo>
                  <a:lnTo>
                    <a:pt x="0" y="16"/>
                  </a:lnTo>
                  <a:lnTo>
                    <a:pt x="32" y="8"/>
                  </a:lnTo>
                  <a:lnTo>
                    <a:pt x="32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6372360" y="3130560"/>
              <a:ext cx="50760" cy="25560"/>
            </a:xfrm>
            <a:custGeom>
              <a:avLst/>
              <a:gdLst/>
              <a:ahLst/>
              <a:rect l="l" t="t" r="r" b="b"/>
              <a:pathLst>
                <a:path w="32" h="16">
                  <a:moveTo>
                    <a:pt x="0" y="8"/>
                  </a:moveTo>
                  <a:lnTo>
                    <a:pt x="0" y="16"/>
                  </a:lnTo>
                  <a:lnTo>
                    <a:pt x="32" y="8"/>
                  </a:lnTo>
                  <a:lnTo>
                    <a:pt x="32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6461280" y="3105000"/>
              <a:ext cx="37800" cy="25560"/>
            </a:xfrm>
            <a:custGeom>
              <a:avLst/>
              <a:gdLst/>
              <a:ahLst/>
              <a:rect l="l" t="t" r="r" b="b"/>
              <a:pathLst>
                <a:path w="24" h="16">
                  <a:moveTo>
                    <a:pt x="0" y="8"/>
                  </a:moveTo>
                  <a:lnTo>
                    <a:pt x="0" y="16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6537240" y="3079800"/>
              <a:ext cx="50760" cy="25200"/>
            </a:xfrm>
            <a:custGeom>
              <a:avLst/>
              <a:gdLst/>
              <a:ahLst/>
              <a:rect l="l" t="t" r="r" b="b"/>
              <a:pathLst>
                <a:path w="32" h="16">
                  <a:moveTo>
                    <a:pt x="0" y="8"/>
                  </a:moveTo>
                  <a:lnTo>
                    <a:pt x="0" y="16"/>
                  </a:lnTo>
                  <a:lnTo>
                    <a:pt x="32" y="8"/>
                  </a:lnTo>
                  <a:lnTo>
                    <a:pt x="32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626160" y="3054240"/>
              <a:ext cx="50760" cy="25560"/>
            </a:xfrm>
            <a:custGeom>
              <a:avLst/>
              <a:gdLst/>
              <a:ahLst/>
              <a:rect l="l" t="t" r="r" b="b"/>
              <a:pathLst>
                <a:path w="32" h="16">
                  <a:moveTo>
                    <a:pt x="0" y="8"/>
                  </a:moveTo>
                  <a:lnTo>
                    <a:pt x="0" y="16"/>
                  </a:lnTo>
                  <a:lnTo>
                    <a:pt x="32" y="8"/>
                  </a:lnTo>
                  <a:lnTo>
                    <a:pt x="32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6715080" y="3041640"/>
              <a:ext cx="50760" cy="25560"/>
            </a:xfrm>
            <a:custGeom>
              <a:avLst/>
              <a:gdLst/>
              <a:ahLst/>
              <a:rect l="l" t="t" r="r" b="b"/>
              <a:pathLst>
                <a:path w="32" h="16">
                  <a:moveTo>
                    <a:pt x="0" y="8"/>
                  </a:moveTo>
                  <a:lnTo>
                    <a:pt x="0" y="16"/>
                  </a:lnTo>
                  <a:lnTo>
                    <a:pt x="32" y="8"/>
                  </a:lnTo>
                  <a:lnTo>
                    <a:pt x="32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6791400" y="3016080"/>
              <a:ext cx="52200" cy="25560"/>
            </a:xfrm>
            <a:custGeom>
              <a:avLst/>
              <a:gdLst/>
              <a:ahLst/>
              <a:rect l="l" t="t" r="r" b="b"/>
              <a:pathLst>
                <a:path w="33" h="16">
                  <a:moveTo>
                    <a:pt x="0" y="8"/>
                  </a:moveTo>
                  <a:lnTo>
                    <a:pt x="0" y="16"/>
                  </a:lnTo>
                  <a:lnTo>
                    <a:pt x="33" y="8"/>
                  </a:lnTo>
                  <a:lnTo>
                    <a:pt x="33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6881760" y="2990880"/>
              <a:ext cx="50760" cy="25200"/>
            </a:xfrm>
            <a:custGeom>
              <a:avLst/>
              <a:gdLst/>
              <a:ahLst/>
              <a:rect l="l" t="t" r="r" b="b"/>
              <a:pathLst>
                <a:path w="32" h="16">
                  <a:moveTo>
                    <a:pt x="0" y="8"/>
                  </a:moveTo>
                  <a:lnTo>
                    <a:pt x="0" y="16"/>
                  </a:lnTo>
                  <a:lnTo>
                    <a:pt x="32" y="8"/>
                  </a:lnTo>
                  <a:lnTo>
                    <a:pt x="32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6970680" y="2965320"/>
              <a:ext cx="50760" cy="25560"/>
            </a:xfrm>
            <a:custGeom>
              <a:avLst/>
              <a:gdLst/>
              <a:ahLst/>
              <a:rect l="l" t="t" r="r" b="b"/>
              <a:pathLst>
                <a:path w="32" h="16">
                  <a:moveTo>
                    <a:pt x="0" y="8"/>
                  </a:moveTo>
                  <a:lnTo>
                    <a:pt x="0" y="16"/>
                  </a:lnTo>
                  <a:lnTo>
                    <a:pt x="32" y="8"/>
                  </a:lnTo>
                  <a:lnTo>
                    <a:pt x="32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7059600" y="2940120"/>
              <a:ext cx="50760" cy="25200"/>
            </a:xfrm>
            <a:custGeom>
              <a:avLst/>
              <a:gdLst/>
              <a:ahLst/>
              <a:rect l="l" t="t" r="r" b="b"/>
              <a:pathLst>
                <a:path w="32" h="16">
                  <a:moveTo>
                    <a:pt x="0" y="8"/>
                  </a:moveTo>
                  <a:lnTo>
                    <a:pt x="0" y="16"/>
                  </a:lnTo>
                  <a:lnTo>
                    <a:pt x="32" y="8"/>
                  </a:lnTo>
                  <a:lnTo>
                    <a:pt x="32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7135920" y="2914560"/>
              <a:ext cx="50760" cy="25560"/>
            </a:xfrm>
            <a:custGeom>
              <a:avLst/>
              <a:gdLst/>
              <a:ahLst/>
              <a:rect l="l" t="t" r="r" b="b"/>
              <a:pathLst>
                <a:path w="32" h="16">
                  <a:moveTo>
                    <a:pt x="0" y="8"/>
                  </a:moveTo>
                  <a:lnTo>
                    <a:pt x="0" y="16"/>
                  </a:lnTo>
                  <a:lnTo>
                    <a:pt x="32" y="8"/>
                  </a:lnTo>
                  <a:lnTo>
                    <a:pt x="32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224840" y="2889360"/>
              <a:ext cx="50760" cy="25200"/>
            </a:xfrm>
            <a:custGeom>
              <a:avLst/>
              <a:gdLst/>
              <a:ahLst/>
              <a:rect l="l" t="t" r="r" b="b"/>
              <a:pathLst>
                <a:path w="32" h="16">
                  <a:moveTo>
                    <a:pt x="0" y="8"/>
                  </a:moveTo>
                  <a:lnTo>
                    <a:pt x="0" y="16"/>
                  </a:lnTo>
                  <a:lnTo>
                    <a:pt x="32" y="8"/>
                  </a:lnTo>
                  <a:lnTo>
                    <a:pt x="32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313760" y="2863800"/>
              <a:ext cx="50760" cy="25560"/>
            </a:xfrm>
            <a:custGeom>
              <a:avLst/>
              <a:gdLst/>
              <a:ahLst/>
              <a:rect l="l" t="t" r="r" b="b"/>
              <a:pathLst>
                <a:path w="32" h="16">
                  <a:moveTo>
                    <a:pt x="0" y="8"/>
                  </a:moveTo>
                  <a:lnTo>
                    <a:pt x="0" y="16"/>
                  </a:lnTo>
                  <a:lnTo>
                    <a:pt x="32" y="8"/>
                  </a:lnTo>
                  <a:lnTo>
                    <a:pt x="32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7402680" y="2838600"/>
              <a:ext cx="50760" cy="25200"/>
            </a:xfrm>
            <a:custGeom>
              <a:avLst/>
              <a:gdLst/>
              <a:ahLst/>
              <a:rect l="l" t="t" r="r" b="b"/>
              <a:pathLst>
                <a:path w="32" h="16">
                  <a:moveTo>
                    <a:pt x="0" y="8"/>
                  </a:moveTo>
                  <a:lnTo>
                    <a:pt x="0" y="16"/>
                  </a:lnTo>
                  <a:lnTo>
                    <a:pt x="32" y="8"/>
                  </a:lnTo>
                  <a:lnTo>
                    <a:pt x="32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7478640" y="2813040"/>
              <a:ext cx="50760" cy="3816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0" y="16"/>
                  </a:moveTo>
                  <a:lnTo>
                    <a:pt x="0" y="24"/>
                  </a:lnTo>
                  <a:lnTo>
                    <a:pt x="32" y="8"/>
                  </a:lnTo>
                  <a:lnTo>
                    <a:pt x="32" y="0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7567560" y="2800440"/>
              <a:ext cx="50760" cy="25200"/>
            </a:xfrm>
            <a:custGeom>
              <a:avLst/>
              <a:gdLst/>
              <a:ahLst/>
              <a:rect l="l" t="t" r="r" b="b"/>
              <a:pathLst>
                <a:path w="32" h="16">
                  <a:moveTo>
                    <a:pt x="0" y="8"/>
                  </a:moveTo>
                  <a:lnTo>
                    <a:pt x="0" y="16"/>
                  </a:lnTo>
                  <a:lnTo>
                    <a:pt x="32" y="8"/>
                  </a:lnTo>
                  <a:lnTo>
                    <a:pt x="32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7656480" y="2774880"/>
              <a:ext cx="52560" cy="25560"/>
            </a:xfrm>
            <a:custGeom>
              <a:avLst/>
              <a:gdLst/>
              <a:ahLst/>
              <a:rect l="l" t="t" r="r" b="b"/>
              <a:pathLst>
                <a:path w="33" h="16">
                  <a:moveTo>
                    <a:pt x="0" y="8"/>
                  </a:moveTo>
                  <a:lnTo>
                    <a:pt x="0" y="16"/>
                  </a:lnTo>
                  <a:lnTo>
                    <a:pt x="33" y="8"/>
                  </a:lnTo>
                  <a:lnTo>
                    <a:pt x="33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7746840" y="2762280"/>
              <a:ext cx="12960" cy="126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0" name=""/>
          <p:cNvGrpSpPr/>
          <p:nvPr/>
        </p:nvGrpSpPr>
        <p:grpSpPr>
          <a:xfrm>
            <a:off x="7772400" y="2774880"/>
            <a:ext cx="139680" cy="3256200"/>
            <a:chOff x="7772400" y="2774880"/>
            <a:chExt cx="139680" cy="3256200"/>
          </a:xfrm>
        </p:grpSpPr>
        <p:sp>
          <p:nvSpPr>
            <p:cNvPr id="691" name=""/>
            <p:cNvSpPr/>
            <p:nvPr/>
          </p:nvSpPr>
          <p:spPr>
            <a:xfrm>
              <a:off x="7835760" y="2825640"/>
              <a:ext cx="1800" cy="314172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7772400" y="2774880"/>
              <a:ext cx="139680" cy="139680"/>
            </a:xfrm>
            <a:custGeom>
              <a:avLst/>
              <a:gdLst/>
              <a:ahLst/>
              <a:rect l="l" t="t" r="r" b="b"/>
              <a:pathLst>
                <a:path w="88" h="88">
                  <a:moveTo>
                    <a:pt x="88" y="88"/>
                  </a:moveTo>
                  <a:lnTo>
                    <a:pt x="40" y="0"/>
                  </a:lnTo>
                  <a:lnTo>
                    <a:pt x="0" y="88"/>
                  </a:lnTo>
                  <a:lnTo>
                    <a:pt x="40" y="56"/>
                  </a:lnTo>
                  <a:lnTo>
                    <a:pt x="88" y="88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7772400" y="5891040"/>
              <a:ext cx="139680" cy="140040"/>
            </a:xfrm>
            <a:custGeom>
              <a:avLst/>
              <a:gdLst/>
              <a:ahLst/>
              <a:rect l="l" t="t" r="r" b="b"/>
              <a:pathLst>
                <a:path w="88" h="88">
                  <a:moveTo>
                    <a:pt x="0" y="0"/>
                  </a:moveTo>
                  <a:lnTo>
                    <a:pt x="40" y="88"/>
                  </a:lnTo>
                  <a:lnTo>
                    <a:pt x="88" y="0"/>
                  </a:lnTo>
                  <a:lnTo>
                    <a:pt x="40" y="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4" name=""/>
          <p:cNvSpPr/>
          <p:nvPr/>
        </p:nvSpPr>
        <p:spPr>
          <a:xfrm>
            <a:off x="6296040" y="4110120"/>
            <a:ext cx="153972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6419520" y="4122720"/>
            <a:ext cx="13021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8000"/>
                </a:solidFill>
                <a:latin typeface="Gill Sans MT"/>
              </a:rPr>
              <a:t>Change needed t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6462360" y="4351320"/>
            <a:ext cx="1268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8000"/>
                </a:solidFill>
                <a:latin typeface="Gill Sans MT"/>
              </a:rPr>
              <a:t>reach 23% of GDP: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6912720" y="4581360"/>
            <a:ext cx="3693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8000"/>
                </a:solidFill>
                <a:latin typeface="Gill Sans MT"/>
              </a:rPr>
              <a:t>200%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7034040" y="2303640"/>
            <a:ext cx="1055880" cy="6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7612920" y="2316240"/>
            <a:ext cx="456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0000"/>
                </a:solidFill>
                <a:latin typeface="Gill Sans MT"/>
              </a:rPr>
              <a:t>Apr-0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7277400" y="2546280"/>
            <a:ext cx="7977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0000"/>
                </a:solidFill>
                <a:latin typeface="Gill Sans MT"/>
              </a:rPr>
              <a:t>23% of GDP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990720" y="990720"/>
            <a:ext cx="69339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The sunny side of the business cyc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609480" y="1674720"/>
            <a:ext cx="7239240" cy="51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/>
          </p:nvPr>
        </p:nvSpPr>
        <p:spPr>
          <a:xfrm>
            <a:off x="-152280" y="28954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lvl="1" marL="698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Banks can now deploy AR$12.5 for every AR$1 of capital, to EVERY borrower, regardless of its natur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702" name=""/>
          <p:cNvGraphicFramePr/>
          <p:nvPr/>
        </p:nvGraphicFramePr>
        <p:xfrm>
          <a:off x="-457200" y="3657600"/>
          <a:ext cx="10439280" cy="2793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457200" y="3657600"/>
                    <a:ext cx="10439280" cy="279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4" name=""/>
          <p:cNvSpPr/>
          <p:nvPr/>
        </p:nvSpPr>
        <p:spPr>
          <a:xfrm>
            <a:off x="-573120" y="1981080"/>
            <a:ext cx="97171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 u="sng">
                <a:solidFill>
                  <a:srgbClr val="000000"/>
                </a:solidFill>
                <a:uFillTx/>
                <a:latin typeface="Tahoma"/>
              </a:rPr>
              <a:t> </a:t>
            </a:r>
            <a:r>
              <a:rPr b="0" lang="en-NZ" sz="2800" spc="-1" strike="noStrike" u="sng">
                <a:solidFill>
                  <a:srgbClr val="333399"/>
                </a:solidFill>
                <a:uFillTx/>
                <a:latin typeface="Tahoma"/>
              </a:rPr>
              <a:t>No borrower discrimin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 type="title"/>
          </p:nvPr>
        </p:nvSpPr>
        <p:spPr>
          <a:xfrm>
            <a:off x="838080" y="685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Banks need to lend to the private 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ector; they are free to do so now</a:t>
            </a:r>
            <a:r>
              <a:rPr b="0" lang="es-ES" sz="36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838080" y="9907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The glass is half ful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707" name="" descr=""/>
          <p:cNvPicPr/>
          <p:nvPr/>
        </p:nvPicPr>
        <p:blipFill>
          <a:blip r:embed="rId1"/>
          <a:stretch/>
        </p:blipFill>
        <p:spPr>
          <a:xfrm>
            <a:off x="1143000" y="1693800"/>
            <a:ext cx="6858000" cy="524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3000" y="10663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333399"/>
                </a:solidFill>
                <a:latin typeface="Tahoma"/>
              </a:rPr>
              <a:t>And the right policy mix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"/>
          <p:cNvSpPr/>
          <p:nvPr/>
        </p:nvSpPr>
        <p:spPr>
          <a:xfrm>
            <a:off x="2025720" y="2835360"/>
            <a:ext cx="1406520" cy="226800"/>
          </a:xfrm>
          <a:prstGeom prst="rect">
            <a:avLst/>
          </a:prstGeom>
          <a:solidFill>
            <a:srgbClr val="cc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432240" y="3062160"/>
            <a:ext cx="1407960" cy="181080"/>
          </a:xfrm>
          <a:prstGeom prst="rect">
            <a:avLst/>
          </a:prstGeom>
          <a:noFill/>
          <a:ln w="7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4840200" y="3062160"/>
            <a:ext cx="1408320" cy="2826000"/>
            <a:chOff x="4840200" y="3062160"/>
            <a:chExt cx="1408320" cy="2826000"/>
          </a:xfrm>
        </p:grpSpPr>
        <p:sp>
          <p:nvSpPr>
            <p:cNvPr id="108" name=""/>
            <p:cNvSpPr/>
            <p:nvPr/>
          </p:nvSpPr>
          <p:spPr>
            <a:xfrm>
              <a:off x="4840200" y="3062160"/>
              <a:ext cx="1408320" cy="20880"/>
            </a:xfrm>
            <a:prstGeom prst="rect">
              <a:avLst/>
            </a:prstGeom>
            <a:solidFill>
              <a:srgbClr val="4747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840200" y="3083040"/>
              <a:ext cx="1408320" cy="20520"/>
            </a:xfrm>
            <a:prstGeom prst="rect">
              <a:avLst/>
            </a:prstGeom>
            <a:solidFill>
              <a:srgbClr val="4747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40200" y="3103560"/>
              <a:ext cx="1408320" cy="20520"/>
            </a:xfrm>
            <a:prstGeom prst="rect">
              <a:avLst/>
            </a:prstGeom>
            <a:solidFill>
              <a:srgbClr val="4747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40200" y="3124080"/>
              <a:ext cx="1408320" cy="19080"/>
            </a:xfrm>
            <a:prstGeom prst="rect">
              <a:avLst/>
            </a:prstGeom>
            <a:solidFill>
              <a:srgbClr val="474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840200" y="3143160"/>
              <a:ext cx="1408320" cy="20880"/>
            </a:xfrm>
            <a:prstGeom prst="rect">
              <a:avLst/>
            </a:prstGeom>
            <a:solidFill>
              <a:srgbClr val="4848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840200" y="3164040"/>
              <a:ext cx="1408320" cy="20520"/>
            </a:xfrm>
            <a:prstGeom prst="rect">
              <a:avLst/>
            </a:prstGeom>
            <a:solidFill>
              <a:srgbClr val="484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840200" y="3184560"/>
              <a:ext cx="1408320" cy="20520"/>
            </a:xfrm>
            <a:prstGeom prst="rect">
              <a:avLst/>
            </a:prstGeom>
            <a:solidFill>
              <a:srgbClr val="484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40200" y="3205080"/>
              <a:ext cx="1408320" cy="20880"/>
            </a:xfrm>
            <a:prstGeom prst="rect">
              <a:avLst/>
            </a:prstGeom>
            <a:solidFill>
              <a:srgbClr val="4848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840200" y="3225960"/>
              <a:ext cx="1408320" cy="20520"/>
            </a:xfrm>
            <a:prstGeom prst="rect">
              <a:avLst/>
            </a:prstGeom>
            <a:solidFill>
              <a:srgbClr val="494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840200" y="3246480"/>
              <a:ext cx="1408320" cy="20520"/>
            </a:xfrm>
            <a:prstGeom prst="rect">
              <a:avLst/>
            </a:prstGeom>
            <a:solidFill>
              <a:srgbClr val="494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840200" y="3267000"/>
              <a:ext cx="1408320" cy="20880"/>
            </a:xfrm>
            <a:prstGeom prst="rect">
              <a:avLst/>
            </a:prstGeom>
            <a:solidFill>
              <a:srgbClr val="494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0200" y="3287880"/>
              <a:ext cx="1408320" cy="20520"/>
            </a:xfrm>
            <a:prstGeom prst="rect">
              <a:avLst/>
            </a:prstGeom>
            <a:solidFill>
              <a:srgbClr val="4a4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840200" y="3308400"/>
              <a:ext cx="1408320" cy="20520"/>
            </a:xfrm>
            <a:prstGeom prst="rect">
              <a:avLst/>
            </a:prstGeom>
            <a:solidFill>
              <a:srgbClr val="4a4a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840200" y="3328920"/>
              <a:ext cx="1408320" cy="20880"/>
            </a:xfrm>
            <a:prstGeom prst="rect">
              <a:avLst/>
            </a:prstGeom>
            <a:solidFill>
              <a:srgbClr val="4b4b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840200" y="3349800"/>
              <a:ext cx="1408320" cy="20520"/>
            </a:xfrm>
            <a:prstGeom prst="rect">
              <a:avLst/>
            </a:prstGeom>
            <a:solidFill>
              <a:srgbClr val="4b4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840200" y="3370320"/>
              <a:ext cx="1408320" cy="20520"/>
            </a:xfrm>
            <a:prstGeom prst="rect">
              <a:avLst/>
            </a:prstGeom>
            <a:solidFill>
              <a:srgbClr val="4b4b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840200" y="3390840"/>
              <a:ext cx="1408320" cy="19080"/>
            </a:xfrm>
            <a:prstGeom prst="rect">
              <a:avLst/>
            </a:prstGeom>
            <a:solidFill>
              <a:srgbClr val="4c4c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840200" y="3409920"/>
              <a:ext cx="1408320" cy="20520"/>
            </a:xfrm>
            <a:prstGeom prst="rect">
              <a:avLst/>
            </a:prstGeom>
            <a:solidFill>
              <a:srgbClr val="4c4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840200" y="3430440"/>
              <a:ext cx="1408320" cy="20880"/>
            </a:xfrm>
            <a:prstGeom prst="rect">
              <a:avLst/>
            </a:prstGeom>
            <a:solidFill>
              <a:srgbClr val="4d4d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840200" y="3451320"/>
              <a:ext cx="1408320" cy="20520"/>
            </a:xfrm>
            <a:prstGeom prst="rect">
              <a:avLst/>
            </a:prstGeom>
            <a:solidFill>
              <a:srgbClr val="4d4d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840200" y="3471840"/>
              <a:ext cx="1408320" cy="20520"/>
            </a:xfrm>
            <a:prstGeom prst="rect">
              <a:avLst/>
            </a:prstGeom>
            <a:solidFill>
              <a:srgbClr val="4e4e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840200" y="3492360"/>
              <a:ext cx="1408320" cy="20880"/>
            </a:xfrm>
            <a:prstGeom prst="rect">
              <a:avLst/>
            </a:prstGeom>
            <a:solidFill>
              <a:srgbClr val="4e4e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840200" y="3513240"/>
              <a:ext cx="1408320" cy="20520"/>
            </a:xfrm>
            <a:prstGeom prst="rect">
              <a:avLst/>
            </a:prstGeom>
            <a:solidFill>
              <a:srgbClr val="4f4f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840200" y="3533760"/>
              <a:ext cx="1408320" cy="19080"/>
            </a:xfrm>
            <a:prstGeom prst="rect">
              <a:avLst/>
            </a:prstGeom>
            <a:solidFill>
              <a:srgbClr val="4f4f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840200" y="3552840"/>
              <a:ext cx="1408320" cy="20520"/>
            </a:xfrm>
            <a:prstGeom prst="rect">
              <a:avLst/>
            </a:prstGeom>
            <a:solidFill>
              <a:srgbClr val="5050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840200" y="3573360"/>
              <a:ext cx="1408320" cy="20880"/>
            </a:xfrm>
            <a:prstGeom prst="rect">
              <a:avLst/>
            </a:prstGeom>
            <a:solidFill>
              <a:srgbClr val="5151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840200" y="3594240"/>
              <a:ext cx="1408320" cy="20520"/>
            </a:xfrm>
            <a:prstGeom prst="rect">
              <a:avLst/>
            </a:prstGeom>
            <a:solidFill>
              <a:srgbClr val="5151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840200" y="3614760"/>
              <a:ext cx="1408320" cy="20520"/>
            </a:xfrm>
            <a:prstGeom prst="rect">
              <a:avLst/>
            </a:prstGeom>
            <a:solidFill>
              <a:srgbClr val="5252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840200" y="3635280"/>
              <a:ext cx="1408320" cy="20880"/>
            </a:xfrm>
            <a:prstGeom prst="rect">
              <a:avLst/>
            </a:prstGeom>
            <a:solidFill>
              <a:srgbClr val="5252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840200" y="3656160"/>
              <a:ext cx="1408320" cy="20520"/>
            </a:xfrm>
            <a:prstGeom prst="rect">
              <a:avLst/>
            </a:prstGeom>
            <a:solidFill>
              <a:srgbClr val="5353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840200" y="3676680"/>
              <a:ext cx="1408320" cy="20520"/>
            </a:xfrm>
            <a:prstGeom prst="rect">
              <a:avLst/>
            </a:prstGeom>
            <a:solidFill>
              <a:srgbClr val="5454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840200" y="3697200"/>
              <a:ext cx="1408320" cy="20880"/>
            </a:xfrm>
            <a:prstGeom prst="rect">
              <a:avLst/>
            </a:prstGeom>
            <a:solidFill>
              <a:srgbClr val="5555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840200" y="3718080"/>
              <a:ext cx="1408320" cy="20520"/>
            </a:xfrm>
            <a:prstGeom prst="rect">
              <a:avLst/>
            </a:prstGeom>
            <a:solidFill>
              <a:srgbClr val="5555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840200" y="3738600"/>
              <a:ext cx="1408320" cy="20520"/>
            </a:xfrm>
            <a:prstGeom prst="rect">
              <a:avLst/>
            </a:prstGeom>
            <a:solidFill>
              <a:srgbClr val="5656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840200" y="3759120"/>
              <a:ext cx="1408320" cy="20880"/>
            </a:xfrm>
            <a:prstGeom prst="rect">
              <a:avLst/>
            </a:prstGeom>
            <a:solidFill>
              <a:srgbClr val="5757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840200" y="3780000"/>
              <a:ext cx="1408320" cy="20520"/>
            </a:xfrm>
            <a:prstGeom prst="rect">
              <a:avLst/>
            </a:prstGeom>
            <a:solidFill>
              <a:srgbClr val="5858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840200" y="3800520"/>
              <a:ext cx="1408320" cy="19080"/>
            </a:xfrm>
            <a:prstGeom prst="rect">
              <a:avLst/>
            </a:prstGeom>
            <a:solidFill>
              <a:srgbClr val="5858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840200" y="3819600"/>
              <a:ext cx="1408320" cy="20520"/>
            </a:xfrm>
            <a:prstGeom prst="rect">
              <a:avLst/>
            </a:prstGeom>
            <a:solidFill>
              <a:srgbClr val="5959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840200" y="3840120"/>
              <a:ext cx="1408320" cy="20520"/>
            </a:xfrm>
            <a:prstGeom prst="rect">
              <a:avLst/>
            </a:prstGeom>
            <a:solidFill>
              <a:srgbClr val="5a5a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840200" y="3860640"/>
              <a:ext cx="1408320" cy="20880"/>
            </a:xfrm>
            <a:prstGeom prst="rect">
              <a:avLst/>
            </a:prstGeom>
            <a:solidFill>
              <a:srgbClr val="5b5b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840200" y="3881520"/>
              <a:ext cx="1408320" cy="20520"/>
            </a:xfrm>
            <a:prstGeom prst="rect">
              <a:avLst/>
            </a:prstGeom>
            <a:solidFill>
              <a:srgbClr val="5c5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840200" y="3902040"/>
              <a:ext cx="1408320" cy="20520"/>
            </a:xfrm>
            <a:prstGeom prst="rect">
              <a:avLst/>
            </a:prstGeom>
            <a:solidFill>
              <a:srgbClr val="5c5c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840200" y="3922560"/>
              <a:ext cx="1408320" cy="20880"/>
            </a:xfrm>
            <a:prstGeom prst="rect">
              <a:avLst/>
            </a:prstGeom>
            <a:solidFill>
              <a:srgbClr val="5d5d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840200" y="3943440"/>
              <a:ext cx="1408320" cy="19080"/>
            </a:xfrm>
            <a:prstGeom prst="rect">
              <a:avLst/>
            </a:prstGeom>
            <a:solidFill>
              <a:srgbClr val="5e5e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840200" y="3962520"/>
              <a:ext cx="1408320" cy="20520"/>
            </a:xfrm>
            <a:prstGeom prst="rect">
              <a:avLst/>
            </a:prstGeom>
            <a:solidFill>
              <a:srgbClr val="5f5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840200" y="3983040"/>
              <a:ext cx="1408320" cy="20520"/>
            </a:xfrm>
            <a:prstGeom prst="rect">
              <a:avLst/>
            </a:prstGeom>
            <a:solidFill>
              <a:srgbClr val="6060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840200" y="4003560"/>
              <a:ext cx="1408320" cy="20880"/>
            </a:xfrm>
            <a:prstGeom prst="rect">
              <a:avLst/>
            </a:prstGeom>
            <a:solidFill>
              <a:srgbClr val="6161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840200" y="4024440"/>
              <a:ext cx="1408320" cy="20520"/>
            </a:xfrm>
            <a:prstGeom prst="rect">
              <a:avLst/>
            </a:prstGeom>
            <a:solidFill>
              <a:srgbClr val="6262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840200" y="4044960"/>
              <a:ext cx="1408320" cy="20520"/>
            </a:xfrm>
            <a:prstGeom prst="rect">
              <a:avLst/>
            </a:prstGeom>
            <a:solidFill>
              <a:srgbClr val="6363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840200" y="4065480"/>
              <a:ext cx="1408320" cy="20880"/>
            </a:xfrm>
            <a:prstGeom prst="rect">
              <a:avLst/>
            </a:prstGeom>
            <a:solidFill>
              <a:srgbClr val="6464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840200" y="4086360"/>
              <a:ext cx="1408320" cy="20520"/>
            </a:xfrm>
            <a:prstGeom prst="rect">
              <a:avLst/>
            </a:prstGeom>
            <a:solidFill>
              <a:srgbClr val="656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840200" y="4106880"/>
              <a:ext cx="1408320" cy="20520"/>
            </a:xfrm>
            <a:prstGeom prst="rect">
              <a:avLst/>
            </a:prstGeom>
            <a:solidFill>
              <a:srgbClr val="6666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840200" y="4127400"/>
              <a:ext cx="1408320" cy="20880"/>
            </a:xfrm>
            <a:prstGeom prst="rect">
              <a:avLst/>
            </a:prstGeom>
            <a:solidFill>
              <a:srgbClr val="6767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840200" y="4148280"/>
              <a:ext cx="1408320" cy="20520"/>
            </a:xfrm>
            <a:prstGeom prst="rect">
              <a:avLst/>
            </a:prstGeom>
            <a:solidFill>
              <a:srgbClr val="6868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840200" y="4168800"/>
              <a:ext cx="1408320" cy="20520"/>
            </a:xfrm>
            <a:prstGeom prst="rect">
              <a:avLst/>
            </a:prstGeom>
            <a:solidFill>
              <a:srgbClr val="696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840200" y="4189320"/>
              <a:ext cx="1408320" cy="20880"/>
            </a:xfrm>
            <a:prstGeom prst="rect">
              <a:avLst/>
            </a:prstGeom>
            <a:solidFill>
              <a:srgbClr val="6969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840200" y="4210200"/>
              <a:ext cx="1408320" cy="19080"/>
            </a:xfrm>
            <a:prstGeom prst="rect">
              <a:avLst/>
            </a:prstGeom>
            <a:solidFill>
              <a:srgbClr val="6b6b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840200" y="4229280"/>
              <a:ext cx="1408320" cy="20520"/>
            </a:xfrm>
            <a:prstGeom prst="rect">
              <a:avLst/>
            </a:prstGeom>
            <a:solidFill>
              <a:srgbClr val="6c6c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840200" y="4249800"/>
              <a:ext cx="1408320" cy="20520"/>
            </a:xfrm>
            <a:prstGeom prst="rect">
              <a:avLst/>
            </a:prstGeom>
            <a:solidFill>
              <a:srgbClr val="6d6d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840200" y="4270320"/>
              <a:ext cx="1408320" cy="20520"/>
            </a:xfrm>
            <a:prstGeom prst="rect">
              <a:avLst/>
            </a:prstGeom>
            <a:solidFill>
              <a:srgbClr val="6e6e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840200" y="4290840"/>
              <a:ext cx="1408320" cy="20880"/>
            </a:xfrm>
            <a:prstGeom prst="rect">
              <a:avLst/>
            </a:prstGeom>
            <a:solidFill>
              <a:srgbClr val="6f6f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840200" y="4311720"/>
              <a:ext cx="1408320" cy="20520"/>
            </a:xfrm>
            <a:prstGeom prst="rect">
              <a:avLst/>
            </a:prstGeom>
            <a:solidFill>
              <a:srgbClr val="7070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840200" y="4332240"/>
              <a:ext cx="1408320" cy="20520"/>
            </a:xfrm>
            <a:prstGeom prst="rect">
              <a:avLst/>
            </a:prstGeom>
            <a:solidFill>
              <a:srgbClr val="7070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840200" y="4352760"/>
              <a:ext cx="1408320" cy="19080"/>
            </a:xfrm>
            <a:prstGeom prst="rect">
              <a:avLst/>
            </a:prstGeom>
            <a:solidFill>
              <a:srgbClr val="717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840200" y="4371840"/>
              <a:ext cx="1408320" cy="20880"/>
            </a:xfrm>
            <a:prstGeom prst="rect">
              <a:avLst/>
            </a:prstGeom>
            <a:solidFill>
              <a:srgbClr val="7272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840200" y="4392720"/>
              <a:ext cx="1408320" cy="20520"/>
            </a:xfrm>
            <a:prstGeom prst="rect">
              <a:avLst/>
            </a:prstGeom>
            <a:solidFill>
              <a:srgbClr val="7373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840200" y="4413240"/>
              <a:ext cx="1408320" cy="20520"/>
            </a:xfrm>
            <a:prstGeom prst="rect">
              <a:avLst/>
            </a:prstGeom>
            <a:solidFill>
              <a:srgbClr val="7474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840200" y="4433760"/>
              <a:ext cx="1408320" cy="20880"/>
            </a:xfrm>
            <a:prstGeom prst="rect">
              <a:avLst/>
            </a:prstGeom>
            <a:solidFill>
              <a:srgbClr val="7575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840200" y="4454640"/>
              <a:ext cx="1408320" cy="21960"/>
            </a:xfrm>
            <a:prstGeom prst="rect">
              <a:avLst/>
            </a:prstGeom>
            <a:solidFill>
              <a:srgbClr val="7777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840200" y="4476600"/>
              <a:ext cx="1408320" cy="19080"/>
            </a:xfrm>
            <a:prstGeom prst="rect">
              <a:avLst/>
            </a:prstGeom>
            <a:solidFill>
              <a:srgbClr val="777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840200" y="4495680"/>
              <a:ext cx="1408320" cy="20880"/>
            </a:xfrm>
            <a:prstGeom prst="rect">
              <a:avLst/>
            </a:prstGeom>
            <a:solidFill>
              <a:srgbClr val="7878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840200" y="4516560"/>
              <a:ext cx="1408320" cy="20520"/>
            </a:xfrm>
            <a:prstGeom prst="rect">
              <a:avLst/>
            </a:prstGeom>
            <a:solidFill>
              <a:srgbClr val="7979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840200" y="4537080"/>
              <a:ext cx="1408320" cy="20520"/>
            </a:xfrm>
            <a:prstGeom prst="rect">
              <a:avLst/>
            </a:prstGeom>
            <a:solidFill>
              <a:srgbClr val="7a7a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840200" y="4557600"/>
              <a:ext cx="1408320" cy="20880"/>
            </a:xfrm>
            <a:prstGeom prst="rect">
              <a:avLst/>
            </a:prstGeom>
            <a:solidFill>
              <a:srgbClr val="7b7b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840200" y="4578480"/>
              <a:ext cx="1408320" cy="20520"/>
            </a:xfrm>
            <a:prstGeom prst="rect">
              <a:avLst/>
            </a:prstGeom>
            <a:solidFill>
              <a:srgbClr val="7c7c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840200" y="4599000"/>
              <a:ext cx="1408320" cy="20520"/>
            </a:xfrm>
            <a:prstGeom prst="rect">
              <a:avLst/>
            </a:prstGeom>
            <a:solidFill>
              <a:srgbClr val="7d7d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840200" y="4619520"/>
              <a:ext cx="1408320" cy="19080"/>
            </a:xfrm>
            <a:prstGeom prst="rect">
              <a:avLst/>
            </a:prstGeom>
            <a:solidFill>
              <a:srgbClr val="7d7d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840200" y="4638600"/>
              <a:ext cx="1408320" cy="20880"/>
            </a:xfrm>
            <a:prstGeom prst="rect">
              <a:avLst/>
            </a:prstGeom>
            <a:solidFill>
              <a:srgbClr val="7e7e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840200" y="4659480"/>
              <a:ext cx="1408320" cy="20520"/>
            </a:xfrm>
            <a:prstGeom prst="rect">
              <a:avLst/>
            </a:prstGeom>
            <a:solidFill>
              <a:srgbClr val="7f7f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840200" y="4680000"/>
              <a:ext cx="1408320" cy="20520"/>
            </a:xfrm>
            <a:prstGeom prst="rect">
              <a:avLst/>
            </a:prstGeom>
            <a:solidFill>
              <a:srgbClr val="8080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840200" y="4700520"/>
              <a:ext cx="1408320" cy="20880"/>
            </a:xfrm>
            <a:prstGeom prst="rect">
              <a:avLst/>
            </a:prstGeom>
            <a:solidFill>
              <a:srgbClr val="8181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840200" y="4721400"/>
              <a:ext cx="1408320" cy="20520"/>
            </a:xfrm>
            <a:prstGeom prst="rect">
              <a:avLst/>
            </a:prstGeom>
            <a:solidFill>
              <a:srgbClr val="8282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840200" y="4741920"/>
              <a:ext cx="1408320" cy="20520"/>
            </a:xfrm>
            <a:prstGeom prst="rect">
              <a:avLst/>
            </a:prstGeom>
            <a:solidFill>
              <a:srgbClr val="8383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840200" y="4762440"/>
              <a:ext cx="1408320" cy="19080"/>
            </a:xfrm>
            <a:prstGeom prst="rect">
              <a:avLst/>
            </a:prstGeom>
            <a:solidFill>
              <a:srgbClr val="8383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840200" y="4781520"/>
              <a:ext cx="1408320" cy="20520"/>
            </a:xfrm>
            <a:prstGeom prst="rect">
              <a:avLst/>
            </a:prstGeom>
            <a:solidFill>
              <a:srgbClr val="8484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840200" y="4802040"/>
              <a:ext cx="1408320" cy="20880"/>
            </a:xfrm>
            <a:prstGeom prst="rect">
              <a:avLst/>
            </a:prstGeom>
            <a:solidFill>
              <a:srgbClr val="8585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840200" y="4822920"/>
              <a:ext cx="1408320" cy="20520"/>
            </a:xfrm>
            <a:prstGeom prst="rect">
              <a:avLst/>
            </a:prstGeom>
            <a:solidFill>
              <a:srgbClr val="8686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840200" y="4843440"/>
              <a:ext cx="1408320" cy="20520"/>
            </a:xfrm>
            <a:prstGeom prst="rect">
              <a:avLst/>
            </a:prstGeom>
            <a:solidFill>
              <a:srgbClr val="8686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840200" y="4863960"/>
              <a:ext cx="1408320" cy="22320"/>
            </a:xfrm>
            <a:prstGeom prst="rect">
              <a:avLst/>
            </a:prstGeom>
            <a:solidFill>
              <a:srgbClr val="8787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840200" y="4886280"/>
              <a:ext cx="1408320" cy="19080"/>
            </a:xfrm>
            <a:prstGeom prst="rect">
              <a:avLst/>
            </a:prstGeom>
            <a:solidFill>
              <a:srgbClr val="8888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840200" y="4905360"/>
              <a:ext cx="1408320" cy="20520"/>
            </a:xfrm>
            <a:prstGeom prst="rect">
              <a:avLst/>
            </a:prstGeom>
            <a:solidFill>
              <a:srgbClr val="8888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840200" y="4925880"/>
              <a:ext cx="1408320" cy="20880"/>
            </a:xfrm>
            <a:prstGeom prst="rect">
              <a:avLst/>
            </a:prstGeom>
            <a:solidFill>
              <a:srgbClr val="8989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840200" y="4946760"/>
              <a:ext cx="1408320" cy="20520"/>
            </a:xfrm>
            <a:prstGeom prst="rect">
              <a:avLst/>
            </a:prstGeom>
            <a:solidFill>
              <a:srgbClr val="8a8a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840200" y="4967280"/>
              <a:ext cx="1408320" cy="20520"/>
            </a:xfrm>
            <a:prstGeom prst="rect">
              <a:avLst/>
            </a:prstGeom>
            <a:solidFill>
              <a:srgbClr val="8a8a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840200" y="4987800"/>
              <a:ext cx="1408320" cy="20880"/>
            </a:xfrm>
            <a:prstGeom prst="rect">
              <a:avLst/>
            </a:prstGeom>
            <a:solidFill>
              <a:srgbClr val="8b8b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840200" y="5008680"/>
              <a:ext cx="1408320" cy="20520"/>
            </a:xfrm>
            <a:prstGeom prst="rect">
              <a:avLst/>
            </a:prstGeom>
            <a:solidFill>
              <a:srgbClr val="8c8c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840200" y="5029200"/>
              <a:ext cx="1408320" cy="19080"/>
            </a:xfrm>
            <a:prstGeom prst="rect">
              <a:avLst/>
            </a:prstGeom>
            <a:solidFill>
              <a:srgbClr val="8c8c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840200" y="5048280"/>
              <a:ext cx="1408320" cy="20520"/>
            </a:xfrm>
            <a:prstGeom prst="rect">
              <a:avLst/>
            </a:prstGeom>
            <a:solidFill>
              <a:srgbClr val="8d8d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840200" y="5068800"/>
              <a:ext cx="1408320" cy="20880"/>
            </a:xfrm>
            <a:prstGeom prst="rect">
              <a:avLst/>
            </a:prstGeom>
            <a:solidFill>
              <a:srgbClr val="8d8d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840200" y="5089680"/>
              <a:ext cx="1408320" cy="20520"/>
            </a:xfrm>
            <a:prstGeom prst="rect">
              <a:avLst/>
            </a:prstGeom>
            <a:solidFill>
              <a:srgbClr val="8e8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840200" y="5110200"/>
              <a:ext cx="1408320" cy="20520"/>
            </a:xfrm>
            <a:prstGeom prst="rect">
              <a:avLst/>
            </a:prstGeom>
            <a:solidFill>
              <a:srgbClr val="8e8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840200" y="5130720"/>
              <a:ext cx="1408320" cy="20880"/>
            </a:xfrm>
            <a:prstGeom prst="rect">
              <a:avLst/>
            </a:prstGeom>
            <a:solidFill>
              <a:srgbClr val="8f8f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840200" y="5151600"/>
              <a:ext cx="1408320" cy="20520"/>
            </a:xfrm>
            <a:prstGeom prst="rect">
              <a:avLst/>
            </a:prstGeom>
            <a:solidFill>
              <a:srgbClr val="8f8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840200" y="5172120"/>
              <a:ext cx="1408320" cy="19080"/>
            </a:xfrm>
            <a:prstGeom prst="rect">
              <a:avLst/>
            </a:prstGeom>
            <a:solidFill>
              <a:srgbClr val="909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840200" y="5191200"/>
              <a:ext cx="1408320" cy="20520"/>
            </a:xfrm>
            <a:prstGeom prst="rect">
              <a:avLst/>
            </a:prstGeom>
            <a:solidFill>
              <a:srgbClr val="9090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840200" y="5211720"/>
              <a:ext cx="1408320" cy="20520"/>
            </a:xfrm>
            <a:prstGeom prst="rect">
              <a:avLst/>
            </a:prstGeom>
            <a:solidFill>
              <a:srgbClr val="9191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840200" y="5232240"/>
              <a:ext cx="1408320" cy="20880"/>
            </a:xfrm>
            <a:prstGeom prst="rect">
              <a:avLst/>
            </a:prstGeom>
            <a:solidFill>
              <a:srgbClr val="919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840200" y="5253120"/>
              <a:ext cx="1408320" cy="20520"/>
            </a:xfrm>
            <a:prstGeom prst="rect">
              <a:avLst/>
            </a:prstGeom>
            <a:solidFill>
              <a:srgbClr val="9292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840200" y="5273640"/>
              <a:ext cx="1408320" cy="22320"/>
            </a:xfrm>
            <a:prstGeom prst="rect">
              <a:avLst/>
            </a:prstGeom>
            <a:solidFill>
              <a:srgbClr val="9292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840200" y="5295960"/>
              <a:ext cx="1408320" cy="19080"/>
            </a:xfrm>
            <a:prstGeom prst="rect">
              <a:avLst/>
            </a:prstGeom>
            <a:solidFill>
              <a:srgbClr val="9292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840200" y="5315040"/>
              <a:ext cx="1408320" cy="20520"/>
            </a:xfrm>
            <a:prstGeom prst="rect">
              <a:avLst/>
            </a:prstGeom>
            <a:solidFill>
              <a:srgbClr val="9393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840200" y="5335560"/>
              <a:ext cx="1408320" cy="20520"/>
            </a:xfrm>
            <a:prstGeom prst="rect">
              <a:avLst/>
            </a:prstGeom>
            <a:solidFill>
              <a:srgbClr val="9393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840200" y="5356080"/>
              <a:ext cx="1408320" cy="20880"/>
            </a:xfrm>
            <a:prstGeom prst="rect">
              <a:avLst/>
            </a:prstGeom>
            <a:solidFill>
              <a:srgbClr val="9393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840200" y="5376960"/>
              <a:ext cx="1408320" cy="20520"/>
            </a:xfrm>
            <a:prstGeom prst="rect">
              <a:avLst/>
            </a:prstGeom>
            <a:solidFill>
              <a:srgbClr val="9494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840200" y="5397480"/>
              <a:ext cx="1408320" cy="20520"/>
            </a:xfrm>
            <a:prstGeom prst="rect">
              <a:avLst/>
            </a:prstGeom>
            <a:solidFill>
              <a:srgbClr val="9494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840200" y="5418000"/>
              <a:ext cx="1408320" cy="20880"/>
            </a:xfrm>
            <a:prstGeom prst="rect">
              <a:avLst/>
            </a:prstGeom>
            <a:solidFill>
              <a:srgbClr val="9494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840200" y="5438880"/>
              <a:ext cx="1408320" cy="19080"/>
            </a:xfrm>
            <a:prstGeom prst="rect">
              <a:avLst/>
            </a:prstGeom>
            <a:solidFill>
              <a:srgbClr val="9595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840200" y="5457960"/>
              <a:ext cx="1408320" cy="20520"/>
            </a:xfrm>
            <a:prstGeom prst="rect">
              <a:avLst/>
            </a:prstGeom>
            <a:solidFill>
              <a:srgbClr val="9595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840200" y="5478480"/>
              <a:ext cx="1408320" cy="20520"/>
            </a:xfrm>
            <a:prstGeom prst="rect">
              <a:avLst/>
            </a:prstGeom>
            <a:solidFill>
              <a:srgbClr val="9595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840200" y="5499000"/>
              <a:ext cx="1408320" cy="20880"/>
            </a:xfrm>
            <a:prstGeom prst="rect">
              <a:avLst/>
            </a:prstGeom>
            <a:solidFill>
              <a:srgbClr val="9595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840200" y="5519880"/>
              <a:ext cx="1408320" cy="20520"/>
            </a:xfrm>
            <a:prstGeom prst="rect">
              <a:avLst/>
            </a:prstGeom>
            <a:solidFill>
              <a:srgbClr val="9696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840200" y="5540400"/>
              <a:ext cx="1408320" cy="20520"/>
            </a:xfrm>
            <a:prstGeom prst="rect">
              <a:avLst/>
            </a:prstGeom>
            <a:solidFill>
              <a:srgbClr val="9696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840200" y="5560920"/>
              <a:ext cx="1408320" cy="20880"/>
            </a:xfrm>
            <a:prstGeom prst="rect">
              <a:avLst/>
            </a:prstGeom>
            <a:solidFill>
              <a:srgbClr val="9696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840200" y="5581800"/>
              <a:ext cx="1408320" cy="19080"/>
            </a:xfrm>
            <a:prstGeom prst="rect">
              <a:avLst/>
            </a:prstGeom>
            <a:solidFill>
              <a:srgbClr val="9696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40200" y="5600880"/>
              <a:ext cx="1408320" cy="20520"/>
            </a:xfrm>
            <a:prstGeom prst="rect">
              <a:avLst/>
            </a:prstGeom>
            <a:solidFill>
              <a:srgbClr val="9797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40200" y="5621400"/>
              <a:ext cx="1408320" cy="20520"/>
            </a:xfrm>
            <a:prstGeom prst="rect">
              <a:avLst/>
            </a:prstGeom>
            <a:solidFill>
              <a:srgbClr val="979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40200" y="5641920"/>
              <a:ext cx="1408320" cy="20520"/>
            </a:xfrm>
            <a:prstGeom prst="rect">
              <a:avLst/>
            </a:prstGeom>
            <a:solidFill>
              <a:srgbClr val="979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840200" y="5662440"/>
              <a:ext cx="1408320" cy="20880"/>
            </a:xfrm>
            <a:prstGeom prst="rect">
              <a:avLst/>
            </a:prstGeom>
            <a:solidFill>
              <a:srgbClr val="979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40200" y="5683320"/>
              <a:ext cx="1408320" cy="22320"/>
            </a:xfrm>
            <a:prstGeom prst="rect">
              <a:avLst/>
            </a:prstGeom>
            <a:solidFill>
              <a:srgbClr val="9797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840200" y="5705640"/>
              <a:ext cx="1408320" cy="18720"/>
            </a:xfrm>
            <a:prstGeom prst="rect">
              <a:avLst/>
            </a:prstGeom>
            <a:solidFill>
              <a:srgbClr val="9797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840200" y="5724360"/>
              <a:ext cx="1408320" cy="20880"/>
            </a:xfrm>
            <a:prstGeom prst="rect">
              <a:avLst/>
            </a:prstGeom>
            <a:solidFill>
              <a:srgbClr val="9898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840200" y="5745240"/>
              <a:ext cx="1408320" cy="20520"/>
            </a:xfrm>
            <a:prstGeom prst="rect">
              <a:avLst/>
            </a:prstGeom>
            <a:solidFill>
              <a:srgbClr val="9898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840200" y="5765760"/>
              <a:ext cx="1408320" cy="20520"/>
            </a:xfrm>
            <a:prstGeom prst="rect">
              <a:avLst/>
            </a:prstGeom>
            <a:solidFill>
              <a:srgbClr val="9898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840200" y="5786280"/>
              <a:ext cx="1408320" cy="2088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840200" y="5807160"/>
              <a:ext cx="1408320" cy="2052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840200" y="5827680"/>
              <a:ext cx="1408320" cy="2052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840200" y="5848200"/>
              <a:ext cx="1408320" cy="1908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840200" y="5867280"/>
              <a:ext cx="1408320" cy="20880"/>
            </a:xfrm>
            <a:prstGeom prst="rect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6" name=""/>
          <p:cNvSpPr/>
          <p:nvPr/>
        </p:nvSpPr>
        <p:spPr>
          <a:xfrm>
            <a:off x="4840200" y="3062160"/>
            <a:ext cx="1408320" cy="2826000"/>
          </a:xfrm>
          <a:prstGeom prst="rect">
            <a:avLst/>
          </a:prstGeom>
          <a:noFill/>
          <a:ln w="79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969840" y="2487600"/>
            <a:ext cx="1800" cy="4019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969840" y="6507000"/>
            <a:ext cx="46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969840" y="5934240"/>
            <a:ext cx="46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969840" y="5359320"/>
            <a:ext cx="46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969840" y="4786200"/>
            <a:ext cx="46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969840" y="4210200"/>
            <a:ext cx="46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969840" y="3637080"/>
            <a:ext cx="46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969840" y="3062160"/>
            <a:ext cx="46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969840" y="2487600"/>
            <a:ext cx="46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969840" y="3062160"/>
            <a:ext cx="63342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969840" y="3016080"/>
            <a:ext cx="1800" cy="46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7304040" y="3016080"/>
            <a:ext cx="1800" cy="46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502280" y="1811160"/>
            <a:ext cx="57888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Gill Sans MT"/>
              </a:rPr>
              <a:t>Real Interest Rate, Real Exchange Rate and Primary Surplus 2003-2004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410480" y="2058840"/>
            <a:ext cx="65980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Gill Sans MT"/>
              </a:rPr>
              <a:t>(Real Exchange Rate % change and Real Interest Rate and Primary Surplus difference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337560" y="2298600"/>
            <a:ext cx="2138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Gill Sans MT"/>
              </a:rPr>
              <a:t>against 1994-2001 average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694960" y="2584440"/>
            <a:ext cx="177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ill Sans MT"/>
              </a:rPr>
              <a:t>3,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084200" y="3306600"/>
            <a:ext cx="218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ill Sans MT"/>
              </a:rPr>
              <a:t>-3,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458680" y="5952960"/>
            <a:ext cx="290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ill Sans MT"/>
              </a:rPr>
              <a:t>-49,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95160" y="6408720"/>
            <a:ext cx="2080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Gill Sans MT"/>
              </a:rPr>
              <a:t>-6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95160" y="5834160"/>
            <a:ext cx="2080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Gill Sans MT"/>
              </a:rPr>
              <a:t>-5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95160" y="5261040"/>
            <a:ext cx="2080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Gill Sans MT"/>
              </a:rPr>
              <a:t>-4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95160" y="4686480"/>
            <a:ext cx="2080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Gill Sans MT"/>
              </a:rPr>
              <a:t>-3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95160" y="4111560"/>
            <a:ext cx="2080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Gill Sans MT"/>
              </a:rPr>
              <a:t>-2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95160" y="3537000"/>
            <a:ext cx="2080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Gill Sans MT"/>
              </a:rPr>
              <a:t>-1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815760" y="2963880"/>
            <a:ext cx="813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Gill Sans MT"/>
              </a:rPr>
              <a:t>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39440" y="2389320"/>
            <a:ext cx="1623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Gill Sans MT"/>
              </a:rPr>
              <a:t>1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953640" y="2276640"/>
            <a:ext cx="2019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Gill Sans MT"/>
              </a:rPr>
              <a:t>p.p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055520" y="5367240"/>
            <a:ext cx="96840" cy="96840"/>
          </a:xfrm>
          <a:prstGeom prst="rect">
            <a:avLst/>
          </a:prstGeom>
          <a:solidFill>
            <a:srgbClr val="cc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160640" y="5319720"/>
            <a:ext cx="10569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Gill Sans MT"/>
              </a:rPr>
              <a:t>Primary Surplu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055520" y="5773680"/>
            <a:ext cx="96840" cy="96840"/>
          </a:xfrm>
          <a:prstGeom prst="rect">
            <a:avLst/>
          </a:prstGeom>
          <a:noFill/>
          <a:ln w="7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171800" y="5726160"/>
            <a:ext cx="19638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Gill Sans MT"/>
              </a:rPr>
              <a:t>Real Interest Rate (30-day CD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1055520" y="6178680"/>
            <a:ext cx="96840" cy="98280"/>
            <a:chOff x="1055520" y="6178680"/>
            <a:chExt cx="96840" cy="98280"/>
          </a:xfrm>
        </p:grpSpPr>
        <p:sp>
          <p:nvSpPr>
            <p:cNvPr id="279" name=""/>
            <p:cNvSpPr/>
            <p:nvPr/>
          </p:nvSpPr>
          <p:spPr>
            <a:xfrm>
              <a:off x="1055520" y="6178680"/>
              <a:ext cx="96840" cy="1440"/>
            </a:xfrm>
            <a:prstGeom prst="rect">
              <a:avLst/>
            </a:prstGeom>
            <a:solidFill>
              <a:srgbClr val="4747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55520" y="6180120"/>
              <a:ext cx="96840" cy="3240"/>
            </a:xfrm>
            <a:prstGeom prst="rect">
              <a:avLst/>
            </a:prstGeom>
            <a:solidFill>
              <a:srgbClr val="4848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55520" y="6183360"/>
              <a:ext cx="96840" cy="1440"/>
            </a:xfrm>
            <a:prstGeom prst="rect">
              <a:avLst/>
            </a:prstGeom>
            <a:solidFill>
              <a:srgbClr val="4848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55520" y="6184800"/>
              <a:ext cx="96840" cy="3240"/>
            </a:xfrm>
            <a:prstGeom prst="rect">
              <a:avLst/>
            </a:prstGeom>
            <a:solidFill>
              <a:srgbClr val="494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055520" y="6188040"/>
              <a:ext cx="96840" cy="1800"/>
            </a:xfrm>
            <a:prstGeom prst="rect">
              <a:avLst/>
            </a:prstGeom>
            <a:solidFill>
              <a:srgbClr val="4b4b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1055520" y="6189840"/>
              <a:ext cx="96840" cy="1440"/>
            </a:xfrm>
            <a:prstGeom prst="rect">
              <a:avLst/>
            </a:prstGeom>
            <a:solidFill>
              <a:srgbClr val="4c4c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055520" y="6191280"/>
              <a:ext cx="96840" cy="3240"/>
            </a:xfrm>
            <a:prstGeom prst="rect">
              <a:avLst/>
            </a:prstGeom>
            <a:solidFill>
              <a:srgbClr val="4d4d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055520" y="6194520"/>
              <a:ext cx="96840" cy="1440"/>
            </a:xfrm>
            <a:prstGeom prst="rect">
              <a:avLst/>
            </a:prstGeom>
            <a:solidFill>
              <a:srgbClr val="4f4f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055520" y="6195960"/>
              <a:ext cx="96840" cy="1800"/>
            </a:xfrm>
            <a:prstGeom prst="rect">
              <a:avLst/>
            </a:prstGeom>
            <a:solidFill>
              <a:srgbClr val="5151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055520" y="6197760"/>
              <a:ext cx="96840" cy="2880"/>
            </a:xfrm>
            <a:prstGeom prst="rect">
              <a:avLst/>
            </a:prstGeom>
            <a:solidFill>
              <a:srgbClr val="5353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055520" y="6200640"/>
              <a:ext cx="96840" cy="1800"/>
            </a:xfrm>
            <a:prstGeom prst="rect">
              <a:avLst/>
            </a:prstGeom>
            <a:solidFill>
              <a:srgbClr val="5555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055520" y="6202440"/>
              <a:ext cx="96840" cy="1440"/>
            </a:xfrm>
            <a:prstGeom prst="rect">
              <a:avLst/>
            </a:prstGeom>
            <a:solidFill>
              <a:srgbClr val="5757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055520" y="6203880"/>
              <a:ext cx="96840" cy="3240"/>
            </a:xfrm>
            <a:prstGeom prst="rect">
              <a:avLst/>
            </a:prstGeom>
            <a:solidFill>
              <a:srgbClr val="5a5a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055520" y="6207120"/>
              <a:ext cx="96840" cy="1440"/>
            </a:xfrm>
            <a:prstGeom prst="rect">
              <a:avLst/>
            </a:prstGeom>
            <a:solidFill>
              <a:srgbClr val="5c5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1055520" y="6208560"/>
              <a:ext cx="96840" cy="1800"/>
            </a:xfrm>
            <a:prstGeom prst="rect">
              <a:avLst/>
            </a:prstGeom>
            <a:solidFill>
              <a:srgbClr val="5f5f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055520" y="6210360"/>
              <a:ext cx="96840" cy="3240"/>
            </a:xfrm>
            <a:prstGeom prst="rect">
              <a:avLst/>
            </a:prstGeom>
            <a:solidFill>
              <a:srgbClr val="6262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1055520" y="6213600"/>
              <a:ext cx="96840" cy="1440"/>
            </a:xfrm>
            <a:prstGeom prst="rect">
              <a:avLst/>
            </a:prstGeom>
            <a:solidFill>
              <a:srgbClr val="6464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055520" y="6215040"/>
              <a:ext cx="96840" cy="3240"/>
            </a:xfrm>
            <a:prstGeom prst="rect">
              <a:avLst/>
            </a:prstGeom>
            <a:solidFill>
              <a:srgbClr val="6767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1055520" y="6218280"/>
              <a:ext cx="96840" cy="1440"/>
            </a:xfrm>
            <a:prstGeom prst="rect">
              <a:avLst/>
            </a:prstGeom>
            <a:solidFill>
              <a:srgbClr val="6b6b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055520" y="6219720"/>
              <a:ext cx="96840" cy="1800"/>
            </a:xfrm>
            <a:prstGeom prst="rect">
              <a:avLst/>
            </a:prstGeom>
            <a:solidFill>
              <a:srgbClr val="6d6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055520" y="6221520"/>
              <a:ext cx="96840" cy="3240"/>
            </a:xfrm>
            <a:prstGeom prst="rect">
              <a:avLst/>
            </a:prstGeom>
            <a:solidFill>
              <a:srgbClr val="7070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1055520" y="6224760"/>
              <a:ext cx="96840" cy="1440"/>
            </a:xfrm>
            <a:prstGeom prst="rect">
              <a:avLst/>
            </a:prstGeom>
            <a:solidFill>
              <a:srgbClr val="7373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055520" y="6226200"/>
              <a:ext cx="96840" cy="1440"/>
            </a:xfrm>
            <a:prstGeom prst="rect">
              <a:avLst/>
            </a:prstGeom>
            <a:solidFill>
              <a:srgbClr val="7676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055520" y="6227640"/>
              <a:ext cx="96840" cy="3240"/>
            </a:xfrm>
            <a:prstGeom prst="rect">
              <a:avLst/>
            </a:prstGeom>
            <a:solidFill>
              <a:srgbClr val="7979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055520" y="6230880"/>
              <a:ext cx="96840" cy="1800"/>
            </a:xfrm>
            <a:prstGeom prst="rect">
              <a:avLst/>
            </a:prstGeom>
            <a:solidFill>
              <a:srgbClr val="7b7b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055520" y="6232680"/>
              <a:ext cx="96840" cy="1440"/>
            </a:xfrm>
            <a:prstGeom prst="rect">
              <a:avLst/>
            </a:prstGeom>
            <a:solidFill>
              <a:srgbClr val="7e7e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055520" y="6234120"/>
              <a:ext cx="96840" cy="3240"/>
            </a:xfrm>
            <a:prstGeom prst="rect">
              <a:avLst/>
            </a:prstGeom>
            <a:solidFill>
              <a:srgbClr val="8181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1055520" y="6237360"/>
              <a:ext cx="96840" cy="1440"/>
            </a:xfrm>
            <a:prstGeom prst="rect">
              <a:avLst/>
            </a:prstGeom>
            <a:solidFill>
              <a:srgbClr val="8383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1055520" y="6238800"/>
              <a:ext cx="96840" cy="1800"/>
            </a:xfrm>
            <a:prstGeom prst="rect">
              <a:avLst/>
            </a:prstGeom>
            <a:solidFill>
              <a:srgbClr val="8686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055520" y="6240600"/>
              <a:ext cx="96840" cy="2880"/>
            </a:xfrm>
            <a:prstGeom prst="rect">
              <a:avLst/>
            </a:prstGeom>
            <a:solidFill>
              <a:srgbClr val="8787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055520" y="6243480"/>
              <a:ext cx="96840" cy="1800"/>
            </a:xfrm>
            <a:prstGeom prst="rect">
              <a:avLst/>
            </a:prstGeom>
            <a:solidFill>
              <a:srgbClr val="8a8a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055520" y="6245280"/>
              <a:ext cx="96840" cy="1440"/>
            </a:xfrm>
            <a:prstGeom prst="rect">
              <a:avLst/>
            </a:prstGeom>
            <a:solidFill>
              <a:srgbClr val="8c8c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1055520" y="6246720"/>
              <a:ext cx="96840" cy="3240"/>
            </a:xfrm>
            <a:prstGeom prst="rect">
              <a:avLst/>
            </a:prstGeom>
            <a:solidFill>
              <a:srgbClr val="8d8d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055520" y="6249960"/>
              <a:ext cx="96840" cy="1440"/>
            </a:xfrm>
            <a:prstGeom prst="rect">
              <a:avLst/>
            </a:prstGeom>
            <a:solidFill>
              <a:srgbClr val="8f8f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055520" y="6251400"/>
              <a:ext cx="96840" cy="3240"/>
            </a:xfrm>
            <a:prstGeom prst="rect">
              <a:avLst/>
            </a:prstGeom>
            <a:solidFill>
              <a:srgbClr val="9090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055520" y="6254640"/>
              <a:ext cx="96840" cy="1800"/>
            </a:xfrm>
            <a:prstGeom prst="rect">
              <a:avLst/>
            </a:prstGeom>
            <a:solidFill>
              <a:srgbClr val="9292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055520" y="6256440"/>
              <a:ext cx="96840" cy="1440"/>
            </a:xfrm>
            <a:prstGeom prst="rect">
              <a:avLst/>
            </a:prstGeom>
            <a:solidFill>
              <a:srgbClr val="9393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055520" y="6257880"/>
              <a:ext cx="96840" cy="3240"/>
            </a:xfrm>
            <a:prstGeom prst="rect">
              <a:avLst/>
            </a:prstGeom>
            <a:solidFill>
              <a:srgbClr val="9494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055520" y="6261120"/>
              <a:ext cx="96840" cy="1440"/>
            </a:xfrm>
            <a:prstGeom prst="rect">
              <a:avLst/>
            </a:prstGeom>
            <a:solidFill>
              <a:srgbClr val="9595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055520" y="6262560"/>
              <a:ext cx="96840" cy="1800"/>
            </a:xfrm>
            <a:prstGeom prst="rect">
              <a:avLst/>
            </a:prstGeom>
            <a:solidFill>
              <a:srgbClr val="9696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055520" y="6264360"/>
              <a:ext cx="96840" cy="3240"/>
            </a:xfrm>
            <a:prstGeom prst="rect">
              <a:avLst/>
            </a:prstGeom>
            <a:solidFill>
              <a:srgbClr val="9696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55520" y="6267600"/>
              <a:ext cx="96840" cy="1440"/>
            </a:xfrm>
            <a:prstGeom prst="rect">
              <a:avLst/>
            </a:prstGeom>
            <a:solidFill>
              <a:srgbClr val="979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055520" y="6269040"/>
              <a:ext cx="96840" cy="1440"/>
            </a:xfrm>
            <a:prstGeom prst="rect">
              <a:avLst/>
            </a:prstGeom>
            <a:solidFill>
              <a:srgbClr val="9797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055520" y="6270480"/>
              <a:ext cx="96840" cy="3240"/>
            </a:xfrm>
            <a:prstGeom prst="rect">
              <a:avLst/>
            </a:prstGeom>
            <a:solidFill>
              <a:srgbClr val="9898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055520" y="6273720"/>
              <a:ext cx="96840" cy="180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055520" y="6275520"/>
              <a:ext cx="96840" cy="1440"/>
            </a:xfrm>
            <a:prstGeom prst="rect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5" name=""/>
          <p:cNvSpPr/>
          <p:nvPr/>
        </p:nvSpPr>
        <p:spPr>
          <a:xfrm>
            <a:off x="1055520" y="6178680"/>
            <a:ext cx="96840" cy="98280"/>
          </a:xfrm>
          <a:prstGeom prst="rect">
            <a:avLst/>
          </a:prstGeom>
          <a:noFill/>
          <a:ln w="79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149480" y="6130800"/>
            <a:ext cx="20826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Gill Sans MT"/>
              </a:rPr>
              <a:t>Multilateral Real Exchange Rat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684760" y="5896080"/>
            <a:ext cx="131760" cy="1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735880" y="590400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Gill Sans MT"/>
              </a:rPr>
              <a:t>*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4400" y="6532560"/>
            <a:ext cx="70488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38080" y="7617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Fixed investment finally adding to the capital stock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31" name="" descr=""/>
          <p:cNvPicPr/>
          <p:nvPr/>
        </p:nvPicPr>
        <p:blipFill>
          <a:blip r:embed="rId1"/>
          <a:stretch/>
        </p:blipFill>
        <p:spPr>
          <a:xfrm>
            <a:off x="955800" y="1712880"/>
            <a:ext cx="7197480" cy="50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914400" y="838080"/>
            <a:ext cx="6705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uman capital no longer fall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3" name="" descr=""/>
          <p:cNvPicPr/>
          <p:nvPr/>
        </p:nvPicPr>
        <p:blipFill>
          <a:blip r:embed="rId1"/>
          <a:stretch/>
        </p:blipFill>
        <p:spPr>
          <a:xfrm>
            <a:off x="782640" y="1820880"/>
            <a:ext cx="706608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219320" y="990360"/>
            <a:ext cx="5790960" cy="533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hallenges for Monetary Polic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040" y="17521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Reputation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: a poor track reco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6" name=""/>
          <p:cNvSpPr/>
          <p:nvPr/>
        </p:nvSpPr>
        <p:spPr>
          <a:xfrm>
            <a:off x="914400" y="2666880"/>
            <a:ext cx="78487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80880" indent="-380880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Commercial banks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: large counterparty ris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914400" y="3276720"/>
            <a:ext cx="7543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80880" indent="-3808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Economic environment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: shrinking balance sheet and uncertain money dem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914400" y="2209680"/>
            <a:ext cx="7543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80880" indent="-380880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Public sector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: division of lab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914400" y="4267080"/>
            <a:ext cx="75438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80880" indent="-380880">
              <a:lnSpc>
                <a:spcPct val="100000"/>
              </a:lnSpc>
              <a:spcBef>
                <a:spcPts val="176"/>
              </a:spcBef>
              <a:buClr>
                <a:srgbClr val="3333cc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Central Bank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: lack 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3086280" indent="-381240">
              <a:lnSpc>
                <a:spcPct val="100000"/>
              </a:lnSpc>
              <a:spcBef>
                <a:spcPts val="176"/>
              </a:spcBef>
              <a:buClr>
                <a:srgbClr val="3333cc"/>
              </a:buClr>
              <a:buSzPct val="75000"/>
              <a:buFont typeface="Tahoma"/>
              <a:buChar char="×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instru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3086280" indent="-381240">
              <a:lnSpc>
                <a:spcPct val="100000"/>
              </a:lnSpc>
              <a:spcBef>
                <a:spcPts val="176"/>
              </a:spcBef>
              <a:buClr>
                <a:srgbClr val="3333cc"/>
              </a:buClr>
              <a:buSzPct val="75000"/>
              <a:buFont typeface="Tahoma"/>
              <a:buChar char="×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pract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01320" y="5848200"/>
            <a:ext cx="835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9900"/>
                </a:solidFill>
                <a:latin typeface="Tahoma"/>
              </a:rPr>
              <a:t>TO TURN THE CENTRAL BANK INTO A CENTRAL BAN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219320" y="990360"/>
            <a:ext cx="5790960" cy="533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99"/>
                </a:solidFill>
                <a:latin typeface="Tahoma"/>
              </a:rPr>
              <a:t>History is not on our sid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762120" y="1714680"/>
            <a:ext cx="7315200" cy="51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" descr=""/>
          <p:cNvPicPr/>
          <p:nvPr/>
        </p:nvPicPr>
        <p:blipFill>
          <a:blip r:embed="rId1"/>
          <a:stretch/>
        </p:blipFill>
        <p:spPr>
          <a:xfrm>
            <a:off x="1131840" y="1828800"/>
            <a:ext cx="6564240" cy="4673520"/>
          </a:xfrm>
          <a:prstGeom prst="rect">
            <a:avLst/>
          </a:prstGeom>
          <a:ln w="0">
            <a:noFill/>
          </a:ln>
        </p:spPr>
      </p:pic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294920" y="1142640"/>
            <a:ext cx="7239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The aftershocks of the crisi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2"/>
          <a:stretch/>
        </p:blipFill>
        <p:spPr>
          <a:xfrm>
            <a:off x="1009800" y="1768320"/>
            <a:ext cx="6718320" cy="4762800"/>
          </a:xfrm>
          <a:prstGeom prst="rect">
            <a:avLst/>
          </a:prstGeom>
          <a:ln w="0">
            <a:noFill/>
          </a:ln>
        </p:spPr>
      </p:pic>
      <p:pic>
        <p:nvPicPr>
          <p:cNvPr id="346" name="" descr=""/>
          <p:cNvPicPr/>
          <p:nvPr/>
        </p:nvPicPr>
        <p:blipFill>
          <a:blip r:embed="rId3"/>
          <a:stretch/>
        </p:blipFill>
        <p:spPr>
          <a:xfrm>
            <a:off x="990720" y="1790640"/>
            <a:ext cx="6718320" cy="4762440"/>
          </a:xfrm>
          <a:prstGeom prst="rect">
            <a:avLst/>
          </a:prstGeom>
          <a:ln w="0">
            <a:noFill/>
          </a:ln>
        </p:spPr>
      </p:pic>
      <p:pic>
        <p:nvPicPr>
          <p:cNvPr id="347" name="" descr=""/>
          <p:cNvPicPr/>
          <p:nvPr/>
        </p:nvPicPr>
        <p:blipFill>
          <a:blip r:embed="rId4"/>
          <a:stretch/>
        </p:blipFill>
        <p:spPr>
          <a:xfrm>
            <a:off x="1143000" y="1863720"/>
            <a:ext cx="6564240" cy="4673520"/>
          </a:xfrm>
          <a:prstGeom prst="rect">
            <a:avLst/>
          </a:prstGeom>
          <a:ln w="0">
            <a:noFill/>
          </a:ln>
        </p:spPr>
      </p:pic>
      <p:sp>
        <p:nvSpPr>
          <p:cNvPr id="348" name=""/>
          <p:cNvSpPr/>
          <p:nvPr/>
        </p:nvSpPr>
        <p:spPr>
          <a:xfrm>
            <a:off x="1219320" y="6400800"/>
            <a:ext cx="67816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Gill Sans MT"/>
              </a:rPr>
              <a:t>* Contribution by source of money creation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371600" y="1142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Developing the spot FX market</a:t>
            </a:r>
            <a:br>
              <a:rPr sz="3200"/>
            </a:b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1"/>
          <a:stretch/>
        </p:blipFill>
        <p:spPr>
          <a:xfrm>
            <a:off x="1393920" y="1960560"/>
            <a:ext cx="6149880" cy="474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4T22:39:15Z</dcterms:created>
  <dc:creator> </dc:creator>
  <dc:description/>
  <dc:language>en-US</dc:language>
  <cp:lastModifiedBy>B.C.R.A.</cp:lastModifiedBy>
  <dcterms:modified xsi:type="dcterms:W3CDTF">2004-05-13T16:04:29Z</dcterms:modified>
  <cp:revision>575</cp:revision>
  <dc:subject/>
  <dc:title>Presentación de Coyuntura</dc:title>
</cp:coreProperties>
</file>