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3.wmf" ContentType="image/x-wmf"/>
  <Override PartName="/ppt/media/image33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19.jpeg" ContentType="image/jpeg"/>
  <Override PartName="/ppt/media/image45.wmf" ContentType="image/x-wmf"/>
  <Override PartName="/ppt/media/image46.wmf" ContentType="image/x-wmf"/>
  <Override PartName="/ppt/media/image26.png" ContentType="image/png"/>
  <Override PartName="/ppt/media/image51.wmf" ContentType="image/x-wmf"/>
  <Override PartName="/ppt/media/image40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28.png" ContentType="image/png"/>
  <Override PartName="/ppt/media/image31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3.bin" ContentType="application/vnd.openxmlformats-officedocument.oleObjec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10058400" cy="77724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9154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5018400"/>
            <a:ext cx="89154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43506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25240" y="2438280"/>
            <a:ext cx="43506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5018400"/>
            <a:ext cx="43506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25240" y="5018400"/>
            <a:ext cx="43506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28706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71480" y="2438280"/>
            <a:ext cx="28706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86120" y="2438280"/>
            <a:ext cx="28706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5018400"/>
            <a:ext cx="28706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71480" y="5018400"/>
            <a:ext cx="28706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86120" y="5018400"/>
            <a:ext cx="28706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6840" y="2438280"/>
            <a:ext cx="8915400" cy="49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915400" cy="4939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4350600" cy="4939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25240" y="2438280"/>
            <a:ext cx="4350600" cy="4939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5400" y="1081800"/>
            <a:ext cx="89168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43506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25240" y="2438280"/>
            <a:ext cx="4350600" cy="4939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6840" y="5018400"/>
            <a:ext cx="43506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2438280"/>
            <a:ext cx="8915400" cy="49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4350600" cy="4939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5240" y="2438280"/>
            <a:ext cx="43506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25240" y="5018400"/>
            <a:ext cx="43506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43506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5240" y="2438280"/>
            <a:ext cx="43506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5018400"/>
            <a:ext cx="89154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9154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6840" y="5018400"/>
            <a:ext cx="89154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43506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5240" y="2438280"/>
            <a:ext cx="43506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5018400"/>
            <a:ext cx="43506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25240" y="5018400"/>
            <a:ext cx="43506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28706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71480" y="2438280"/>
            <a:ext cx="28706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86120" y="2438280"/>
            <a:ext cx="28706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6840" y="5018400"/>
            <a:ext cx="28706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71480" y="5018400"/>
            <a:ext cx="28706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486120" y="5018400"/>
            <a:ext cx="28706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915400" cy="4939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4350600" cy="4939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25240" y="2438280"/>
            <a:ext cx="4350600" cy="4939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400" y="1081800"/>
            <a:ext cx="89168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43506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25240" y="2438280"/>
            <a:ext cx="4350600" cy="4939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5018400"/>
            <a:ext cx="43506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4350600" cy="4939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25240" y="2438280"/>
            <a:ext cx="43506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25240" y="5018400"/>
            <a:ext cx="43506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43506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5240" y="2438280"/>
            <a:ext cx="43506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5018400"/>
            <a:ext cx="89154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 hidden="1"/>
          <p:cNvSpPr/>
          <p:nvPr/>
        </p:nvSpPr>
        <p:spPr>
          <a:xfrm>
            <a:off x="8229600" y="7315200"/>
            <a:ext cx="7221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ddddd"/>
                </a:solidFill>
                <a:latin typeface="Book Antiqua"/>
              </a:rPr>
              <a:t>DRAFT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6840" y="2438280"/>
            <a:ext cx="8915400" cy="4939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534960" indent="-326880">
              <a:spcBef>
                <a:spcPts val="29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982800" indent="-268560">
              <a:spcBef>
                <a:spcPts val="29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432080" indent="-270000">
              <a:spcBef>
                <a:spcPts val="2999"/>
              </a:spcBef>
              <a:buClr>
                <a:srgbClr val="000000"/>
              </a:buClr>
              <a:buFont typeface="Book Antiqu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3" marL="1967040" indent="-270000">
              <a:spcBef>
                <a:spcPts val="29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4" marL="2503440" indent="-253800">
              <a:spcBef>
                <a:spcPts val="2999"/>
              </a:spcBef>
              <a:buClr>
                <a:srgbClr val="000000"/>
              </a:buClr>
              <a:buFont typeface="Book Antiqua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5" marL="2503440" indent="-253800">
              <a:spcBef>
                <a:spcPts val="2999"/>
              </a:spcBef>
              <a:buClr>
                <a:srgbClr val="000000"/>
              </a:buClr>
              <a:buFont typeface="Book Antiqua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6" marL="2503440" indent="-253800">
              <a:spcBef>
                <a:spcPts val="2999"/>
              </a:spcBef>
              <a:buClr>
                <a:srgbClr val="000000"/>
              </a:buClr>
              <a:buFont typeface="Book Antiqua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" hidden="1"/>
          <p:cNvSpPr/>
          <p:nvPr/>
        </p:nvSpPr>
        <p:spPr>
          <a:xfrm>
            <a:off x="1143000" y="7315200"/>
            <a:ext cx="1638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4831"/>
                </a:solidFill>
                <a:latin typeface="Book Antiqua"/>
              </a:rPr>
              <a:t>CONFIDENTIA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"/>
          <p:cNvSpPr/>
          <p:nvPr/>
        </p:nvSpPr>
        <p:spPr>
          <a:xfrm>
            <a:off x="455760" y="1600200"/>
            <a:ext cx="8913600" cy="0"/>
          </a:xfrm>
          <a:prstGeom prst="line">
            <a:avLst/>
          </a:prstGeom>
          <a:ln w="57240">
            <a:solidFill>
              <a:srgbClr val="001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"/>
          <p:cNvSpPr/>
          <p:nvPr/>
        </p:nvSpPr>
        <p:spPr>
          <a:xfrm>
            <a:off x="7924680" y="7296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BE16-6802-4B3E-9AB5-D4CCBD915292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"/>
          <p:cNvSpPr/>
          <p:nvPr/>
        </p:nvSpPr>
        <p:spPr>
          <a:xfrm>
            <a:off x="5848200" y="457200"/>
            <a:ext cx="37530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Book Antiqua"/>
                <a:ea typeface="超研澤中楷"/>
              </a:rPr>
              <a:t>R:\Live Files\IBK Management\Inbox\ADAIR TURNER\ln000rsm.ppt 06/11/2003 10:25:00 (</a:t>
            </a:r>
            <a:fld id="{5C1AD53E-7C72-4617-8F0F-39A8B50B53F0}" type="slidenum">
              <a:rPr b="0" lang="en-GB" sz="600" spc="-1" strike="noStrike">
                <a:solidFill>
                  <a:srgbClr val="000000"/>
                </a:solidFill>
                <a:latin typeface="Book Antiqua"/>
                <a:ea typeface="超研澤中楷"/>
              </a:rPr>
              <a:t>&lt;number&gt;</a:t>
            </a:fld>
            <a:r>
              <a:rPr b="0" lang="en-GB" sz="600" spc="-1" strike="noStrike">
                <a:solidFill>
                  <a:srgbClr val="000000"/>
                </a:solidFill>
                <a:latin typeface="Book Antiqua"/>
                <a:ea typeface="超研澤中楷"/>
              </a:rPr>
              <a:t>)</a:t>
            </a:r>
            <a:endParaRPr b="0" lang="en-US" sz="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48200" y="457200"/>
            <a:ext cx="37530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Book Antiqua"/>
                <a:ea typeface="超研澤中楷"/>
              </a:rPr>
              <a:t>R:\Live Files\IBK Management\Inbox\ADAIR TURNER\ln000rsm.ppt 06/11/2003 10:25:00 (</a:t>
            </a:r>
            <a:fld id="{F0A6F0A4-6922-4A13-88D4-AD7825670A84}" type="slidenum">
              <a:rPr b="0" lang="en-GB" sz="600" spc="-1" strike="noStrike">
                <a:solidFill>
                  <a:srgbClr val="000000"/>
                </a:solidFill>
                <a:latin typeface="Book Antiqua"/>
                <a:ea typeface="超研澤中楷"/>
              </a:rPr>
              <a:t>&lt;number&gt;</a:t>
            </a:fld>
            <a:r>
              <a:rPr b="0" lang="en-GB" sz="600" spc="-1" strike="noStrike">
                <a:solidFill>
                  <a:srgbClr val="000000"/>
                </a:solidFill>
                <a:latin typeface="Book Antiqua"/>
                <a:ea typeface="超研澤中楷"/>
              </a:rPr>
              <a:t>)</a:t>
            </a:r>
            <a:endParaRPr b="0" lang="en-US" sz="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33.wmf"/><Relationship Id="rId7" Type="http://schemas.openxmlformats.org/officeDocument/2006/relationships/image" Target="../media/image34.wmf"/><Relationship Id="rId8" Type="http://schemas.openxmlformats.org/officeDocument/2006/relationships/image" Target="../media/image35.wmf"/><Relationship Id="rId9" Type="http://schemas.openxmlformats.org/officeDocument/2006/relationships/package" Target="../embeddings/oleObject3.xlsx"/><Relationship Id="rId10" Type="http://schemas.openxmlformats.org/officeDocument/2006/relationships/image" Target="../media/image36.wmf"/><Relationship Id="rId11" Type="http://schemas.openxmlformats.org/officeDocument/2006/relationships/image" Target="../media/image37.wmf"/><Relationship Id="rId12" Type="http://schemas.openxmlformats.org/officeDocument/2006/relationships/image" Target="../media/image38.wmf"/><Relationship Id="rId1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image" Target="../media/image47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48.wmf"/><Relationship Id="rId7" Type="http://schemas.openxmlformats.org/officeDocument/2006/relationships/image" Target="../media/image49.wmf"/><Relationship Id="rId8" Type="http://schemas.openxmlformats.org/officeDocument/2006/relationships/image" Target="../media/image50.wmf"/><Relationship Id="rId9" Type="http://schemas.openxmlformats.org/officeDocument/2006/relationships/package" Target="../embeddings/oleObject3.xlsx"/><Relationship Id="rId10" Type="http://schemas.openxmlformats.org/officeDocument/2006/relationships/image" Target="../media/image51.wmf"/><Relationship Id="rId11" Type="http://schemas.openxmlformats.org/officeDocument/2006/relationships/image" Target="../media/image52.wmf"/><Relationship Id="rId12" Type="http://schemas.openxmlformats.org/officeDocument/2006/relationships/image" Target="../media/image53.wmf"/><Relationship Id="rId1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5.wmf"/><Relationship Id="rId3" Type="http://schemas.openxmlformats.org/officeDocument/2006/relationships/image" Target="../media/image56.wmf"/><Relationship Id="rId4" Type="http://schemas.openxmlformats.org/officeDocument/2006/relationships/image" Target="../media/image57.wmf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 hidden="1"/>
          <p:cNvSpPr/>
          <p:nvPr/>
        </p:nvSpPr>
        <p:spPr>
          <a:xfrm>
            <a:off x="8229600" y="7315200"/>
            <a:ext cx="7221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ddddd"/>
                </a:solidFill>
                <a:latin typeface="Book Antiqua"/>
                <a:ea typeface="超研澤中楷"/>
              </a:rPr>
              <a:t>DRAFT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" name=""/>
          <p:cNvSpPr/>
          <p:nvPr/>
        </p:nvSpPr>
        <p:spPr>
          <a:xfrm>
            <a:off x="2152800" y="327672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超研澤中楷"/>
              </a:rPr>
              <a:t>Demographics, Economics and Social Choic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3643200"/>
            <a:ext cx="571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" name=""/>
          <p:cNvSpPr/>
          <p:nvPr/>
        </p:nvSpPr>
        <p:spPr>
          <a:xfrm>
            <a:off x="2152800" y="440172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超研澤中楷"/>
              </a:rPr>
              <a:t>ADAIR TURNER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" name="" hidden="1"/>
          <p:cNvSpPr/>
          <p:nvPr/>
        </p:nvSpPr>
        <p:spPr>
          <a:xfrm>
            <a:off x="457200" y="7315200"/>
            <a:ext cx="1638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4831"/>
                </a:solidFill>
                <a:latin typeface="Book Antiqua"/>
                <a:ea typeface="超研澤中楷"/>
              </a:rPr>
              <a:t>CONFIDENTIA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"/>
          <p:cNvSpPr/>
          <p:nvPr/>
        </p:nvSpPr>
        <p:spPr>
          <a:xfrm>
            <a:off x="2152800" y="533196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超研澤中楷"/>
              </a:rPr>
              <a:t>November 6, 2003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"/>
          <p:cNvSpPr/>
          <p:nvPr/>
        </p:nvSpPr>
        <p:spPr>
          <a:xfrm>
            <a:off x="5907240" y="457200"/>
            <a:ext cx="36939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Book Antiqua"/>
                <a:ea typeface="超研澤中楷"/>
              </a:rPr>
              <a:t>R:\Live Files\IBK Management\Inbox\ADAIR TURNER\ln000rsm.ppt 06/11/2003 10:25:00 (</a:t>
            </a:r>
            <a:fld id="{CFCCB4E4-5A18-4444-BD73-9EA44FF86E26}" type="slidenum">
              <a:rPr b="0" lang="en-GB" sz="600" spc="-1" strike="noStrike">
                <a:solidFill>
                  <a:srgbClr val="000000"/>
                </a:solidFill>
                <a:latin typeface="Book Antiqua"/>
                <a:ea typeface="超研澤中楷"/>
              </a:rPr>
              <a:t>&lt;number&gt;</a:t>
            </a:fld>
            <a:r>
              <a:rPr b="0" lang="en-GB" sz="600" spc="-1" strike="noStrike">
                <a:solidFill>
                  <a:srgbClr val="000000"/>
                </a:solidFill>
                <a:latin typeface="Book Antiqua"/>
                <a:ea typeface="超研澤中楷"/>
              </a:rPr>
              <a:t>)</a:t>
            </a:r>
            <a:endParaRPr b="0" lang="en-US" sz="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1084320"/>
            <a:ext cx="8916840" cy="457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.A.Y.G. Pension Systems: Key Ratios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41640" y="1847880"/>
            <a:ext cx="7403760" cy="1294200"/>
            <a:chOff x="341640" y="1847880"/>
            <a:chExt cx="7403760" cy="1294200"/>
          </a:xfrm>
        </p:grpSpPr>
        <p:sp>
          <p:nvSpPr>
            <p:cNvPr id="277" name=""/>
            <p:cNvSpPr/>
            <p:nvPr/>
          </p:nvSpPr>
          <p:spPr>
            <a:xfrm>
              <a:off x="342720" y="1863720"/>
              <a:ext cx="1673640" cy="6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population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owth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41640" y="2490840"/>
              <a:ext cx="1777320" cy="6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productivity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owth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57680" y="1847880"/>
              <a:ext cx="294300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verage retirement income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138480" y="2179800"/>
              <a:ext cx="237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52000" y="1990800"/>
              <a:ext cx="33876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180600" y="2736720"/>
              <a:ext cx="434808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plicit rate of return on contributions = 0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07280" y="2203560"/>
              <a:ext cx="304380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verage worker contribution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0800" y="1847880"/>
              <a:ext cx="166284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orking years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99040" y="2179800"/>
              <a:ext cx="174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91560" y="2203560"/>
              <a:ext cx="156096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tired years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341640" y="3621240"/>
            <a:ext cx="7352640" cy="1284480"/>
            <a:chOff x="341640" y="3621240"/>
            <a:chExt cx="7352640" cy="1284480"/>
          </a:xfrm>
        </p:grpSpPr>
        <p:sp>
          <p:nvSpPr>
            <p:cNvPr id="288" name=""/>
            <p:cNvSpPr/>
            <p:nvPr/>
          </p:nvSpPr>
          <p:spPr>
            <a:xfrm>
              <a:off x="342720" y="3621240"/>
              <a:ext cx="2092680" cy="6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pulation growth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sitive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41640" y="4254480"/>
              <a:ext cx="1777320" cy="6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productivity 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owth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3139560" y="3621240"/>
              <a:ext cx="4554720" cy="1273680"/>
              <a:chOff x="3139560" y="3621240"/>
              <a:chExt cx="4554720" cy="1273680"/>
            </a:xfrm>
          </p:grpSpPr>
          <p:sp>
            <p:nvSpPr>
              <p:cNvPr id="291" name=""/>
              <p:cNvSpPr/>
              <p:nvPr/>
            </p:nvSpPr>
            <p:spPr>
              <a:xfrm>
                <a:off x="3139560" y="4518000"/>
                <a:ext cx="4143960" cy="37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1120" bIns="511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ate of return = Population growth rate</a:t>
                </a:r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100760" y="3768840"/>
                <a:ext cx="338760" cy="37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1120" bIns="511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</a:t>
                </a:r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665680" y="3740040"/>
                <a:ext cx="2028600" cy="37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1120" bIns="511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pulation growth</a:t>
                </a:r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481000" y="3767040"/>
                <a:ext cx="218520" cy="63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</a:t>
                </a:r>
                <a:endParaRPr b="0" lang="en-US" sz="4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295" name=""/>
              <p:cNvGrpSpPr/>
              <p:nvPr/>
            </p:nvGrpSpPr>
            <p:grpSpPr>
              <a:xfrm>
                <a:off x="3139920" y="3621240"/>
                <a:ext cx="790560" cy="670320"/>
                <a:chOff x="3139920" y="3621240"/>
                <a:chExt cx="790560" cy="67032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3222720" y="3621240"/>
                  <a:ext cx="624960" cy="30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880" rIns="101880" tIns="51120" bIns="51120" anchor="t">
                  <a:spAutoFit/>
                </a:bodyPr>
                <a:p>
                  <a:pPr algn="ctr">
                    <a:lnSpc>
                      <a:spcPct val="75000"/>
                    </a:lnSpc>
                    <a:tabLst>
                      <a:tab algn="l" pos="0"/>
                      <a:tab algn="l" pos="1019160"/>
                      <a:tab algn="l" pos="2038320"/>
                      <a:tab algn="l" pos="3057480"/>
                      <a:tab algn="l" pos="4076640"/>
                      <a:tab algn="l" pos="5095800"/>
                      <a:tab algn="l" pos="6114960"/>
                      <a:tab algn="l" pos="7134120"/>
                      <a:tab algn="l" pos="8153280"/>
                      <a:tab algn="l" pos="9172440"/>
                      <a:tab algn="l" pos="101916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. I.</a:t>
                  </a:r>
                  <a:endParaRPr b="0" lang="en-US" sz="18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3139920" y="3956400"/>
                  <a:ext cx="790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146400" y="3983400"/>
                  <a:ext cx="777600" cy="30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880" rIns="101880" tIns="51120" bIns="51120" anchor="t">
                  <a:spAutoFit/>
                </a:bodyPr>
                <a:p>
                  <a:pPr algn="ctr">
                    <a:lnSpc>
                      <a:spcPct val="75000"/>
                    </a:lnSpc>
                    <a:tabLst>
                      <a:tab algn="l" pos="0"/>
                      <a:tab algn="l" pos="1019160"/>
                      <a:tab algn="l" pos="2038320"/>
                      <a:tab algn="l" pos="3057480"/>
                      <a:tab algn="l" pos="4076640"/>
                      <a:tab algn="l" pos="5095800"/>
                      <a:tab algn="l" pos="6114960"/>
                      <a:tab algn="l" pos="7134120"/>
                      <a:tab algn="l" pos="8153280"/>
                      <a:tab algn="l" pos="9172440"/>
                      <a:tab algn="l" pos="101916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W. C.</a:t>
                  </a:r>
                  <a:endParaRPr b="0" lang="en-US" sz="18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4539960" y="3621240"/>
                <a:ext cx="822600" cy="670320"/>
                <a:chOff x="4539960" y="3621240"/>
                <a:chExt cx="822600" cy="67032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4597200" y="3621240"/>
                  <a:ext cx="765360" cy="30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880" rIns="101880" tIns="51120" bIns="51120" anchor="t">
                  <a:spAutoFit/>
                </a:bodyPr>
                <a:p>
                  <a:pPr algn="ctr">
                    <a:lnSpc>
                      <a:spcPct val="75000"/>
                    </a:lnSpc>
                    <a:tabLst>
                      <a:tab algn="l" pos="0"/>
                      <a:tab algn="l" pos="1019160"/>
                      <a:tab algn="l" pos="2038320"/>
                      <a:tab algn="l" pos="3057480"/>
                      <a:tab algn="l" pos="4076640"/>
                      <a:tab algn="l" pos="5095800"/>
                      <a:tab algn="l" pos="6114960"/>
                      <a:tab algn="l" pos="7134120"/>
                      <a:tab algn="l" pos="8153280"/>
                      <a:tab algn="l" pos="9172440"/>
                      <a:tab algn="l" pos="101916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W. Y.</a:t>
                  </a:r>
                  <a:endParaRPr b="0" lang="en-US" sz="18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4539960" y="3956400"/>
                  <a:ext cx="790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4621680" y="3983400"/>
                  <a:ext cx="713520" cy="30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880" rIns="101880" tIns="51120" bIns="51120" anchor="t">
                  <a:spAutoFit/>
                </a:bodyPr>
                <a:p>
                  <a:pPr algn="ctr">
                    <a:lnSpc>
                      <a:spcPct val="75000"/>
                    </a:lnSpc>
                    <a:tabLst>
                      <a:tab algn="l" pos="0"/>
                      <a:tab algn="l" pos="1019160"/>
                      <a:tab algn="l" pos="2038320"/>
                      <a:tab algn="l" pos="3057480"/>
                      <a:tab algn="l" pos="4076640"/>
                      <a:tab algn="l" pos="5095800"/>
                      <a:tab algn="l" pos="6114960"/>
                      <a:tab algn="l" pos="7134120"/>
                      <a:tab algn="l" pos="8153280"/>
                      <a:tab algn="l" pos="9172440"/>
                      <a:tab algn="l" pos="101916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. Y.</a:t>
                  </a:r>
                  <a:endParaRPr b="0" lang="en-US" sz="18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</p:grpSp>
      </p:grpSp>
      <p:grpSp>
        <p:nvGrpSpPr>
          <p:cNvPr id="303" name=""/>
          <p:cNvGrpSpPr/>
          <p:nvPr/>
        </p:nvGrpSpPr>
        <p:grpSpPr>
          <a:xfrm>
            <a:off x="341640" y="5389560"/>
            <a:ext cx="9614520" cy="1294200"/>
            <a:chOff x="341640" y="5389560"/>
            <a:chExt cx="9614520" cy="1294200"/>
          </a:xfrm>
        </p:grpSpPr>
        <p:sp>
          <p:nvSpPr>
            <p:cNvPr id="304" name=""/>
            <p:cNvSpPr/>
            <p:nvPr/>
          </p:nvSpPr>
          <p:spPr>
            <a:xfrm>
              <a:off x="342720" y="5389560"/>
              <a:ext cx="2092680" cy="6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pulation growth 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sitive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41640" y="6032520"/>
              <a:ext cx="2196360" cy="6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uctivity growth 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sitive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3139920" y="5389560"/>
              <a:ext cx="6816240" cy="1267560"/>
              <a:chOff x="3139920" y="5389560"/>
              <a:chExt cx="6816240" cy="1267560"/>
            </a:xfrm>
          </p:grpSpPr>
          <p:sp>
            <p:nvSpPr>
              <p:cNvPr id="307" name=""/>
              <p:cNvSpPr/>
              <p:nvPr/>
            </p:nvSpPr>
            <p:spPr>
              <a:xfrm>
                <a:off x="3140280" y="6280200"/>
                <a:ext cx="6739560" cy="37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1120" bIns="511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ate of return = population growth rate + productivity growth rate</a:t>
                </a:r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101120" y="5535720"/>
                <a:ext cx="338760" cy="37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1120" bIns="511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</a:t>
                </a:r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223080" y="5389560"/>
                <a:ext cx="624960" cy="30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1120" bIns="51120" anchor="t">
                <a:sp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. I.</a:t>
                </a:r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139920" y="5722920"/>
                <a:ext cx="790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146400" y="5749920"/>
                <a:ext cx="777600" cy="30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1120" bIns="51120" anchor="t">
                <a:sp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. C.</a:t>
                </a:r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554360" y="5389560"/>
                <a:ext cx="765360" cy="30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1120" bIns="51120" anchor="t">
                <a:sp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. Y.</a:t>
                </a:r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540320" y="5722920"/>
                <a:ext cx="790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580280" y="5749920"/>
                <a:ext cx="713520" cy="30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1120" bIns="51120" anchor="t">
                <a:sp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. Y.</a:t>
                </a:r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646600" y="5508720"/>
                <a:ext cx="2028600" cy="37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1120" bIns="511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pulation growth</a:t>
                </a:r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481360" y="5508720"/>
                <a:ext cx="218520" cy="63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</a:t>
                </a:r>
                <a:endParaRPr b="0" lang="en-US" sz="4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823880" y="5508720"/>
                <a:ext cx="2132280" cy="37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1120" bIns="511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ductivity growth</a:t>
                </a:r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659360" y="5508720"/>
                <a:ext cx="218520" cy="63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</a:t>
                </a:r>
                <a:endParaRPr b="0" lang="en-US" sz="4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</p:grp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5400" y="1084320"/>
            <a:ext cx="8916840" cy="457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Demographic Drivers of Support Ratio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0" name=""/>
          <p:cNvSpPr/>
          <p:nvPr/>
        </p:nvSpPr>
        <p:spPr>
          <a:xfrm>
            <a:off x="3208320" y="3129120"/>
            <a:ext cx="137340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tio”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1" name=""/>
          <p:cNvSpPr/>
          <p:nvPr/>
        </p:nvSpPr>
        <p:spPr>
          <a:xfrm>
            <a:off x="647280" y="3081240"/>
            <a:ext cx="22392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. of Worker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7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7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. of Retired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2" name=""/>
          <p:cNvSpPr/>
          <p:nvPr/>
        </p:nvSpPr>
        <p:spPr>
          <a:xfrm>
            <a:off x="5188320" y="3081240"/>
            <a:ext cx="220248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ing Year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7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7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tired Year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3" name=""/>
          <p:cNvSpPr/>
          <p:nvPr/>
        </p:nvSpPr>
        <p:spPr>
          <a:xfrm>
            <a:off x="8041320" y="3129120"/>
            <a:ext cx="164160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owth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" y="3544920"/>
            <a:ext cx="227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5" name=""/>
          <p:cNvSpPr/>
          <p:nvPr/>
        </p:nvSpPr>
        <p:spPr>
          <a:xfrm>
            <a:off x="5108400" y="3544920"/>
            <a:ext cx="253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6" name=""/>
          <p:cNvSpPr/>
          <p:nvPr/>
        </p:nvSpPr>
        <p:spPr>
          <a:xfrm>
            <a:off x="2936160" y="3311640"/>
            <a:ext cx="382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7" name=""/>
          <p:cNvSpPr/>
          <p:nvPr/>
        </p:nvSpPr>
        <p:spPr>
          <a:xfrm>
            <a:off x="4631760" y="3311640"/>
            <a:ext cx="382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8" name=""/>
          <p:cNvSpPr/>
          <p:nvPr/>
        </p:nvSpPr>
        <p:spPr>
          <a:xfrm>
            <a:off x="7646400" y="3273480"/>
            <a:ext cx="42228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upport Ratio Dynamics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628560" y="2182680"/>
          <a:ext cx="8898120" cy="48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560" y="2182680"/>
                    <a:ext cx="8898120" cy="48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4782960" y="3070080"/>
            <a:ext cx="460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5019840" y="3346560"/>
            <a:ext cx="1662120" cy="441360"/>
            <a:chOff x="5019840" y="3346560"/>
            <a:chExt cx="1662120" cy="441360"/>
          </a:xfrm>
        </p:grpSpPr>
        <p:sp>
          <p:nvSpPr>
            <p:cNvPr id="334" name=""/>
            <p:cNvSpPr/>
            <p:nvPr/>
          </p:nvSpPr>
          <p:spPr>
            <a:xfrm>
              <a:off x="5019840" y="3346560"/>
              <a:ext cx="804960" cy="441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834160" y="3567240"/>
              <a:ext cx="84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6678720" y="3346560"/>
            <a:ext cx="930240" cy="1323720"/>
            <a:chOff x="6678720" y="3346560"/>
            <a:chExt cx="930240" cy="1323720"/>
          </a:xfrm>
        </p:grpSpPr>
        <p:sp>
          <p:nvSpPr>
            <p:cNvPr id="337" name=""/>
            <p:cNvSpPr/>
            <p:nvPr/>
          </p:nvSpPr>
          <p:spPr>
            <a:xfrm>
              <a:off x="6678720" y="3346560"/>
              <a:ext cx="804960" cy="441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483680" y="3565440"/>
              <a:ext cx="125280" cy="1104840"/>
            </a:xfrm>
            <a:custGeom>
              <a:avLst/>
              <a:gdLst/>
              <a:ahLst/>
              <a:rect l="l" t="t" r="r" b="b"/>
              <a:pathLst>
                <a:path w="79" h="696">
                  <a:moveTo>
                    <a:pt x="0" y="0"/>
                  </a:moveTo>
                  <a:lnTo>
                    <a:pt x="79" y="0"/>
                  </a:lnTo>
                  <a:lnTo>
                    <a:pt x="79" y="6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1084320"/>
            <a:ext cx="8916840" cy="457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upport Ratio Forecasts 2000-2050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0" name=""/>
          <p:cNvSpPr/>
          <p:nvPr/>
        </p:nvSpPr>
        <p:spPr>
          <a:xfrm>
            <a:off x="455760" y="1654200"/>
            <a:ext cx="891360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atio of 20-64 Year Olds to 65+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457200" y="2343240"/>
          <a:ext cx="8959680" cy="4787640"/>
        </p:xfrm>
        <a:graphic>
          <a:graphicData uri="http://schemas.openxmlformats.org/drawingml/2006/table">
            <a:tbl>
              <a:tblPr/>
              <a:tblGrid>
                <a:gridCol w="2971800"/>
                <a:gridCol w="2736720"/>
                <a:gridCol w="470160"/>
                <a:gridCol w="2781000"/>
              </a:tblGrid>
              <a:tr h="584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08080">
                        <a:spcBef>
                          <a:spcPts val="29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08080" algn="ctr">
                        <a:spcBef>
                          <a:spcPts val="29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08080" algn="ctr">
                        <a:spcBef>
                          <a:spcPts val="29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08080" algn="ctr">
                        <a:spcBef>
                          <a:spcPts val="29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0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08080">
                        <a:spcBef>
                          <a:spcPts val="29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U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08080" algn="ctr">
                        <a:spcBef>
                          <a:spcPts val="29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08080" algn="ctr">
                        <a:spcBef>
                          <a:spcPts val="29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08080" algn="ctr">
                        <a:spcBef>
                          <a:spcPts val="29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08080">
                        <a:spcBef>
                          <a:spcPts val="29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ta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08080" algn="ctr">
                        <a:spcBef>
                          <a:spcPts val="29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08080" algn="ctr">
                        <a:spcBef>
                          <a:spcPts val="29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08080" algn="ctr">
                        <a:spcBef>
                          <a:spcPts val="29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08080">
                        <a:spcBef>
                          <a:spcPts val="29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US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08080" algn="ctr">
                        <a:spcBef>
                          <a:spcPts val="29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4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08080" algn="ctr">
                        <a:spcBef>
                          <a:spcPts val="29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08080" algn="ctr">
                        <a:spcBef>
                          <a:spcPts val="29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08080">
                        <a:spcBef>
                          <a:spcPts val="2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08080" algn="ctr">
                        <a:spcBef>
                          <a:spcPts val="2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08080" algn="ctr">
                        <a:spcBef>
                          <a:spcPts val="2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08080" algn="ctr">
                        <a:spcBef>
                          <a:spcPts val="2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08080">
                        <a:spcBef>
                          <a:spcPts val="29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hi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08080" algn="ctr">
                        <a:spcBef>
                          <a:spcPts val="29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8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08080" algn="ctr">
                        <a:spcBef>
                          <a:spcPts val="29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08080" algn="ctr">
                        <a:spcBef>
                          <a:spcPts val="29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08080">
                        <a:spcBef>
                          <a:spcPts val="29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Kore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08080" algn="ctr">
                        <a:spcBef>
                          <a:spcPts val="29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9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08080" algn="ctr">
                        <a:spcBef>
                          <a:spcPts val="29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08080" algn="ctr">
                        <a:spcBef>
                          <a:spcPts val="29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08080">
                        <a:spcBef>
                          <a:spcPts val="29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Wor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08080" algn="ctr">
                        <a:spcBef>
                          <a:spcPts val="29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7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08080" algn="ctr">
                        <a:spcBef>
                          <a:spcPts val="29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08080" algn="ctr">
                        <a:spcBef>
                          <a:spcPts val="29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" name=""/>
          <p:cNvSpPr/>
          <p:nvPr/>
        </p:nvSpPr>
        <p:spPr>
          <a:xfrm>
            <a:off x="455760" y="7176960"/>
            <a:ext cx="891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____________________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Source: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UN Medium Variant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.A.Y.G. Schemes: Three Alternatives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915400" cy="30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534960" indent="-326880">
              <a:spcBef>
                <a:spcPts val="29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f support ratios for any given retirement ages fall, then three possible solution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982800" indent="-268560">
              <a:spcBef>
                <a:spcPts val="29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creased retirements age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982800" indent="-268560">
              <a:spcBef>
                <a:spcPts val="29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oorer pensioner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982800" indent="-268560">
              <a:spcBef>
                <a:spcPts val="29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Bigger worker contribution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716040"/>
            <a:ext cx="89168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upport Ratio Dynamics under Different Demographic Challenges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457200" y="2171880"/>
          <a:ext cx="8915400" cy="4030560"/>
        </p:xfrm>
        <a:graphic>
          <a:graphicData uri="http://schemas.openxmlformats.org/drawingml/2006/table">
            <a:tbl>
              <a:tblPr/>
              <a:tblGrid>
                <a:gridCol w="4457880"/>
                <a:gridCol w="4457520"/>
              </a:tblGrid>
              <a:tr h="2113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08080">
                        <a:spcBef>
                          <a:spcPts val="15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  <a:p>
                      <a:pPr marL="208080">
                        <a:spcBef>
                          <a:spcPts val="15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ncrease in longevity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 no change in ferti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08080">
                        <a:spcBef>
                          <a:spcPts val="15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  <a:p>
                      <a:pPr marL="208080">
                        <a:spcBef>
                          <a:spcPts val="15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upport ratio effect can be fully offset by proportional rise in retirement 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13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08080">
                        <a:spcBef>
                          <a:spcPts val="15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  <a:p>
                      <a:pPr marL="208080">
                        <a:spcBef>
                          <a:spcPts val="15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Decline in fertility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n addition to increase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n longev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08080">
                        <a:spcBef>
                          <a:spcPts val="15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  <a:p>
                      <a:pPr marL="208080">
                        <a:spcBef>
                          <a:spcPts val="15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roportional rise in retirement age insufficient to offset support ratio ef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upport Ratio Dynamics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8" name=""/>
          <p:cNvSpPr/>
          <p:nvPr/>
        </p:nvSpPr>
        <p:spPr>
          <a:xfrm>
            <a:off x="455760" y="1654200"/>
            <a:ext cx="89136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681120" y="2197080"/>
          <a:ext cx="8905680" cy="484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2197080"/>
                    <a:ext cx="8905680" cy="48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805280" y="3068640"/>
            <a:ext cx="460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Are Funded Systems Different? 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915400" cy="4162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534960" indent="-326880">
              <a:spcBef>
                <a:spcPts val="29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 any pension system today’s pensioners are dependent on resource transfer from today’s worker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534960" indent="-326880">
              <a:spcBef>
                <a:spcPts val="29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unded systems only help overcome demographic challenges if they increase savings – in curren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future generation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534960" indent="-326880">
              <a:spcBef>
                <a:spcPts val="29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unded systems face demographic risk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534960" indent="-326880">
              <a:spcBef>
                <a:spcPts val="29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e implications are closely similar for funded and non-funded system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4" name=""/>
          <p:cNvGraphicFramePr/>
          <p:nvPr/>
        </p:nvGraphicFramePr>
        <p:xfrm>
          <a:off x="973080" y="4638600"/>
          <a:ext cx="3863880" cy="21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3080" y="4638600"/>
                    <a:ext cx="386388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"/>
          <p:cNvGraphicFramePr/>
          <p:nvPr/>
        </p:nvGraphicFramePr>
        <p:xfrm>
          <a:off x="973080" y="2481120"/>
          <a:ext cx="3863880" cy="215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3080" y="2481120"/>
                    <a:ext cx="386388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5400" y="716040"/>
            <a:ext cx="89168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Demographic Change in UK and China – UN Medium Variant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9" name=""/>
          <p:cNvSpPr/>
          <p:nvPr/>
        </p:nvSpPr>
        <p:spPr>
          <a:xfrm>
            <a:off x="455760" y="1654200"/>
            <a:ext cx="891360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89280" tIns="44640" bIns="44640" anchor="t">
            <a:spAutoFit/>
          </a:bodyPr>
          <a:p>
            <a:pPr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Book Antiqua"/>
                <a:ea typeface="Arial"/>
              </a:rPr>
              <a:t>% Population by Age Band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0" name=""/>
          <p:cNvSpPr/>
          <p:nvPr/>
        </p:nvSpPr>
        <p:spPr>
          <a:xfrm>
            <a:off x="6075360" y="2365200"/>
            <a:ext cx="267660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marL="291960" indent="-291960" algn="ctr">
              <a:spcBef>
                <a:spcPts val="125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Book Antiqua"/>
                <a:ea typeface="Arial"/>
              </a:rPr>
              <a:t>2050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1" name=""/>
          <p:cNvSpPr/>
          <p:nvPr/>
        </p:nvSpPr>
        <p:spPr>
          <a:xfrm>
            <a:off x="1539720" y="2365200"/>
            <a:ext cx="267840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marL="291960" indent="-291960" algn="ctr">
              <a:spcBef>
                <a:spcPts val="125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Book Antiqua"/>
                <a:ea typeface="Arial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2" name=""/>
          <p:cNvSpPr/>
          <p:nvPr/>
        </p:nvSpPr>
        <p:spPr>
          <a:xfrm>
            <a:off x="593640" y="3489480"/>
            <a:ext cx="103032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Arial"/>
              </a:rPr>
              <a:t>UK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3" name=""/>
          <p:cNvSpPr/>
          <p:nvPr/>
        </p:nvSpPr>
        <p:spPr>
          <a:xfrm>
            <a:off x="593640" y="5630760"/>
            <a:ext cx="103032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Arial"/>
              </a:rPr>
              <a:t>China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4" name=""/>
          <p:cNvSpPr/>
          <p:nvPr/>
        </p:nvSpPr>
        <p:spPr>
          <a:xfrm>
            <a:off x="9374040" y="7302600"/>
            <a:ext cx="254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0" tIns="49680" bIns="49680" anchor="t">
            <a:noAutofit/>
          </a:bodyPr>
          <a:p>
            <a:pPr algn="r"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5" name=""/>
          <p:cNvSpPr/>
          <p:nvPr/>
        </p:nvSpPr>
        <p:spPr>
          <a:xfrm>
            <a:off x="10414080" y="539640"/>
            <a:ext cx="3170160" cy="7018560"/>
          </a:xfrm>
          <a:prstGeom prst="rect">
            <a:avLst/>
          </a:prstGeom>
          <a:solidFill>
            <a:srgbClr val="edad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ctr">
            <a:no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  <a:ea typeface="Arial"/>
              </a:rPr>
              <a:t>Roy Waterhouse 26-8-03: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Book Antiqua"/>
                <a:ea typeface="Arial"/>
              </a:rPr>
              <a:t>MS Graph charts. </a:t>
            </a:r>
            <a:endParaRPr b="0" lang="en-US" sz="17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  <a:ea typeface="Arial"/>
              </a:rPr>
              <a:t>This time, they have been done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Book Antiqua"/>
                <a:ea typeface="Arial"/>
              </a:rPr>
              <a:t>as Stacked Bar charts, the X-axis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Book Antiqua"/>
                <a:ea typeface="Arial"/>
              </a:rPr>
              <a:t>running from 0% to 100%.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Book Antiqua"/>
                <a:ea typeface="Arial"/>
              </a:rPr>
              <a:t> To achieve the appearance 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Book Antiqua"/>
                <a:ea typeface="Arial"/>
              </a:rPr>
              <a:t>of the charts, they are done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Book Antiqua"/>
                <a:ea typeface="Arial"/>
              </a:rPr>
              <a:t>in three rows, with the middle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Book Antiqua"/>
                <a:ea typeface="Arial"/>
              </a:rPr>
              <a:t>one containing the ‘real’ data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Book Antiqua"/>
                <a:ea typeface="Arial"/>
              </a:rPr>
              <a:t>Blank values of equal amounts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Book Antiqua"/>
                <a:ea typeface="Arial"/>
              </a:rPr>
              <a:t>are put in either side (with the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Book Antiqua"/>
                <a:ea typeface="Arial"/>
              </a:rPr>
              <a:t>colours changed to white),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Book Antiqua"/>
                <a:ea typeface="Arial"/>
              </a:rPr>
              <a:t>and the whole row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Book Antiqua"/>
                <a:ea typeface="Arial"/>
              </a:rPr>
              <a:t>adds up to 100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Book Antiqua"/>
                <a:ea typeface="Arial"/>
              </a:rPr>
              <a:t>(see screen dump right).</a:t>
            </a:r>
            <a:endParaRPr b="0" lang="en-US" sz="17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  <a:ea typeface="Arial"/>
              </a:rPr>
              <a:t>The bars then have to be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Book Antiqua"/>
                <a:ea typeface="Arial"/>
              </a:rPr>
              <a:t>re-coloured manually .</a:t>
            </a:r>
            <a:endParaRPr b="0" lang="en-US" sz="17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7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  <a:ea typeface="Arial"/>
              </a:rPr>
              <a:t>The Legend is done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Book Antiqua"/>
                <a:ea typeface="Arial"/>
              </a:rPr>
              <a:t>manually.</a:t>
            </a:r>
            <a:endParaRPr b="0" lang="en-US" sz="17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3998880" y="6921360"/>
            <a:ext cx="5371920" cy="300600"/>
            <a:chOff x="3998880" y="6921360"/>
            <a:chExt cx="5371920" cy="300600"/>
          </a:xfrm>
        </p:grpSpPr>
        <p:sp>
          <p:nvSpPr>
            <p:cNvPr id="367" name=""/>
            <p:cNvSpPr/>
            <p:nvPr/>
          </p:nvSpPr>
          <p:spPr>
            <a:xfrm>
              <a:off x="3998880" y="7002000"/>
              <a:ext cx="555480" cy="147600"/>
            </a:xfrm>
            <a:prstGeom prst="rect">
              <a:avLst/>
            </a:prstGeom>
            <a:solidFill>
              <a:srgbClr val="eda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663160" y="7002000"/>
              <a:ext cx="555120" cy="147600"/>
            </a:xfrm>
            <a:prstGeom prst="rect">
              <a:avLst/>
            </a:prstGeom>
            <a:solidFill>
              <a:srgbClr val="3e86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325640" y="7002000"/>
              <a:ext cx="555120" cy="147600"/>
            </a:xfrm>
            <a:prstGeom prst="rect">
              <a:avLst/>
            </a:prstGeom>
            <a:solidFill>
              <a:srgbClr val="4f8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538520" y="6921360"/>
              <a:ext cx="150516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1120" bIns="5112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Book Antiqua"/>
                  <a:ea typeface="Arial"/>
                </a:rPr>
                <a:t>60+</a:t>
              </a:r>
              <a:endParaRPr b="0" lang="en-US" sz="13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201000" y="6921360"/>
              <a:ext cx="150516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1120" bIns="5112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Book Antiqua"/>
                  <a:ea typeface="Arial"/>
                </a:rPr>
                <a:t>15-59</a:t>
              </a:r>
              <a:endParaRPr b="0" lang="en-US" sz="13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865280" y="6921360"/>
              <a:ext cx="150552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1120" bIns="5112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Book Antiqua"/>
                  <a:ea typeface="Arial"/>
                </a:rPr>
                <a:t>0-15 Years</a:t>
              </a:r>
              <a:endParaRPr b="0" lang="en-US" sz="13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aphicFrame>
        <p:nvGraphicFramePr>
          <p:cNvPr id="373" name=""/>
          <p:cNvGraphicFramePr/>
          <p:nvPr/>
        </p:nvGraphicFramePr>
        <p:xfrm>
          <a:off x="5521320" y="2481120"/>
          <a:ext cx="3865680" cy="215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21320" y="2481120"/>
                    <a:ext cx="386568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5521320" y="4638600"/>
          <a:ext cx="3865680" cy="2152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21320" y="4638600"/>
                    <a:ext cx="386568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7" name="" descr=""/>
          <p:cNvPicPr/>
          <p:nvPr/>
        </p:nvPicPr>
        <p:blipFill>
          <a:blip r:embed="rId9"/>
          <a:srcRect l="3127" t="36221" r="49271" b="21465"/>
          <a:stretch/>
        </p:blipFill>
        <p:spPr>
          <a:xfrm>
            <a:off x="13900320" y="2209680"/>
            <a:ext cx="5108400" cy="350856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455760" y="7176960"/>
            <a:ext cx="891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____________________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Book Antiqua"/>
                <a:ea typeface="Arial"/>
              </a:rPr>
              <a:t>Source: OECD Historical Statistics: OECD Economic Outlook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Demographic Conditions and Investment Attractiveness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0" name=""/>
          <p:cNvSpPr/>
          <p:nvPr/>
        </p:nvSpPr>
        <p:spPr>
          <a:xfrm>
            <a:off x="455760" y="7176960"/>
            <a:ext cx="891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____________________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*  Projection per UN Medium Variant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466560" y="2189160"/>
          <a:ext cx="8917200" cy="485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2189160"/>
                    <a:ext cx="8917200" cy="48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457200" y="1600200"/>
            <a:ext cx="8915040" cy="337680"/>
            <a:chOff x="457200" y="1600200"/>
            <a:chExt cx="8915040" cy="337680"/>
          </a:xfrm>
        </p:grpSpPr>
        <p:sp>
          <p:nvSpPr>
            <p:cNvPr id="88" name=""/>
            <p:cNvSpPr/>
            <p:nvPr/>
          </p:nvSpPr>
          <p:spPr>
            <a:xfrm>
              <a:off x="685800" y="1600200"/>
              <a:ext cx="8686440" cy="2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5076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1c5c"/>
                  </a:solidFill>
                  <a:latin typeface="Book Antiqua"/>
                  <a:ea typeface="超研澤中楷"/>
                </a:rPr>
                <a:t>Table of Contents</a:t>
              </a:r>
              <a:endParaRPr b="0" lang="en-US" sz="16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" y="1600200"/>
              <a:ext cx="8915040" cy="1440"/>
            </a:xfrm>
            <a:prstGeom prst="line">
              <a:avLst/>
            </a:prstGeom>
            <a:ln w="12600">
              <a:solidFill>
                <a:srgbClr val="0848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7200" y="1600200"/>
              <a:ext cx="85680" cy="337680"/>
            </a:xfrm>
            <a:prstGeom prst="rect">
              <a:avLst/>
            </a:prstGeom>
            <a:solidFill>
              <a:srgbClr val="001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2971800" y="952560"/>
            <a:ext cx="6400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1231920"/>
            <a:ext cx="6400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ook Antiqua"/>
                <a:ea typeface="超研澤中楷"/>
              </a:rPr>
              <a:t>Presentation to The Economist</a:t>
            </a:r>
            <a:endParaRPr b="0" lang="en-US" sz="17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3" name=""/>
          <p:cNvSpPr/>
          <p:nvPr/>
        </p:nvSpPr>
        <p:spPr>
          <a:xfrm>
            <a:off x="2971800" y="1627200"/>
            <a:ext cx="6400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3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r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超研澤中楷"/>
              </a:rPr>
              <a:t>Table of Content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0" t="0" r="1181" b="0"/>
          <a:stretch/>
        </p:blipFill>
        <p:spPr>
          <a:xfrm>
            <a:off x="0" y="0"/>
            <a:ext cx="10058400" cy="7783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Immigration Only Responses – UN Migration Scenario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91540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534960" indent="-326880">
              <a:spcBef>
                <a:spcPts val="29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o maintain the ratio of 15-64 year olds to 65+ year olds constant requires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523880" y="3122640"/>
          <a:ext cx="6970680" cy="368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122640"/>
                    <a:ext cx="6970680" cy="36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5400" y="716040"/>
            <a:ext cx="89168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Rising Longevity, Fixed Retirement Age and Stable Support Ratios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8" name=""/>
          <p:cNvSpPr/>
          <p:nvPr/>
        </p:nvSpPr>
        <p:spPr>
          <a:xfrm>
            <a:off x="9347040" y="7315200"/>
            <a:ext cx="254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9" name=""/>
          <p:cNvSpPr/>
          <p:nvPr/>
        </p:nvSpPr>
        <p:spPr>
          <a:xfrm>
            <a:off x="1938240" y="6019920"/>
            <a:ext cx="13035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itial Structure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0" name=""/>
          <p:cNvSpPr/>
          <p:nvPr/>
        </p:nvSpPr>
        <p:spPr>
          <a:xfrm>
            <a:off x="4719600" y="6019920"/>
            <a:ext cx="13032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u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ising Longevity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1" name=""/>
          <p:cNvSpPr/>
          <p:nvPr/>
        </p:nvSpPr>
        <p:spPr>
          <a:xfrm>
            <a:off x="7281720" y="6019920"/>
            <a:ext cx="18669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us Immigration to Keep Support Ratio Constant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2" name=""/>
          <p:cNvSpPr/>
          <p:nvPr/>
        </p:nvSpPr>
        <p:spPr>
          <a:xfrm>
            <a:off x="243000" y="4003560"/>
            <a:ext cx="13032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tiremen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ge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3" name=""/>
          <p:cNvSpPr/>
          <p:nvPr/>
        </p:nvSpPr>
        <p:spPr>
          <a:xfrm>
            <a:off x="1370160" y="4579920"/>
            <a:ext cx="2439720" cy="0"/>
          </a:xfrm>
          <a:prstGeom prst="line">
            <a:avLst/>
          </a:prstGeom>
          <a:ln w="1260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1690560" y="3657600"/>
            <a:ext cx="1800360" cy="2246040"/>
            <a:chOff x="1690560" y="3657600"/>
            <a:chExt cx="1800360" cy="2246040"/>
          </a:xfrm>
        </p:grpSpPr>
        <p:sp>
          <p:nvSpPr>
            <p:cNvPr id="395" name=""/>
            <p:cNvSpPr/>
            <p:nvPr/>
          </p:nvSpPr>
          <p:spPr>
            <a:xfrm flipV="1">
              <a:off x="1690560" y="4721400"/>
              <a:ext cx="1800360" cy="1182240"/>
            </a:xfrm>
            <a:custGeom>
              <a:avLst/>
              <a:gdLst>
                <a:gd name="textAreaLeft" fmla="*/ 395640 w 1800360"/>
                <a:gd name="textAreaRight" fmla="*/ 1404720 w 1800360"/>
                <a:gd name="textAreaTop" fmla="*/ 259920 h 1182240"/>
                <a:gd name="textAreaBottom" fmla="*/ 922320 h 118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1c5c"/>
            </a:solidFill>
            <a:ln w="9360">
              <a:solidFill>
                <a:srgbClr val="001c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141280" y="3657600"/>
              <a:ext cx="901800" cy="1063800"/>
            </a:xfrm>
            <a:prstGeom prst="triangle">
              <a:avLst>
                <a:gd name="adj" fmla="val 50000"/>
              </a:avLst>
            </a:prstGeom>
            <a:solidFill>
              <a:srgbClr val="001c5c"/>
            </a:solidFill>
            <a:ln w="9360">
              <a:solidFill>
                <a:srgbClr val="001c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4152960" y="4579920"/>
            <a:ext cx="2438280" cy="0"/>
          </a:xfrm>
          <a:prstGeom prst="line">
            <a:avLst/>
          </a:prstGeom>
          <a:ln w="1260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471920" y="3105000"/>
            <a:ext cx="1800000" cy="2838240"/>
            <a:chOff x="4471920" y="3105000"/>
            <a:chExt cx="1800000" cy="2838240"/>
          </a:xfrm>
        </p:grpSpPr>
        <p:sp>
          <p:nvSpPr>
            <p:cNvPr id="399" name=""/>
            <p:cNvSpPr/>
            <p:nvPr/>
          </p:nvSpPr>
          <p:spPr>
            <a:xfrm flipV="1">
              <a:off x="4471920" y="4581000"/>
              <a:ext cx="1800000" cy="1362240"/>
            </a:xfrm>
            <a:custGeom>
              <a:avLst/>
              <a:gdLst>
                <a:gd name="textAreaLeft" fmla="*/ 395640 w 1800000"/>
                <a:gd name="textAreaRight" fmla="*/ 1404360 w 1800000"/>
                <a:gd name="textAreaTop" fmla="*/ 299520 h 1362240"/>
                <a:gd name="textAreaBottom" fmla="*/ 1062720 h 136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1c5c"/>
            </a:solidFill>
            <a:ln w="9360">
              <a:solidFill>
                <a:srgbClr val="001c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921200" y="3105000"/>
              <a:ext cx="901800" cy="1476000"/>
            </a:xfrm>
            <a:prstGeom prst="triangle">
              <a:avLst>
                <a:gd name="adj" fmla="val 50000"/>
              </a:avLst>
            </a:prstGeom>
            <a:solidFill>
              <a:srgbClr val="001c5c"/>
            </a:solidFill>
            <a:ln w="9360">
              <a:solidFill>
                <a:srgbClr val="001c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6934320" y="4579920"/>
            <a:ext cx="2438280" cy="0"/>
          </a:xfrm>
          <a:prstGeom prst="line">
            <a:avLst/>
          </a:prstGeom>
          <a:ln w="1260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2" name=""/>
          <p:cNvSpPr/>
          <p:nvPr/>
        </p:nvSpPr>
        <p:spPr>
          <a:xfrm>
            <a:off x="7724880" y="3078000"/>
            <a:ext cx="882720" cy="1501920"/>
          </a:xfrm>
          <a:prstGeom prst="triangle">
            <a:avLst>
              <a:gd name="adj" fmla="val 50000"/>
            </a:avLst>
          </a:prstGeom>
          <a:solidFill>
            <a:srgbClr val="001c5c"/>
          </a:solidFill>
          <a:ln w="9360">
            <a:solidFill>
              <a:srgbClr val="001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3" name=""/>
          <p:cNvSpPr/>
          <p:nvPr/>
        </p:nvSpPr>
        <p:spPr>
          <a:xfrm>
            <a:off x="6591240" y="4576680"/>
            <a:ext cx="3130560" cy="1366920"/>
          </a:xfrm>
          <a:custGeom>
            <a:avLst/>
            <a:gdLst/>
            <a:ahLst/>
            <a:rect l="l" t="t" r="r" b="b"/>
            <a:pathLst>
              <a:path w="1972" h="861">
                <a:moveTo>
                  <a:pt x="711" y="0"/>
                </a:moveTo>
                <a:lnTo>
                  <a:pt x="0" y="861"/>
                </a:lnTo>
                <a:lnTo>
                  <a:pt x="1972" y="861"/>
                </a:lnTo>
                <a:lnTo>
                  <a:pt x="1271" y="0"/>
                </a:lnTo>
                <a:lnTo>
                  <a:pt x="711" y="0"/>
                </a:lnTo>
                <a:close/>
              </a:path>
            </a:pathLst>
          </a:custGeom>
          <a:solidFill>
            <a:srgbClr val="001c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upport Ratio Dynamics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619200" y="2181240"/>
          <a:ext cx="8916840" cy="48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2181240"/>
                    <a:ext cx="8916840" cy="48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7" name=""/>
          <p:cNvSpPr/>
          <p:nvPr/>
        </p:nvSpPr>
        <p:spPr>
          <a:xfrm>
            <a:off x="4792680" y="3068640"/>
            <a:ext cx="460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8" name=""/>
          <p:cNvSpPr/>
          <p:nvPr/>
        </p:nvSpPr>
        <p:spPr>
          <a:xfrm>
            <a:off x="5089680" y="3341520"/>
            <a:ext cx="804600" cy="441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9" name=""/>
          <p:cNvSpPr/>
          <p:nvPr/>
        </p:nvSpPr>
        <p:spPr>
          <a:xfrm>
            <a:off x="5770440" y="3878280"/>
            <a:ext cx="960480" cy="55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0" name=""/>
          <p:cNvSpPr/>
          <p:nvPr/>
        </p:nvSpPr>
        <p:spPr>
          <a:xfrm>
            <a:off x="6670800" y="4430880"/>
            <a:ext cx="804600" cy="441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1" name=""/>
          <p:cNvSpPr/>
          <p:nvPr/>
        </p:nvSpPr>
        <p:spPr>
          <a:xfrm>
            <a:off x="8236080" y="4424400"/>
            <a:ext cx="804600" cy="441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2" name=""/>
          <p:cNvSpPr/>
          <p:nvPr/>
        </p:nvSpPr>
        <p:spPr>
          <a:xfrm>
            <a:off x="8277120" y="3370320"/>
            <a:ext cx="804960" cy="441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3" name=""/>
          <p:cNvSpPr/>
          <p:nvPr/>
        </p:nvSpPr>
        <p:spPr>
          <a:xfrm>
            <a:off x="7599240" y="4683240"/>
            <a:ext cx="489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9175680" y="37353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5" name=""/>
          <p:cNvSpPr/>
          <p:nvPr/>
        </p:nvSpPr>
        <p:spPr>
          <a:xfrm>
            <a:off x="9260280" y="389736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347040" y="7315200"/>
            <a:ext cx="254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7" name=""/>
          <p:cNvSpPr/>
          <p:nvPr/>
        </p:nvSpPr>
        <p:spPr>
          <a:xfrm>
            <a:off x="2971800" y="1231920"/>
            <a:ext cx="6400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182520" y="2260440"/>
            <a:ext cx="9010800" cy="4658040"/>
            <a:chOff x="182520" y="2260440"/>
            <a:chExt cx="9010800" cy="4658040"/>
          </a:xfrm>
        </p:grpSpPr>
        <p:graphicFrame>
          <p:nvGraphicFramePr>
            <p:cNvPr id="419" name=""/>
            <p:cNvGraphicFramePr/>
            <p:nvPr/>
          </p:nvGraphicFramePr>
          <p:xfrm>
            <a:off x="182520" y="2260440"/>
            <a:ext cx="9010800" cy="4658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2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520" y="2260440"/>
                      <a:ext cx="9010800" cy="465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21" name="" descr=""/>
            <p:cNvPicPr/>
            <p:nvPr/>
          </p:nvPicPr>
          <p:blipFill>
            <a:blip r:embed="rId3"/>
            <a:stretch/>
          </p:blipFill>
          <p:spPr>
            <a:xfrm>
              <a:off x="182520" y="2260440"/>
              <a:ext cx="9010800" cy="465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" descr=""/>
            <p:cNvPicPr/>
            <p:nvPr/>
          </p:nvPicPr>
          <p:blipFill>
            <a:blip r:embed="rId4"/>
            <a:stretch/>
          </p:blipFill>
          <p:spPr>
            <a:xfrm>
              <a:off x="182520" y="2260440"/>
              <a:ext cx="9010800" cy="465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Europe and Its Neighbours – Population 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4" name=""/>
          <p:cNvSpPr/>
          <p:nvPr/>
        </p:nvSpPr>
        <p:spPr>
          <a:xfrm>
            <a:off x="455760" y="7024680"/>
            <a:ext cx="891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____________________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Source: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UN Medium Variant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* Note: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UN definition plus Pakistan, Afghanistan and Iran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5" name=""/>
          <p:cNvSpPr/>
          <p:nvPr/>
        </p:nvSpPr>
        <p:spPr>
          <a:xfrm>
            <a:off x="430920" y="2782800"/>
            <a:ext cx="100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ropean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6" name=""/>
          <p:cNvSpPr/>
          <p:nvPr/>
        </p:nvSpPr>
        <p:spPr>
          <a:xfrm>
            <a:off x="431280" y="4257720"/>
            <a:ext cx="84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ster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ia*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7" name=""/>
          <p:cNvSpPr/>
          <p:nvPr/>
        </p:nvSpPr>
        <p:spPr>
          <a:xfrm>
            <a:off x="431640" y="5724360"/>
            <a:ext cx="6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78320" y="2139840"/>
            <a:ext cx="4438800" cy="2086200"/>
            <a:chOff x="4378320" y="2139840"/>
            <a:chExt cx="4438800" cy="2086200"/>
          </a:xfrm>
        </p:grpSpPr>
        <p:graphicFrame>
          <p:nvGraphicFramePr>
            <p:cNvPr id="429" name=""/>
            <p:cNvGraphicFramePr/>
            <p:nvPr/>
          </p:nvGraphicFramePr>
          <p:xfrm>
            <a:off x="4378320" y="2139840"/>
            <a:ext cx="4438800" cy="208620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43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378320" y="2139840"/>
                      <a:ext cx="4438800" cy="20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31" name="" descr=""/>
            <p:cNvPicPr/>
            <p:nvPr/>
          </p:nvPicPr>
          <p:blipFill>
            <a:blip r:embed="rId7"/>
            <a:stretch/>
          </p:blipFill>
          <p:spPr>
            <a:xfrm>
              <a:off x="4378320" y="2139840"/>
              <a:ext cx="4437000" cy="208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" descr=""/>
            <p:cNvPicPr/>
            <p:nvPr/>
          </p:nvPicPr>
          <p:blipFill>
            <a:blip r:embed="rId8"/>
            <a:stretch/>
          </p:blipFill>
          <p:spPr>
            <a:xfrm>
              <a:off x="4378320" y="2139840"/>
              <a:ext cx="4437000" cy="208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"/>
          <p:cNvSpPr/>
          <p:nvPr/>
        </p:nvSpPr>
        <p:spPr>
          <a:xfrm>
            <a:off x="3936600" y="2782800"/>
            <a:ext cx="79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ter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4" name=""/>
          <p:cNvSpPr/>
          <p:nvPr/>
        </p:nvSpPr>
        <p:spPr>
          <a:xfrm>
            <a:off x="6652800" y="2673360"/>
            <a:ext cx="95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ssia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krain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 Belaru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7388280" y="2139840"/>
            <a:ext cx="4438440" cy="2086200"/>
            <a:chOff x="7388280" y="2139840"/>
            <a:chExt cx="4438440" cy="2086200"/>
          </a:xfrm>
        </p:grpSpPr>
        <p:graphicFrame>
          <p:nvGraphicFramePr>
            <p:cNvPr id="436" name=""/>
            <p:cNvGraphicFramePr/>
            <p:nvPr/>
          </p:nvGraphicFramePr>
          <p:xfrm>
            <a:off x="7388280" y="2139840"/>
            <a:ext cx="4438440" cy="2086200"/>
          </p:xfrm>
          <a:graphic>
            <a:graphicData uri="http://schemas.openxmlformats.org/presentationml/2006/ole">
              <p:oleObj progId="Excel.Sheet.12" r:id="rId9" spid="">
                <p:embed/>
                <p:pic>
                  <p:nvPicPr>
                    <p:cNvPr id="43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388280" y="2139840"/>
                      <a:ext cx="4438440" cy="20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38" name="" descr=""/>
            <p:cNvPicPr/>
            <p:nvPr/>
          </p:nvPicPr>
          <p:blipFill>
            <a:blip r:embed="rId11"/>
            <a:stretch/>
          </p:blipFill>
          <p:spPr>
            <a:xfrm>
              <a:off x="7388280" y="2139840"/>
              <a:ext cx="4437000" cy="208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" descr=""/>
            <p:cNvPicPr/>
            <p:nvPr/>
          </p:nvPicPr>
          <p:blipFill>
            <a:blip r:embed="rId12"/>
            <a:stretch/>
          </p:blipFill>
          <p:spPr>
            <a:xfrm>
              <a:off x="7388280" y="2139840"/>
              <a:ext cx="4437000" cy="208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0" name=""/>
          <p:cNvSpPr/>
          <p:nvPr/>
        </p:nvSpPr>
        <p:spPr>
          <a:xfrm>
            <a:off x="455760" y="1654200"/>
            <a:ext cx="891360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89280" tIns="44640" bIns="44640" anchor="t">
            <a:spAutoFit/>
          </a:bodyPr>
          <a:p>
            <a:pPr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Book Antiqua"/>
                <a:ea typeface="Arial"/>
              </a:rPr>
              <a:t>Millions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9347040" y="7315200"/>
            <a:ext cx="254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2" name=""/>
          <p:cNvSpPr/>
          <p:nvPr/>
        </p:nvSpPr>
        <p:spPr>
          <a:xfrm>
            <a:off x="2971800" y="1231920"/>
            <a:ext cx="6400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293760" y="2260440"/>
            <a:ext cx="9010440" cy="4658040"/>
            <a:chOff x="293760" y="2260440"/>
            <a:chExt cx="9010440" cy="4658040"/>
          </a:xfrm>
        </p:grpSpPr>
        <p:graphicFrame>
          <p:nvGraphicFramePr>
            <p:cNvPr id="444" name=""/>
            <p:cNvGraphicFramePr/>
            <p:nvPr/>
          </p:nvGraphicFramePr>
          <p:xfrm>
            <a:off x="293760" y="2260440"/>
            <a:ext cx="9010440" cy="4658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3760" y="2260440"/>
                      <a:ext cx="9010440" cy="465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46" name="" descr=""/>
            <p:cNvPicPr/>
            <p:nvPr/>
          </p:nvPicPr>
          <p:blipFill>
            <a:blip r:embed="rId3"/>
            <a:stretch/>
          </p:blipFill>
          <p:spPr>
            <a:xfrm>
              <a:off x="293760" y="2260440"/>
              <a:ext cx="9010440" cy="465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" descr=""/>
            <p:cNvPicPr/>
            <p:nvPr/>
          </p:nvPicPr>
          <p:blipFill>
            <a:blip r:embed="rId4"/>
            <a:stretch/>
          </p:blipFill>
          <p:spPr>
            <a:xfrm>
              <a:off x="293760" y="2260440"/>
              <a:ext cx="9010440" cy="465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opulation Density – US and Europe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9" name=""/>
          <p:cNvSpPr/>
          <p:nvPr/>
        </p:nvSpPr>
        <p:spPr>
          <a:xfrm>
            <a:off x="455760" y="7176960"/>
            <a:ext cx="891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____________________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Source: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GAD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0" name=""/>
          <p:cNvSpPr/>
          <p:nvPr/>
        </p:nvSpPr>
        <p:spPr>
          <a:xfrm>
            <a:off x="455760" y="1654200"/>
            <a:ext cx="891360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000s per Sq.km: 2000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Demographics and Geopolitical Weight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457200" y="2101680"/>
            <a:ext cx="9010800" cy="4657680"/>
            <a:chOff x="457200" y="2101680"/>
            <a:chExt cx="9010800" cy="4657680"/>
          </a:xfrm>
        </p:grpSpPr>
        <p:graphicFrame>
          <p:nvGraphicFramePr>
            <p:cNvPr id="453" name=""/>
            <p:cNvGraphicFramePr/>
            <p:nvPr/>
          </p:nvGraphicFramePr>
          <p:xfrm>
            <a:off x="457200" y="2101680"/>
            <a:ext cx="9010800" cy="4657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2101680"/>
                      <a:ext cx="9010800" cy="465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55" name="" descr=""/>
            <p:cNvPicPr/>
            <p:nvPr/>
          </p:nvPicPr>
          <p:blipFill>
            <a:blip r:embed="rId3"/>
            <a:stretch/>
          </p:blipFill>
          <p:spPr>
            <a:xfrm>
              <a:off x="457200" y="2101680"/>
              <a:ext cx="9010800" cy="46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" descr=""/>
            <p:cNvPicPr/>
            <p:nvPr/>
          </p:nvPicPr>
          <p:blipFill>
            <a:blip r:embed="rId4"/>
            <a:stretch/>
          </p:blipFill>
          <p:spPr>
            <a:xfrm>
              <a:off x="457200" y="2101680"/>
              <a:ext cx="9010800" cy="465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7" name=""/>
          <p:cNvGrpSpPr/>
          <p:nvPr/>
        </p:nvGrpSpPr>
        <p:grpSpPr>
          <a:xfrm>
            <a:off x="942480" y="5859360"/>
            <a:ext cx="166680" cy="137880"/>
            <a:chOff x="942480" y="5859360"/>
            <a:chExt cx="166680" cy="137880"/>
          </a:xfrm>
        </p:grpSpPr>
        <p:sp>
          <p:nvSpPr>
            <p:cNvPr id="458" name=""/>
            <p:cNvSpPr/>
            <p:nvPr/>
          </p:nvSpPr>
          <p:spPr>
            <a:xfrm flipH="1">
              <a:off x="942480" y="5859360"/>
              <a:ext cx="16668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942480" y="5898960"/>
              <a:ext cx="16668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8805600" y="5859360"/>
            <a:ext cx="166680" cy="137880"/>
            <a:chOff x="8805600" y="5859360"/>
            <a:chExt cx="166680" cy="137880"/>
          </a:xfrm>
        </p:grpSpPr>
        <p:sp>
          <p:nvSpPr>
            <p:cNvPr id="461" name=""/>
            <p:cNvSpPr/>
            <p:nvPr/>
          </p:nvSpPr>
          <p:spPr>
            <a:xfrm flipH="1">
              <a:off x="8805600" y="5859360"/>
              <a:ext cx="16668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8805600" y="5898960"/>
              <a:ext cx="16668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9271080" y="7315200"/>
            <a:ext cx="330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2362320" y="2509920"/>
            <a:ext cx="2257200" cy="4657680"/>
            <a:chOff x="2362320" y="2509920"/>
            <a:chExt cx="2257200" cy="4657680"/>
          </a:xfrm>
        </p:grpSpPr>
        <p:graphicFrame>
          <p:nvGraphicFramePr>
            <p:cNvPr id="465" name=""/>
            <p:cNvGraphicFramePr/>
            <p:nvPr/>
          </p:nvGraphicFramePr>
          <p:xfrm>
            <a:off x="2362320" y="2509920"/>
            <a:ext cx="2257200" cy="4657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6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62320" y="2509920"/>
                      <a:ext cx="2257200" cy="465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67" name="" descr=""/>
            <p:cNvPicPr/>
            <p:nvPr/>
          </p:nvPicPr>
          <p:blipFill>
            <a:blip r:embed="rId3"/>
            <a:stretch/>
          </p:blipFill>
          <p:spPr>
            <a:xfrm>
              <a:off x="2362320" y="2509920"/>
              <a:ext cx="2257200" cy="46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" descr=""/>
            <p:cNvPicPr/>
            <p:nvPr/>
          </p:nvPicPr>
          <p:blipFill>
            <a:blip r:embed="rId4"/>
            <a:stretch/>
          </p:blipFill>
          <p:spPr>
            <a:xfrm>
              <a:off x="2362320" y="2509920"/>
              <a:ext cx="2257200" cy="465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9" name=""/>
          <p:cNvGrpSpPr/>
          <p:nvPr/>
        </p:nvGrpSpPr>
        <p:grpSpPr>
          <a:xfrm>
            <a:off x="4773600" y="2509920"/>
            <a:ext cx="2257560" cy="4657680"/>
            <a:chOff x="4773600" y="2509920"/>
            <a:chExt cx="2257560" cy="4657680"/>
          </a:xfrm>
        </p:grpSpPr>
        <p:graphicFrame>
          <p:nvGraphicFramePr>
            <p:cNvPr id="470" name=""/>
            <p:cNvGraphicFramePr/>
            <p:nvPr/>
          </p:nvGraphicFramePr>
          <p:xfrm>
            <a:off x="4773600" y="2509920"/>
            <a:ext cx="2257560" cy="465768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47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773600" y="2509920"/>
                      <a:ext cx="2257560" cy="465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72" name="" descr=""/>
            <p:cNvPicPr/>
            <p:nvPr/>
          </p:nvPicPr>
          <p:blipFill>
            <a:blip r:embed="rId7"/>
            <a:stretch/>
          </p:blipFill>
          <p:spPr>
            <a:xfrm>
              <a:off x="4773600" y="2509920"/>
              <a:ext cx="2257560" cy="46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" descr=""/>
            <p:cNvPicPr/>
            <p:nvPr/>
          </p:nvPicPr>
          <p:blipFill>
            <a:blip r:embed="rId8"/>
            <a:stretch/>
          </p:blipFill>
          <p:spPr>
            <a:xfrm>
              <a:off x="4773600" y="2509920"/>
              <a:ext cx="2257560" cy="465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4" name=""/>
          <p:cNvGrpSpPr/>
          <p:nvPr/>
        </p:nvGrpSpPr>
        <p:grpSpPr>
          <a:xfrm>
            <a:off x="7184880" y="2509920"/>
            <a:ext cx="2257560" cy="4657680"/>
            <a:chOff x="7184880" y="2509920"/>
            <a:chExt cx="2257560" cy="4657680"/>
          </a:xfrm>
        </p:grpSpPr>
        <p:graphicFrame>
          <p:nvGraphicFramePr>
            <p:cNvPr id="475" name=""/>
            <p:cNvGraphicFramePr/>
            <p:nvPr/>
          </p:nvGraphicFramePr>
          <p:xfrm>
            <a:off x="7184880" y="2509920"/>
            <a:ext cx="2257560" cy="4657680"/>
          </p:xfrm>
          <a:graphic>
            <a:graphicData uri="http://schemas.openxmlformats.org/presentationml/2006/ole">
              <p:oleObj progId="Excel.Sheet.12" r:id="rId9" spid="">
                <p:embed/>
                <p:pic>
                  <p:nvPicPr>
                    <p:cNvPr id="47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184880" y="2509920"/>
                      <a:ext cx="2257560" cy="465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77" name="" descr=""/>
            <p:cNvPicPr/>
            <p:nvPr/>
          </p:nvPicPr>
          <p:blipFill>
            <a:blip r:embed="rId11"/>
            <a:stretch/>
          </p:blipFill>
          <p:spPr>
            <a:xfrm>
              <a:off x="7184880" y="2509920"/>
              <a:ext cx="2257560" cy="46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" descr=""/>
            <p:cNvPicPr/>
            <p:nvPr/>
          </p:nvPicPr>
          <p:blipFill>
            <a:blip r:embed="rId12"/>
            <a:stretch/>
          </p:blipFill>
          <p:spPr>
            <a:xfrm>
              <a:off x="7184880" y="2509920"/>
              <a:ext cx="2257560" cy="465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Italy’s Population Structure 1970-2050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2323800"/>
            <a:ext cx="1293840" cy="4097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>
              <a:lnSpc>
                <a:spcPct val="100000"/>
              </a:lnSpc>
              <a:spcBef>
                <a:spcPts val="2251"/>
              </a:spcBef>
              <a:spcAft>
                <a:spcPts val="1463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ge Band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0" algn="r">
              <a:lnSpc>
                <a:spcPct val="100000"/>
              </a:lnSpc>
              <a:spcBef>
                <a:spcPts val="2251"/>
              </a:spcBef>
              <a:spcAft>
                <a:spcPts val="1463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-100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0" algn="r">
              <a:lnSpc>
                <a:spcPct val="100000"/>
              </a:lnSpc>
              <a:spcBef>
                <a:spcPts val="2251"/>
              </a:spcBef>
              <a:spcAft>
                <a:spcPts val="1463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-80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0" algn="r">
              <a:lnSpc>
                <a:spcPct val="100000"/>
              </a:lnSpc>
              <a:spcBef>
                <a:spcPts val="2251"/>
              </a:spcBef>
              <a:spcAft>
                <a:spcPts val="1463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-60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0" algn="r">
              <a:lnSpc>
                <a:spcPct val="100000"/>
              </a:lnSpc>
              <a:spcBef>
                <a:spcPts val="2251"/>
              </a:spcBef>
              <a:spcAft>
                <a:spcPts val="1463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-40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0" algn="r">
              <a:lnSpc>
                <a:spcPct val="100000"/>
              </a:lnSpc>
              <a:spcBef>
                <a:spcPts val="2251"/>
              </a:spcBef>
              <a:spcAft>
                <a:spcPts val="1463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-20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2486160" y="2117880"/>
            <a:ext cx="2038320" cy="398880"/>
            <a:chOff x="2486160" y="2117880"/>
            <a:chExt cx="2038320" cy="398880"/>
          </a:xfrm>
        </p:grpSpPr>
        <p:sp>
          <p:nvSpPr>
            <p:cNvPr id="482" name=""/>
            <p:cNvSpPr/>
            <p:nvPr/>
          </p:nvSpPr>
          <p:spPr>
            <a:xfrm>
              <a:off x="2486160" y="2514600"/>
              <a:ext cx="203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121920" y="211788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1970</a:t>
              </a:r>
              <a:endParaRPr b="0" lang="en-US" sz="20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4889520" y="2117880"/>
            <a:ext cx="2038320" cy="398880"/>
            <a:chOff x="4889520" y="2117880"/>
            <a:chExt cx="2038320" cy="398880"/>
          </a:xfrm>
        </p:grpSpPr>
        <p:sp>
          <p:nvSpPr>
            <p:cNvPr id="485" name=""/>
            <p:cNvSpPr/>
            <p:nvPr/>
          </p:nvSpPr>
          <p:spPr>
            <a:xfrm>
              <a:off x="4889520" y="2514600"/>
              <a:ext cx="203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25280" y="211788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2000</a:t>
              </a:r>
              <a:endParaRPr b="0" lang="en-US" sz="20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7294680" y="2117880"/>
            <a:ext cx="2038320" cy="398880"/>
            <a:chOff x="7294680" y="2117880"/>
            <a:chExt cx="2038320" cy="398880"/>
          </a:xfrm>
        </p:grpSpPr>
        <p:sp>
          <p:nvSpPr>
            <p:cNvPr id="488" name=""/>
            <p:cNvSpPr/>
            <p:nvPr/>
          </p:nvSpPr>
          <p:spPr>
            <a:xfrm>
              <a:off x="7294680" y="2514600"/>
              <a:ext cx="203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30440" y="211788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2050</a:t>
              </a:r>
              <a:endParaRPr b="0" lang="en-US" sz="20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455760" y="7176960"/>
            <a:ext cx="891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____________________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Source: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U.N. Medium variant for 2050 projection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1" name=""/>
          <p:cNvSpPr/>
          <p:nvPr/>
        </p:nvSpPr>
        <p:spPr>
          <a:xfrm>
            <a:off x="455760" y="1654200"/>
            <a:ext cx="891360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illions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2" name=""/>
          <p:cNvGraphicFramePr/>
          <p:nvPr/>
        </p:nvGraphicFramePr>
        <p:xfrm>
          <a:off x="466560" y="2320920"/>
          <a:ext cx="8917200" cy="452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2320920"/>
                    <a:ext cx="8917200" cy="45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5400" y="1084320"/>
            <a:ext cx="8916840" cy="457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Fertility Intentions of Women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5" name=""/>
          <p:cNvSpPr/>
          <p:nvPr/>
        </p:nvSpPr>
        <p:spPr>
          <a:xfrm>
            <a:off x="455760" y="1654200"/>
            <a:ext cx="891360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ngland &amp; Wales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6" name=""/>
          <p:cNvSpPr/>
          <p:nvPr/>
        </p:nvSpPr>
        <p:spPr>
          <a:xfrm>
            <a:off x="6496200" y="3348000"/>
            <a:ext cx="742680" cy="3129120"/>
          </a:xfrm>
          <a:custGeom>
            <a:avLst/>
            <a:gdLst>
              <a:gd name="textAreaLeft" fmla="*/ 0 w 742680"/>
              <a:gd name="textAreaRight" fmla="*/ 268200 w 742680"/>
              <a:gd name="textAreaTop" fmla="*/ 81360 h 3129120"/>
              <a:gd name="textAreaBottom" fmla="*/ 3047760 h 312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9347040" y="7315200"/>
            <a:ext cx="254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8" name=""/>
          <p:cNvSpPr/>
          <p:nvPr/>
        </p:nvSpPr>
        <p:spPr>
          <a:xfrm>
            <a:off x="2971800" y="1231920"/>
            <a:ext cx="6400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458640" y="2033640"/>
            <a:ext cx="9010800" cy="4657680"/>
            <a:chOff x="458640" y="2033640"/>
            <a:chExt cx="9010800" cy="4657680"/>
          </a:xfrm>
        </p:grpSpPr>
        <p:graphicFrame>
          <p:nvGraphicFramePr>
            <p:cNvPr id="500" name=""/>
            <p:cNvGraphicFramePr/>
            <p:nvPr/>
          </p:nvGraphicFramePr>
          <p:xfrm>
            <a:off x="458640" y="2033640"/>
            <a:ext cx="9010800" cy="4657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50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8640" y="2033640"/>
                      <a:ext cx="9010800" cy="465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502" name="" descr=""/>
            <p:cNvPicPr/>
            <p:nvPr/>
          </p:nvPicPr>
          <p:blipFill>
            <a:blip r:embed="rId3"/>
            <a:stretch/>
          </p:blipFill>
          <p:spPr>
            <a:xfrm>
              <a:off x="458640" y="2033640"/>
              <a:ext cx="9010800" cy="46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3" name="" descr=""/>
            <p:cNvPicPr/>
            <p:nvPr/>
          </p:nvPicPr>
          <p:blipFill>
            <a:blip r:embed="rId4"/>
            <a:stretch/>
          </p:blipFill>
          <p:spPr>
            <a:xfrm>
              <a:off x="458640" y="2033640"/>
              <a:ext cx="9010800" cy="465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European Fertility Rates - 2001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5" name=""/>
          <p:cNvSpPr/>
          <p:nvPr/>
        </p:nvSpPr>
        <p:spPr>
          <a:xfrm>
            <a:off x="455760" y="7176960"/>
            <a:ext cx="891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____________________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Source: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GAD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Three Dimensions of Demographic Change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2437920"/>
            <a:ext cx="8915400" cy="195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534960" indent="-326880">
              <a:spcBef>
                <a:spcPts val="29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creasing Longevit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534960" indent="-326880">
              <a:spcBef>
                <a:spcPts val="29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clining Fertilit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534960" indent="-326880">
              <a:spcBef>
                <a:spcPts val="29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Baby Boom Cohor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347040" y="7315200"/>
            <a:ext cx="254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1231920"/>
            <a:ext cx="6400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57200" y="2052720"/>
            <a:ext cx="9010800" cy="4657680"/>
            <a:chOff x="457200" y="2052720"/>
            <a:chExt cx="9010800" cy="4657680"/>
          </a:xfrm>
        </p:grpSpPr>
        <p:graphicFrame>
          <p:nvGraphicFramePr>
            <p:cNvPr id="100" name=""/>
            <p:cNvGraphicFramePr/>
            <p:nvPr/>
          </p:nvGraphicFramePr>
          <p:xfrm>
            <a:off x="457200" y="2052720"/>
            <a:ext cx="9010800" cy="4657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2052720"/>
                      <a:ext cx="9010800" cy="465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02" name="" descr=""/>
            <p:cNvPicPr/>
            <p:nvPr/>
          </p:nvPicPr>
          <p:blipFill>
            <a:blip r:embed="rId3"/>
            <a:stretch/>
          </p:blipFill>
          <p:spPr>
            <a:xfrm>
              <a:off x="457200" y="2052720"/>
              <a:ext cx="9010800" cy="46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4"/>
            <a:stretch/>
          </p:blipFill>
          <p:spPr>
            <a:xfrm>
              <a:off x="457200" y="2052720"/>
              <a:ext cx="9010800" cy="465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"/>
          <p:cNvSpPr/>
          <p:nvPr/>
        </p:nvSpPr>
        <p:spPr>
          <a:xfrm>
            <a:off x="455760" y="6872400"/>
            <a:ext cx="891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____________________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Source: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GAD for UK; United Nations for World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Note: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These are “Period” Life expectations, which actually underestimate the expected life span of a baby born in the year specified, but which are easier to calculate than the correct “cohort” figures and therefore frequently used in international comparisons. See footnote x in lecture text for explanation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Life Expectancy at Birth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Book Antiqua"/>
              </a:rPr>
              <a:t>(1)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- Male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85520" y="5943600"/>
            <a:ext cx="166680" cy="137880"/>
            <a:chOff x="785520" y="5943600"/>
            <a:chExt cx="166680" cy="137880"/>
          </a:xfrm>
        </p:grpSpPr>
        <p:sp>
          <p:nvSpPr>
            <p:cNvPr id="107" name=""/>
            <p:cNvSpPr/>
            <p:nvPr/>
          </p:nvSpPr>
          <p:spPr>
            <a:xfrm flipH="1">
              <a:off x="785520" y="5943600"/>
              <a:ext cx="16668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85520" y="5983200"/>
              <a:ext cx="16668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8962560" y="5943600"/>
            <a:ext cx="166680" cy="137880"/>
            <a:chOff x="8962560" y="5943600"/>
            <a:chExt cx="166680" cy="137880"/>
          </a:xfrm>
        </p:grpSpPr>
        <p:sp>
          <p:nvSpPr>
            <p:cNvPr id="110" name=""/>
            <p:cNvSpPr/>
            <p:nvPr/>
          </p:nvSpPr>
          <p:spPr>
            <a:xfrm flipH="1">
              <a:off x="8962560" y="5943600"/>
              <a:ext cx="16668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8962560" y="5983200"/>
              <a:ext cx="16668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347040" y="7315200"/>
            <a:ext cx="254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1231920"/>
            <a:ext cx="6400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7200" y="2052720"/>
            <a:ext cx="9010800" cy="4657680"/>
            <a:chOff x="457200" y="2052720"/>
            <a:chExt cx="9010800" cy="4657680"/>
          </a:xfrm>
        </p:grpSpPr>
        <p:graphicFrame>
          <p:nvGraphicFramePr>
            <p:cNvPr id="115" name=""/>
            <p:cNvGraphicFramePr/>
            <p:nvPr/>
          </p:nvGraphicFramePr>
          <p:xfrm>
            <a:off x="457200" y="2052720"/>
            <a:ext cx="9010800" cy="4657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2052720"/>
                      <a:ext cx="9010800" cy="465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457200" y="2052720"/>
              <a:ext cx="9010800" cy="46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4"/>
            <a:stretch/>
          </p:blipFill>
          <p:spPr>
            <a:xfrm>
              <a:off x="457200" y="2052720"/>
              <a:ext cx="9010800" cy="465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"/>
          <p:cNvSpPr/>
          <p:nvPr/>
        </p:nvSpPr>
        <p:spPr>
          <a:xfrm>
            <a:off x="455760" y="7029360"/>
            <a:ext cx="891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447840" indent="-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____________________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447840" indent="-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Source: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Eurostat demographic year book; GAD for UK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447840" indent="-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Note: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On “Period” basis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Life Expectancy at 60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Book Antiqua"/>
              </a:rPr>
              <a:t>(1)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- Male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80840" y="5943600"/>
            <a:ext cx="166680" cy="137880"/>
            <a:chOff x="780840" y="5943600"/>
            <a:chExt cx="166680" cy="137880"/>
          </a:xfrm>
        </p:grpSpPr>
        <p:sp>
          <p:nvSpPr>
            <p:cNvPr id="122" name=""/>
            <p:cNvSpPr/>
            <p:nvPr/>
          </p:nvSpPr>
          <p:spPr>
            <a:xfrm flipH="1">
              <a:off x="780840" y="5943600"/>
              <a:ext cx="16668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80840" y="5983200"/>
              <a:ext cx="16668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8957880" y="5943600"/>
            <a:ext cx="166680" cy="137880"/>
            <a:chOff x="8957880" y="5943600"/>
            <a:chExt cx="166680" cy="137880"/>
          </a:xfrm>
        </p:grpSpPr>
        <p:sp>
          <p:nvSpPr>
            <p:cNvPr id="125" name=""/>
            <p:cNvSpPr/>
            <p:nvPr/>
          </p:nvSpPr>
          <p:spPr>
            <a:xfrm flipH="1">
              <a:off x="8957880" y="5943600"/>
              <a:ext cx="16668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8957880" y="5983200"/>
              <a:ext cx="16668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923760" y="4628880"/>
            <a:ext cx="8079120" cy="85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8" name=""/>
          <p:cNvSpPr/>
          <p:nvPr/>
        </p:nvSpPr>
        <p:spPr>
          <a:xfrm>
            <a:off x="9347040" y="7315200"/>
            <a:ext cx="254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1231920"/>
            <a:ext cx="6400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400" y="716040"/>
            <a:ext cx="89168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Total Fertility Rates – Europe and North America 1950-2000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1" name=""/>
          <p:cNvSpPr/>
          <p:nvPr/>
        </p:nvSpPr>
        <p:spPr>
          <a:xfrm>
            <a:off x="455760" y="7176960"/>
            <a:ext cx="891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____________________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Source: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United Nations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8915040" y="6080040"/>
            <a:ext cx="166680" cy="137880"/>
            <a:chOff x="8915040" y="6080040"/>
            <a:chExt cx="166680" cy="137880"/>
          </a:xfrm>
        </p:grpSpPr>
        <p:sp>
          <p:nvSpPr>
            <p:cNvPr id="133" name=""/>
            <p:cNvSpPr/>
            <p:nvPr/>
          </p:nvSpPr>
          <p:spPr>
            <a:xfrm flipH="1">
              <a:off x="8915040" y="6080040"/>
              <a:ext cx="16668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8915040" y="6119640"/>
              <a:ext cx="16668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aphicFrame>
        <p:nvGraphicFramePr>
          <p:cNvPr id="135" name=""/>
          <p:cNvGraphicFramePr/>
          <p:nvPr/>
        </p:nvGraphicFramePr>
        <p:xfrm>
          <a:off x="10515600" y="1881360"/>
          <a:ext cx="9010800" cy="465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15600" y="1881360"/>
                    <a:ext cx="9010800" cy="46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0515600" y="1881360"/>
            <a:ext cx="9010800" cy="465768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457200" y="2100240"/>
            <a:ext cx="9010800" cy="4657680"/>
            <a:chOff x="457200" y="2100240"/>
            <a:chExt cx="9010800" cy="4657680"/>
          </a:xfrm>
        </p:grpSpPr>
        <p:graphicFrame>
          <p:nvGraphicFramePr>
            <p:cNvPr id="139" name=""/>
            <p:cNvGraphicFramePr/>
            <p:nvPr/>
          </p:nvGraphicFramePr>
          <p:xfrm>
            <a:off x="457200" y="2100240"/>
            <a:ext cx="9010800" cy="4657680"/>
          </p:xfrm>
          <a:graphic>
            <a:graphicData uri="http://schemas.openxmlformats.org/presentationml/2006/ole">
              <p:oleObj progId="Excel.Sheet.12" r:id="rId4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57200" y="2100240"/>
                      <a:ext cx="9010800" cy="465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41" name="" descr=""/>
            <p:cNvPicPr/>
            <p:nvPr/>
          </p:nvPicPr>
          <p:blipFill>
            <a:blip r:embed="rId6"/>
            <a:stretch/>
          </p:blipFill>
          <p:spPr>
            <a:xfrm>
              <a:off x="457200" y="2100240"/>
              <a:ext cx="9010800" cy="46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7"/>
            <a:stretch/>
          </p:blipFill>
          <p:spPr>
            <a:xfrm>
              <a:off x="457200" y="2100240"/>
              <a:ext cx="9010800" cy="465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" name=""/>
          <p:cNvGrpSpPr/>
          <p:nvPr/>
        </p:nvGrpSpPr>
        <p:grpSpPr>
          <a:xfrm>
            <a:off x="828360" y="6080040"/>
            <a:ext cx="166680" cy="137880"/>
            <a:chOff x="828360" y="6080040"/>
            <a:chExt cx="166680" cy="137880"/>
          </a:xfrm>
        </p:grpSpPr>
        <p:sp>
          <p:nvSpPr>
            <p:cNvPr id="144" name=""/>
            <p:cNvSpPr/>
            <p:nvPr/>
          </p:nvSpPr>
          <p:spPr>
            <a:xfrm flipH="1">
              <a:off x="828360" y="6080040"/>
              <a:ext cx="16668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828360" y="6119640"/>
              <a:ext cx="16668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512640" y="6262560"/>
            <a:ext cx="527040" cy="77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"/>
          <p:cNvSpPr/>
          <p:nvPr/>
        </p:nvSpPr>
        <p:spPr>
          <a:xfrm>
            <a:off x="8858160" y="6262560"/>
            <a:ext cx="527040" cy="77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8" name=""/>
          <p:cNvSpPr/>
          <p:nvPr/>
        </p:nvSpPr>
        <p:spPr>
          <a:xfrm>
            <a:off x="-3959280" y="1932120"/>
            <a:ext cx="3238560" cy="1923480"/>
          </a:xfrm>
          <a:prstGeom prst="rect">
            <a:avLst/>
          </a:prstGeom>
          <a:solidFill>
            <a:srgbClr val="edad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In chart minimum value in y axis is 0.5 and crosses at 0.75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In PowerPoint a white fill box has been used to blank out the 0.5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 flipV="1">
            <a:off x="847800" y="5248080"/>
            <a:ext cx="8456400" cy="85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0" name=""/>
          <p:cNvSpPr/>
          <p:nvPr/>
        </p:nvSpPr>
        <p:spPr>
          <a:xfrm>
            <a:off x="9347040" y="7315200"/>
            <a:ext cx="254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1" name=""/>
          <p:cNvSpPr/>
          <p:nvPr/>
        </p:nvSpPr>
        <p:spPr>
          <a:xfrm>
            <a:off x="2971800" y="1231920"/>
            <a:ext cx="6400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552600" y="2095560"/>
            <a:ext cx="9010440" cy="4657680"/>
            <a:chOff x="552600" y="2095560"/>
            <a:chExt cx="9010440" cy="4657680"/>
          </a:xfrm>
        </p:grpSpPr>
        <p:graphicFrame>
          <p:nvGraphicFramePr>
            <p:cNvPr id="153" name=""/>
            <p:cNvGraphicFramePr/>
            <p:nvPr/>
          </p:nvGraphicFramePr>
          <p:xfrm>
            <a:off x="552600" y="2095560"/>
            <a:ext cx="9010440" cy="4657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2600" y="2095560"/>
                      <a:ext cx="9010440" cy="465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55" name="" descr=""/>
            <p:cNvPicPr/>
            <p:nvPr/>
          </p:nvPicPr>
          <p:blipFill>
            <a:blip r:embed="rId3"/>
            <a:stretch/>
          </p:blipFill>
          <p:spPr>
            <a:xfrm>
              <a:off x="552600" y="2095560"/>
              <a:ext cx="9010440" cy="46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4"/>
            <a:stretch/>
          </p:blipFill>
          <p:spPr>
            <a:xfrm>
              <a:off x="552600" y="2095560"/>
              <a:ext cx="9010440" cy="465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Total Fertility Rates – Asian Countries 1950-2000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8" name=""/>
          <p:cNvSpPr/>
          <p:nvPr/>
        </p:nvSpPr>
        <p:spPr>
          <a:xfrm>
            <a:off x="455760" y="7176960"/>
            <a:ext cx="891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____________________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Source: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United Nations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58720" y="6016680"/>
            <a:ext cx="8921520" cy="1014480"/>
            <a:chOff x="558720" y="6016680"/>
            <a:chExt cx="8921520" cy="1014480"/>
          </a:xfrm>
        </p:grpSpPr>
        <p:grpSp>
          <p:nvGrpSpPr>
            <p:cNvPr id="160" name=""/>
            <p:cNvGrpSpPr/>
            <p:nvPr/>
          </p:nvGrpSpPr>
          <p:grpSpPr>
            <a:xfrm>
              <a:off x="803880" y="6016680"/>
              <a:ext cx="167400" cy="137880"/>
              <a:chOff x="803880" y="6016680"/>
              <a:chExt cx="167400" cy="137880"/>
            </a:xfrm>
          </p:grpSpPr>
          <p:sp>
            <p:nvSpPr>
              <p:cNvPr id="161" name=""/>
              <p:cNvSpPr/>
              <p:nvPr/>
            </p:nvSpPr>
            <p:spPr>
              <a:xfrm flipH="1">
                <a:off x="803880" y="6016680"/>
                <a:ext cx="167400" cy="98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803880" y="6056280"/>
                <a:ext cx="167400" cy="98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9154080" y="6016680"/>
              <a:ext cx="167400" cy="137880"/>
              <a:chOff x="9154080" y="6016680"/>
              <a:chExt cx="167400" cy="137880"/>
            </a:xfrm>
          </p:grpSpPr>
          <p:sp>
            <p:nvSpPr>
              <p:cNvPr id="164" name=""/>
              <p:cNvSpPr/>
              <p:nvPr/>
            </p:nvSpPr>
            <p:spPr>
              <a:xfrm flipH="1">
                <a:off x="9154080" y="6016680"/>
                <a:ext cx="167400" cy="98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9154080" y="6056280"/>
                <a:ext cx="167400" cy="98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558720" y="6256440"/>
              <a:ext cx="529920" cy="77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950320" y="6256440"/>
              <a:ext cx="529920" cy="77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-4956120" y="2095560"/>
            <a:ext cx="3238560" cy="1923480"/>
          </a:xfrm>
          <a:prstGeom prst="rect">
            <a:avLst/>
          </a:prstGeom>
          <a:solidFill>
            <a:srgbClr val="edad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In chart minimum value in y axis is 0 and crosses at 0. 5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In PowerPoint a white fill box has been used to blank out the 0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 flipV="1">
            <a:off x="873000" y="4905720"/>
            <a:ext cx="8367840" cy="86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0" name=""/>
          <p:cNvSpPr/>
          <p:nvPr/>
        </p:nvSpPr>
        <p:spPr>
          <a:xfrm>
            <a:off x="628200" y="6073920"/>
            <a:ext cx="44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55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1" name=""/>
          <p:cNvSpPr/>
          <p:nvPr/>
        </p:nvSpPr>
        <p:spPr>
          <a:xfrm>
            <a:off x="1821960" y="6073920"/>
            <a:ext cx="44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65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2" name=""/>
          <p:cNvSpPr/>
          <p:nvPr/>
        </p:nvSpPr>
        <p:spPr>
          <a:xfrm>
            <a:off x="3030120" y="6073920"/>
            <a:ext cx="44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75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3" name=""/>
          <p:cNvSpPr/>
          <p:nvPr/>
        </p:nvSpPr>
        <p:spPr>
          <a:xfrm>
            <a:off x="4237920" y="6073920"/>
            <a:ext cx="44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85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4" name=""/>
          <p:cNvSpPr/>
          <p:nvPr/>
        </p:nvSpPr>
        <p:spPr>
          <a:xfrm>
            <a:off x="6628680" y="6073920"/>
            <a:ext cx="44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05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5" name=""/>
          <p:cNvSpPr/>
          <p:nvPr/>
        </p:nvSpPr>
        <p:spPr>
          <a:xfrm>
            <a:off x="5420880" y="6073920"/>
            <a:ext cx="44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95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6" name=""/>
          <p:cNvSpPr/>
          <p:nvPr/>
        </p:nvSpPr>
        <p:spPr>
          <a:xfrm>
            <a:off x="7811640" y="6073920"/>
            <a:ext cx="44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15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7" name=""/>
          <p:cNvSpPr/>
          <p:nvPr/>
        </p:nvSpPr>
        <p:spPr>
          <a:xfrm>
            <a:off x="9006840" y="6073920"/>
            <a:ext cx="44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25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Total Fertility Rates – Iran, Turkey, Brazil, 1950-2020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9" name=""/>
          <p:cNvSpPr/>
          <p:nvPr/>
        </p:nvSpPr>
        <p:spPr>
          <a:xfrm>
            <a:off x="471600" y="7176960"/>
            <a:ext cx="891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____________________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Source: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United Nations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774360" y="5514840"/>
            <a:ext cx="166680" cy="137880"/>
            <a:chOff x="774360" y="5514840"/>
            <a:chExt cx="166680" cy="137880"/>
          </a:xfrm>
        </p:grpSpPr>
        <p:sp>
          <p:nvSpPr>
            <p:cNvPr id="181" name=""/>
            <p:cNvSpPr/>
            <p:nvPr/>
          </p:nvSpPr>
          <p:spPr>
            <a:xfrm flipH="1">
              <a:off x="774360" y="5514840"/>
              <a:ext cx="16668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774360" y="5554440"/>
              <a:ext cx="16668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9164160" y="5514840"/>
            <a:ext cx="166680" cy="137880"/>
            <a:chOff x="9164160" y="5514840"/>
            <a:chExt cx="166680" cy="137880"/>
          </a:xfrm>
        </p:grpSpPr>
        <p:sp>
          <p:nvSpPr>
            <p:cNvPr id="184" name=""/>
            <p:cNvSpPr/>
            <p:nvPr/>
          </p:nvSpPr>
          <p:spPr>
            <a:xfrm flipH="1">
              <a:off x="9164160" y="5514840"/>
              <a:ext cx="16668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9164160" y="5554440"/>
              <a:ext cx="16668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542880" y="1628640"/>
            <a:ext cx="9010800" cy="4658040"/>
            <a:chOff x="542880" y="1628640"/>
            <a:chExt cx="9010800" cy="4658040"/>
          </a:xfrm>
        </p:grpSpPr>
        <p:graphicFrame>
          <p:nvGraphicFramePr>
            <p:cNvPr id="187" name=""/>
            <p:cNvGraphicFramePr/>
            <p:nvPr/>
          </p:nvGraphicFramePr>
          <p:xfrm>
            <a:off x="542880" y="1628640"/>
            <a:ext cx="9010800" cy="4658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8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42880" y="1628640"/>
                      <a:ext cx="9010800" cy="465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89" name="" descr=""/>
            <p:cNvPicPr/>
            <p:nvPr/>
          </p:nvPicPr>
          <p:blipFill>
            <a:blip r:embed="rId3"/>
            <a:stretch/>
          </p:blipFill>
          <p:spPr>
            <a:xfrm>
              <a:off x="542880" y="1628640"/>
              <a:ext cx="9010800" cy="465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4"/>
            <a:stretch/>
          </p:blipFill>
          <p:spPr>
            <a:xfrm>
              <a:off x="542880" y="1628640"/>
              <a:ext cx="9010800" cy="465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" name=""/>
          <p:cNvSpPr/>
          <p:nvPr/>
        </p:nvSpPr>
        <p:spPr>
          <a:xfrm>
            <a:off x="8947080" y="5756400"/>
            <a:ext cx="577800" cy="25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0000" bIns="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20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2" name=""/>
          <p:cNvSpPr/>
          <p:nvPr/>
        </p:nvSpPr>
        <p:spPr>
          <a:xfrm>
            <a:off x="569880" y="5756400"/>
            <a:ext cx="577800" cy="25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0000" bIns="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950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3" name=""/>
          <p:cNvSpPr/>
          <p:nvPr/>
        </p:nvSpPr>
        <p:spPr>
          <a:xfrm>
            <a:off x="-4956120" y="2095560"/>
            <a:ext cx="3238560" cy="1923480"/>
          </a:xfrm>
          <a:prstGeom prst="rect">
            <a:avLst/>
          </a:prstGeom>
          <a:solidFill>
            <a:srgbClr val="edad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In chart minimum value in y axis is 0 and crosses at 0. 5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In PowerPoint a white fill box has been used to blank out the 0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4" name=""/>
          <p:cNvSpPr/>
          <p:nvPr/>
        </p:nvSpPr>
        <p:spPr>
          <a:xfrm>
            <a:off x="-4917960" y="4732920"/>
            <a:ext cx="3238560" cy="1008720"/>
          </a:xfrm>
          <a:prstGeom prst="rect">
            <a:avLst/>
          </a:prstGeom>
          <a:solidFill>
            <a:srgbClr val="edad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1950 and 2020 are text boxes in PowerPoint with a white fil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9347040" y="7315200"/>
            <a:ext cx="254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6" name=""/>
          <p:cNvSpPr/>
          <p:nvPr/>
        </p:nvSpPr>
        <p:spPr>
          <a:xfrm>
            <a:off x="2971800" y="952560"/>
            <a:ext cx="6400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超研澤中楷"/>
              </a:rPr>
              <a:t>From Pyramids to Column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7" name=""/>
          <p:cNvSpPr/>
          <p:nvPr/>
        </p:nvSpPr>
        <p:spPr>
          <a:xfrm>
            <a:off x="2971800" y="1231920"/>
            <a:ext cx="6400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98" name="SLD_Arrange" descr=""/>
          <p:cNvPicPr/>
          <p:nvPr/>
        </p:nvPicPr>
        <p:blipFill>
          <a:blip r:embed="rId1"/>
          <a:stretch/>
        </p:blipFill>
        <p:spPr>
          <a:xfrm>
            <a:off x="10515600" y="1440"/>
            <a:ext cx="1260360" cy="1828800"/>
          </a:xfrm>
          <a:prstGeom prst="rect">
            <a:avLst/>
          </a:prstGeom>
          <a:ln w="0">
            <a:noFill/>
          </a:ln>
        </p:spPr>
      </p:pic>
      <p:grpSp>
        <p:nvGrpSpPr>
          <p:cNvPr id="199" name=""/>
          <p:cNvGrpSpPr/>
          <p:nvPr/>
        </p:nvGrpSpPr>
        <p:grpSpPr>
          <a:xfrm>
            <a:off x="457200" y="1600200"/>
            <a:ext cx="8916480" cy="338040"/>
            <a:chOff x="457200" y="1600200"/>
            <a:chExt cx="8916480" cy="338040"/>
          </a:xfrm>
        </p:grpSpPr>
        <p:sp>
          <p:nvSpPr>
            <p:cNvPr id="200" name=""/>
            <p:cNvSpPr/>
            <p:nvPr/>
          </p:nvSpPr>
          <p:spPr>
            <a:xfrm>
              <a:off x="685440" y="1600200"/>
              <a:ext cx="86864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5076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58640" y="1600200"/>
              <a:ext cx="8915040" cy="1800"/>
            </a:xfrm>
            <a:prstGeom prst="line">
              <a:avLst/>
            </a:prstGeom>
            <a:ln w="12600">
              <a:solidFill>
                <a:srgbClr val="0848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7200" y="1600200"/>
              <a:ext cx="85320" cy="338040"/>
            </a:xfrm>
            <a:prstGeom prst="rect">
              <a:avLst/>
            </a:prstGeom>
            <a:solidFill>
              <a:srgbClr val="001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1317600" y="6384960"/>
            <a:ext cx="69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 - 4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4" name=""/>
          <p:cNvSpPr/>
          <p:nvPr/>
        </p:nvSpPr>
        <p:spPr>
          <a:xfrm>
            <a:off x="1317600" y="6156360"/>
            <a:ext cx="69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5 - 9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5" name=""/>
          <p:cNvSpPr/>
          <p:nvPr/>
        </p:nvSpPr>
        <p:spPr>
          <a:xfrm>
            <a:off x="1317600" y="5937120"/>
            <a:ext cx="69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0 - 14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6" name=""/>
          <p:cNvSpPr/>
          <p:nvPr/>
        </p:nvSpPr>
        <p:spPr>
          <a:xfrm>
            <a:off x="1317600" y="5727600"/>
            <a:ext cx="69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5 - 19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7" name=""/>
          <p:cNvSpPr/>
          <p:nvPr/>
        </p:nvSpPr>
        <p:spPr>
          <a:xfrm>
            <a:off x="1317600" y="5527800"/>
            <a:ext cx="69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0 - 24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8" name=""/>
          <p:cNvSpPr/>
          <p:nvPr/>
        </p:nvSpPr>
        <p:spPr>
          <a:xfrm>
            <a:off x="1317600" y="5299200"/>
            <a:ext cx="69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5 - 29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9" name=""/>
          <p:cNvSpPr/>
          <p:nvPr/>
        </p:nvSpPr>
        <p:spPr>
          <a:xfrm>
            <a:off x="1317600" y="5089680"/>
            <a:ext cx="69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0 - 34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0" name=""/>
          <p:cNvSpPr/>
          <p:nvPr/>
        </p:nvSpPr>
        <p:spPr>
          <a:xfrm>
            <a:off x="1317600" y="4879800"/>
            <a:ext cx="69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5 - 39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1" name=""/>
          <p:cNvSpPr/>
          <p:nvPr/>
        </p:nvSpPr>
        <p:spPr>
          <a:xfrm>
            <a:off x="1317600" y="4660920"/>
            <a:ext cx="69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40 - 44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2" name=""/>
          <p:cNvSpPr/>
          <p:nvPr/>
        </p:nvSpPr>
        <p:spPr>
          <a:xfrm>
            <a:off x="1317600" y="4451400"/>
            <a:ext cx="69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45 - 49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3" name=""/>
          <p:cNvSpPr/>
          <p:nvPr/>
        </p:nvSpPr>
        <p:spPr>
          <a:xfrm>
            <a:off x="1317600" y="4241880"/>
            <a:ext cx="69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50 - 54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4" name=""/>
          <p:cNvSpPr/>
          <p:nvPr/>
        </p:nvSpPr>
        <p:spPr>
          <a:xfrm>
            <a:off x="1317600" y="4022640"/>
            <a:ext cx="69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55 - 59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5" name=""/>
          <p:cNvSpPr/>
          <p:nvPr/>
        </p:nvSpPr>
        <p:spPr>
          <a:xfrm>
            <a:off x="1317600" y="3813120"/>
            <a:ext cx="69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0 - 64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6" name=""/>
          <p:cNvSpPr/>
          <p:nvPr/>
        </p:nvSpPr>
        <p:spPr>
          <a:xfrm>
            <a:off x="1317600" y="3613320"/>
            <a:ext cx="69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5 - 69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7" name=""/>
          <p:cNvSpPr/>
          <p:nvPr/>
        </p:nvSpPr>
        <p:spPr>
          <a:xfrm>
            <a:off x="1317600" y="3384720"/>
            <a:ext cx="69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0 - 74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8" name=""/>
          <p:cNvSpPr/>
          <p:nvPr/>
        </p:nvSpPr>
        <p:spPr>
          <a:xfrm>
            <a:off x="1317600" y="3174840"/>
            <a:ext cx="69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5 - 79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9" name=""/>
          <p:cNvSpPr/>
          <p:nvPr/>
        </p:nvSpPr>
        <p:spPr>
          <a:xfrm>
            <a:off x="1317600" y="2955960"/>
            <a:ext cx="69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80 - 84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0" name=""/>
          <p:cNvSpPr/>
          <p:nvPr/>
        </p:nvSpPr>
        <p:spPr>
          <a:xfrm>
            <a:off x="1317600" y="2746440"/>
            <a:ext cx="69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85 - 89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1" name=""/>
          <p:cNvSpPr/>
          <p:nvPr/>
        </p:nvSpPr>
        <p:spPr>
          <a:xfrm>
            <a:off x="1317600" y="2546280"/>
            <a:ext cx="69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90 - 94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2" name=""/>
          <p:cNvSpPr/>
          <p:nvPr/>
        </p:nvSpPr>
        <p:spPr>
          <a:xfrm>
            <a:off x="1317600" y="2355840"/>
            <a:ext cx="69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95 - 99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3" name=""/>
          <p:cNvSpPr/>
          <p:nvPr/>
        </p:nvSpPr>
        <p:spPr>
          <a:xfrm>
            <a:off x="1317600" y="2155680"/>
            <a:ext cx="69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00 +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4" name=""/>
          <p:cNvSpPr/>
          <p:nvPr/>
        </p:nvSpPr>
        <p:spPr>
          <a:xfrm>
            <a:off x="573480" y="1951200"/>
            <a:ext cx="83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e Group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6229440" y="2038320"/>
            <a:ext cx="2811240" cy="4572000"/>
            <a:chOff x="6229440" y="2038320"/>
            <a:chExt cx="2811240" cy="4572000"/>
          </a:xfrm>
        </p:grpSpPr>
        <p:sp>
          <p:nvSpPr>
            <p:cNvPr id="226" name=""/>
            <p:cNvSpPr/>
            <p:nvPr/>
          </p:nvSpPr>
          <p:spPr>
            <a:xfrm rot="16200000">
              <a:off x="5346720" y="2921040"/>
              <a:ext cx="4572000" cy="2806560"/>
            </a:xfrm>
            <a:custGeom>
              <a:avLst/>
              <a:gdLst>
                <a:gd name="textAreaLeft" fmla="*/ 0 w 4572000"/>
                <a:gd name="textAreaRight" fmla="*/ 4572360 w 4572000"/>
                <a:gd name="textAreaTop" fmla="*/ 0 h 2806560"/>
                <a:gd name="textAreaBottom" fmla="*/ 2806920 h 280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1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235560" y="6375240"/>
              <a:ext cx="279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235560" y="6161040"/>
              <a:ext cx="279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35560" y="5948280"/>
              <a:ext cx="279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235560" y="5522760"/>
              <a:ext cx="279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235560" y="5097600"/>
              <a:ext cx="279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35560" y="4670280"/>
              <a:ext cx="279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235560" y="4457880"/>
              <a:ext cx="279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235560" y="4245120"/>
              <a:ext cx="279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235560" y="4032360"/>
              <a:ext cx="279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35560" y="3819600"/>
              <a:ext cx="27910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235560" y="3606840"/>
              <a:ext cx="279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35560" y="3181320"/>
              <a:ext cx="279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12040" y="2957400"/>
              <a:ext cx="2295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40640" y="2762280"/>
              <a:ext cx="1914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35560" y="5735520"/>
              <a:ext cx="27910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35560" y="4884840"/>
              <a:ext cx="279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35560" y="5310360"/>
              <a:ext cx="279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978600" y="2567160"/>
              <a:ext cx="1438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59680" y="2371680"/>
              <a:ext cx="10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235560" y="3394080"/>
              <a:ext cx="279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32680" y="3817800"/>
              <a:ext cx="2808000" cy="19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232680" y="2484360"/>
              <a:ext cx="2808000" cy="13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4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495520" y="2562120"/>
            <a:ext cx="2978280" cy="4048200"/>
            <a:chOff x="2495520" y="2562120"/>
            <a:chExt cx="2978280" cy="4048200"/>
          </a:xfrm>
        </p:grpSpPr>
        <p:sp>
          <p:nvSpPr>
            <p:cNvPr id="250" name=""/>
            <p:cNvSpPr/>
            <p:nvPr/>
          </p:nvSpPr>
          <p:spPr>
            <a:xfrm>
              <a:off x="2495520" y="2562120"/>
              <a:ext cx="2809800" cy="4048200"/>
            </a:xfrm>
            <a:custGeom>
              <a:avLst/>
              <a:gdLst/>
              <a:ahLst/>
              <a:rect l="l" t="t" r="r" b="b"/>
              <a:pathLst>
                <a:path w="1770" h="2634">
                  <a:moveTo>
                    <a:pt x="0" y="2634"/>
                  </a:moveTo>
                  <a:lnTo>
                    <a:pt x="888" y="0"/>
                  </a:lnTo>
                  <a:lnTo>
                    <a:pt x="1770" y="2634"/>
                  </a:lnTo>
                  <a:lnTo>
                    <a:pt x="0" y="2634"/>
                  </a:lnTo>
                  <a:close/>
                </a:path>
              </a:pathLst>
            </a:custGeom>
            <a:solidFill>
              <a:srgbClr val="001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05240" y="6375240"/>
              <a:ext cx="279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505240" y="6161040"/>
              <a:ext cx="279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05240" y="5948280"/>
              <a:ext cx="279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05240" y="5522760"/>
              <a:ext cx="279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05240" y="5097600"/>
              <a:ext cx="279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505240" y="4670280"/>
              <a:ext cx="279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505240" y="4457880"/>
              <a:ext cx="279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05240" y="4245120"/>
              <a:ext cx="279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505240" y="4032360"/>
              <a:ext cx="279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05240" y="3819600"/>
              <a:ext cx="27907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505240" y="5735520"/>
              <a:ext cx="27907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505240" y="4884840"/>
              <a:ext cx="279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05240" y="5310360"/>
              <a:ext cx="279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498760" y="3817800"/>
              <a:ext cx="2808360" cy="19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530440" y="3181320"/>
              <a:ext cx="279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06560" y="2957400"/>
              <a:ext cx="2295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5160" y="2762280"/>
              <a:ext cx="1914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82720" y="3606840"/>
              <a:ext cx="279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682720" y="3394080"/>
              <a:ext cx="279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498760" y="2817720"/>
              <a:ext cx="2808360" cy="13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4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809640" y="3819600"/>
            <a:ext cx="2657520" cy="0"/>
          </a:xfrm>
          <a:prstGeom prst="line">
            <a:avLst/>
          </a:prstGeom>
          <a:ln w="28440">
            <a:solidFill>
              <a:srgbClr val="001c5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819600"/>
            <a:ext cx="1866960" cy="0"/>
          </a:xfrm>
          <a:prstGeom prst="line">
            <a:avLst/>
          </a:prstGeom>
          <a:ln w="28440">
            <a:solidFill>
              <a:srgbClr val="001c5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3" name=""/>
          <p:cNvSpPr/>
          <p:nvPr/>
        </p:nvSpPr>
        <p:spPr>
          <a:xfrm>
            <a:off x="5038560" y="5734080"/>
            <a:ext cx="1181160" cy="0"/>
          </a:xfrm>
          <a:prstGeom prst="line">
            <a:avLst/>
          </a:prstGeom>
          <a:ln w="28440">
            <a:solidFill>
              <a:srgbClr val="001c5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4" name=""/>
          <p:cNvSpPr/>
          <p:nvPr/>
        </p:nvSpPr>
        <p:spPr>
          <a:xfrm>
            <a:off x="809640" y="5734080"/>
            <a:ext cx="1981080" cy="0"/>
          </a:xfrm>
          <a:prstGeom prst="line">
            <a:avLst/>
          </a:prstGeom>
          <a:ln w="28440">
            <a:solidFill>
              <a:srgbClr val="001c5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2T18:24:49Z</dcterms:created>
  <dc:creator/>
  <dc:description/>
  <dc:language>en-US</dc:language>
  <cp:lastModifiedBy>cantlay</cp:lastModifiedBy>
  <cp:lastPrinted>2003-11-06T13:15:25Z</cp:lastPrinted>
  <dcterms:modified xsi:type="dcterms:W3CDTF">2003-11-11T15:42:21Z</dcterms:modified>
  <cp:revision>200</cp:revision>
  <dc:subject/>
  <dc:title>TurnerSlid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anguage">
    <vt:lpwstr>English US</vt:lpwstr>
  </property>
  <property fmtid="{D5CDD505-2E9C-101B-9397-08002B2CF9AE}" pid="3" name="Version">
    <vt:lpwstr>2.0</vt:lpwstr>
  </property>
  <property fmtid="{D5CDD505-2E9C-101B-9397-08002B2CF9AE}" pid="4" name="_AdHocReviewCycleID">
    <vt:r8>-850468854</vt:r8>
  </property>
  <property fmtid="{D5CDD505-2E9C-101B-9397-08002B2CF9AE}" pid="5" name="_AuthorEmail">
    <vt:lpwstr>J.M.Cantlay@lse.ac.uk</vt:lpwstr>
  </property>
  <property fmtid="{D5CDD505-2E9C-101B-9397-08002B2CF9AE}" pid="6" name="_AuthorEmailDisplayName">
    <vt:lpwstr>Cantlay,JM</vt:lpwstr>
  </property>
  <property fmtid="{D5CDD505-2E9C-101B-9397-08002B2CF9AE}" pid="7" name="_EmailSubject">
    <vt:lpwstr>Adair Turner Lecture</vt:lpwstr>
  </property>
  <property fmtid="{D5CDD505-2E9C-101B-9397-08002B2CF9AE}" pid="8" name="_PreviousAdHocReviewCycleID">
    <vt:r8>-745285496</vt:r8>
  </property>
</Properties>
</file>