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9059-CAE3-4571-AE8A-768C777B0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B6F3-9159-4CB9-BFE3-A9E2361D3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2CCC-A7C5-4115-B37D-6ED75C709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FD71-57DB-4BE9-8A8D-A40F43A25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7BE1-B727-4C8E-81C3-BEB83CCA5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C72F-D50E-4882-818D-056302465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4698-3BCA-4CD9-A3E6-63EA8022B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BFBB-6D87-4A5F-9832-4D2DF23FA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AE47-9FF6-4CD1-8DBB-A81B533A7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755F-DBEE-4544-B4E0-AC4D8059B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F3BC-A4FC-4AA1-A2AB-2844DDDC9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EAA3-5036-4017-A1BB-E61064B4A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0303E-805B-4D53-842F-3BAFF7CC28B0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209320"/>
            <a:ext cx="8229600" cy="24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Global Media System, Public Knowledge and Democracy</a:t>
            </a:r>
            <a:br>
              <a:rPr sz="3200"/>
            </a:br>
            <a:br>
              <a:rPr sz="3200"/>
            </a:b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Speaker</a:t>
            </a:r>
            <a:r>
              <a:rPr b="1" i="1" lang="zh-TW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Professor James Curran</a:t>
            </a:r>
            <a:br>
              <a:rPr sz="2400"/>
            </a:b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Director of the Goldsmiths Media Research Programme,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Goldsmiths, University of London</a:t>
            </a:r>
            <a:br>
              <a:rPr sz="2400"/>
            </a:br>
            <a:br>
              <a:rPr sz="3200"/>
            </a:b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Chair: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Professor Sonia Livingstone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Department of Media and Communications, 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able 1: Distribution of Content in Television and Newspapers in Four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04920" y="990720"/>
          <a:ext cx="8229600" cy="5867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90720"/>
                    <a:ext cx="822960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685800" y="6521040"/>
            <a:ext cx="792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otal sample: 19, 641 newspaper articles and 2, 751 television news sto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le 2 Percentage of correct answers to international hard news questions across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-1219320" y="1828800"/>
          <a:ext cx="11277720" cy="4849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219320" y="1828800"/>
                    <a:ext cx="11277720" cy="484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le 3: Percentage of correct answers to hard and soft news questions in domestic and international domains across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-1219320" y="1714680"/>
          <a:ext cx="11582640" cy="4802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219320" y="1714680"/>
                    <a:ext cx="11582640" cy="48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1004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able 4: Distribution of Hard News Knowledge between Social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28600" y="604800"/>
          <a:ext cx="8915400" cy="6605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04800"/>
                    <a:ext cx="8915400" cy="660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8T21:50:55Z</dcterms:created>
  <dc:creator> </dc:creator>
  <dc:description/>
  <dc:language>en-US</dc:language>
  <cp:lastModifiedBy>Administrator</cp:lastModifiedBy>
  <dcterms:modified xsi:type="dcterms:W3CDTF">2007-11-16T15:11:16Z</dcterms:modified>
  <cp:revision>8</cp:revision>
  <dc:subject/>
  <dc:title>  Global Media System, Public Knowledge and Democracy  Date: 13/11 2007 Time: 6.30pm- 8pm Venue: New Theatre   Speaker: Professor James Curran Chair: Professor Sonia Livingstone </dc:title>
</cp:coreProperties>
</file>