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098-A3DC-49DA-8970-D16DF2CE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16D-3D3C-457D-A7F1-24C72783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0C5-1801-4B0C-BD43-90FD9242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055-B842-4CDE-9417-C2B87CC2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6A0-3ACF-4FD7-9F23-87E1CAC7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69F-CA9C-4F59-967D-F2492996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E85-5441-4E9E-9EA1-0712472F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A68-8078-4EE7-836C-7DCF8B3C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1FC-CF5A-4EB1-B743-3299C45B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922-70E5-4E83-95F6-50863D5C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C93-0406-49D9-BFE1-9350A37F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EE6-ACA3-4E05-9D8A-4B117E93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8831-9CD9-4F03-9A64-AE779C9C30A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Global Media System, Public Knowledge and Democracy</a:t>
            </a:r>
            <a:br>
              <a:rPr sz="3200"/>
            </a:br>
            <a:br>
              <a:rPr sz="3200"/>
            </a:b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Professor James Curran</a:t>
            </a:r>
            <a:br>
              <a:rPr sz="2400"/>
            </a:b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irector of the Goldsmiths Media Research Programme,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Goldsmiths, University of London</a:t>
            </a:r>
            <a:br>
              <a:rPr sz="2400"/>
            </a:br>
            <a:br>
              <a:rPr sz="3200"/>
            </a:b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Chair: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Professor Sonia Livingstone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epartment of Media and Communications, 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ble 1: Distribution of Content in Television and Newspapers in Fou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990720"/>
          <a:ext cx="822960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652104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 sample: 19, 641 newspaper articles and 2, 751 television news s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 Percentage of correct answers to international hard news questions across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-1219320" y="1828800"/>
          <a:ext cx="11277720" cy="48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9320" y="1828800"/>
                    <a:ext cx="1127772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3: Percentage of correct answers to hard and soft news questions in domestic and international domains across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-1219320" y="1714680"/>
          <a:ext cx="11582640" cy="48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9320" y="1714680"/>
                    <a:ext cx="1158264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able 4: Distribution of Hard News Knowledge between Socia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604800"/>
          <a:ext cx="891540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4800"/>
                    <a:ext cx="891540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21:50:55Z</dcterms:created>
  <dc:creator> </dc:creator>
  <dc:description/>
  <dc:language>en-US</dc:language>
  <cp:lastModifiedBy>Administrator</cp:lastModifiedBy>
  <dcterms:modified xsi:type="dcterms:W3CDTF">2007-11-16T15:11:16Z</dcterms:modified>
  <cp:revision>8</cp:revision>
  <dc:subject/>
  <dc:title>  Global Media System, Public Knowledge and Democracy  Date: 13/11 2007 Time: 6.30pm- 8pm Venue: New Theatre   Speaker: Professor James Curran Chair: Professor Sonia Livingstone </dc:title>
</cp:coreProperties>
</file>