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D0CC-E7A1-448F-A294-3A7F271F752F}" type="slidenum">
              <a:rPr b="0" lang="fi-FI"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Behaviour" TargetMode="External"/><Relationship Id="rId2" Type="http://schemas.openxmlformats.org/officeDocument/2006/relationships/hyperlink" Target="http://en.wikipedia.org/wiki/Right" TargetMode="External"/><Relationship Id="rId3" Type="http://schemas.openxmlformats.org/officeDocument/2006/relationships/hyperlink" Target="http://en.wikipedia.org/wiki/Obligation" TargetMode="External"/><Relationship Id="rId4" Type="http://schemas.openxmlformats.org/officeDocument/2006/relationships/hyperlink" Target="http://en.wikipedia.org/wiki/Actors" TargetMode="External"/><Relationship Id="rId5" Type="http://schemas.openxmlformats.org/officeDocument/2006/relationships/hyperlink" Target="http://en.wikipedia.org/wiki/Social_status" TargetMode="External"/><Relationship Id="rId6" Type="http://schemas.openxmlformats.org/officeDocument/2006/relationships/hyperlink" Target="http://en.wikipedia.org/wiki/Social_position" TargetMode="External"/><Relationship Id="rId7" Type="http://schemas.openxmlformats.org/officeDocument/2006/relationships/hyperlink" Target="http://en.wikipedia.org/wiki/Functionalism_(sociology)" TargetMode="External"/><Relationship Id="rId8" Type="http://schemas.openxmlformats.org/officeDocument/2006/relationships/slide" Target="../slides/slide7.xml"/><Relationship Id="rId9"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CC98-158E-44B5-A6FE-77F748FDA748}"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Pause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There must be judgment but judgement aided – even enhanced-  by procedure. (p. 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ea typeface="Arial"/>
              </a:rPr>
              <a:t>Behavior-changing simple tools.  (cf. Complex rating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4FB3-4811-41FC-B33C-9449A9A8AF5D}"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 </a:t>
            </a:r>
            <a:r>
              <a:rPr b="0" lang="fi-FI" sz="1200" spc="-1" strike="noStrike">
                <a:solidFill>
                  <a:srgbClr val="000000"/>
                </a:solidFill>
                <a:latin typeface="Calibri"/>
              </a:rPr>
              <a:t>(eg. preflight check-list; setting of instruments. Provides support for the evaluative conclusion that the plane is safe to fly. Flow-charts often imply one or more sequential checklists, but they are often a better way to represent complex inference chains that involve extensive conditionals (i.e., “if-then” statements) as well as sequence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 considerations can also suggest a certain ordering within a checklist. For example, if experience reveals that a required level of performance on a particular dimension of merit is the one most commonly failed by candidates in a recurrent competition, efficiency suggests putting it first in the order, since that will eliminate the need to spend time and possibly other resources checking out the performance on other criteria of those candidates that flunk this requirement. </a:t>
            </a:r>
            <a:r>
              <a:rPr b="0" lang="fi-FI" sz="1200" spc="-1" strike="noStrike">
                <a:solidFill>
                  <a:srgbClr val="000000"/>
                </a:solidFill>
                <a:latin typeface="Calibri"/>
              </a:rPr>
              <a:t>Again, this will be a weakly ordered (sequential) checklist</a:t>
            </a:r>
            <a:r>
              <a:rPr b="0" lang="fi-FI"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59AE-10EA-486E-90E7-D66A47C029A6}"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with the situation in the strongly sequential preflight checklist, one can still correct the tentative conclusions on the Comparisons check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691A-22AF-4ED5-929C-D50B6CE4D7F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problem of complexity. </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re are a lot of things to get right.</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ck of knowledge /ignorance(diminishing).</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to avoid ineptitude? How to avoid easily avoidable mistakes (ST)?</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How to combat ignorance and ineptitude? Negligence?</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iscipline of high performance.</a:t>
            </a: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What are the missing key things?</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Fallacies (ST) – what are they?</a:t>
            </a:r>
            <a:endParaRPr b="0" lang="en-US" sz="1200" spc="-1" strike="noStrike">
              <a:solidFill>
                <a:srgbClr val="000000"/>
              </a:solidFill>
              <a:latin typeface="Calibri"/>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eriousness of consequences</a:t>
            </a: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ACBB-3040-4A87-AC63-0FB54C16F371}"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ing the roles of abilities and contexts, and the interactions between these as they affect performance on language assessment tasks, has remained a persistent problem in languag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pproaches to this problem over the past half century have led to three general ways of defining the con­struct, or what we want to assess: 1) ability-focused, 2) task-focused, and 3) interaction-foc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hile the different theoretical perspectives that underlie these approaches are not mutually exclusive, they are based on different sets of values and assumptions. Because of these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undrum of abilities and contexts and how they interact in language use and language as­sessments is, in my view, essentially a straw issue theoretically, and may not be resolvable at that level</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90AD-F705-4C9E-83E2-AFC763ECA3E3}"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A </a:t>
            </a:r>
            <a:r>
              <a:rPr b="1" lang="fi-FI" sz="1200" spc="-1" strike="noStrike">
                <a:solidFill>
                  <a:srgbClr val="000000"/>
                </a:solidFill>
                <a:latin typeface="Calibri"/>
              </a:rPr>
              <a:t>role</a:t>
            </a:r>
            <a:r>
              <a:rPr b="0" lang="fi-FI" sz="1200" spc="-1" strike="noStrike">
                <a:solidFill>
                  <a:srgbClr val="000000"/>
                </a:solidFill>
                <a:latin typeface="Calibri"/>
              </a:rPr>
              <a:t> (from the French </a:t>
            </a:r>
            <a:r>
              <a:rPr b="1" lang="fi-FI" sz="1200" spc="-1" strike="noStrike">
                <a:solidFill>
                  <a:srgbClr val="000000"/>
                </a:solidFill>
                <a:latin typeface="Calibri"/>
              </a:rPr>
              <a:t>rôle</a:t>
            </a:r>
            <a:r>
              <a:rPr b="0" lang="fi-FI" sz="1200" spc="-1" strike="noStrike">
                <a:solidFill>
                  <a:srgbClr val="000000"/>
                </a:solidFill>
                <a:latin typeface="Calibri"/>
              </a:rPr>
              <a:t>, and sometimes so spelt in English) or </a:t>
            </a:r>
            <a:r>
              <a:rPr b="1" lang="fi-FI" sz="1200" spc="-1" strike="noStrike">
                <a:solidFill>
                  <a:srgbClr val="000000"/>
                </a:solidFill>
                <a:latin typeface="Calibri"/>
              </a:rPr>
              <a:t>social role</a:t>
            </a:r>
            <a:r>
              <a:rPr b="0" lang="fi-FI" sz="1200" spc="-1" strike="noStrike">
                <a:solidFill>
                  <a:srgbClr val="000000"/>
                </a:solidFill>
                <a:latin typeface="Calibri"/>
              </a:rPr>
              <a:t> is a set of connected </a:t>
            </a:r>
            <a:r>
              <a:rPr b="0" lang="fi-FI" sz="1200" spc="-1" strike="noStrike" u="sng">
                <a:solidFill>
                  <a:srgbClr val="0000ff"/>
                </a:solidFill>
                <a:uFillTx/>
                <a:latin typeface="Calibri"/>
                <a:hlinkClick r:id="rId1"/>
              </a:rPr>
              <a:t>behaviours</a:t>
            </a:r>
            <a:r>
              <a:rPr b="0" lang="fi-FI" sz="1200" spc="-1" strike="noStrike">
                <a:solidFill>
                  <a:srgbClr val="000000"/>
                </a:solidFill>
                <a:latin typeface="Calibri"/>
              </a:rPr>
              <a:t>, </a:t>
            </a:r>
            <a:r>
              <a:rPr b="0" lang="fi-FI" sz="1200" spc="-1" strike="noStrike" u="sng">
                <a:solidFill>
                  <a:srgbClr val="0000ff"/>
                </a:solidFill>
                <a:uFillTx/>
                <a:latin typeface="Calibri"/>
                <a:hlinkClick r:id="rId2"/>
              </a:rPr>
              <a:t>rights</a:t>
            </a:r>
            <a:r>
              <a:rPr b="0" lang="fi-FI" sz="1200" spc="-1" strike="noStrike">
                <a:solidFill>
                  <a:srgbClr val="000000"/>
                </a:solidFill>
                <a:latin typeface="Calibri"/>
              </a:rPr>
              <a:t> and </a:t>
            </a:r>
            <a:r>
              <a:rPr b="0" lang="fi-FI" sz="1200" spc="-1" strike="noStrike" u="sng">
                <a:solidFill>
                  <a:srgbClr val="0000ff"/>
                </a:solidFill>
                <a:uFillTx/>
                <a:latin typeface="Calibri"/>
                <a:hlinkClick r:id="rId3"/>
              </a:rPr>
              <a:t>obligations</a:t>
            </a:r>
            <a:r>
              <a:rPr b="0" lang="fi-FI" sz="1200" spc="-1" strike="noStrike">
                <a:solidFill>
                  <a:srgbClr val="000000"/>
                </a:solidFill>
                <a:latin typeface="Calibri"/>
              </a:rPr>
              <a:t> as conceptualised by </a:t>
            </a:r>
            <a:r>
              <a:rPr b="0" lang="fi-FI" sz="1200" spc="-1" strike="noStrike" u="sng">
                <a:solidFill>
                  <a:srgbClr val="0000ff"/>
                </a:solidFill>
                <a:uFillTx/>
                <a:latin typeface="Calibri"/>
                <a:hlinkClick r:id="rId4"/>
              </a:rPr>
              <a:t>actors</a:t>
            </a:r>
            <a:r>
              <a:rPr b="0" lang="fi-FI" sz="1200" spc="-1" strike="noStrike">
                <a:solidFill>
                  <a:srgbClr val="000000"/>
                </a:solidFill>
                <a:latin typeface="Calibri"/>
              </a:rPr>
              <a:t> in a social situation. It is an expected or free or continuously changing behaviour and may have a given individual </a:t>
            </a:r>
            <a:r>
              <a:rPr b="0" lang="fi-FI" sz="1200" spc="-1" strike="noStrike" u="sng">
                <a:solidFill>
                  <a:srgbClr val="0000ff"/>
                </a:solidFill>
                <a:uFillTx/>
                <a:latin typeface="Calibri"/>
                <a:hlinkClick r:id="rId5"/>
              </a:rPr>
              <a:t>social status</a:t>
            </a:r>
            <a:r>
              <a:rPr b="0" lang="fi-FI" sz="1200" spc="-1" strike="noStrike">
                <a:solidFill>
                  <a:srgbClr val="000000"/>
                </a:solidFill>
                <a:latin typeface="Calibri"/>
              </a:rPr>
              <a:t> or </a:t>
            </a:r>
            <a:r>
              <a:rPr b="0" lang="fi-FI" sz="1200" spc="-1" strike="noStrike" u="sng">
                <a:solidFill>
                  <a:srgbClr val="0000ff"/>
                </a:solidFill>
                <a:uFillTx/>
                <a:latin typeface="Calibri"/>
                <a:hlinkClick r:id="rId6"/>
              </a:rPr>
              <a:t>social position</a:t>
            </a:r>
            <a:r>
              <a:rPr b="0" lang="fi-FI" sz="1200" spc="-1" strike="noStrike">
                <a:solidFill>
                  <a:srgbClr val="000000"/>
                </a:solidFill>
                <a:latin typeface="Calibri"/>
              </a:rPr>
              <a:t>. It is vital to both </a:t>
            </a:r>
            <a:r>
              <a:rPr b="0" lang="fi-FI" sz="1200" spc="-1" strike="noStrike" u="sng">
                <a:solidFill>
                  <a:srgbClr val="0000ff"/>
                </a:solidFill>
                <a:uFillTx/>
                <a:latin typeface="Calibri"/>
                <a:hlinkClick r:id="rId7"/>
              </a:rPr>
              <a:t>functionalist</a:t>
            </a:r>
            <a:r>
              <a:rPr b="0" lang="fi-FI" sz="1200" spc="-1" strike="noStrike">
                <a:solidFill>
                  <a:srgbClr val="000000"/>
                </a:solidFill>
                <a:latin typeface="Calibri"/>
              </a:rPr>
              <a:t> and </a:t>
            </a:r>
            <a:r>
              <a:rPr b="0" lang="fi-FI" sz="1200" spc="-1" strike="noStrike" u="sng">
                <a:solidFill>
                  <a:srgbClr val="000000"/>
                </a:solidFill>
                <a:uFillTx/>
                <a:latin typeface="Calibri"/>
              </a:rPr>
              <a:t>interactionist</a:t>
            </a:r>
            <a:r>
              <a:rPr b="0" lang="fi-FI" sz="1200" spc="-1" strike="noStrike">
                <a:solidFill>
                  <a:srgbClr val="000000"/>
                </a:solidFill>
                <a:latin typeface="Calibri"/>
              </a:rPr>
              <a:t> understandings of society. Social role posits the following about social behavi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division of labour in society takes the form of the interaction among heterogeneous specialised </a:t>
            </a:r>
            <a:r>
              <a:rPr b="0" lang="fi-FI" sz="1200" spc="-1" strike="noStrike" u="sng">
                <a:solidFill>
                  <a:srgbClr val="000000"/>
                </a:solidFill>
                <a:uFillTx/>
                <a:latin typeface="Calibri"/>
              </a:rPr>
              <a:t>positions</a:t>
            </a:r>
            <a:r>
              <a:rPr b="0" lang="fi-FI" sz="1200" spc="-1" strike="noStrike">
                <a:solidFill>
                  <a:srgbClr val="000000"/>
                </a:solidFill>
                <a:latin typeface="Calibri"/>
              </a:rPr>
              <a:t>, we call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Social roles included appropriate and permitted forms of behaviour, guided by social </a:t>
            </a:r>
            <a:r>
              <a:rPr b="0" lang="fi-FI" sz="1200" spc="-1" strike="noStrike" u="sng">
                <a:solidFill>
                  <a:srgbClr val="000000"/>
                </a:solidFill>
                <a:uFillTx/>
                <a:latin typeface="Calibri"/>
              </a:rPr>
              <a:t>norms</a:t>
            </a:r>
            <a:r>
              <a:rPr b="0" lang="fi-FI" sz="1200" spc="-1" strike="noStrike">
                <a:solidFill>
                  <a:srgbClr val="000000"/>
                </a:solidFill>
                <a:latin typeface="Calibri"/>
              </a:rPr>
              <a:t>, which are commonly known and hence determine the </a:t>
            </a:r>
            <a:r>
              <a:rPr b="0" lang="fi-FI" sz="1200" spc="-1" strike="noStrike" u="sng">
                <a:solidFill>
                  <a:srgbClr val="000000"/>
                </a:solidFill>
                <a:uFillTx/>
                <a:latin typeface="Calibri"/>
              </a:rPr>
              <a:t>expectations</a:t>
            </a:r>
            <a:r>
              <a:rPr b="0" lang="fi-FI" sz="1200" spc="-1" strike="noStrike">
                <a:solidFill>
                  <a:srgbClr val="000000"/>
                </a:solidFill>
                <a:latin typeface="Calibri"/>
              </a:rPr>
              <a:t> for appropriate behaviour in these 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Roles are occupied by individuals, who are called </a:t>
            </a:r>
            <a:r>
              <a:rPr b="0" lang="fi-FI" sz="1200" spc="-1" strike="noStrike" u="sng">
                <a:solidFill>
                  <a:srgbClr val="000000"/>
                </a:solidFill>
                <a:uFillTx/>
                <a:latin typeface="Calibri"/>
              </a:rPr>
              <a:t>Actor</a:t>
            </a:r>
            <a:r>
              <a:rPr b="0" lang="fi-FI"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When individuals approve of a social role (i.e., they consider the role </a:t>
            </a:r>
            <a:r>
              <a:rPr b="0" lang="fi-FI" sz="1200" spc="-1" strike="noStrike" u="sng">
                <a:solidFill>
                  <a:srgbClr val="000000"/>
                </a:solidFill>
                <a:uFillTx/>
                <a:latin typeface="Calibri"/>
              </a:rPr>
              <a:t>legitimate</a:t>
            </a:r>
            <a:r>
              <a:rPr b="0" lang="fi-FI" sz="1200" spc="-1" strike="noStrike">
                <a:solidFill>
                  <a:srgbClr val="000000"/>
                </a:solidFill>
                <a:latin typeface="Calibri"/>
              </a:rPr>
              <a:t> and </a:t>
            </a:r>
            <a:r>
              <a:rPr b="0" lang="fi-FI" sz="1200" spc="-1" strike="noStrike" u="sng">
                <a:solidFill>
                  <a:srgbClr val="000000"/>
                </a:solidFill>
                <a:uFillTx/>
                <a:latin typeface="Calibri"/>
              </a:rPr>
              <a:t>constructive</a:t>
            </a:r>
            <a:r>
              <a:rPr b="0" lang="fi-FI" sz="1200" spc="-1" strike="noStrike">
                <a:solidFill>
                  <a:srgbClr val="000000"/>
                </a:solidFill>
                <a:latin typeface="Calibri"/>
              </a:rPr>
              <a:t>), they will incur costs to conform to role norms, and will also incur costs to punish those who violate role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Changed conditions can render a social role outdated or illegitimate, in which case social pressures are likely to lead to rol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anticipation of </a:t>
            </a:r>
            <a:r>
              <a:rPr b="0" lang="fi-FI" sz="1200" spc="-1" strike="noStrike" u="sng">
                <a:solidFill>
                  <a:srgbClr val="000000"/>
                </a:solidFill>
                <a:uFillTx/>
                <a:latin typeface="Calibri"/>
              </a:rPr>
              <a:t>rewards</a:t>
            </a:r>
            <a:r>
              <a:rPr b="0" lang="fi-FI" sz="1200" spc="-1" strike="noStrike">
                <a:solidFill>
                  <a:srgbClr val="000000"/>
                </a:solidFill>
                <a:latin typeface="Calibri"/>
              </a:rPr>
              <a:t> and </a:t>
            </a:r>
            <a:r>
              <a:rPr b="0" lang="fi-FI" sz="1200" spc="-1" strike="noStrike" u="sng">
                <a:solidFill>
                  <a:srgbClr val="000000"/>
                </a:solidFill>
                <a:uFillTx/>
                <a:latin typeface="Calibri"/>
              </a:rPr>
              <a:t>punishments</a:t>
            </a:r>
            <a:r>
              <a:rPr b="0" lang="fi-FI" sz="1200" spc="-1" strike="noStrike">
                <a:solidFill>
                  <a:srgbClr val="000000"/>
                </a:solidFill>
                <a:latin typeface="Calibri"/>
              </a:rPr>
              <a:t>, as well as the satisfaction of behaving prosocially, account for why agents conform to rol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304A-2BD0-4792-BAC6-D9B2DC0A7063}"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The system contains six groups of variables related to communicative tasks, which are specified in considerable detail. This means that language use can be described and categorized  at a very fine grain level.  This can b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CAFC-CF24-48AE-BE8E-D1851E07B2AA}" type="slidenum">
              <a:rPr b="0" lang="fi-FI"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27ED6-61B7-4F36-AA50-3888A831F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FD517-8501-4D09-8191-1A52905A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FB851-A05C-451D-B9F6-6D2ECCC57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D712C-B4EE-455B-9779-C09778BB1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A9204-62BE-42CE-9214-0F9AA189A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211E3-7DAA-440C-B05B-C20CB51F8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524D3-E593-43C3-901F-EEF145691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AEEAF-5BDE-44F2-830D-F37F044AC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74E17-F05E-4CE3-85BD-C8B81AEFA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3A9F1-55E7-4E8A-B521-8B784082E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023F1-AC35-40EB-8613-C2499B1C4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FA56-9826-432B-95CA-46FBD121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F8F68-F4EB-49DC-BED0-DAD0B2C3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EB5E-A6DF-460C-A378-5AE7C7C4E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5EDCE-7614-4395-BBF5-9B363870C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A7A46-3302-49BA-A00B-2A0BE000D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833DE-5A4B-47E2-BA63-1139EF70A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E3DE-D67A-499A-B79A-88D1C92C0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A029-F60E-4C8B-9545-B4D3B5DC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7F2B3-4352-49A9-913C-6851571C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8A84-A0D0-4A1E-9878-23437AC1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1EEF-C063-483D-BAE9-C446654E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4730-6268-47DF-8F9B-2EEF204C7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6B6E-AA52-4E9C-AA07-1CA9E9CF8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4F68-5F86-4975-AF43-F3CB1AA47581}"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2BF2-3DA6-485A-B40B-D950530CA5C3}" type="slidenum">
              <a:rPr b="0" lang="fi-FI"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378000" y="1122480"/>
            <a:ext cx="8600760" cy="249228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Sauli Takala</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University of Jyväskylä</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12th CERCLES Conferenc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Book Antiqua"/>
              </a:rPr>
              <a:t> </a:t>
            </a:r>
            <a:r>
              <a:rPr b="0" lang="fi-FI" sz="2800" spc="-1" strike="noStrike">
                <a:solidFill>
                  <a:srgbClr val="ffffff"/>
                </a:solidFill>
                <a:latin typeface="Book Antiqua"/>
              </a:rPr>
              <a:t>London  Sept. 6-8, 2012</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4520" y="44280"/>
            <a:ext cx="8704080" cy="5832720"/>
          </a:xfrm>
          <a:prstGeom prst="rect">
            <a:avLst/>
          </a:prstGeom>
          <a:ln w="0">
            <a:noFill/>
          </a:ln>
        </p:spPr>
      </p:pic>
      <p:sp>
        <p:nvSpPr>
          <p:cNvPr id="110" name="TextBox 1"/>
          <p:cNvSpPr/>
          <p:nvPr/>
        </p:nvSpPr>
        <p:spPr>
          <a:xfrm>
            <a:off x="344520" y="5877000"/>
            <a:ext cx="8548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Calibri"/>
              </a:rPr>
              <a:t>Fischer et al., Guidelines for task-based university language testing. Graz: ECML, 2011, p. 21</a:t>
            </a:r>
            <a:r>
              <a:rPr b="1" lang="fi-FI" sz="1800" spc="-1" strike="noStrike">
                <a:solidFill>
                  <a:srgbClr val="ffffff"/>
                </a:solidFill>
                <a:latin typeface="Calibri"/>
              </a:rPr>
              <a: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08000" y="189000"/>
            <a:ext cx="8989920" cy="4768920"/>
          </a:xfrm>
          <a:prstGeom prst="rect">
            <a:avLst/>
          </a:prstGeom>
          <a:ln w="0">
            <a:noFill/>
          </a:ln>
        </p:spPr>
      </p:pic>
      <p:sp>
        <p:nvSpPr>
          <p:cNvPr id="112" name="TextBox 1"/>
          <p:cNvSpPr/>
          <p:nvPr/>
        </p:nvSpPr>
        <p:spPr>
          <a:xfrm>
            <a:off x="282600" y="5157720"/>
            <a:ext cx="86407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Puren, C. ( 2008). Formes pratiques de cominaision entre perspectives actionnelle et approche communicative: analyse comparative des trois manuels. Langue Modernes. Cited in Fischer et al., 2011, p. 22</a:t>
            </a:r>
            <a:r>
              <a:rPr b="0" lang="fi-FI" sz="1800" spc="-1" strike="noStrike">
                <a:solidFill>
                  <a:srgbClr val="ffffff"/>
                </a:solidFill>
                <a:latin typeface="Calibri"/>
              </a:rPr>
              <a:t>.  </a:t>
            </a:r>
            <a:r>
              <a:rPr b="0" lang="fi-FI" sz="2800" spc="-1" strike="noStrike">
                <a:solidFill>
                  <a:srgbClr val="ffffff"/>
                </a:solidFill>
                <a:latin typeface="Calibri"/>
              </a:rPr>
              <a:t>(note the inclusion of rol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71280" y="115920"/>
            <a:ext cx="8893440" cy="655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esting/assessment – issues and problems</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Testing/assessment is notoriuosly demanding/ complex</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Testing/assessment should fulfil many criteria – (a) there are many things that should be got right</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b) there may be some things that one may not know well enough (inevitable degree of ignorance/ even ineptitude?)</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c) there may be serious consequence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gt; Can testing/assessment be made less demanding, less complex, and exclude avoidable problems/ error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79280" y="115920"/>
            <a:ext cx="8640720" cy="673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Assessment –  So Many Things to Get Right</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Observing aspects of good practice &lt;-&gt;  learning to first avoid less good practices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For instance, in learning to rate, avoiding </a:t>
            </a:r>
            <a:endParaRPr b="0" lang="en-US" sz="36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What about using Checklist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Rectangle 2"/>
          <p:cNvSpPr/>
          <p:nvPr/>
        </p:nvSpPr>
        <p:spPr>
          <a:xfrm>
            <a:off x="684360" y="3216240"/>
            <a:ext cx="5759280" cy="262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t>
            </a:r>
            <a:r>
              <a:rPr b="0" lang="bg-BG" sz="3200" spc="-1" strike="noStrike">
                <a:solidFill>
                  <a:srgbClr val="ffffff"/>
                </a:solidFill>
                <a:latin typeface="Calibri"/>
              </a:rPr>
              <a:t>alo </a:t>
            </a:r>
            <a:r>
              <a:rPr b="0" lang="fi-FI" sz="3200" spc="-1" strike="noStrike">
                <a:solidFill>
                  <a:srgbClr val="ffffff"/>
                </a:solidFill>
                <a:latin typeface="Calibri"/>
              </a:rPr>
              <a:t>(horn) </a:t>
            </a:r>
            <a:r>
              <a:rPr b="0" lang="bg-BG" sz="3200" spc="-1" strike="noStrike">
                <a:solidFill>
                  <a:srgbClr val="ffffff"/>
                </a:solidFill>
                <a:latin typeface="Calibri"/>
              </a:rPr>
              <a:t>effect </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r>
              <a:rPr b="0" lang="bg-BG" sz="3200" spc="-1" strike="noStrike">
                <a:solidFill>
                  <a:srgbClr val="ffffff"/>
                </a:solidFill>
                <a:latin typeface="Calibri"/>
              </a:rPr>
              <a:t>entral tendency effect </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
            </a:r>
            <a:r>
              <a:rPr b="0" lang="bg-BG" sz="3200" spc="-1" strike="noStrike">
                <a:solidFill>
                  <a:srgbClr val="ffffff"/>
                </a:solidFill>
                <a:latin typeface="Calibri"/>
              </a:rPr>
              <a:t>estriction of range effect</a:t>
            </a:r>
            <a:endParaRPr b="0" lang="en-US" sz="3200" spc="-1" strike="noStrike">
              <a:solidFill>
                <a:srgbClr val="ffffff"/>
              </a:solidFill>
              <a:latin typeface="Calibri"/>
            </a:endParaRPr>
          </a:p>
          <a:p>
            <a:pPr marL="285840" indent="-285840">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
            </a:r>
            <a:r>
              <a:rPr b="0" lang="bg-BG" sz="3200" spc="-1" strike="noStrike">
                <a:solidFill>
                  <a:srgbClr val="ffffff"/>
                </a:solidFill>
                <a:latin typeface="Calibri"/>
              </a:rPr>
              <a:t>everity or lenienc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108000" y="115920"/>
            <a:ext cx="8785080" cy="5943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 Everyday use – shopping list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Inventories – have a long history in eg. personality inventories (self-assessment; preference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ecklists – frequent use esp. in health care/ nursing, aviation/pilots, building industry….</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awande, A. (2010). The checklist manifesto. How to get things right.  London: Profile Books.</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stern Michigan Checklist Project (www.xxx)</a:t>
            </a:r>
            <a:endParaRPr b="0" lang="en-US" sz="3200" spc="-1" strike="noStrike">
              <a:solidFill>
                <a:srgbClr val="ffffff"/>
              </a:solidFill>
              <a:latin typeface="Calibri"/>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riven, M. (2000/2007). The Logic and Methodology of Checklists. </a:t>
            </a:r>
            <a:r>
              <a:rPr b="0" lang="fi-FI" sz="3200" spc="-1" strike="noStrike">
                <a:solidFill>
                  <a:srgbClr val="ffffff"/>
                </a:solidFill>
                <a:latin typeface="Calibri"/>
              </a:rPr>
              <a:t>Western Michigan Univer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8160" y="44280"/>
            <a:ext cx="892656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Reluctance to  use checklists  - objections</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It somehow feels beneath us to use checklists, an em-barrassment. It runs counter to the deeply held beliefs about the how truly great among us – those we aspire to be – handle situations of high stakes and complexity. The truly great are daring. They improvise. They do not have protocols and checklists.  Maybe our idea of heroism need updating. (Gawande, p. 173)</a:t>
            </a:r>
            <a:endParaRPr b="0" lang="en-US" sz="2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s – boring -&gt; Professionalism – expectations: selflessness, skill, trustworthiness, discipline. We are not built for discipline (novelty, excitement). We have to work at discipline. (p. 182-3).</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What about educ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79280" y="44280"/>
            <a:ext cx="8713800" cy="62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hecklists are valuable evaluation devices when carefully developed, validated, and applied.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A sound evaluation checklist</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clarifies the criteria that at least should be considered when evaluating something in a particular area</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 </a:t>
            </a:r>
            <a:r>
              <a:rPr b="0" lang="fi-FI" sz="2800" spc="-1" strike="noStrike">
                <a:solidFill>
                  <a:srgbClr val="ffffff"/>
                </a:solidFill>
                <a:latin typeface="Calibri"/>
              </a:rPr>
              <a:t>aids the evaluator not to forget important criteria</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enhances the assessment's objectivity, credibility, and reproducibility.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ffff"/>
                </a:solidFill>
                <a:latin typeface="Calibri"/>
              </a:rPr>
              <a:t>Moreover, such a checklist is useful in planning, monitoring and guiding operations, and assessing their outcomes. In the evaluation vernacular, checklists are useful for both formative and summative evaluation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Calibri"/>
              </a:rPr>
              <a:t>(Scriven, M. The Logic and Methdology of Checklists. Western Michigan University. 2000, 2007)</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44360" y="98280"/>
            <a:ext cx="8964720" cy="606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hecklists are not  created equal – more bad than good checklists</a:t>
            </a:r>
            <a:r>
              <a:rPr b="0" lang="fi-FI" sz="3200" spc="-1" strike="noStrike">
                <a:solidFill>
                  <a:srgbClr val="ffffff"/>
                </a:solidFill>
                <a:latin typeface="Calibri"/>
              </a:rPr>
              <a:t>?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 </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Bad checklists: vague, imprecise, too long, hard to use, impractical</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Good checklists: precise, efficient, to the point, easy to use, provide reminders (not exhaustive), practical.  Usually 5- 9 points only.</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8000" y="-27000"/>
            <a:ext cx="885672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ypes of Checklist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st (mnemonic) – eg. shopping list; laundry list – grouping important</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ffffff"/>
                </a:solidFill>
                <a:latin typeface="Calibri"/>
              </a:rPr>
              <a:t>Sequential checklist</a:t>
            </a:r>
            <a:r>
              <a:rPr b="0" lang="fi-FI" sz="3200" spc="-1" strike="noStrike">
                <a:solidFill>
                  <a:srgbClr val="ffffff"/>
                </a:solidFill>
                <a:latin typeface="Calibri"/>
              </a:rPr>
              <a:t> - order matters: </a:t>
            </a:r>
            <a:r>
              <a:rPr b="1" lang="fi-FI" sz="3200" spc="-1" strike="noStrike">
                <a:solidFill>
                  <a:srgbClr val="ffffff"/>
                </a:solidFill>
                <a:latin typeface="Calibri"/>
              </a:rPr>
              <a:t>strongly </a:t>
            </a:r>
            <a:r>
              <a:rPr b="1" i="1" lang="fi-FI" sz="3200" spc="-1" strike="noStrike">
                <a:solidFill>
                  <a:srgbClr val="ffffff"/>
                </a:solidFill>
                <a:latin typeface="Calibri"/>
              </a:rPr>
              <a:t>sequential </a:t>
            </a:r>
            <a:r>
              <a:rPr b="0" lang="fi-FI" sz="3200" spc="-1" strike="noStrike">
                <a:solidFill>
                  <a:srgbClr val="ffffff"/>
                </a:solidFill>
                <a:latin typeface="Calibri"/>
              </a:rPr>
              <a:t>kind, where the sequencing (of some or all checkpoints) must be followed in order to get valid results. </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a:t>
            </a:r>
            <a:r>
              <a:rPr b="1" i="1" lang="en-US" sz="3200" spc="-1" strike="noStrike">
                <a:solidFill>
                  <a:srgbClr val="ffffff"/>
                </a:solidFill>
                <a:latin typeface="Calibri"/>
              </a:rPr>
              <a:t>weakly sequential checklist:</a:t>
            </a:r>
            <a:r>
              <a:rPr b="0" lang="en-US" sz="3200" spc="-1" strike="noStrike">
                <a:solidFill>
                  <a:srgbClr val="ffffff"/>
                </a:solidFill>
                <a:latin typeface="Calibri"/>
              </a:rPr>
              <a:t> order is of some importance, but for psychological or efficiency reasons rather than from logical or physical necess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08000" y="44280"/>
            <a:ext cx="8881920" cy="603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Iterative checklist </a:t>
            </a:r>
            <a:r>
              <a:rPr b="0" lang="en-US" sz="2800" spc="-1" strike="noStrike">
                <a:solidFill>
                  <a:srgbClr val="ffffff"/>
                </a:solidFill>
                <a:latin typeface="Calibri"/>
              </a:rPr>
              <a:t>is sequential, in whole or part, but requires—or may require—multiple passes in order to reach a stable reading on each checkpoin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agnostic  checklist </a:t>
            </a:r>
            <a:r>
              <a:rPr b="0" lang="en-US" sz="2800" spc="-1" strike="noStrike">
                <a:solidFill>
                  <a:srgbClr val="ffffff"/>
                </a:solidFill>
                <a:latin typeface="Calibri"/>
              </a:rPr>
              <a:t>that is used—for example— by taxonomists, mechanics, and toxicologists. It typically supports a classificatory kind of conclusion—one that may be descriptive or evaluative.</a:t>
            </a:r>
            <a:r>
              <a:rPr b="0" lang="en-US" sz="2600" spc="-1" strike="noStrike">
                <a:solidFill>
                  <a:srgbClr val="ffffff"/>
                </a:solidFill>
                <a:latin typeface="Calibri"/>
              </a:rPr>
              <a:t> </a:t>
            </a: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bably the most important kind of checklist for evaluation purposes is the </a:t>
            </a:r>
            <a:r>
              <a:rPr b="1" i="1" lang="en-US" sz="2800" spc="-1" strike="noStrike">
                <a:solidFill>
                  <a:srgbClr val="ffffff"/>
                </a:solidFill>
                <a:latin typeface="Calibri"/>
              </a:rPr>
              <a:t>criteria of merit checklist </a:t>
            </a:r>
            <a:r>
              <a:rPr b="0" lang="en-US" sz="2800" spc="-1" strike="noStrike">
                <a:solidFill>
                  <a:srgbClr val="ffffff"/>
                </a:solidFill>
                <a:latin typeface="Calibri"/>
              </a:rPr>
              <a:t>( COMlist).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what judges use when rating entries in a skating or barbeque or farm produce competition (and, of course, when rating language performanc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08000" y="115920"/>
            <a:ext cx="892800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Overview</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current issues in definition of the construct in language education</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Task-based language learning/assessment : neglect of some relevant sources, critique of some source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models of TB- assessment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Some arguments for and against a checklist approach</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Assessment using checklists</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ffffff"/>
                </a:solidFill>
                <a:latin typeface="Calibri"/>
              </a:rPr>
              <a:t>Concluding remark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08000" y="44280"/>
            <a:ext cx="8928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Key Requirements for Comlists /Criteria of Merit)</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of the following are self-explanatory and refer to the criteria or checkpoints that make up a comlist:</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heckpoints should refer to </a:t>
            </a:r>
            <a:r>
              <a:rPr b="1" lang="en-US" sz="2400" spc="-1" strike="noStrike">
                <a:solidFill>
                  <a:srgbClr val="ffffff"/>
                </a:solidFill>
                <a:latin typeface="Book Antiqua"/>
              </a:rPr>
              <a:t>criteria </a:t>
            </a:r>
            <a:r>
              <a:rPr b="0" lang="en-US" sz="2400" spc="-1" strike="noStrike">
                <a:solidFill>
                  <a:srgbClr val="ffffff"/>
                </a:solidFill>
                <a:latin typeface="Book Antiqua"/>
              </a:rPr>
              <a:t>and not mere indicators.</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list should be </a:t>
            </a:r>
            <a:r>
              <a:rPr b="1" lang="en-US" sz="2400" spc="-1" strike="noStrike">
                <a:solidFill>
                  <a:srgbClr val="ffffff"/>
                </a:solidFill>
                <a:latin typeface="Book Antiqua"/>
              </a:rPr>
              <a:t>complete </a:t>
            </a:r>
            <a:r>
              <a:rPr b="0" lang="en-US" sz="2400" spc="-1" strike="noStrike">
                <a:solidFill>
                  <a:srgbClr val="ffffff"/>
                </a:solidFill>
                <a:latin typeface="Book Antiqua"/>
              </a:rPr>
              <a:t>(no significant omissions).</a:t>
            </a:r>
            <a:r>
              <a:rPr b="0" lang="fi-FI" sz="2400" spc="-1" strike="noStrike">
                <a:solidFill>
                  <a:srgbClr val="ffffff"/>
                </a:solidFill>
                <a:latin typeface="Book Antiqua"/>
              </a:rPr>
              <a:t> </a:t>
            </a:r>
            <a:r>
              <a:rPr b="0" lang="en-US" sz="2400" spc="-1" strike="noStrike">
                <a:solidFill>
                  <a:srgbClr val="ffffff"/>
                </a:solidFill>
                <a:latin typeface="Book Antiqua"/>
              </a:rPr>
              <a:t>The items should be </a:t>
            </a:r>
            <a:r>
              <a:rPr b="1" lang="en-US" sz="2400" spc="-1" strike="noStrike">
                <a:solidFill>
                  <a:srgbClr val="ffffff"/>
                </a:solidFill>
                <a:latin typeface="Book Antiqua"/>
              </a:rPr>
              <a:t>contiguous</a:t>
            </a:r>
            <a:r>
              <a:rPr b="0" lang="en-US" sz="2400" spc="-1" strike="noStrike">
                <a:solidFill>
                  <a:srgbClr val="ffffff"/>
                </a:solidFill>
                <a:latin typeface="Book Antiqua"/>
              </a:rPr>
              <a:t>, i.e., nonoverlapping (essential if the list is used for scoring).</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ommensurable</a:t>
            </a:r>
            <a:r>
              <a:rPr b="0" lang="en-US" sz="2400" spc="-1" strike="noStrike">
                <a:solidFill>
                  <a:srgbClr val="ffffff"/>
                </a:solidFill>
                <a:latin typeface="Book Antiqua"/>
              </a:rPr>
              <a:t>.</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lear </a:t>
            </a:r>
            <a:r>
              <a:rPr b="0" lang="en-US" sz="2400" spc="-1" strike="noStrike">
                <a:solidFill>
                  <a:srgbClr val="ffffff"/>
                </a:solidFill>
                <a:latin typeface="Book Antiqua"/>
              </a:rPr>
              <a:t>(comprehensible, applicable).</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list should be </a:t>
            </a:r>
            <a:r>
              <a:rPr b="1" lang="en-US" sz="2400" spc="-1" strike="noStrike">
                <a:solidFill>
                  <a:srgbClr val="ffffff"/>
                </a:solidFill>
                <a:latin typeface="Book Antiqua"/>
              </a:rPr>
              <a:t>concise </a:t>
            </a:r>
            <a:r>
              <a:rPr b="0" lang="en-US" sz="2400" spc="-1" strike="noStrike">
                <a:solidFill>
                  <a:srgbClr val="ffffff"/>
                </a:solidFill>
                <a:latin typeface="Book Antiqua"/>
              </a:rPr>
              <a:t>(to assist its mnemonic function); i.e., it should contain no superfluous criteria.</a:t>
            </a:r>
            <a:endParaRPr b="0" lang="en-US" sz="2400" spc="-1" strike="noStrike">
              <a:solidFill>
                <a:srgbClr val="ffffff"/>
              </a:solidFill>
              <a:latin typeface="Calibri"/>
            </a:endParaRPr>
          </a:p>
          <a:p>
            <a:pPr>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riteria should be </a:t>
            </a:r>
            <a:r>
              <a:rPr b="1" lang="en-US" sz="2400" spc="-1" strike="noStrike">
                <a:solidFill>
                  <a:srgbClr val="ffffff"/>
                </a:solidFill>
                <a:latin typeface="Book Antiqua"/>
              </a:rPr>
              <a:t>confirmable </a:t>
            </a:r>
            <a:r>
              <a:rPr b="0" lang="en-US" sz="2400" spc="-1" strike="noStrike">
                <a:solidFill>
                  <a:srgbClr val="ffffff"/>
                </a:solidFill>
                <a:latin typeface="Book Antiqua"/>
              </a:rPr>
              <a:t>(e.g., measurable or reliably inferrable)</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Book Antiqua"/>
              </a:rPr>
              <a:t>(Scriven, 200, 2007)</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179280" y="115920"/>
            <a:ext cx="8785440" cy="1069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ositive developments</a:t>
            </a:r>
            <a:endParaRPr b="0" lang="en-US" sz="4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ck of knowledge /ignorance diminishing: reasonable guidelines of good practice.</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ansparency is making some headway: useful research eg., on linking exams to the CEFR is being carried out and increasingly reported. </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aining on language testing/assessment is increasingly available (EALTA, ALTE).</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us, we have increasingly better chances to get things right,</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riven, M. (2000/2007). The Logic and Methodology of Checklists. </a:t>
            </a:r>
            <a:r>
              <a:rPr b="0" lang="fi-FI" sz="2800" spc="-1" strike="noStrike">
                <a:solidFill>
                  <a:srgbClr val="ffffff"/>
                </a:solidFill>
                <a:latin typeface="Calibri"/>
              </a:rPr>
              <a:t>Western Michigan University.</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awande, A. (2010). The checklist manifesto. How to get things right.  London: Profile Books.</a:t>
            </a: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44280"/>
            <a:ext cx="8964720" cy="631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pproaches to  definition of construct  of language performance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bility-focused  (eg,. Bachman 2002, 2006)</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ask-focused  (eg., Norris 2005)</a:t>
            </a:r>
            <a:endParaRPr b="0" lang="en-US" sz="36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raction-focused</a:t>
            </a:r>
            <a:r>
              <a:rPr b="0" lang="en-US" sz="3200" spc="-1" strike="noStrike">
                <a:solidFill>
                  <a:srgbClr val="ffffff"/>
                </a:solidFill>
                <a:latin typeface="Calibri"/>
              </a:rPr>
              <a:t>. </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e next slide for an overview of approach to construct definition by Bachman </a:t>
            </a:r>
            <a:r>
              <a:rPr b="0" lang="en-US" sz="2400" spc="-1" strike="noStrike">
                <a:solidFill>
                  <a:srgbClr val="ffffff"/>
                </a:solidFill>
                <a:latin typeface="Calibri"/>
              </a:rPr>
              <a:t>(2007; What is the construct? The Dialectic of Abilities and Contexts in Defining Constructs in Language Assessment.  In Fox et al. Language Testing Reconsidered. Ottawa: U of Ottawa Press, 41-71)</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08000" y="55440"/>
            <a:ext cx="892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0000"/>
                </a:solidFill>
                <a:latin typeface="Calibri"/>
              </a:rPr>
              <a:t>Approaches to defining the construct in language testing/assessment, Bachman, 2007</a:t>
            </a:r>
            <a:endParaRPr b="0" lang="en-US" sz="1800" spc="-1" strike="noStrike">
              <a:solidFill>
                <a:srgbClr val="ffffff"/>
              </a:solidFill>
              <a:latin typeface="Calibri"/>
            </a:endParaRPr>
          </a:p>
        </p:txBody>
      </p:sp>
      <p:graphicFrame>
        <p:nvGraphicFramePr>
          <p:cNvPr id="94" name=""/>
          <p:cNvGraphicFramePr/>
          <p:nvPr/>
        </p:nvGraphicFramePr>
        <p:xfrm>
          <a:off x="98280" y="0"/>
          <a:ext cx="9036360" cy="6843600"/>
        </p:xfrm>
        <a:graphic>
          <a:graphicData uri="http://schemas.openxmlformats.org/drawingml/2006/table">
            <a:tbl>
              <a:tblPr/>
              <a:tblGrid>
                <a:gridCol w="3011760"/>
                <a:gridCol w="3036600"/>
                <a:gridCol w="29880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nstruc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Trai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Conten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kills &amp; elements;Lado, 1961; Carroll1961</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Elements/aspects/levels/  integrated skill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crete points, integrative tasks. Taxonomy óf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rect testing, perform. as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lark 72, Jones85, Wesch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Lang proficiency on tasks, performance in real lif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s mirroring/duplic. real-life tasks; authentic p.</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LT; Oller 1979</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 expectancy gramm.</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ragmatic test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LT; Canale &amp; Swain  1980 etc.</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ative compet.   General language profic.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eaningful comm. situa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uthentic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bility: Bach-man  1990, Bach &amp; Pal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mmunic. lang. abilit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Language ability</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est methof facets</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 characteristic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 assessm1</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Brindley1994, MacNam96</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 for language us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imulation of resl-world task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Task-based perf.assessm2</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Norris1998, Brown2002</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Ability to accomplish part. tasks or task typ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Performance on particular tasks ort task typ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inimalist interactionalist  Kramsch1986, Chapelle98</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ctional competence/ ability</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Collaborative activity, character. of interaction</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Strong interactionalist</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He&amp;Young 98, Young00 </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Interactional competence</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Discursive practices</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Moderate interact. Chalhoub-Deville03</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Book Antiqua"/>
                        </a:rPr>
                        <a:t>          </a:t>
                      </a:r>
                      <a:r>
                        <a:rPr b="1" lang="fi-FI" sz="1800" spc="-1" strike="noStrike">
                          <a:solidFill>
                            <a:srgbClr val="000000"/>
                          </a:solidFill>
                          <a:latin typeface="Book Antiqua"/>
                        </a:rPr>
                        <a:t>Ability-in-individual-in - context</a:t>
                      </a:r>
                      <a:endParaRPr b="0" lang="en-US" sz="1800" spc="-1" strike="noStrike">
                        <a:solidFill>
                          <a:srgbClr val="ffffff"/>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108000" y="189000"/>
            <a:ext cx="8424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re there fundamental differences or only a matter of difference in emphasis?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re we, in practice, usually interested in finding out to what extent there is  ability in using language to do some tasks?</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s there an inevitable interaction between degree of ability and the nature of the tasks? </a:t>
            </a: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o tasks represent the goals/required competences  of interes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179280" y="44280"/>
            <a:ext cx="84963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ome useful early sources  -  but to some extent neglected</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nguistic philosophy (esp. later Wittgenstein, Philosophical Investigations, 1953)</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Sociology and social psychology (Kurt Lewin, Bales (1950), Festinger (1951), Watzlawick (1967)  – communication and interaction in small groups</a:t>
            </a:r>
            <a:endParaRPr b="0" lang="en-US" sz="32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Calibri"/>
              </a:rPr>
              <a:t>Linguistic pragmatism – especially early critique of Austin (1955/1962), and Searle (1969) by German pragmalinguists (Wunderlich, 1972; Ehlich &amp; Rehbein, 1972 – praxeograms...)</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179280" y="44280"/>
            <a:ext cx="8785440" cy="686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0000"/>
                </a:solidFill>
                <a:latin typeface="Calibri"/>
              </a:rPr>
              <a:t>ROLE/SOCIAL ROLE: also neglected?</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 </a:t>
            </a:r>
            <a:r>
              <a:rPr b="0" lang="fi-FI" sz="2400" spc="-1" strike="noStrike">
                <a:solidFill>
                  <a:srgbClr val="ffffff"/>
                </a:solidFill>
                <a:latin typeface="Calibri"/>
              </a:rPr>
              <a:t>In social psychology, a </a:t>
            </a:r>
            <a:r>
              <a:rPr b="1" lang="fi-FI" sz="2400" spc="-1" strike="noStrike">
                <a:solidFill>
                  <a:srgbClr val="ffffff"/>
                </a:solidFill>
                <a:latin typeface="Calibri"/>
              </a:rPr>
              <a:t>role: </a:t>
            </a:r>
            <a:r>
              <a:rPr b="0" lang="fi-FI" sz="2400" spc="-1" strike="noStrike">
                <a:solidFill>
                  <a:srgbClr val="ffffff"/>
                </a:solidFill>
                <a:latin typeface="Calibri"/>
              </a:rPr>
              <a:t> a set of connected behaviours, rights and obligations as conceptualised by actors in a social situation. It is an expected or free or continuously changing behaviour providing  a given individual  social status or social position.</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Functionalist and interactionist understandings of society and  all social behaviour, including  communicative behaviour (cf. next slid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Division of labour - interaction among heterogeneous specialised  positions/role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Roles are occupied by individuals/actor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Social roles/behaviours are guided by social norms (expectations, degree of conventionality).</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Legitimate and constructive roles – anticipation of rewards (vs. punishment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Calibri"/>
              </a:rPr>
              <a:t>Changed social conditions </a:t>
            </a:r>
            <a:r>
              <a:rPr b="0" lang="fi-FI" sz="2400" spc="-1" strike="noStrike">
                <a:solidFill>
                  <a:srgbClr val="ffffff"/>
                </a:solidFill>
                <a:latin typeface="Wingdings"/>
                <a:ea typeface="Wingdings"/>
              </a:rPr>
              <a:t></a:t>
            </a:r>
            <a:r>
              <a:rPr b="0" lang="fi-FI" sz="2400" spc="-1" strike="noStrike">
                <a:solidFill>
                  <a:srgbClr val="ffffff"/>
                </a:solidFill>
                <a:latin typeface="Calibri"/>
              </a:rPr>
              <a:t>role chang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1038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347840" y="1081080"/>
            <a:ext cx="5761080" cy="4896000"/>
          </a:xfrm>
          <a:prstGeom prst="rect">
            <a:avLst/>
          </a:prstGeom>
          <a:ln w="0">
            <a:noFill/>
          </a:ln>
        </p:spPr>
      </p:pic>
      <p:sp>
        <p:nvSpPr>
          <p:cNvPr id="100" name="TextBox 1"/>
          <p:cNvSpPr/>
          <p:nvPr/>
        </p:nvSpPr>
        <p:spPr>
          <a:xfrm>
            <a:off x="2916360" y="19368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External situation</a:t>
            </a:r>
            <a:endParaRPr b="0" lang="en-US" sz="1800" spc="-1" strike="noStrike">
              <a:solidFill>
                <a:srgbClr val="ffffff"/>
              </a:solidFill>
              <a:latin typeface="Calibri"/>
            </a:endParaRPr>
          </a:p>
        </p:txBody>
      </p:sp>
      <p:sp>
        <p:nvSpPr>
          <p:cNvPr id="101" name="TextBox 2"/>
          <p:cNvSpPr/>
          <p:nvPr/>
        </p:nvSpPr>
        <p:spPr>
          <a:xfrm>
            <a:off x="4103640" y="6165720"/>
            <a:ext cx="16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Internal situaton</a:t>
            </a:r>
            <a:endParaRPr b="0" lang="en-US" sz="1800" spc="-1" strike="noStrike">
              <a:solidFill>
                <a:srgbClr val="ffffff"/>
              </a:solidFill>
              <a:latin typeface="Calibri"/>
            </a:endParaRPr>
          </a:p>
        </p:txBody>
      </p:sp>
      <p:sp>
        <p:nvSpPr>
          <p:cNvPr id="102" name="TextBox 3"/>
          <p:cNvSpPr/>
          <p:nvPr/>
        </p:nvSpPr>
        <p:spPr>
          <a:xfrm>
            <a:off x="7308720" y="2852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ode: usage</a:t>
            </a:r>
            <a:endParaRPr b="0" lang="en-US" sz="1800" spc="-1" strike="noStrike">
              <a:solidFill>
                <a:srgbClr val="ffffff"/>
              </a:solidFill>
              <a:latin typeface="Calibri"/>
            </a:endParaRPr>
          </a:p>
        </p:txBody>
      </p:sp>
      <p:sp>
        <p:nvSpPr>
          <p:cNvPr id="103" name="TextBox 4"/>
          <p:cNvSpPr/>
          <p:nvPr/>
        </p:nvSpPr>
        <p:spPr>
          <a:xfrm>
            <a:off x="108000" y="3357720"/>
            <a:ext cx="122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ersons: goals, relation-ships</a:t>
            </a:r>
            <a:endParaRPr b="0" lang="en-US" sz="1800" spc="-1" strike="noStrike">
              <a:solidFill>
                <a:srgbClr val="ffffff"/>
              </a:solidFill>
              <a:latin typeface="Calibri"/>
            </a:endParaRPr>
          </a:p>
        </p:txBody>
      </p:sp>
      <p:sp>
        <p:nvSpPr>
          <p:cNvPr id="104" name="TextBox 5"/>
          <p:cNvSpPr/>
          <p:nvPr/>
        </p:nvSpPr>
        <p:spPr>
          <a:xfrm>
            <a:off x="108000" y="557280"/>
            <a:ext cx="12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ime, place, ”noise”</a:t>
            </a:r>
            <a:endParaRPr b="0" lang="en-US" sz="1800" spc="-1" strike="noStrike">
              <a:solidFill>
                <a:srgbClr val="ffffff"/>
              </a:solidFill>
              <a:latin typeface="Calibri"/>
            </a:endParaRPr>
          </a:p>
        </p:txBody>
      </p:sp>
      <p:sp>
        <p:nvSpPr>
          <p:cNvPr id="105" name="TextBox 7"/>
          <p:cNvSpPr/>
          <p:nvPr/>
        </p:nvSpPr>
        <p:spPr>
          <a:xfrm>
            <a:off x="7308720" y="40644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Channels. media</a:t>
            </a:r>
            <a:endParaRPr b="0" lang="en-US" sz="1800" spc="-1" strike="noStrike">
              <a:solidFill>
                <a:srgbClr val="ffffff"/>
              </a:solidFill>
              <a:latin typeface="Calibri"/>
            </a:endParaRPr>
          </a:p>
        </p:txBody>
      </p:sp>
      <p:sp>
        <p:nvSpPr>
          <p:cNvPr id="106" name="TextBox 8"/>
          <p:cNvSpPr/>
          <p:nvPr/>
        </p:nvSpPr>
        <p:spPr>
          <a:xfrm>
            <a:off x="730872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Topic/aspect</a:t>
            </a:r>
            <a:endParaRPr b="0" lang="en-US" sz="1800" spc="-1" strike="noStrike">
              <a:solidFill>
                <a:srgbClr val="ffffff"/>
              </a:solidFill>
              <a:latin typeface="Calibri"/>
            </a:endParaRPr>
          </a:p>
        </p:txBody>
      </p:sp>
      <p:sp>
        <p:nvSpPr>
          <p:cNvPr id="107" name="TextBox 9"/>
          <p:cNvSpPr/>
          <p:nvPr/>
        </p:nvSpPr>
        <p:spPr>
          <a:xfrm>
            <a:off x="0" y="5445000"/>
            <a:ext cx="13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Calibri"/>
              </a:rPr>
              <a:t>Processing: input-output</a:t>
            </a:r>
            <a:endParaRPr b="0" lang="en-US" sz="1800" spc="-1" strike="noStrike">
              <a:solidFill>
                <a:srgbClr val="ffffff"/>
              </a:solidFill>
              <a:latin typeface="Calibri"/>
            </a:endParaRPr>
          </a:p>
        </p:txBody>
      </p:sp>
      <p:sp>
        <p:nvSpPr>
          <p:cNvPr id="108" name="TextBox 1"/>
          <p:cNvSpPr/>
          <p:nvPr/>
        </p:nvSpPr>
        <p:spPr>
          <a:xfrm>
            <a:off x="7308720" y="5300640"/>
            <a:ext cx="16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Calibri"/>
              </a:rPr>
              <a:t>Dynamics of situated inter-ac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2T11:23:08Z</dcterms:created>
  <dc:creator>sauli</dc:creator>
  <dc:description/>
  <dc:language>en-US</dc:language>
  <cp:lastModifiedBy>sauli</cp:lastModifiedBy>
  <dcterms:modified xsi:type="dcterms:W3CDTF">2012-08-28T16:16:36Z</dcterms:modified>
  <cp:revision>117</cp:revision>
  <dc:subject/>
  <dc:title>Checklists</dc:title>
</cp:coreProperties>
</file>