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9337-5D37-4AC7-BBAE-311B71F438D1}" type="slidenum">
              <a:rPr b="0" lang="fi-FI"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n.wikipedia.org/wiki/Behaviour" TargetMode="External"/><Relationship Id="rId2" Type="http://schemas.openxmlformats.org/officeDocument/2006/relationships/hyperlink" Target="http://en.wikipedia.org/wiki/Right" TargetMode="External"/><Relationship Id="rId3" Type="http://schemas.openxmlformats.org/officeDocument/2006/relationships/hyperlink" Target="http://en.wikipedia.org/wiki/Obligation" TargetMode="External"/><Relationship Id="rId4" Type="http://schemas.openxmlformats.org/officeDocument/2006/relationships/hyperlink" Target="http://en.wikipedia.org/wiki/Actors" TargetMode="External"/><Relationship Id="rId5" Type="http://schemas.openxmlformats.org/officeDocument/2006/relationships/hyperlink" Target="http://en.wikipedia.org/wiki/Social_status" TargetMode="External"/><Relationship Id="rId6" Type="http://schemas.openxmlformats.org/officeDocument/2006/relationships/hyperlink" Target="http://en.wikipedia.org/wiki/Social_position" TargetMode="External"/><Relationship Id="rId7" Type="http://schemas.openxmlformats.org/officeDocument/2006/relationships/hyperlink" Target="http://en.wikipedia.org/wiki/Functionalism_(sociology)" TargetMode="External"/><Relationship Id="rId8" Type="http://schemas.openxmlformats.org/officeDocument/2006/relationships/hyperlink" Target="http://en.wikipedia.org/wiki/Interactionism" TargetMode="External"/><Relationship Id="rId9" Type="http://schemas.openxmlformats.org/officeDocument/2006/relationships/hyperlink" Target="http://en.wikipedia.org/wiki/Positions" TargetMode="External"/><Relationship Id="rId10" Type="http://schemas.openxmlformats.org/officeDocument/2006/relationships/hyperlink" Target="http://en.wikipedia.org/wiki/Norm_(sociology)" TargetMode="External"/><Relationship Id="rId11" Type="http://schemas.openxmlformats.org/officeDocument/2006/relationships/hyperlink" Target="http://en.wikipedia.org/wiki/Expectations" TargetMode="External"/><Relationship Id="rId12" Type="http://schemas.openxmlformats.org/officeDocument/2006/relationships/hyperlink" Target="http://en.wikipedia.org/wiki/Actor_(UML)" TargetMode="External"/><Relationship Id="rId13" Type="http://schemas.openxmlformats.org/officeDocument/2006/relationships/hyperlink" Target="http://en.wikipedia.org/wiki/Legitimate" TargetMode="External"/><Relationship Id="rId14" Type="http://schemas.openxmlformats.org/officeDocument/2006/relationships/hyperlink" Target="http://en.wikipedia.org/wiki/Constructive" TargetMode="External"/><Relationship Id="rId15" Type="http://schemas.openxmlformats.org/officeDocument/2006/relationships/hyperlink" Target="http://en.wikipedia.org/wiki/Reinforcement" TargetMode="External"/><Relationship Id="rId16" Type="http://schemas.openxmlformats.org/officeDocument/2006/relationships/hyperlink" Target="http://en.wikipedia.org/wiki/Punishment" TargetMode="External"/><Relationship Id="rId17" Type="http://schemas.openxmlformats.org/officeDocument/2006/relationships/hyperlink" Target="http://de.wikipedia.org/wiki/Rolle_(Theater)" TargetMode="External"/><Relationship Id="rId18" Type="http://schemas.openxmlformats.org/officeDocument/2006/relationships/hyperlink" Target="http://de.wikipedia.org/wiki/Soziologie" TargetMode="External"/><Relationship Id="rId19" Type="http://schemas.openxmlformats.org/officeDocument/2006/relationships/hyperlink" Target="http://de.wikipedia.org/wiki/Sozialpsychologie" TargetMode="External"/><Relationship Id="rId20" Type="http://schemas.openxmlformats.org/officeDocument/2006/relationships/hyperlink" Target="http://de.wikipedia.org/wiki/Ralph_Linton" TargetMode="External"/><Relationship Id="rId21" Type="http://schemas.openxmlformats.org/officeDocument/2006/relationships/hyperlink" Target="http://de.wikipedia.org/wiki/Sozialer_Status" TargetMode="External"/><Relationship Id="rId22" Type="http://schemas.openxmlformats.org/officeDocument/2006/relationships/hyperlink" Target="http://de.wikipedia.org/wiki/Soziales_System" TargetMode="External"/><Relationship Id="rId23" Type="http://schemas.openxmlformats.org/officeDocument/2006/relationships/hyperlink" Target="http://de.wikipedia.org/wiki/Erwartung_(Soziologie)" TargetMode="External"/><Relationship Id="rId24" Type="http://schemas.openxmlformats.org/officeDocument/2006/relationships/hyperlink" Target="http://de.wikipedia.org/wiki/Werte" TargetMode="External"/><Relationship Id="rId25" Type="http://schemas.openxmlformats.org/officeDocument/2006/relationships/hyperlink" Target="http://de.wikipedia.org/wiki/Soziales_Handeln" TargetMode="External"/><Relationship Id="rId26" Type="http://schemas.openxmlformats.org/officeDocument/2006/relationships/slide" Target="../slides/slide7.xml"/><Relationship Id="rId27"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4D05-2FDB-40CB-BACC-81568B310DF9}"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ea typeface="Arial"/>
              </a:rPr>
              <a:t>Es muss eine Beurteilung geben, aber eine Beurteilung, die durch methodisches Vorgehen untersützt – oder gar verbessert  - wird. (S. 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Das Verhalten veränderende einfache Werkzeuge (siehe komplexe Bewertungssysteme) </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6240-A5FA-42D3-949E-B2E38E983C86}"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Bspw. Vorflugkontrolllisten, Instrumenteneinstellungen. Unterstützen die bewertende Schlussfolgerung, dass es sicher ist, das Flugzeug zu fliegen. Flussdiagramme setzen oft eine oder mehrere sequenzielle Checklisten voraus, sind aber oft der bessere Weg, um die komplexe Kettenschlüsse zu repräsentieren, welche umfassende Konditionalen beeinhalten (bspw. Wenn-dann-Sätze) und Sequen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Effizienzüberlegungen können auch eine bestimmte Ordnung innerhalb einer Checkliste nahelegen. Bspw., wenn die Erfahrung verrät, dass ein notwendiges Performanzniveau in einer bestimmten Dimension von Vorzügen das einzige ist, das am meisten von Kandidaten in sich wiederholenden Wettbewerben verfehlt wird, dann legt die Effizienz nahe, es an der ersten Stelle in der Ordnung zu positionieren, weil dies die Notwendigkeit ausschließt, Zeit und möglicherweise andere Resourcen damit zu verbringen, die Performanz bei anderen Kriterien dieser Kandidaten zu überprüfen. Nochmals, dies wird eine schwach sequenzielle Checklis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83D0-0731-407F-92EA-432D45E3FB62}"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Im Unterschied zur Situation der stark sequenziellen Vorflugkontrollliste kann man bei vergleichenden Checklisten immer noch die vorläufigen Schlussfolgerungen korrigie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riteria of Merit Checkliste  </a:t>
            </a:r>
            <a:r>
              <a:rPr b="1" i="1" lang="en-US" sz="1200" spc="-1" strike="noStrike">
                <a:solidFill>
                  <a:srgbClr val="000000"/>
                </a:solidFill>
                <a:latin typeface="Wingdings"/>
                <a:ea typeface="Wingdings"/>
              </a:rPr>
              <a:t></a:t>
            </a:r>
            <a:r>
              <a:rPr b="1" i="1" lang="en-US" sz="1200" spc="-1" strike="noStrike">
                <a:solidFill>
                  <a:srgbClr val="000000"/>
                </a:solidFill>
                <a:latin typeface="Calibri"/>
              </a:rPr>
              <a:t> Kriterien des Vorzugs?</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478E-D29D-4027-80A3-5D7AF3ADD909}"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Problem der Komplexitä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gibt viele Dinge, die beachtet werden müss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issenslücken/Unwissenh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ie vermeidet man Ungeschicklichkeit? Wie vermeidet man Schusselfehler/einfach zu vermeidende Feh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ie bekämpft man Unwissenheit und Ungeschicklichkeit? Unachtsamk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sziplin guter Performan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Was sind die fehlenden Kernpunk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rugschlüsse – was sind si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rnsthaftigkeit der Konsequen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EF91-3CA8-48AE-8371-B40F8AC44D1A}"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 bleibt auch weiterhin das Problem der Sprachbewertung, die Rollen von Kompetenzen und Kontexten, sowie die Interaktionen zwischen diesen zu verstehen und, wie diese die Performanz bei Sprachbewertungsaufgaben beeinfluss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 Problemlösungsversuche der letzten 50 Jahre haben zu drei grundlegenden Definitionen des Konstrukts bzw. dessen, was wir bewerten wollen, geführt: 1) Kompetenzfokussiert, 2) Aufgabenfokussiert, 3) Interaktionsfokussi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ährend sich die unterschiedlichen theoretischen Perspektiven, die diesen Problemslösungsversuchen zu Grunde liegen, nicht gegeinseitig ausschließen, basieren sie doch auf einer Reihe unterschiedlicher Werte und Annahmen. Aufgrund dieser Unterschiede ist die schwierige Frage der Kompetenzen und Kontexte und wie sie im Sprachgebrauch und bei der Sprachbewertung interagieren meiner Meinung nach im Wesentlichen ein theoretisches Problem, das sich an diesem Punkt wharscheinlich nicht lösen läs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F1F4-3547-40E3-92C0-F52AB567BD42}"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http://en.wikipedia.org/wiki/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A </a:t>
            </a:r>
            <a:r>
              <a:rPr b="1" lang="fi-FI" sz="1200" spc="-1" strike="noStrike">
                <a:solidFill>
                  <a:srgbClr val="000000"/>
                </a:solidFill>
                <a:latin typeface="Calibri"/>
              </a:rPr>
              <a:t>role</a:t>
            </a:r>
            <a:r>
              <a:rPr b="0" lang="fi-FI" sz="1200" spc="-1" strike="noStrike">
                <a:solidFill>
                  <a:srgbClr val="000000"/>
                </a:solidFill>
                <a:latin typeface="Calibri"/>
              </a:rPr>
              <a:t> (from the French </a:t>
            </a:r>
            <a:r>
              <a:rPr b="1" lang="fi-FI" sz="1200" spc="-1" strike="noStrike">
                <a:solidFill>
                  <a:srgbClr val="000000"/>
                </a:solidFill>
                <a:latin typeface="Calibri"/>
              </a:rPr>
              <a:t>rôle</a:t>
            </a:r>
            <a:r>
              <a:rPr b="0" lang="fi-FI" sz="1200" spc="-1" strike="noStrike">
                <a:solidFill>
                  <a:srgbClr val="000000"/>
                </a:solidFill>
                <a:latin typeface="Calibri"/>
              </a:rPr>
              <a:t>, and sometimes so spelt in English) or </a:t>
            </a:r>
            <a:r>
              <a:rPr b="1" lang="fi-FI" sz="1200" spc="-1" strike="noStrike">
                <a:solidFill>
                  <a:srgbClr val="000000"/>
                </a:solidFill>
                <a:latin typeface="Calibri"/>
              </a:rPr>
              <a:t>social role</a:t>
            </a:r>
            <a:r>
              <a:rPr b="0" lang="fi-FI" sz="1200" spc="-1" strike="noStrike">
                <a:solidFill>
                  <a:srgbClr val="000000"/>
                </a:solidFill>
                <a:latin typeface="Calibri"/>
              </a:rPr>
              <a:t> is a set of connected </a:t>
            </a:r>
            <a:r>
              <a:rPr b="0" lang="fi-FI" sz="1200" spc="-1" strike="noStrike" u="sng">
                <a:solidFill>
                  <a:srgbClr val="0000ff"/>
                </a:solidFill>
                <a:uFillTx/>
                <a:latin typeface="Calibri"/>
                <a:hlinkClick r:id="rId1"/>
              </a:rPr>
              <a:t>behaviours</a:t>
            </a:r>
            <a:r>
              <a:rPr b="0" lang="fi-FI" sz="1200" spc="-1" strike="noStrike">
                <a:solidFill>
                  <a:srgbClr val="000000"/>
                </a:solidFill>
                <a:latin typeface="Calibri"/>
              </a:rPr>
              <a:t>, </a:t>
            </a:r>
            <a:r>
              <a:rPr b="0" lang="fi-FI" sz="1200" spc="-1" strike="noStrike" u="sng">
                <a:solidFill>
                  <a:srgbClr val="0000ff"/>
                </a:solidFill>
                <a:uFillTx/>
                <a:latin typeface="Calibri"/>
                <a:hlinkClick r:id="rId2"/>
              </a:rPr>
              <a:t>rights</a:t>
            </a:r>
            <a:r>
              <a:rPr b="0" lang="fi-FI" sz="1200" spc="-1" strike="noStrike">
                <a:solidFill>
                  <a:srgbClr val="000000"/>
                </a:solidFill>
                <a:latin typeface="Calibri"/>
              </a:rPr>
              <a:t> and </a:t>
            </a:r>
            <a:r>
              <a:rPr b="0" lang="fi-FI" sz="1200" spc="-1" strike="noStrike" u="sng">
                <a:solidFill>
                  <a:srgbClr val="0000ff"/>
                </a:solidFill>
                <a:uFillTx/>
                <a:latin typeface="Calibri"/>
                <a:hlinkClick r:id="rId3"/>
              </a:rPr>
              <a:t>obligations</a:t>
            </a:r>
            <a:r>
              <a:rPr b="0" lang="fi-FI" sz="1200" spc="-1" strike="noStrike">
                <a:solidFill>
                  <a:srgbClr val="000000"/>
                </a:solidFill>
                <a:latin typeface="Calibri"/>
              </a:rPr>
              <a:t> as conceptualised by </a:t>
            </a:r>
            <a:r>
              <a:rPr b="0" lang="fi-FI" sz="1200" spc="-1" strike="noStrike" u="sng">
                <a:solidFill>
                  <a:srgbClr val="0000ff"/>
                </a:solidFill>
                <a:uFillTx/>
                <a:latin typeface="Calibri"/>
                <a:hlinkClick r:id="rId4"/>
              </a:rPr>
              <a:t>actors</a:t>
            </a:r>
            <a:r>
              <a:rPr b="0" lang="fi-FI" sz="1200" spc="-1" strike="noStrike">
                <a:solidFill>
                  <a:srgbClr val="000000"/>
                </a:solidFill>
                <a:latin typeface="Calibri"/>
              </a:rPr>
              <a:t> in a social situation. It is an expected or free or continuously changing behaviour and may have a given individual </a:t>
            </a:r>
            <a:r>
              <a:rPr b="0" lang="fi-FI" sz="1200" spc="-1" strike="noStrike" u="sng">
                <a:solidFill>
                  <a:srgbClr val="0000ff"/>
                </a:solidFill>
                <a:uFillTx/>
                <a:latin typeface="Calibri"/>
                <a:hlinkClick r:id="rId5"/>
              </a:rPr>
              <a:t>social status</a:t>
            </a:r>
            <a:r>
              <a:rPr b="0" lang="fi-FI" sz="1200" spc="-1" strike="noStrike">
                <a:solidFill>
                  <a:srgbClr val="000000"/>
                </a:solidFill>
                <a:latin typeface="Calibri"/>
              </a:rPr>
              <a:t> or </a:t>
            </a:r>
            <a:r>
              <a:rPr b="0" lang="fi-FI" sz="1200" spc="-1" strike="noStrike" u="sng">
                <a:solidFill>
                  <a:srgbClr val="0000ff"/>
                </a:solidFill>
                <a:uFillTx/>
                <a:latin typeface="Calibri"/>
                <a:hlinkClick r:id="rId6"/>
              </a:rPr>
              <a:t>social position</a:t>
            </a:r>
            <a:r>
              <a:rPr b="0" lang="fi-FI" sz="1200" spc="-1" strike="noStrike">
                <a:solidFill>
                  <a:srgbClr val="000000"/>
                </a:solidFill>
                <a:latin typeface="Calibri"/>
              </a:rPr>
              <a:t>. It is vital to both </a:t>
            </a:r>
            <a:r>
              <a:rPr b="0" lang="fi-FI" sz="1200" spc="-1" strike="noStrike" u="sng">
                <a:solidFill>
                  <a:srgbClr val="0000ff"/>
                </a:solidFill>
                <a:uFillTx/>
                <a:latin typeface="Calibri"/>
                <a:hlinkClick r:id="rId7"/>
              </a:rPr>
              <a:t>functionalist</a:t>
            </a:r>
            <a:r>
              <a:rPr b="0" lang="fi-FI" sz="1200" spc="-1" strike="noStrike">
                <a:solidFill>
                  <a:srgbClr val="000000"/>
                </a:solidFill>
                <a:latin typeface="Calibri"/>
              </a:rPr>
              <a:t> and </a:t>
            </a:r>
            <a:r>
              <a:rPr b="0" lang="fi-FI" sz="1200" spc="-1" strike="noStrike" u="sng">
                <a:solidFill>
                  <a:srgbClr val="0000ff"/>
                </a:solidFill>
                <a:uFillTx/>
                <a:latin typeface="Calibri"/>
                <a:hlinkClick r:id="rId8"/>
              </a:rPr>
              <a:t>interactionist</a:t>
            </a:r>
            <a:r>
              <a:rPr b="0" lang="fi-FI" sz="1200" spc="-1" strike="noStrike">
                <a:solidFill>
                  <a:srgbClr val="000000"/>
                </a:solidFill>
                <a:latin typeface="Calibri"/>
              </a:rPr>
              <a:t> understandings of society. Social role posits the following about social behavi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The division of labour in society takes the form of the interaction among heterogeneous specialised </a:t>
            </a:r>
            <a:r>
              <a:rPr b="0" lang="fi-FI" sz="1200" spc="-1" strike="noStrike" u="sng">
                <a:solidFill>
                  <a:srgbClr val="0000ff"/>
                </a:solidFill>
                <a:uFillTx/>
                <a:latin typeface="Calibri"/>
                <a:hlinkClick r:id="rId9"/>
              </a:rPr>
              <a:t>positions</a:t>
            </a:r>
            <a:r>
              <a:rPr b="0" lang="fi-FI" sz="1200" spc="-1" strike="noStrike">
                <a:solidFill>
                  <a:srgbClr val="000000"/>
                </a:solidFill>
                <a:latin typeface="Calibri"/>
              </a:rPr>
              <a:t>, we call 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Social roles included appropriate and permitted forms of behaviour, guided by social </a:t>
            </a:r>
            <a:r>
              <a:rPr b="0" lang="fi-FI" sz="1200" spc="-1" strike="noStrike" u="sng">
                <a:solidFill>
                  <a:srgbClr val="0000ff"/>
                </a:solidFill>
                <a:uFillTx/>
                <a:latin typeface="Calibri"/>
                <a:hlinkClick r:id="rId10"/>
              </a:rPr>
              <a:t>norms</a:t>
            </a:r>
            <a:r>
              <a:rPr b="0" lang="fi-FI" sz="1200" spc="-1" strike="noStrike">
                <a:solidFill>
                  <a:srgbClr val="000000"/>
                </a:solidFill>
                <a:latin typeface="Calibri"/>
              </a:rPr>
              <a:t>, which are commonly known and hence determine the </a:t>
            </a:r>
            <a:r>
              <a:rPr b="0" lang="fi-FI" sz="1200" spc="-1" strike="noStrike" u="sng">
                <a:solidFill>
                  <a:srgbClr val="0000ff"/>
                </a:solidFill>
                <a:uFillTx/>
                <a:latin typeface="Calibri"/>
                <a:hlinkClick r:id="rId11"/>
              </a:rPr>
              <a:t>expectations</a:t>
            </a:r>
            <a:r>
              <a:rPr b="0" lang="fi-FI" sz="1200" spc="-1" strike="noStrike">
                <a:solidFill>
                  <a:srgbClr val="000000"/>
                </a:solidFill>
                <a:latin typeface="Calibri"/>
              </a:rPr>
              <a:t> for appropriate behaviour in these 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Roles are occupied by individuals, who are called </a:t>
            </a:r>
            <a:r>
              <a:rPr b="0" lang="fi-FI" sz="1200" spc="-1" strike="noStrike" u="sng">
                <a:solidFill>
                  <a:srgbClr val="0000ff"/>
                </a:solidFill>
                <a:uFillTx/>
                <a:latin typeface="Calibri"/>
                <a:hlinkClick r:id="rId12"/>
              </a:rPr>
              <a:t>Actor</a:t>
            </a:r>
            <a:r>
              <a:rPr b="0" lang="fi-FI"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When individuals approve of a social role (i.e., they consider the role </a:t>
            </a:r>
            <a:r>
              <a:rPr b="0" lang="fi-FI" sz="1200" spc="-1" strike="noStrike" u="sng">
                <a:solidFill>
                  <a:srgbClr val="0000ff"/>
                </a:solidFill>
                <a:uFillTx/>
                <a:latin typeface="Calibri"/>
                <a:hlinkClick r:id="rId13"/>
              </a:rPr>
              <a:t>legitimate</a:t>
            </a:r>
            <a:r>
              <a:rPr b="0" lang="fi-FI" sz="1200" spc="-1" strike="noStrike">
                <a:solidFill>
                  <a:srgbClr val="000000"/>
                </a:solidFill>
                <a:latin typeface="Calibri"/>
              </a:rPr>
              <a:t> and </a:t>
            </a:r>
            <a:r>
              <a:rPr b="0" lang="fi-FI" sz="1200" spc="-1" strike="noStrike" u="sng">
                <a:solidFill>
                  <a:srgbClr val="0000ff"/>
                </a:solidFill>
                <a:uFillTx/>
                <a:latin typeface="Calibri"/>
                <a:hlinkClick r:id="rId14"/>
              </a:rPr>
              <a:t>constructive</a:t>
            </a:r>
            <a:r>
              <a:rPr b="0" lang="fi-FI" sz="1200" spc="-1" strike="noStrike">
                <a:solidFill>
                  <a:srgbClr val="000000"/>
                </a:solidFill>
                <a:latin typeface="Calibri"/>
              </a:rPr>
              <a:t>), they will incur costs to conform to role norms, and will also incur costs to punish those who violate role n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Changed conditions can render a social role outdated or illegitimate, in which case social pressures are likely to lead to rol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The anticipation of </a:t>
            </a:r>
            <a:r>
              <a:rPr b="0" lang="fi-FI" sz="1200" spc="-1" strike="noStrike" u="sng">
                <a:solidFill>
                  <a:srgbClr val="0000ff"/>
                </a:solidFill>
                <a:uFillTx/>
                <a:latin typeface="Calibri"/>
                <a:hlinkClick r:id="rId15"/>
              </a:rPr>
              <a:t>rewards</a:t>
            </a:r>
            <a:r>
              <a:rPr b="0" lang="fi-FI" sz="1200" spc="-1" strike="noStrike">
                <a:solidFill>
                  <a:srgbClr val="000000"/>
                </a:solidFill>
                <a:latin typeface="Calibri"/>
              </a:rPr>
              <a:t> and </a:t>
            </a:r>
            <a:r>
              <a:rPr b="0" lang="fi-FI" sz="1200" spc="-1" strike="noStrike" u="sng">
                <a:solidFill>
                  <a:srgbClr val="0000ff"/>
                </a:solidFill>
                <a:uFillTx/>
                <a:latin typeface="Calibri"/>
                <a:hlinkClick r:id="rId16"/>
              </a:rPr>
              <a:t>punishments</a:t>
            </a:r>
            <a:r>
              <a:rPr b="0" lang="fi-FI" sz="1200" spc="-1" strike="noStrike">
                <a:solidFill>
                  <a:srgbClr val="000000"/>
                </a:solidFill>
                <a:latin typeface="Calibri"/>
              </a:rPr>
              <a:t>, as well as the satisfaction of behaving prosocially, account for why agents conform to role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http://de.wikipedia.org/wiki/Soziale_Ro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a:t>
            </a:r>
            <a:r>
              <a:rPr b="1" lang="de-DE" sz="1200" spc="-1" strike="noStrike">
                <a:solidFill>
                  <a:srgbClr val="000000"/>
                </a:solidFill>
                <a:latin typeface="Calibri"/>
              </a:rPr>
              <a:t>Soziale Rolle</a:t>
            </a:r>
            <a:r>
              <a:rPr b="0" lang="de-DE" sz="1200" spc="-1" strike="noStrike">
                <a:solidFill>
                  <a:srgbClr val="000000"/>
                </a:solidFill>
                <a:latin typeface="Calibri"/>
              </a:rPr>
              <a:t> ist ein dem </a:t>
            </a:r>
            <a:r>
              <a:rPr b="0" lang="de-DE" sz="1200" spc="-1" strike="noStrike" u="sng">
                <a:solidFill>
                  <a:srgbClr val="0000ff"/>
                </a:solidFill>
                <a:uFillTx/>
                <a:latin typeface="Calibri"/>
                <a:hlinkClick r:id="rId17"/>
              </a:rPr>
              <a:t>Theater</a:t>
            </a:r>
            <a:r>
              <a:rPr b="0" lang="de-DE" sz="1200" spc="-1" strike="noStrike">
                <a:solidFill>
                  <a:srgbClr val="000000"/>
                </a:solidFill>
                <a:latin typeface="Calibri"/>
              </a:rPr>
              <a:t> entlehnter Begriff der </a:t>
            </a:r>
            <a:r>
              <a:rPr b="0" lang="de-DE" sz="1200" spc="-1" strike="noStrike" u="sng">
                <a:solidFill>
                  <a:srgbClr val="0000ff"/>
                </a:solidFill>
                <a:uFillTx/>
                <a:latin typeface="Calibri"/>
                <a:hlinkClick r:id="rId18"/>
              </a:rPr>
              <a:t>Soziologie</a:t>
            </a:r>
            <a:r>
              <a:rPr b="0" lang="de-DE" sz="1200" spc="-1" strike="noStrike">
                <a:solidFill>
                  <a:srgbClr val="000000"/>
                </a:solidFill>
                <a:latin typeface="Calibri"/>
              </a:rPr>
              <a:t> und </a:t>
            </a:r>
            <a:r>
              <a:rPr b="0" lang="de-DE" sz="1200" spc="-1" strike="noStrike" u="sng">
                <a:solidFill>
                  <a:srgbClr val="0000ff"/>
                </a:solidFill>
                <a:uFillTx/>
                <a:latin typeface="Calibri"/>
                <a:hlinkClick r:id="rId19"/>
              </a:rPr>
              <a:t>Sozialpsychologie</a:t>
            </a:r>
            <a:r>
              <a:rPr b="0" lang="de-DE" sz="1200" spc="-1" strike="noStrike">
                <a:solidFill>
                  <a:srgbClr val="000000"/>
                </a:solidFill>
                <a:latin typeface="Calibri"/>
              </a:rPr>
              <a:t>. Laut Definition des US-amerikanischen Anthropologen </a:t>
            </a:r>
            <a:r>
              <a:rPr b="0" lang="de-DE" sz="1200" spc="-1" strike="noStrike" u="sng">
                <a:solidFill>
                  <a:srgbClr val="0000ff"/>
                </a:solidFill>
                <a:uFillTx/>
                <a:latin typeface="Calibri"/>
                <a:hlinkClick r:id="rId20"/>
              </a:rPr>
              <a:t>Ralph Linton</a:t>
            </a:r>
            <a:r>
              <a:rPr b="0" lang="de-DE" sz="1200" spc="-1" strike="noStrike">
                <a:solidFill>
                  <a:srgbClr val="000000"/>
                </a:solidFill>
                <a:latin typeface="Calibri"/>
              </a:rPr>
              <a:t> (1936) stellt die soziale Rolle die Gesamtheit der einem gegebenen </a:t>
            </a:r>
            <a:r>
              <a:rPr b="0" lang="de-DE" sz="1200" spc="-1" strike="noStrike" u="sng">
                <a:solidFill>
                  <a:srgbClr val="0000ff"/>
                </a:solidFill>
                <a:uFillTx/>
                <a:latin typeface="Calibri"/>
                <a:hlinkClick r:id="rId21"/>
              </a:rPr>
              <a:t>Status</a:t>
            </a:r>
            <a:r>
              <a:rPr b="0" lang="de-DE" sz="1200" spc="-1" strike="noStrike">
                <a:solidFill>
                  <a:srgbClr val="000000"/>
                </a:solidFill>
                <a:latin typeface="Calibri"/>
              </a:rPr>
              <a:t> (z. B. Mutter, Vorgesetzter, Priester etc.) zugeschriebenen „kulturellen Modelle“ dar. Dazu gehören insbesondere vom </a:t>
            </a:r>
            <a:r>
              <a:rPr b="0" lang="de-DE" sz="1200" spc="-1" strike="noStrike" u="sng">
                <a:solidFill>
                  <a:srgbClr val="0000ff"/>
                </a:solidFill>
                <a:uFillTx/>
                <a:latin typeface="Calibri"/>
                <a:hlinkClick r:id="rId22"/>
              </a:rPr>
              <a:t>sozialen System</a:t>
            </a:r>
            <a:r>
              <a:rPr b="0" lang="de-DE" sz="1200" spc="-1" strike="noStrike">
                <a:solidFill>
                  <a:srgbClr val="000000"/>
                </a:solidFill>
                <a:latin typeface="Calibri"/>
              </a:rPr>
              <a:t> abhängige </a:t>
            </a:r>
            <a:r>
              <a:rPr b="0" lang="de-DE" sz="1200" spc="-1" strike="noStrike" u="sng">
                <a:solidFill>
                  <a:srgbClr val="0000ff"/>
                </a:solidFill>
                <a:uFillTx/>
                <a:latin typeface="Calibri"/>
                <a:hlinkClick r:id="rId23"/>
              </a:rPr>
              <a:t>Erwartungen</a:t>
            </a:r>
            <a:r>
              <a:rPr b="0" lang="de-DE" sz="1200" spc="-1" strike="noStrike">
                <a:solidFill>
                  <a:srgbClr val="000000"/>
                </a:solidFill>
                <a:latin typeface="Calibri"/>
              </a:rPr>
              <a:t>, </a:t>
            </a:r>
            <a:r>
              <a:rPr b="0" lang="de-DE" sz="1200" spc="-1" strike="noStrike" u="sng">
                <a:solidFill>
                  <a:srgbClr val="0000ff"/>
                </a:solidFill>
                <a:uFillTx/>
                <a:latin typeface="Calibri"/>
                <a:hlinkClick r:id="rId24"/>
              </a:rPr>
              <a:t>Werte</a:t>
            </a:r>
            <a:r>
              <a:rPr b="0" lang="de-DE" sz="1200" spc="-1" strike="noStrike">
                <a:solidFill>
                  <a:srgbClr val="000000"/>
                </a:solidFill>
                <a:latin typeface="Calibri"/>
              </a:rPr>
              <a:t>, </a:t>
            </a:r>
            <a:r>
              <a:rPr b="0" lang="de-DE" sz="1200" spc="-1" strike="noStrike" u="sng">
                <a:solidFill>
                  <a:srgbClr val="0000ff"/>
                </a:solidFill>
                <a:uFillTx/>
                <a:latin typeface="Calibri"/>
                <a:hlinkClick r:id="rId25"/>
              </a:rPr>
              <a:t>Handlungsmuster</a:t>
            </a:r>
            <a:r>
              <a:rPr b="0" lang="de-DE" sz="1200" spc="-1" strike="noStrike">
                <a:solidFill>
                  <a:srgbClr val="000000"/>
                </a:solidFill>
                <a:latin typeface="Calibri"/>
              </a:rPr>
              <a:t> und Verhaltensweisen. Diesen Anforderungen muss sich ein Sozialer Akteur entsprechend seiner Position ste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a:t>
            </a:r>
            <a:r>
              <a:rPr b="1" lang="de-DE" sz="1200" spc="-1" strike="noStrike">
                <a:solidFill>
                  <a:srgbClr val="000000"/>
                </a:solidFill>
                <a:latin typeface="Calibri"/>
              </a:rPr>
              <a:t>Rollentheorie</a:t>
            </a:r>
            <a:r>
              <a:rPr b="0" lang="de-DE" sz="1200" spc="-1" strike="noStrike">
                <a:solidFill>
                  <a:srgbClr val="000000"/>
                </a:solidFill>
                <a:latin typeface="Calibri"/>
              </a:rPr>
              <a:t> beschreibt und erklärt einerseits die Rollenerwartungen und -festlegungen und andererseits, welche Spiel- und Handlungsfreiräume dem Individuum und sozialen Gruppen in einer Rolle offenstehen. Sie beschäftigt sich damit, wie gesellschaftlich vorgegebene Rollen erlernt, verinnerlicht, ausgefüllt und modifiziert we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nabhängig von der sozialen Rolle bewirkt im Berufsleben die zugewiesene operationelle Rolle aufgrund von Qualifikationen eine die Arbeitsteilung bestimmende Unterscheidu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DDE5-8D88-4EA9-893A-3508655F486A}"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System enthält sechs Gruppen von Variablen, die in Beziehung zu kommunikativen Aufgaben stehen und sehr umfangreich spezifiziert werden können. Das bedeutet, dass bei derBeschreibung und Kategorisierung von Sprachgebrauch nur sehr feine Unterschiede zu beachten s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6DE8-6C0E-4519-8495-CE32876DDC77}"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F4C62-10EA-4B31-87F4-B264D7CAE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D7FF7-00EA-4450-81DE-DC802D828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0519C-F9AC-40D2-B59C-65A2BF0B0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A9BC9-F898-4177-9DCC-B4ADF0A58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320A4-A7A9-48CA-9096-8E2B858A7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8BC8E-5158-4619-A7C0-AA0745195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4DB37-9636-429D-A0DC-071C97005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34A42-ABFE-45CD-8B46-BE3E2222E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17F73-B447-48E7-BE70-B12E06B13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91B59-0E96-48D1-93FC-D629828E5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0F55C-0991-48F8-89B0-28F46DA19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D75FC-0751-4C16-9E6C-EB6CCCE2B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74931-1F80-46F5-A6FD-544D34413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ADB77-BD1C-469A-AD29-D33241DB7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4F66E-4166-4A00-9A92-76FE4EBF8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E2B51-FF36-46FA-8FE9-59519FCEA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41223-0CD9-47EB-9B0B-6FAB5F9D2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17FED-1F8C-4AEC-9CC3-71E349794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870DD-6BED-4EA9-8C6B-EAFAD0FB8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9B066-68DD-4026-BEF6-9D1902BE2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E6623-2EB0-4DBB-9FE0-9C13DA14A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BBA29-482F-4204-9D02-DA0D898AA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79A82-D52D-46EE-927B-D9AF5837D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4B7F5-FCED-4DBE-A607-EE20D338E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F14D-A287-42CA-A8F6-00DCADA4AD5B}" type="slidenum">
              <a:rPr b="0" lang="fi-FI"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2A8D-86C8-4E2B-A1C1-835FFB168EE3}" type="slidenum">
              <a:rPr b="0" lang="fi-FI"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298440" y="1116000"/>
            <a:ext cx="8620200" cy="224964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Sauli Takala</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University of Jyväskylä</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12. CercleS-Konferenz</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 </a:t>
            </a:r>
            <a:r>
              <a:rPr b="0" lang="fi-FI" sz="2800" spc="-1" strike="noStrike">
                <a:solidFill>
                  <a:srgbClr val="ffffff"/>
                </a:solidFill>
                <a:latin typeface="Book Antiqua"/>
              </a:rPr>
              <a:t>London  6.-8. September 2012</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344520" y="5877000"/>
            <a:ext cx="8548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ffff"/>
                </a:solidFill>
                <a:latin typeface="Calibri"/>
              </a:rPr>
              <a:t>nach: Fischer et al., Guidelines for task-based university language testing. Graz: ECML, 2011, S. 21</a:t>
            </a:r>
            <a:r>
              <a:rPr b="1" lang="fi-FI" sz="1800" spc="-1" strike="noStrike">
                <a:solidFill>
                  <a:srgbClr val="ffffff"/>
                </a:solidFill>
                <a:latin typeface="Calibri"/>
              </a:rPr>
              <a:t>.</a:t>
            </a:r>
            <a:endParaRPr b="0" lang="en-US" sz="1800" spc="-1" strike="noStrike">
              <a:solidFill>
                <a:srgbClr val="ffffff"/>
              </a:solidFill>
              <a:latin typeface="Calibri"/>
            </a:endParaRPr>
          </a:p>
        </p:txBody>
      </p:sp>
      <p:pic>
        <p:nvPicPr>
          <p:cNvPr id="111" name="Grafik 36" descr="Bild1.png"/>
          <p:cNvPicPr/>
          <p:nvPr/>
        </p:nvPicPr>
        <p:blipFill>
          <a:blip r:embed="rId1"/>
          <a:stretch/>
        </p:blipFill>
        <p:spPr>
          <a:xfrm>
            <a:off x="0" y="620640"/>
            <a:ext cx="9221760" cy="499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468360" y="692280"/>
            <a:ext cx="7981920" cy="4235400"/>
          </a:xfrm>
          <a:prstGeom prst="rect">
            <a:avLst/>
          </a:prstGeom>
          <a:ln w="0">
            <a:noFill/>
          </a:ln>
        </p:spPr>
      </p:pic>
      <p:sp>
        <p:nvSpPr>
          <p:cNvPr id="113" name="TextBox 1"/>
          <p:cNvSpPr/>
          <p:nvPr/>
        </p:nvSpPr>
        <p:spPr>
          <a:xfrm>
            <a:off x="282600" y="5157720"/>
            <a:ext cx="8861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Puren, C. ( 2008). Formes pratiques de combinaision entre perspective actionnelle et approche communicative: analyse comparative des trois manuels. Langues Modernes. Zitiert nach Fischer et al., 2011, S. 22</a:t>
            </a:r>
            <a:r>
              <a:rPr b="0" lang="fi-FI" sz="1800" spc="-1" strike="noStrike">
                <a:solidFill>
                  <a:srgbClr val="ffffff"/>
                </a:solidFill>
                <a:latin typeface="Calibri"/>
              </a:rPr>
              <a:t>.  </a:t>
            </a:r>
            <a:r>
              <a:rPr b="0" lang="fi-FI" sz="2400" spc="-1" strike="noStrike">
                <a:solidFill>
                  <a:srgbClr val="ffffff"/>
                </a:solidFill>
                <a:latin typeface="Calibri"/>
              </a:rPr>
              <a:t>(Beachten Sie die Einbeziehung der Rolle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71280" y="115920"/>
            <a:ext cx="8893440" cy="667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Sprachtesten/-bewerten – </a:t>
            </a: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Kernpunkte und Probleme</a:t>
            </a:r>
            <a:r>
              <a:rPr b="0" lang="fi-FI" sz="3600" spc="-1" strike="noStrike">
                <a:solidFill>
                  <a:srgbClr val="ffffff"/>
                </a:solidFill>
                <a:latin typeface="Calibri"/>
              </a:rPr>
              <a:t> </a:t>
            </a:r>
            <a:endParaRPr b="0" lang="en-US" sz="3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Sprachtesten/-bewerten ist bekanntermaßen anspruchsvoll/komplex</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Sprachtesten/-bewerten sollte viele Kriterien erfüllen:</a:t>
            </a:r>
            <a:endParaRPr b="0" lang="en-US" sz="2800" spc="-1" strike="noStrike">
              <a:solidFill>
                <a:srgbClr val="ffffff"/>
              </a:solidFill>
              <a:latin typeface="Calibri"/>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ea typeface="Arial"/>
              </a:rPr>
              <a:t>(a) Es gibt viele Dinge, die zu beachten sind.  </a:t>
            </a:r>
            <a:endParaRPr b="0" lang="en-US" sz="2800" spc="-1" strike="noStrike">
              <a:solidFill>
                <a:srgbClr val="ffffff"/>
              </a:solidFill>
              <a:latin typeface="Calibri"/>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ea typeface="Arial"/>
              </a:rPr>
              <a:t>(b) Es gibt eventuell Dinge, die man nicht gut genug kennt (unvermeidbarer Grad von Unwissenheit oder gar Untauglichkeit?).</a:t>
            </a:r>
            <a:endParaRPr b="0" lang="en-US" sz="2800" spc="-1" strike="noStrike">
              <a:solidFill>
                <a:srgbClr val="ffffff"/>
              </a:solidFill>
              <a:latin typeface="Calibri"/>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ea typeface="Arial"/>
              </a:rPr>
              <a:t>(c) Es kann ernshafte Konsequenzen habe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Kann man Sprachtesten/-bewerten weniger anspruchsvoll und komplex gestalten und vermeidbare Probleme/Fehler ausschließen?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179280" y="115920"/>
            <a:ext cx="8640720" cy="10116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Bewerten –  Viele Dinge, die beachtet werden müssen</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Aspekte guten Sprachgebrauchs beobachten </a:t>
            </a:r>
            <a:r>
              <a:rPr b="0" lang="fi-FI" sz="3000" spc="-1" strike="noStrike">
                <a:solidFill>
                  <a:srgbClr val="ffffff"/>
                </a:solidFill>
                <a:latin typeface="Wingdings"/>
                <a:ea typeface="Wingdings"/>
              </a:rPr>
              <a:t></a:t>
            </a:r>
            <a:r>
              <a:rPr b="0" lang="fi-FI" sz="3000" spc="-1" strike="noStrike">
                <a:solidFill>
                  <a:srgbClr val="ffffff"/>
                </a:solidFill>
                <a:latin typeface="Calibri"/>
              </a:rPr>
              <a:t> lernen, zuerst Beobachtung weniger guten Sprachgebrauchs zu vermeiden</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Beispielsweise beim Bewerten lernen, Folgendes zu vermeiden:</a:t>
            </a:r>
            <a:endParaRPr b="0" lang="en-US" sz="30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ea typeface="Arial"/>
              </a:rPr>
              <a:t>Halo-Effekt </a:t>
            </a:r>
            <a:endParaRPr b="0" lang="en-US" sz="30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ea typeface="Arial"/>
              </a:rPr>
              <a:t>Effekt der zentralen Tendenz</a:t>
            </a:r>
            <a:endParaRPr b="0" lang="en-US" sz="30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ea typeface="Arial"/>
              </a:rPr>
              <a:t>Effekt der Einschränkung des Messbereichs</a:t>
            </a:r>
            <a:endParaRPr b="0" lang="en-US" sz="30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ea typeface="Arial"/>
              </a:rPr>
              <a:t>Härte oder Nachsicht </a:t>
            </a:r>
            <a:endParaRPr b="0" lang="en-US" sz="30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What about using Checklists?</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108000" y="115920"/>
            <a:ext cx="8785080" cy="6430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ecklisten: Alltagsgebrauch – Einkaufszettel </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ecklisten/Bestandsaufnahmen – haben lange Tradition bspw. bei Persönlichkeitsfragebögen (Selbstevaluation, Vorlieben).</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ecklisten – häufiger Gebrauch im Gesundheitswesen/ bei der Pflege, im Flugverkehr/Piloten, im Bauwesen, …</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awande, A. (2010). The checklist manifesto. How to get things right.  London: Profile Books.</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stern Michigan Checklist Project (www.xxx)</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riven, M. (2000/2007). The Logic and Methodology of Checklists. </a:t>
            </a:r>
            <a:r>
              <a:rPr b="0" lang="fi-FI" sz="3200" spc="-1" strike="noStrike">
                <a:solidFill>
                  <a:srgbClr val="ffffff"/>
                </a:solidFill>
                <a:latin typeface="Calibri"/>
              </a:rPr>
              <a:t>Western Michigan Universit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38160" y="44280"/>
            <a:ext cx="8926560" cy="679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Abneigung gegenüber Checklisten – Vorwände</a:t>
            </a:r>
            <a:endParaRPr b="0"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a:t>
            </a:r>
            <a:r>
              <a:rPr b="0" lang="fi-FI" sz="2800" spc="-1" strike="noStrike">
                <a:solidFill>
                  <a:srgbClr val="ffffff"/>
                </a:solidFill>
                <a:latin typeface="Calibri"/>
              </a:rPr>
              <a:t>Es ist unter unserer Würde, Checklisten zu benutzen, eine Beschämung. Es ist wider unserer tiefen Überzeugung davon, wie die wahrhaft Großen unter uns – die, welche wir erstreben zu sein – riskante und komplexe Situationen bewältigen. Die wahrhaft Großen sind wagemutig. Sie improvisieren. Sie haben keine Protokolle und Checklisten. Vielleicht braucht unser Heldenbild ein Update.” (nach: Gawande, S. 173)</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Checklisten – langweilig </a:t>
            </a:r>
            <a:r>
              <a:rPr b="0" lang="fi-FI" sz="2800" spc="-1" strike="noStrike">
                <a:solidFill>
                  <a:srgbClr val="ffffff"/>
                </a:solidFill>
                <a:latin typeface="Wingdings"/>
                <a:ea typeface="Wingdings"/>
              </a:rPr>
              <a:t></a:t>
            </a:r>
            <a:r>
              <a:rPr b="0" lang="fi-FI" sz="2800" spc="-1" strike="noStrike">
                <a:solidFill>
                  <a:srgbClr val="ffffff"/>
                </a:solidFill>
                <a:latin typeface="Calibri"/>
              </a:rPr>
              <a:t> Professionalität – Erwartungen: Selbstlosigkeit, Geschicklichkeit, Zuverlässigkeit, Disziplin. Wir sind nicht zur Disziplin geboren (Neuheit, Spannung). Wir müssen daran arbeiten. (S. 182-3).</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Wie ist es mit der Bildung?</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179280" y="260280"/>
            <a:ext cx="8713800" cy="655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Checklisten sind ein wertvolles Evaluationsverfahren, wenn sie mit Bedacht entwickelt, überprüft und angewandt werden.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Eine solide Evaluationscheckliste: </a:t>
            </a:r>
            <a:endParaRPr b="0" lang="en-US" sz="24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ea typeface="Arial"/>
              </a:rPr>
              <a:t>definiert die Kriterien, die mindestens bei der Evalutaion eines bestimmten Bereichs in Betracht gezogen werden sollten.</a:t>
            </a:r>
            <a:endParaRPr b="0" lang="en-US" sz="24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ea typeface="Arial"/>
              </a:rPr>
              <a:t>hilft dem Gutachter, die wichtigen Kriterien nicht zu vergessen</a:t>
            </a:r>
            <a:endParaRPr b="0" lang="en-US" sz="24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ea typeface="Arial"/>
              </a:rPr>
              <a:t>erhöht die Objektiviät, Glaubwürdigkeit und Reproduzier-barkeit des Gutachtens</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Außerdem ist eine solche Checkliste hilfreich, wenn es darum geht, Vorgänge zu planen, zu überwachen und anzuleiten und deren Ergebnisse zu bewerten. In der Evaluationsfachsprache sind Checklisten sowohl bei formativen als auch summativen Evaluationen hilfreich.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Calibri"/>
              </a:rPr>
              <a:t>(Nach: Scriven, M. The Logic and Methdology of Checklists. Western Michigan University. 2000, 2007)</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144360" y="98280"/>
            <a:ext cx="8964720" cy="661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Checklisten sind nicht gleich gemacht –</a:t>
            </a:r>
            <a:endParaRPr b="0" lang="en-US" sz="3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 </a:t>
            </a:r>
            <a:r>
              <a:rPr b="0" lang="fi-FI" sz="3600" spc="-1" strike="noStrike">
                <a:solidFill>
                  <a:srgbClr val="ffffff"/>
                </a:solidFill>
                <a:latin typeface="Calibri"/>
              </a:rPr>
              <a:t>mehr schlechte als gute Checklisten? </a:t>
            </a:r>
            <a:endParaRPr b="0" lang="en-US" sz="3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 </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schlechte Checklisten: ungenau, unpräzis, zu lang, schwer in der Benutzung, unpraktisch</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gute Checklisten: präzis, effizient, auf den Punkt, einfach in der Benutzung, enthalten Erinnerungen (nicht erschöpfende), praktisch.  Normalerweise nicht mehr als 5-9 Punkte. </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108000" y="-27000"/>
            <a:ext cx="8856720" cy="649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Calibri"/>
              </a:rPr>
              <a:t>Arten von Checklisten</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alibri"/>
              </a:rPr>
              <a:t>Listen (mnemonisch) – bspw. Einkaufszettel, Wäscheliste – Schwerpunkt Gruppierung</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alibri"/>
              </a:rPr>
              <a:t>Sequenzielle Checklisten</a:t>
            </a:r>
            <a:r>
              <a:rPr b="0" lang="de-DE" sz="3200" spc="-1" strike="noStrike">
                <a:solidFill>
                  <a:srgbClr val="ffffff"/>
                </a:solidFill>
                <a:latin typeface="Calibri"/>
              </a:rPr>
              <a:t> – Wichtigkeit der Reihenfolge: </a:t>
            </a:r>
            <a:endParaRPr b="0" lang="en-US" sz="32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alibri"/>
                <a:ea typeface="Arial"/>
              </a:rPr>
              <a:t>stark </a:t>
            </a:r>
            <a:r>
              <a:rPr b="1" i="1" lang="de-DE" sz="3200" spc="-1" strike="noStrike">
                <a:solidFill>
                  <a:srgbClr val="ffffff"/>
                </a:solidFill>
                <a:latin typeface="Calibri"/>
                <a:ea typeface="Arial"/>
              </a:rPr>
              <a:t>sequenziell, </a:t>
            </a:r>
            <a:r>
              <a:rPr b="0" lang="de-DE" sz="3200" spc="-1" strike="noStrike">
                <a:solidFill>
                  <a:srgbClr val="ffffff"/>
                </a:solidFill>
                <a:latin typeface="Calibri"/>
                <a:ea typeface="Arial"/>
              </a:rPr>
              <a:t>wenn die Reihenfolge (einiger oder aller zu prüfender Punkte) beachtet werden muss, um zulässige Ergebnisse zu erhalten. </a:t>
            </a:r>
            <a:endParaRPr b="0" lang="en-US" sz="3200" spc="-1" strike="noStrike">
              <a:solidFill>
                <a:srgbClr val="ffffff"/>
              </a:solidFill>
              <a:latin typeface="Calibri"/>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Calibri"/>
                <a:ea typeface="Arial"/>
              </a:rPr>
              <a:t>schwach sequenziell, </a:t>
            </a:r>
            <a:r>
              <a:rPr b="0" lang="de-DE" sz="3200" spc="-1" strike="noStrike">
                <a:solidFill>
                  <a:srgbClr val="ffffff"/>
                </a:solidFill>
                <a:latin typeface="Calibri"/>
                <a:ea typeface="Arial"/>
              </a:rPr>
              <a:t>wenn die Reihenfolge wichtig ist, aber eher aus psychologischen oder Effizienzgründen als aus logischer oder physischer Notwendigkei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08000" y="44280"/>
            <a:ext cx="8881920" cy="63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Calibri"/>
              </a:rPr>
              <a:t>Iterative Checklisten </a:t>
            </a:r>
            <a:r>
              <a:rPr b="0" lang="de-DE" sz="2800" spc="-1" strike="noStrike">
                <a:solidFill>
                  <a:srgbClr val="ffffff"/>
                </a:solidFill>
                <a:latin typeface="Calibri"/>
              </a:rPr>
              <a:t>sind im Ganzen oder teilweise sequenziell, aber setzen mehrfache Durchgänge  voraus bzw. können diese voraussetzen, um einen stabilen Messwert für jeden zu prüfenden Punkt zu erreiche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ff"/>
                </a:solidFill>
                <a:latin typeface="Calibri"/>
              </a:rPr>
              <a:t>Diagnostische  Checklisten, </a:t>
            </a:r>
            <a:r>
              <a:rPr b="0" lang="de-DE" sz="2800" spc="-1" strike="noStrike">
                <a:solidFill>
                  <a:srgbClr val="ffffff"/>
                </a:solidFill>
                <a:latin typeface="Calibri"/>
              </a:rPr>
              <a:t>wie sie beispielsweise von Systematikern, Mechanikern und Toxikologen verwendet werden, unterstützen typischerweise eine klassifikatorische Schlussfolgerung, welche deskriptiv oder wertend sein kan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alibri"/>
              </a:rPr>
              <a:t>Die wahrscheinlich wichtigste Checkliste für Evaluationszwecke ist die </a:t>
            </a:r>
            <a:r>
              <a:rPr b="1" i="1" lang="de-DE" sz="2800" spc="-1" strike="noStrike">
                <a:solidFill>
                  <a:srgbClr val="ffffff"/>
                </a:solidFill>
                <a:latin typeface="Calibri"/>
              </a:rPr>
              <a:t>Criteria of Merit Checkliste </a:t>
            </a:r>
            <a:r>
              <a:rPr b="0" lang="de-DE" sz="2800" spc="-1" strike="noStrike">
                <a:solidFill>
                  <a:srgbClr val="ffffff"/>
                </a:solidFill>
                <a:latin typeface="Calibri"/>
              </a:rPr>
              <a:t>(COMlist). Diese benutzen Preisrichter, wenn sie Skate-, Grill- oder Agrarerzeugniswettbewerbe bewerten (und, natürlich bei der Beurteilung sprachlicher Performanz).</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08000" y="115920"/>
            <a:ext cx="8928000" cy="560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ffff"/>
                </a:solidFill>
                <a:latin typeface="Calibri"/>
              </a:rPr>
              <a:t>Überblick</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Die aktuelle Debatte zur Definition des Konstrukts beim Sprachenlernen </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Handlungsorientiertes Sprachenlernen und </a:t>
            </a:r>
            <a:br>
              <a:rPr sz="3000"/>
            </a:br>
            <a:r>
              <a:rPr b="0" lang="fi-FI" sz="3000" spc="-1" strike="noStrike">
                <a:solidFill>
                  <a:srgbClr val="ffffff"/>
                </a:solidFill>
                <a:latin typeface="Calibri"/>
              </a:rPr>
              <a:t>-bewerten: Vernachlässigung einiger relevanter Quellen und Quellenkritik </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Modelle der Sprachbewertung nach dem handlungsorientierten Ansatz  </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Das Für und Wider der Checklistenmethode</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Bewerten mittels Checklisten </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Abschließende Bemerkungen</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08000" y="44280"/>
            <a:ext cx="8928000" cy="640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Book Antiqua"/>
              </a:rPr>
              <a:t>Zentrale Voraussetzungen für COMlists /Criteria of Merit</a:t>
            </a: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meisten sind selbsterklärend und beziehen sich auf die Kriterien oder Prüfpunkte, die eine COMlist ausmachen:</a:t>
            </a:r>
            <a:endParaRPr b="0" lang="en-US" sz="22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Prüfpunkte sollten sich auf </a:t>
            </a:r>
            <a:r>
              <a:rPr b="1" lang="de-DE" sz="2200" spc="-1" strike="noStrike">
                <a:solidFill>
                  <a:srgbClr val="ffffff"/>
                </a:solidFill>
                <a:latin typeface="Book Antiqua"/>
              </a:rPr>
              <a:t>Kriterien</a:t>
            </a:r>
            <a:r>
              <a:rPr b="0" lang="de-DE" sz="2200" spc="-1" strike="noStrike">
                <a:solidFill>
                  <a:srgbClr val="ffffff"/>
                </a:solidFill>
                <a:latin typeface="Book Antiqua"/>
              </a:rPr>
              <a:t> und nicht bloße Indikatoren beziehen.  </a:t>
            </a:r>
            <a:endParaRPr b="0" lang="en-US" sz="22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Listen sollten </a:t>
            </a:r>
            <a:r>
              <a:rPr b="1" lang="de-DE" sz="2200" spc="-1" strike="noStrike">
                <a:solidFill>
                  <a:srgbClr val="ffffff"/>
                </a:solidFill>
                <a:latin typeface="Book Antiqua"/>
              </a:rPr>
              <a:t>vollständig</a:t>
            </a:r>
            <a:r>
              <a:rPr b="0" lang="de-DE" sz="2200" spc="-1" strike="noStrike">
                <a:solidFill>
                  <a:srgbClr val="ffffff"/>
                </a:solidFill>
                <a:latin typeface="Book Antiqua"/>
              </a:rPr>
              <a:t> sein (keine wesentlichen Auslassungen).  Die einzelnen Punkte sollten </a:t>
            </a:r>
            <a:r>
              <a:rPr b="1" lang="de-DE" sz="2200" spc="-1" strike="noStrike">
                <a:solidFill>
                  <a:srgbClr val="ffffff"/>
                </a:solidFill>
                <a:latin typeface="Book Antiqua"/>
              </a:rPr>
              <a:t>zusammenhängend</a:t>
            </a:r>
            <a:r>
              <a:rPr b="0" lang="de-DE" sz="2200" spc="-1" strike="noStrike">
                <a:solidFill>
                  <a:srgbClr val="ffffff"/>
                </a:solidFill>
                <a:latin typeface="Book Antiqua"/>
              </a:rPr>
              <a:t> sein, sich also </a:t>
            </a:r>
            <a:r>
              <a:rPr b="1" lang="de-DE" sz="2200" spc="-1" strike="noStrike">
                <a:solidFill>
                  <a:srgbClr val="ffffff"/>
                </a:solidFill>
                <a:latin typeface="Book Antiqua"/>
              </a:rPr>
              <a:t>nicht überschneiden </a:t>
            </a:r>
            <a:r>
              <a:rPr b="0" lang="de-DE" sz="2200" spc="-1" strike="noStrike">
                <a:solidFill>
                  <a:srgbClr val="ffffff"/>
                </a:solidFill>
                <a:latin typeface="Book Antiqua"/>
              </a:rPr>
              <a:t>(unerlässlich, wenn die Liste zur Punktebewertung benutzt  wird). </a:t>
            </a:r>
            <a:endParaRPr b="0" lang="en-US" sz="22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Kriterien sollten </a:t>
            </a:r>
            <a:r>
              <a:rPr b="1" lang="de-DE" sz="2200" spc="-1" strike="noStrike">
                <a:solidFill>
                  <a:srgbClr val="ffffff"/>
                </a:solidFill>
                <a:latin typeface="Book Antiqua"/>
              </a:rPr>
              <a:t>messbar</a:t>
            </a:r>
            <a:r>
              <a:rPr b="0" lang="de-DE" sz="2200" spc="-1" strike="noStrike">
                <a:solidFill>
                  <a:srgbClr val="ffffff"/>
                </a:solidFill>
                <a:latin typeface="Book Antiqua"/>
              </a:rPr>
              <a:t> sein.  </a:t>
            </a:r>
            <a:endParaRPr b="0" lang="en-US" sz="22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Kriterien sollten </a:t>
            </a:r>
            <a:r>
              <a:rPr b="1" lang="de-DE" sz="2200" spc="-1" strike="noStrike">
                <a:solidFill>
                  <a:srgbClr val="ffffff"/>
                </a:solidFill>
                <a:latin typeface="Book Antiqua"/>
              </a:rPr>
              <a:t>eindeutig</a:t>
            </a:r>
            <a:r>
              <a:rPr b="0" lang="de-DE" sz="2200" spc="-1" strike="noStrike">
                <a:solidFill>
                  <a:srgbClr val="ffffff"/>
                </a:solidFill>
                <a:latin typeface="Book Antiqua"/>
              </a:rPr>
              <a:t> sein (verständlich, anwendbar).</a:t>
            </a:r>
            <a:endParaRPr b="0" lang="en-US" sz="22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Liste sollte </a:t>
            </a:r>
            <a:r>
              <a:rPr b="1" lang="de-DE" sz="2200" spc="-1" strike="noStrike">
                <a:solidFill>
                  <a:srgbClr val="ffffff"/>
                </a:solidFill>
                <a:latin typeface="Book Antiqua"/>
              </a:rPr>
              <a:t>prägnant</a:t>
            </a:r>
            <a:r>
              <a:rPr b="0" lang="de-DE" sz="2200" spc="-1" strike="noStrike">
                <a:solidFill>
                  <a:srgbClr val="ffffff"/>
                </a:solidFill>
                <a:latin typeface="Book Antiqua"/>
              </a:rPr>
              <a:t> sein (um die mnemonischen Funktionen zu unterstützen). Sie sollte bspw. keine überflüssigen Kriterien enthalten. </a:t>
            </a:r>
            <a:endParaRPr b="0" lang="en-US" sz="22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Book Antiqua"/>
              </a:rPr>
              <a:t>Die Kriterien sollten </a:t>
            </a:r>
            <a:r>
              <a:rPr b="1" lang="de-DE" sz="2200" spc="-1" strike="noStrike">
                <a:solidFill>
                  <a:srgbClr val="ffffff"/>
                </a:solidFill>
                <a:latin typeface="Book Antiqua"/>
              </a:rPr>
              <a:t>beweisbar</a:t>
            </a:r>
            <a:r>
              <a:rPr b="0" lang="de-DE" sz="2200" spc="-1" strike="noStrike">
                <a:solidFill>
                  <a:srgbClr val="ffffff"/>
                </a:solidFill>
                <a:latin typeface="Book Antiqua"/>
              </a:rPr>
              <a:t> sein (bspw. messbar oder zuverlässig ableitbar). </a:t>
            </a:r>
            <a:endParaRPr b="0" lang="en-US" sz="2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Book Antiqua"/>
              </a:rPr>
              <a:t>(Scriven, 200, 2007)</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
          <p:cNvSpPr/>
          <p:nvPr/>
        </p:nvSpPr>
        <p:spPr>
          <a:xfrm>
            <a:off x="179280" y="115920"/>
            <a:ext cx="8785440" cy="624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Calibri"/>
              </a:rPr>
              <a:t>Positive Entwicklungen </a:t>
            </a:r>
            <a:endParaRPr b="0"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alibri"/>
              </a:rPr>
              <a:t>Wissenslücken bzw. Unwissenheit vermindernd: angemessene Richtlinien bewährter Verfahren</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alibri"/>
              </a:rPr>
              <a:t>Mit der Transparenz geht es voran: auf dem Feld der Verknüpfung von Prüfungen mit dem GER wird geforscht und brauchbare Forschungsergebnisse werden zugänglich.</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alibri"/>
              </a:rPr>
              <a:t>Schulungen zum Sprachtesten /-bewerten sind zunehmend verfügbar (EALTA, ALTE).</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alibri"/>
              </a:rPr>
              <a:t>Folglich haben wir zunehmend bessere Chancen, die Dinge richtig zu mache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alibri"/>
              </a:rPr>
              <a:t>	</a:t>
            </a:r>
            <a:r>
              <a:rPr b="0" lang="de-DE" sz="2800" spc="-1" strike="noStrike">
                <a:solidFill>
                  <a:srgbClr val="ffffff"/>
                </a:solidFill>
                <a:latin typeface="Calibri"/>
              </a:rPr>
              <a:t>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Calibri"/>
              </a:rPr>
              <a:t>Scriven, M. (2000/2007). The Logic and Methodology of Checklists. Western Michigan University.</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Calibri"/>
              </a:rPr>
              <a:t>Gawande, A. (2010). The checklist manifesto. How to get things right.  London: Profile Book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0" y="44280"/>
            <a:ext cx="8964720" cy="61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Definitionsversuch des Konstrukts der Sprachperformanz:</a:t>
            </a: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Kompetenzfokussierung (z.B. Bachman 2002, 2006)</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Aufgabenfokussierung  (z.B. Norris 2005)</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Interaktionsfokussierung</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siehe nächste Folie für einen Überblick zum Definitionsversuch des Konstrukts nach Bachman  </a:t>
            </a:r>
            <a:r>
              <a:rPr b="0" lang="de-DE" sz="2600" spc="-1" strike="noStrike">
                <a:solidFill>
                  <a:srgbClr val="ffffff"/>
                </a:solidFill>
                <a:latin typeface="Calibri"/>
              </a:rPr>
              <a:t>(2007; What is the construct? The Dialectic of Abilities and Contexts in Defining Constructs in Language Assessment.  In Fox et al. Language Testing Reconsidered. Ottawa: U of Ottawa Press, 41-71)</a:t>
            </a:r>
            <a:endParaRPr b="0" lang="en-US" sz="2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08000" y="55440"/>
            <a:ext cx="89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0000"/>
                </a:solidFill>
                <a:latin typeface="Calibri"/>
              </a:rPr>
              <a:t>Approaches to defining the construct in language testing/assessment, Bachman, 2007</a:t>
            </a:r>
            <a:endParaRPr b="0" lang="en-US" sz="1800" spc="-1" strike="noStrike">
              <a:solidFill>
                <a:srgbClr val="ffffff"/>
              </a:solidFill>
              <a:latin typeface="Calibri"/>
            </a:endParaRPr>
          </a:p>
        </p:txBody>
      </p:sp>
      <p:graphicFrame>
        <p:nvGraphicFramePr>
          <p:cNvPr id="94" name=""/>
          <p:cNvGraphicFramePr/>
          <p:nvPr/>
        </p:nvGraphicFramePr>
        <p:xfrm>
          <a:off x="431640" y="0"/>
          <a:ext cx="9036360" cy="6843600"/>
        </p:xfrm>
        <a:graphic>
          <a:graphicData uri="http://schemas.openxmlformats.org/drawingml/2006/table">
            <a:tbl>
              <a:tblPr/>
              <a:tblGrid>
                <a:gridCol w="3033720"/>
                <a:gridCol w="3014640"/>
                <a:gridCol w="29880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Konstruk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Fertigkeit/Merkmal</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Aufgabe/Inhal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kills &amp; elements; Lado, 1961; Carroll, 1961</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Elemente / Aspekte / Niveaustufen / integrative Fertigkeiten </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eparate Punkte, integrative Aufgaben, Taxonomie der Aufgab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Direct testing, perform. as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lark 72, Jones85, Wesche</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pra.fertigkt in Aufgaben, Performanz im real. Leb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reelle Aufgaben;  authentische Übungen </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ragmatic LT; Oller 1979</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ragm. Gramm.erwartg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ragmatische Test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ommunicative LT; Canale &amp; Swain  1980 etc.</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Kommunikatives Konzept, allg. Sprachfertigkeit        </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innvolle komm. Sit.; authentische Aufgab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Interaction-ability: Bach-man  1990, Bach &amp; Palm96</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Komm. Sprachkompetenz, Sprachkompetenz</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Facetten v.Testmethoden; Aufgabencharakteristika</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based perf. assessm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Brindley1994, MacNam96</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Fähigkeit zum Sprachgebrauch</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imulation reeller  Aufgab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based perf.assessm2</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Norris1998, Brown2002</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Komp. zur Bewältigung konkr. Aufgaben /-typ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erformanz in konkreten Aufgaben/-typ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Minimalist interactionalist  Kramsch1986, Chapelle98</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Interaktionelle Kompetenz / Fähigkeit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Kollaborative Aktivitäten, Interaktionscharakter</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trong interactionalis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He&amp;Young 98, Young00 </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Interaktionelle Kompetenz</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Diskursive Methode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Moderate interact. Chalhoub-Deville03</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          </a:t>
                      </a:r>
                      <a:r>
                        <a:rPr b="1" lang="fi-FI" sz="1800" spc="-1" strike="noStrike">
                          <a:solidFill>
                            <a:srgbClr val="000000"/>
                          </a:solidFill>
                          <a:latin typeface="Book Antiqua"/>
                        </a:rPr>
                        <a:t>Kompetenz des Individuums im Kontex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108000" y="189000"/>
            <a:ext cx="8424720" cy="60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Gibt es grundlegende Unterschiede oder ist es nur eine Frage der Schwerpunktsetzung? </a:t>
            </a: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Sind wir faktisch daran interessiert, herauszufinden, inwiefern Kompetenz für die Anwendung von Sprache zur Aufgabenbewältigung verantwortlich ist?</a:t>
            </a: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Gibt es eine unvermeidliche Interaktion zwischen der Kompetenzstufe und der Aufgabenart? </a:t>
            </a: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Calibri"/>
              </a:rPr>
              <a:t>Repräsentieren Aufgaben die Ziele /erforderlichen Kompetenzen?</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179280" y="44280"/>
            <a:ext cx="8496360" cy="658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Einige hilfreiche frühe Quellen – zu einem bestimmten Grad vernachlässigt</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Linguistische Philosophie (besonders im Spätwerk Wittgensteins, Philosophische Untersuchungen, 1953)</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Soziologie und Sozialpsychologie (Kurt Lewin, Bales (1950), Festinger (1951), Watzlawick (1967)  – Kommunikation und Interaktion in Kleingruppen</a:t>
            </a:r>
            <a:endParaRPr b="0" lang="en-US" sz="3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ffffff"/>
                </a:solidFill>
                <a:latin typeface="Calibri"/>
              </a:rPr>
              <a:t>Linguistischer Pragmatismus – besonders die frühe Kritik Austins (1955/1962) und Searles (1969) durch deutsche Pragmalinguisten (Wunderlich, 1972; Ehlich &amp; Rehbein, 1972 – Praxeogramme...)</a:t>
            </a:r>
            <a:endParaRPr b="0" lang="en-US" sz="3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179280" y="44280"/>
            <a:ext cx="8785440" cy="67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Calibri"/>
              </a:rPr>
              <a:t>ROLLE/SOZIALE ROLLE: auch vernachlässigt?</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In der Sozialpsychologie wird die Rolle folgendermaßen definiert: die Menge aus Verhaltensweisen, Rechten und Pflichten, die von den Akteuren in einer sozialen Situation festgelegt werden. Es handelt sich um ein erwartetes, freies oder sich stetig veränderndes Verhalten, das einen bestimmten individuellen sozialen Status oder eine soziale Position vorsieh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Funktionalistisches und interaktionistisches Verständnis der Gesellschaft und allen sozialen Verhaltens, samt des kommunikativen Verhaltens (siehe nächste Folie) </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Arbeitsteilung – Interaktion zwischen heterogen spezialisierten Positionen/Rolle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Rollen sind von Individuen/Akteuren belegt. </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Soziale Rollen/soziales Verhalten sind durch soziale Normen bestimmt (Erwartungen, Grad der Konventionalität).</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Legitime und konstruktive Rollen – Belohnungserwartung (vs. Bestrafung).</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Veränderte soziale Bedingungen </a:t>
            </a:r>
            <a:r>
              <a:rPr b="0" lang="fi-FI" sz="2400" spc="-1" strike="noStrike">
                <a:solidFill>
                  <a:srgbClr val="ffffff"/>
                </a:solidFill>
                <a:latin typeface="Wingdings"/>
                <a:ea typeface="Wingdings"/>
              </a:rPr>
              <a:t></a:t>
            </a:r>
            <a:r>
              <a:rPr b="0" lang="fi-FI" sz="2400" spc="-1" strike="noStrike">
                <a:solidFill>
                  <a:srgbClr val="ffffff"/>
                </a:solidFill>
                <a:latin typeface="Calibri"/>
              </a:rPr>
              <a:t> Veränderung der Roll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Object 31"/>
          <p:cNvGraphicFramePr/>
          <p:nvPr/>
        </p:nvGraphicFramePr>
        <p:xfrm>
          <a:off x="34920" y="115920"/>
          <a:ext cx="9072720" cy="6578640"/>
        </p:xfrm>
        <a:graphic>
          <a:graphicData uri="http://schemas.openxmlformats.org/presentationml/2006/ole">
            <p:oleObj r:id="rId1" spid="">
              <p:embed/>
              <p:pic>
                <p:nvPicPr>
                  <p:cNvPr id="99" name="Object 31" descr=""/>
                  <p:cNvPicPr/>
                  <p:nvPr/>
                </p:nvPicPr>
                <p:blipFill>
                  <a:blip r:embed="rId2"/>
                  <a:stretch/>
                </p:blipFill>
                <p:spPr>
                  <a:xfrm>
                    <a:off x="34920" y="115920"/>
                    <a:ext cx="9072720" cy="657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403280" y="1413000"/>
            <a:ext cx="5761080" cy="4895640"/>
          </a:xfrm>
          <a:prstGeom prst="rect">
            <a:avLst/>
          </a:prstGeom>
          <a:ln w="0">
            <a:noFill/>
          </a:ln>
        </p:spPr>
      </p:pic>
      <p:sp>
        <p:nvSpPr>
          <p:cNvPr id="101" name="TextBox 1"/>
          <p:cNvSpPr/>
          <p:nvPr/>
        </p:nvSpPr>
        <p:spPr>
          <a:xfrm>
            <a:off x="2987640" y="90792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Externe Situation</a:t>
            </a:r>
            <a:endParaRPr b="0" lang="en-US" sz="1800" spc="-1" strike="noStrike">
              <a:solidFill>
                <a:srgbClr val="ffffff"/>
              </a:solidFill>
              <a:latin typeface="Calibri"/>
            </a:endParaRPr>
          </a:p>
        </p:txBody>
      </p:sp>
      <p:sp>
        <p:nvSpPr>
          <p:cNvPr id="102" name="TextBox 2"/>
          <p:cNvSpPr/>
          <p:nvPr/>
        </p:nvSpPr>
        <p:spPr>
          <a:xfrm>
            <a:off x="3780000" y="6308640"/>
            <a:ext cx="23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Interne Situation</a:t>
            </a:r>
            <a:endParaRPr b="0" lang="en-US" sz="1800" spc="-1" strike="noStrike">
              <a:solidFill>
                <a:srgbClr val="ffffff"/>
              </a:solidFill>
              <a:latin typeface="Calibri"/>
            </a:endParaRPr>
          </a:p>
        </p:txBody>
      </p:sp>
      <p:sp>
        <p:nvSpPr>
          <p:cNvPr id="103" name="TextBox 3"/>
          <p:cNvSpPr/>
          <p:nvPr/>
        </p:nvSpPr>
        <p:spPr>
          <a:xfrm>
            <a:off x="7164360" y="3213000"/>
            <a:ext cx="14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Code: Verwendung </a:t>
            </a:r>
            <a:endParaRPr b="0" lang="en-US" sz="1800" spc="-1" strike="noStrike">
              <a:solidFill>
                <a:srgbClr val="ffffff"/>
              </a:solidFill>
              <a:latin typeface="Calibri"/>
            </a:endParaRPr>
          </a:p>
        </p:txBody>
      </p:sp>
      <p:sp>
        <p:nvSpPr>
          <p:cNvPr id="104" name="TextBox 4"/>
          <p:cNvSpPr/>
          <p:nvPr/>
        </p:nvSpPr>
        <p:spPr>
          <a:xfrm>
            <a:off x="108000" y="3357720"/>
            <a:ext cx="165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Personen: Ziele,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Beziehungen </a:t>
            </a:r>
            <a:endParaRPr b="0" lang="en-US" sz="1800" spc="-1" strike="noStrike">
              <a:solidFill>
                <a:srgbClr val="ffffff"/>
              </a:solidFill>
              <a:latin typeface="Calibri"/>
            </a:endParaRPr>
          </a:p>
        </p:txBody>
      </p:sp>
      <p:sp>
        <p:nvSpPr>
          <p:cNvPr id="105" name="TextBox 5"/>
          <p:cNvSpPr/>
          <p:nvPr/>
        </p:nvSpPr>
        <p:spPr>
          <a:xfrm>
            <a:off x="324000" y="1484280"/>
            <a:ext cx="172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Zeit, Ort,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Störgeräusche</a:t>
            </a:r>
            <a:endParaRPr b="0" lang="en-US" sz="1800" spc="-1" strike="noStrike">
              <a:solidFill>
                <a:srgbClr val="ffffff"/>
              </a:solidFill>
              <a:latin typeface="Calibri"/>
            </a:endParaRPr>
          </a:p>
        </p:txBody>
      </p:sp>
      <p:sp>
        <p:nvSpPr>
          <p:cNvPr id="106" name="TextBox 7"/>
          <p:cNvSpPr/>
          <p:nvPr/>
        </p:nvSpPr>
        <p:spPr>
          <a:xfrm>
            <a:off x="6156360" y="1557360"/>
            <a:ext cx="18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Kanäle, Medien</a:t>
            </a:r>
            <a:endParaRPr b="0" lang="en-US" sz="1800" spc="-1" strike="noStrike">
              <a:solidFill>
                <a:srgbClr val="ffffff"/>
              </a:solidFill>
              <a:latin typeface="Calibri"/>
            </a:endParaRPr>
          </a:p>
        </p:txBody>
      </p:sp>
      <p:sp>
        <p:nvSpPr>
          <p:cNvPr id="107" name="TextBox 8"/>
          <p:cNvSpPr/>
          <p:nvPr/>
        </p:nvSpPr>
        <p:spPr>
          <a:xfrm>
            <a:off x="6948360" y="5229360"/>
            <a:ext cx="18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Thema/ Aspekt</a:t>
            </a:r>
            <a:endParaRPr b="0" lang="en-US" sz="1800" spc="-1" strike="noStrike">
              <a:solidFill>
                <a:srgbClr val="ffffff"/>
              </a:solidFill>
              <a:latin typeface="Calibri"/>
            </a:endParaRPr>
          </a:p>
        </p:txBody>
      </p:sp>
      <p:sp>
        <p:nvSpPr>
          <p:cNvPr id="108" name="TextBox 9"/>
          <p:cNvSpPr/>
          <p:nvPr/>
        </p:nvSpPr>
        <p:spPr>
          <a:xfrm>
            <a:off x="1403280" y="5661000"/>
            <a:ext cx="176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Verarbeitung: Input-Output</a:t>
            </a:r>
            <a:endParaRPr b="0" lang="en-US" sz="1800" spc="-1" strike="noStrike">
              <a:solidFill>
                <a:srgbClr val="ffffff"/>
              </a:solidFill>
              <a:latin typeface="Calibri"/>
            </a:endParaRPr>
          </a:p>
        </p:txBody>
      </p:sp>
      <p:sp>
        <p:nvSpPr>
          <p:cNvPr id="109" name="TextBox 1"/>
          <p:cNvSpPr/>
          <p:nvPr/>
        </p:nvSpPr>
        <p:spPr>
          <a:xfrm>
            <a:off x="1116000" y="189000"/>
            <a:ext cx="64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ffff"/>
                </a:solidFill>
                <a:latin typeface="Calibri"/>
              </a:rPr>
              <a:t>Dynamik der situierten Interaktion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2T11:23:08Z</dcterms:created>
  <dc:creator>sauli</dc:creator>
  <dc:description/>
  <dc:language>en-US</dc:language>
  <cp:lastModifiedBy>Johann Fischer</cp:lastModifiedBy>
  <dcterms:modified xsi:type="dcterms:W3CDTF">2012-09-05T23:22:21Z</dcterms:modified>
  <cp:revision>197</cp:revision>
  <dc:subject/>
  <dc:title>Checklists</dc:title>
</cp:coreProperties>
</file>