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975-C64D-48B8-B877-E72683A3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192-D5E4-4FF9-9E23-FBFEAC5B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4CC-ECB0-4AA1-95DF-D9AE7D3E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C3C-B8BA-4435-B66B-8B94797F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C9A2-EA9F-4460-ACC4-C68DA51A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76E0-1611-4552-B81C-1D96E532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5A14-9ACC-4E05-8B16-8DCA5890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3B09-139B-4B7E-B9EA-71A002EF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54A6-99B0-4734-9430-454AD861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9623-CFA9-4C53-AF87-C8264047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F52E-DB3C-462F-AC15-6FC03E0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A17-CDE9-4886-BF76-4643DBB4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A5C7-A9C8-4116-B895-4C4EF720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6231-F9AE-474C-A453-89F96CFC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FF22-7DBC-4609-B35B-D90C9A70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2841-6C0D-43E1-941C-F1E337E9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C72C-8F25-4835-9AD6-B0A4205C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ABB0-9727-4990-B5AD-7F432511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B463-2ED8-4264-9D44-E9F56CF5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89A0-F0EE-438D-8F10-EDCDFF61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E5FA-747A-4DF7-A334-18FE97CA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0584-1DB0-4CB3-8FD2-A5351A0D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D0F-19DE-468F-A451-933CF095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1CD9-BF93-474A-A0BE-04655D79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B8F1-6DAA-4709-A7AC-2DA142A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7747-1F8B-447C-9C20-236084DC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AD7D-E5D9-461B-B301-E96272B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549E-5FDF-43E3-B01C-A42FD893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78D0-614F-4F94-B5CB-9B4A8B60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AD8D-0A1E-4CCD-A240-542CAB79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026-D86A-4795-BE02-251252FA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CD2-F608-4C34-8DDC-BC7A392D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05A-6099-4BCF-8595-D03A5BFB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098-96FE-44F3-9F51-7A6EA0C4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6D1-F1CC-45F1-943C-989D6A47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0D3-9A6D-4900-82C4-C0A4E538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B1FD-314B-4F56-9A7D-C624B5E6B43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F0F-3A66-4DF1-AD23-54CB832F34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EBBD-8238-4DA3-B8E1-ADD600BC21B4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se.ac.uk/collections/studentCounsellingService/Default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9097-9BD7-4DFB-936A-CFE5A0D6EB0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</a:rPr>
              <a:t>Overcoming Procra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GB" sz="1800" spc="-1" strike="noStrike">
                <a:solidFill>
                  <a:srgbClr val="ff0000"/>
                </a:solidFill>
                <a:latin typeface="Tahoma"/>
              </a:rPr>
              <a:t>This powerpoint is designed for students who need advice on managing procrastination. The format of the Workshop is different to this powerpoi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dam Sandelson and Chris Nancarrow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775D-4E7C-4CB8-A930-F6A07718FBF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viewing essay 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on’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gnore the essay title, plunge into reading, make copio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s, get overwhelmed with information and then sta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rrying about producing a coherent accoun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stea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 yourself time to thin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rainstorm, research answers, and lear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ugh thinking and asking questions become more selective in your choice of materia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a structure to emerge, and be prepared to revis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055E-F5B5-4C28-928A-3B94994FD7E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Writing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ee yourself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 for a walk; Talk it out lo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ait for a structure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ullet points, mind maps, scribble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ive yourself time to work it out – learning and writing involve unconscious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agine looking back at this task in 2 or 6 month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Work with others, use study group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7466-8C30-4950-8F0F-369CF991244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final stage of wri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2349360"/>
            <a:ext cx="6121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dget about an hour for each sheet, half of which will be allocated to the draf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’t worry about being stylis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rity is much more important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asking questions and finding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go of the tortuous process of putting the essay together like a jigsa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essay to examine answers to your own curios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Remember - is it a book or an essa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Pj03997680000[1]"/>
          <p:cNvPicPr/>
          <p:nvPr/>
        </p:nvPicPr>
        <p:blipFill>
          <a:blip r:embed="rId1"/>
          <a:stretch/>
        </p:blipFill>
        <p:spPr>
          <a:xfrm>
            <a:off x="6516720" y="2205000"/>
            <a:ext cx="249696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A8BA-A399-48B8-89D3-80922501511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coming Procrast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475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 daily schedule and weekly di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se and set achievable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e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y focus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avoidant activiti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ward your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72C-49F9-448A-AFAF-FED132E5A2A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Strategies to move forward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ment with your standards for success. Try for 80% or even 60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doing an activity not just the end resul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success in terms of what you accomplished and whether you enjoyed the task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your feelings. Monitor feelings of anxiety and depression. Don’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t up impossible expectatio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e your fears that may be behind your procrastination -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at am I afraid of? What  is the worst thing that could hap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ebrate your mistak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9" descr="j0422300"/>
          <p:cNvPicPr/>
          <p:nvPr/>
        </p:nvPicPr>
        <p:blipFill>
          <a:blip r:embed="rId1"/>
          <a:stretch/>
        </p:blipFill>
        <p:spPr>
          <a:xfrm>
            <a:off x="5219640" y="22050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7DD6-FA2F-4DA0-8153-C3987C1AF1F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ooking behind the time iss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466884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hat kind of internal pressure do I put myself when preparing to work…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hat negative thoughts get in the way of working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here do these come from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MPj04225890000[1]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8B64-256A-4B32-95EE-A5B8774620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</a:rPr>
              <a:t>Procrastination Mini Question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scribe the Internal Criti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does he or she say to you when you are under pressure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(list negative thought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o’s voice is it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is the resulting self defeating behaviour (i.e. procrastination) and unhealthy emotion (i.e. anxiety, fear, panic etc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lf Defeating Behaviou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nhealthy Negative Emo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could an alternative be to the Internal Critic? (i.e. a less judgemental voi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2C6E-CB9B-41D8-8B78-2D152FCA3BD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5184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after yourself (diet, sleep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ep a supportive structure fo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daily life; have relaxati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writing as a time of discover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Recall past achiev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hallenge negative thou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magine looking back at the task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3 or 6 months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6" descr="MPj03998830000[1]"/>
          <p:cNvPicPr/>
          <p:nvPr/>
        </p:nvPicPr>
        <p:blipFill>
          <a:blip r:embed="rId1"/>
          <a:stretch/>
        </p:blipFill>
        <p:spPr>
          <a:xfrm>
            <a:off x="5148360" y="278136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5816-2325-465F-9D63-AD91A7CB017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ups and Workshops program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f Esteem Grou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ress Management Grou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nger term groups for PhD and for MSc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ebs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as information about th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ress management hand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laxation tape MP3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nks to self help resour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werpoints from Workshops on perfectionism and procrast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C50B-016E-4657-A3E9-55C230920BD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ine difficulties with procra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a range of strategies to overcome i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lore unhelpful negative thoughts and behavi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ew sources of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527-C71D-408D-A447-85EBA8776FB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procrastin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10" descr="j0422183"/>
          <p:cNvPicPr/>
          <p:nvPr/>
        </p:nvPicPr>
        <p:blipFill>
          <a:blip r:embed="rId1"/>
          <a:stretch/>
        </p:blipFill>
        <p:spPr>
          <a:xfrm>
            <a:off x="3924360" y="2205000"/>
            <a:ext cx="4670280" cy="37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E459-7EE8-4180-85D7-8F8BFC03623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What is procrastination?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utting off a task which needs to be do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can affect our study and wr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may disguise avoidance by being very bus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may find things to do that are  interesting or even useful, but don't contribute towards the main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y involve feelings of anxiety, stress, guilt, shame and de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E7FA-BF46-4D8E-A266-0DC7535A92A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mo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4608360" cy="37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ime manage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inability to prioritise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overload of tasks at a specific time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anxiety about the task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not knowing what is required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feeling overwhelmed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j0422412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A22E-B690-4020-9FA7-C725AA2AE63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How do we procrastinat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When did you last procrastinat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60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What triggers i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6D30-1E02-4F8F-A43C-245E0B7024A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Taking control of ti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sk yourself from time to ti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ow am I using my mental and physical energy now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s this good use of my ti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y priorities/commitments for the week ahead and write on blank sheet lectures/classes; leisure activities; paid work; time for self; adequate rest/sle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E2DA-F972-4E27-82E6-BC03B1BA64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187280" y="260280"/>
          <a:ext cx="69980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60280"/>
                    <a:ext cx="69980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0788-A074-47C4-B576-3D6AFD814EA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Use personal timetabling t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cknowledge what you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hav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achiev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ave mental energ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be purposeful and realistic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eet deadlines and keep up with work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have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effectiv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study time and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effective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relaxation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njoy yourself without guilt and worr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emis2000</dc:creator>
  <dc:description/>
  <dc:language>en-US</dc:language>
  <cp:lastModifiedBy>Administrator</cp:lastModifiedBy>
  <dcterms:modified xsi:type="dcterms:W3CDTF">2012-09-20T09:32:28Z</dcterms:modified>
  <cp:revision>139</cp:revision>
  <dc:subject/>
  <dc:title>Slide 1</dc:title>
</cp:coreProperties>
</file>