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D935-F67B-4DF6-9529-D4375A39C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4989-A535-4AD6-A629-55318C45B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A280-36EA-4F18-8C3D-81BFA072B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ABFC-7193-4C27-9CAD-68DA311AF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36FD3-D45E-4D7B-90A7-548DC5EDE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CB507-8791-4A8C-AF9F-E044A81CD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193F8-5EBB-4730-A89A-1BEE1EDB5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07B65-8B3F-4F0C-A368-52731C580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38020-1A82-4235-A3B5-10B8C9B19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8DBD9-7110-40A4-BCD3-B58A69C77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E592A-DA3A-4A52-868D-C7130346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68B2-456D-4150-A89C-EF76AA9FF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0FBE9-1534-46C7-B3A2-BB9EF1D7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4C3D6-5703-42EC-A526-A0F04588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A7255-DDB7-43EF-B503-AD920777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683B9-7EFE-43D4-804B-F6842FF03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AD80D-931B-4647-B63B-B6E555704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1681F-F5B1-43C2-9929-B651C8C95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04B96-CD9C-424B-89E4-822A82C42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8B8F6-FCA0-440A-AC88-E56A51371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A5C25-93B7-4FD8-891F-2EAFA2686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E6BAA-65AC-47B1-BC88-CA2045ABD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2870-290C-4A60-ABF1-BD6B279D8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18A95-49E8-433B-B47C-46CB07874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64EAD-B710-483E-8F5D-A96BF69D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BCEEE-E067-4779-A97E-841F01DF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391AB-AF54-476F-BFB1-4900FE2D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30562-AD48-461E-B7E6-AB787132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1075E-9589-4F7E-8AC1-4A80B2E4D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E8B46-5E4B-4B62-B4F0-D04AE55CC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BC99-4E6C-4019-82C0-8849FD950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2E0D-378D-417E-9947-BBF081ACC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7179-5D66-4627-916D-2A335513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D8AB-47B8-494C-846F-493C18FD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683D-CC56-4864-BEEE-2A9F9250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EE75-4003-4203-B34F-8036D4B4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7B645-B747-440E-8CD5-7D97E5D8EA62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8EDF6-E28F-4859-B93E-4B2358F13DC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1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93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94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E94D5-083C-4E21-A965-7CE66408EEA6}" type="slidenum">
              <a:rPr b="0" lang="en-GB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lse.ac.uk/collections/studentCounsellingService/Default.ht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24CDA-B0C8-406C-A596-529375CA8637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Overcoming Procra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1800" spc="-1" strike="noStrike">
                <a:solidFill>
                  <a:srgbClr val="ff0000"/>
                </a:solidFill>
                <a:latin typeface="Tahoma"/>
              </a:rPr>
              <a:t>This powerpoint is designed for students who need advice on managing procrastination. The format of the Workshop is different to this powerpoin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Adam Sandelson and Chris Nancarrow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LSE Student Counselling Servic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ECEB7-356D-4454-9426-FAFB712C8832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Reviewing essay prepa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on’t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gnore the essay title, plunge into reading, make copiou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es, get overwhelmed with information and then star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orrying about producing a coherent account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Instead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ive yourself time to think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rainstorm, research answers, and lear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rough thinking and asking questions become more selective in your choice of material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ow a structure to emerge, and be prepared to revise 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89C71-149A-4FA2-8B82-5D11A94FA8A5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Tahoma"/>
              </a:rPr>
              <a:t>Writing Strateg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ree yourself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Go for a walk; Talk it out lou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ait for a structure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ullet points, mind maps, scribble id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Give yourself time to work it out – learning and writing involve unconscious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magine looking back at this task in 2 or 6 month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Work with others, use study groups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0EBE0-B6F4-449E-A75A-A00BB608A118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he final stage of wri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79280" y="2349360"/>
            <a:ext cx="6121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dget about an hour for each sheet, half of which will be allocated to the draft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n’t worry about being stylish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rity is much more important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Keep asking questions and finding answ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go of the tortuous process of putting the essay together like a jigsaw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 the essay to examine answers to your own curios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Remember - is it a book or an essay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1" name="Picture 4" descr="MPj03997680000[1]"/>
          <p:cNvPicPr/>
          <p:nvPr/>
        </p:nvPicPr>
        <p:blipFill>
          <a:blip r:embed="rId1"/>
          <a:stretch/>
        </p:blipFill>
        <p:spPr>
          <a:xfrm>
            <a:off x="6516720" y="2205000"/>
            <a:ext cx="2496960" cy="37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CA39E-560A-4098-93C1-CE61134C0B9D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Overcoming Procrastin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24000" y="1915920"/>
            <a:ext cx="4752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 daily schedule and weekly di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se and set achievable targ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se targ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y focus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oid avoidant activitie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ward your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Picture 5" descr=""/>
          <p:cNvPicPr/>
          <p:nvPr/>
        </p:nvPicPr>
        <p:blipFill>
          <a:blip r:embed="rId1"/>
          <a:stretch/>
        </p:blipFill>
        <p:spPr>
          <a:xfrm>
            <a:off x="5145120" y="2805120"/>
            <a:ext cx="3809880" cy="25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6E296-30C6-4FEA-9897-89EF1E9D5012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99"/>
                </a:solidFill>
                <a:latin typeface="Tahoma"/>
              </a:rPr>
              <a:t>Strategies to move forward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79280" y="2060640"/>
            <a:ext cx="5184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ment with your standards for success. Try for 80% or even 60%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cus on th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roces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doing an activity not just the end result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e success in terms of what you accomplished and whether you enjoyed the task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eck your feelings. Monitor feelings of anxiety and depression. Don’t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et up impossible expectation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ce your fears that may be behind your procrastination -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hat am I afraid of? What  is the worst thing that could happe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?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elebrate your mistak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9" name="Picture 9" descr="j0422300"/>
          <p:cNvPicPr/>
          <p:nvPr/>
        </p:nvPicPr>
        <p:blipFill>
          <a:blip r:embed="rId1"/>
          <a:stretch/>
        </p:blipFill>
        <p:spPr>
          <a:xfrm>
            <a:off x="5219640" y="2205000"/>
            <a:ext cx="3745080" cy="37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B6055-58EA-4049-852C-0E7502871F2E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Looking behind the time issu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23640" y="2781360"/>
            <a:ext cx="4668840" cy="36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Tahoma"/>
              </a:rPr>
              <a:t>What kind of internal pressure do I put myself when preparing to work…?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Tahoma"/>
              </a:rPr>
              <a:t>What negative thoughts get in the way of working?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Tahoma"/>
              </a:rPr>
              <a:t>Where do these come from?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3" name="Picture 4" descr="MPj04225890000[1]"/>
          <p:cNvPicPr/>
          <p:nvPr/>
        </p:nvPicPr>
        <p:blipFill>
          <a:blip r:embed="rId1"/>
          <a:stretch/>
        </p:blipFill>
        <p:spPr>
          <a:xfrm>
            <a:off x="5145120" y="2805120"/>
            <a:ext cx="380988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E5AB7-FA69-4E45-8E9F-DD8D6CAA57D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5333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0"/>
            <a:ext cx="914400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Tahoma"/>
              </a:rPr>
              <a:t>Procrastination Mini Questionnai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Describe the Internal Criti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at does he or she say to you when you are under pressure?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(list negative thoughts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o’s voice is it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at is the resulting self defeating behaviour (i.e. procrastination) and unhealthy emotion (i.e. anxiety, fear, panic etc)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elf Defeating Behaviour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Unhealthy Negative Emotion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at could an alternative be to the Internal Critic? (i.e. a less judgemental voic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77DC4-B68C-426F-A69C-8763957F2E6C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onclus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920" y="2491920"/>
            <a:ext cx="518472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k after yourself (diet, sleep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Keep a supportive structure for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r daily life; have relaxation ti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e writing as a time of discovery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Recall past achiev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Challenge negative thou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Imagine looking back at the task i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3 or 6 months ti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Picture 6" descr="MPj03998830000[1]"/>
          <p:cNvPicPr/>
          <p:nvPr/>
        </p:nvPicPr>
        <p:blipFill>
          <a:blip r:embed="rId1"/>
          <a:stretch/>
        </p:blipFill>
        <p:spPr>
          <a:xfrm>
            <a:off x="5148360" y="2781360"/>
            <a:ext cx="3809880" cy="25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92903-AE0B-4A12-A089-B3F6806B272F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Tahoma"/>
              </a:rPr>
              <a:t>LSE Student Counselling Servi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ree and confidenti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roups and Workshops programm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elf Esteem Group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ress Management Group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onger term groups for PhD and for MSc stud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ebsit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has information about the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ress management hando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elaxation tape MP3’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nks to self help resourc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owerpoints from Workshops on perfectionism and procrastinati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ABDD3-49D1-4634-BEA9-97CA4E6D1E30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Tahoma"/>
              </a:rPr>
              <a:t>Ai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xamine difficulties with procrastin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dentify a range of strategies to overcome i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xplore unhelpful negative thoughts and behaviou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view sources of hel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821D-63B5-4FD5-8152-528E5DE3FA71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55280" y="20606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hat is procrastinati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Picture 10" descr="j0422183"/>
          <p:cNvPicPr/>
          <p:nvPr/>
        </p:nvPicPr>
        <p:blipFill>
          <a:blip r:embed="rId1"/>
          <a:stretch/>
        </p:blipFill>
        <p:spPr>
          <a:xfrm>
            <a:off x="3924360" y="2205000"/>
            <a:ext cx="4670280" cy="377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AFAFF-77A1-49DE-8EB5-C2A2F6C47CD2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Tahoma"/>
              </a:rPr>
              <a:t>What is procrastination?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utting off a task which needs to be don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60240" indent="-6602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t can affect our study and wr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60240" indent="-6602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e may disguise avoidance by being very bus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60240" indent="-6602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e may find things to do that are  interesting or even useful, but don't contribute towards the main go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60240" indent="-6602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t may involve feelings of anxiety, stress, guilt, shame and dep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3F492-A058-482E-A7B5-CA78998E0048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ommon iss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3640" y="2492280"/>
            <a:ext cx="4608360" cy="375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ahoma"/>
              </a:rPr>
              <a:t>time managemen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ahoma"/>
              </a:rPr>
              <a:t>inability to prioritise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ahoma"/>
              </a:rPr>
              <a:t>overload of tasks at a specific time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ahoma"/>
              </a:rPr>
              <a:t>anxiety about the task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ahoma"/>
              </a:rPr>
              <a:t>not knowing what is required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ahoma"/>
              </a:rPr>
              <a:t>feeling overwhelmed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Picture 4" descr="j0422412"/>
          <p:cNvPicPr/>
          <p:nvPr/>
        </p:nvPicPr>
        <p:blipFill>
          <a:blip r:embed="rId1"/>
          <a:stretch/>
        </p:blipFill>
        <p:spPr>
          <a:xfrm>
            <a:off x="5145120" y="2805120"/>
            <a:ext cx="3809880" cy="25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E41FA-D2F5-44B9-A866-6EA0069511D7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Tahoma"/>
              </a:rPr>
              <a:t>How do we procrastinat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60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60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60240" indent="-6602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When did you last procrastinat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602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60240" indent="-6602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What triggers it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C9CFE-96EA-446A-89C2-31D65102DB45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Tahoma"/>
              </a:rPr>
              <a:t>Taking control of tim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42920" y="2133720"/>
            <a:ext cx="75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sk yourself from time to tim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How am I using my mental and physical energy now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Is this good use of my tim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Identify priorities/commitments for the week ahead and write on blank sheet lectures/classes; leisure activities; paid work; time for self; adequate rest/slee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53D5A-9B99-439F-88F3-C54C7C7A705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333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Object 4"/>
          <p:cNvGraphicFramePr/>
          <p:nvPr/>
        </p:nvGraphicFramePr>
        <p:xfrm>
          <a:off x="1187280" y="260280"/>
          <a:ext cx="6998040" cy="628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60280"/>
                    <a:ext cx="6998040" cy="628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6AF96-C724-4293-9BC4-B69F9594BDBB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ahoma"/>
              </a:rPr>
              <a:t>Use personal timetabling to: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42920" y="2133720"/>
            <a:ext cx="75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acknowledge what you </a:t>
            </a:r>
            <a:r>
              <a:rPr b="1" lang="en-GB" sz="2900" spc="-1" strike="noStrike">
                <a:solidFill>
                  <a:srgbClr val="000000"/>
                </a:solidFill>
                <a:latin typeface="Tahoma"/>
              </a:rPr>
              <a:t>have</a:t>
            </a: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 achieved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save mental energy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be purposeful and realistic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meet deadlines and keep up with work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have </a:t>
            </a:r>
            <a:r>
              <a:rPr b="1" lang="en-GB" sz="2900" spc="-1" strike="noStrike">
                <a:solidFill>
                  <a:srgbClr val="000000"/>
                </a:solidFill>
                <a:latin typeface="Tahoma"/>
              </a:rPr>
              <a:t>effective</a:t>
            </a: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 study time and </a:t>
            </a:r>
            <a:r>
              <a:rPr b="1" lang="en-GB" sz="2900" spc="-1" strike="noStrike">
                <a:solidFill>
                  <a:srgbClr val="000000"/>
                </a:solidFill>
                <a:latin typeface="Tahoma"/>
              </a:rPr>
              <a:t>effective</a:t>
            </a: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 relaxation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Enjoy yourself without guilt and worry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5T13:30:24Z</dcterms:created>
  <dc:creator>emis2000</dc:creator>
  <dc:description/>
  <dc:language>en-US</dc:language>
  <cp:lastModifiedBy>Administrator</cp:lastModifiedBy>
  <dcterms:modified xsi:type="dcterms:W3CDTF">2012-09-20T09:32:28Z</dcterms:modified>
  <cp:revision>139</cp:revision>
  <dc:subject/>
  <dc:title>Slide 1</dc:title>
</cp:coreProperties>
</file>