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288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69960" y="766440"/>
            <a:ext cx="575928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4BBF-5AA0-414B-B218-9452F46C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391-C275-4C1E-9E23-DB0CB61F7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next section will look at the unhelpful hypnotic scripts that DE patients may run in one of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tomatic Thoughts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Unhelpful Mindsets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e will discuss ways of challenging unhelpful mind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A9AF-861D-47CF-A9EC-102E423D8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A9E-9385-4329-93B2-52466C7D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9647-9FB6-45AA-BD8E-15641E8C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69960" y="7668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CC62-9AC7-4D71-BDC2-EAFF87CE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9918-B8EE-4972-86DF-2654C9B3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FD5-ED3C-4CDC-A604-10FA2E17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680-E6BB-430D-8910-72B4EE89B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69960" y="765000"/>
            <a:ext cx="5759280" cy="3838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47520" y="4863600"/>
            <a:ext cx="5203800" cy="4604040"/>
          </a:xfrm>
          <a:prstGeom prst="rect">
            <a:avLst/>
          </a:prstGeom>
          <a:noFill/>
          <a:ln w="0">
            <a:noFill/>
          </a:ln>
        </p:spPr>
        <p:txBody>
          <a:bodyPr lIns="-76680" rIns="-76680" tIns="184320" bIns="184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18B6-A4F1-4E12-B99F-1DF140DD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234720" y="4863600"/>
            <a:ext cx="6629400" cy="4604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649440" y="765000"/>
            <a:ext cx="5759280" cy="38386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FAE-1246-4AAF-B754-556665FD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552-1C96-4086-A4A2-060F85B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044-39FA-4B76-B520-B191A34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9D9-CDF6-485B-91AC-0BD65D4B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FD9-C610-4C1D-8748-1DB1FC4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DE8-D21C-4A88-A538-4F9D23D3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802-823C-455C-AA2C-1F40F1CD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5AA-ED02-4518-822F-3C3BF9A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3D0-8630-4BD5-BA1F-94CB7E2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5BA-8F1D-48EF-AEED-EC389AE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103-44A4-4B41-A982-1A6E4D1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610-6773-440B-BE32-1436F36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356520"/>
            <a:ext cx="325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0829-0486-43B2-A5D1-318FB7281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mazon.co.uk/s/ref=ntt_athr_dp_sr_1?_encoding=UTF8&amp;field-author=Jane%20B.%20Lenora%20M.%20Burka%20Yuen&amp;search-alias=books-uk&amp;sort=relevancerank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indtools.com/pages/article/newHTE_96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1752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n and Do What Needs to Be Done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or how to overcome procrastinat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3047760"/>
            <a:ext cx="9677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Student Counselling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d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71120" y="1557000"/>
            <a:ext cx="874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t procras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good to yourself by removing the anxiety of procras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fatigue or illness as an esc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for th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self rew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ain from self pun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eciate the intermediate steps/accomplish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derstanding emotions: ba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895320" y="2708280"/>
            <a:ext cx="921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Identifying and accepting basic emo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 “</a:t>
            </a: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Mad / bad / sad / gla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58ed5"/>
                </a:solidFill>
                <a:latin typeface="Times New Roman"/>
              </a:rPr>
              <a:t>Sh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6727680" y="3860640"/>
            <a:ext cx="3378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060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tomatic Though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2766960" y="1125360"/>
            <a:ext cx="44719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of Conquering Procras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three stage solu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of 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cation of appropriate c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1177-2315-4796-95C4-9138B88FDD4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614600" y="333360"/>
          <a:ext cx="6997680" cy="62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333360"/>
                    <a:ext cx="6997680" cy="62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personal timetabling 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4600" y="21337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acknowledge what you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a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achieve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ave mental energ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be purposeful and realistic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meet deadlines and keep up with wor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have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study time and 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effective</a:t>
            </a: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 relaxatio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njoy yourself without guilt and worr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871960" y="1600200"/>
            <a:ext cx="512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7372440" y="6356520"/>
            <a:ext cx="24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0BBF-9E65-466C-A0A9-406624D5F577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1120" y="1700280"/>
            <a:ext cx="87440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k yourself thre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specific tasks, or responsibilities in which I am currently procrastina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other specific items I can recall procrastinating about in the pa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I developed a pattern of procrastin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priate C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correct solution to your probl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ime, task or mind,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to implement your plan for overcoming procrast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to be committed to your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fectionism issues</a:t>
            </a:r>
            <a:br>
              <a:rPr sz="2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dentify perfectionistic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aluate costs and benefits of perfectionistic stand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perfectionistic bel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30280" y="571680"/>
            <a:ext cx="90774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360" y="0"/>
            <a:ext cx="10287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Procrastination Mini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.Describe the Internal Cri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.What does he or she say to you when you are under pressur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list negative thought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’s voice is 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.What is the resulting self defeating behaviour (i.e. procrastination) and          unhealthy emotion (i.e. anxiety, fear, panic etc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lf Defeating Behavio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healthy Negative Emo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. What could an alternative be to the Internal Critic? (i.e. a less judgemental vo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Support of Tas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39840" y="2205000"/>
            <a:ext cx="777240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k help from people who complete tas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social network of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there is someone who can push you on when you lose sight of the go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s of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models who know how to get things done and use them as your model.  They can show you ways they use to stay on ta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34040" y="64008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Student academic skills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4240" y="1981080"/>
            <a:ext cx="97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CRASTINATION: WHY YOU DO IT, WHAT TO DO ABOUT IT ”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ane B. Lenora M. Burka Yue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 ,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Only one book is given so you don’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procrastinate by reading too mu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about procrastin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1" descr=""/>
          <p:cNvPicPr/>
          <p:nvPr/>
        </p:nvPicPr>
        <p:blipFill>
          <a:blip r:embed="rId2"/>
          <a:stretch/>
        </p:blipFill>
        <p:spPr>
          <a:xfrm>
            <a:off x="6804000" y="274320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bliography: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3680" y="1981080"/>
            <a:ext cx="94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dtools.com/pages/article/newHTE_96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lse.ac.uk/intranet/students/supportServices/.../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people.stfx.ca/cgavard/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Procrastin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71120" y="1484280"/>
            <a:ext cx="8744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rastination is the avoidance of doing a task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to be don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o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the blockage, and reasons for procrastination which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lings of guilt; inadequacy; depression; and self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t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organizational skills compound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by making even small steps to complete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difficult-to-seemingly im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onality - Psychologic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71480" y="1218960"/>
            <a:ext cx="90518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 of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ectio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r of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naline ad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elf-este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er Pan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ping someone else will d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al- Situa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1480" y="1218960"/>
            <a:ext cx="90518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s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dead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whel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ong temper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little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y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 we procrastin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 did you last procrasti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60240" indent="-66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trigger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28240"/>
            <a:ext cx="865836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coming Procrast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1120" y="1218960"/>
            <a:ext cx="874404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K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D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6656400" y="1222200"/>
            <a:ext cx="3081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3320" y="304920"/>
            <a:ext cx="100980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BT: Emotional Regulation Model</a:t>
            </a:r>
            <a:br>
              <a:rPr sz="43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rastination              temporary relief from negative emotions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447560"/>
            <a:ext cx="955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han’s Dialectical Behavior Therapy (DB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bear difficult emotions are seen as core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rastin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ef from negative emo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i="1" lang="en-US" sz="3600" spc="-1" strike="noStrike">
                <a:solidFill>
                  <a:srgbClr val="1f497d"/>
                </a:solidFill>
                <a:latin typeface="Calibri"/>
              </a:rPr>
              <a:t>IN THE SAME WAY AS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ulsive behaviou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e.g. time wastin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a relief from other, more difficult emo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982960" y="961920"/>
            <a:ext cx="831960" cy="486000"/>
          </a:xfrm>
          <a:prstGeom prst="rightArrow">
            <a:avLst>
              <a:gd name="adj1" fmla="val 50000"/>
              <a:gd name="adj2" fmla="val 5019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735600" y="501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4095720" y="378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5480" y="3483000"/>
            <a:ext cx="9217080" cy="297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unpleasant tasks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a start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time slot for work on a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daily priority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memory jog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ard against di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have your organizer with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occasional time 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22:44:11Z</dcterms:created>
  <dc:creator>Stewart Agras</dc:creator>
  <dc:description/>
  <dc:language>en-US</dc:language>
  <cp:lastModifiedBy>Administrator</cp:lastModifiedBy>
  <cp:lastPrinted>2013-12-12T22:20:34Z</cp:lastPrinted>
  <dcterms:modified xsi:type="dcterms:W3CDTF">2016-11-07T16:02:30Z</dcterms:modified>
  <cp:revision>403</cp:revision>
  <dc:subject/>
  <dc:title>No Slide Title</dc:title>
</cp:coreProperties>
</file>