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288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69960" y="766440"/>
            <a:ext cx="575928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BDE2-B92C-4895-9C5B-995E0E8FD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8EC7-DF25-4E4F-A827-302B8FF62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669960" y="766800"/>
            <a:ext cx="5759280" cy="3838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669960" y="766800"/>
            <a:ext cx="5759280" cy="3838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next section will look at the unhelpful hypnotic scripts that DE patients may run in one of two 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utomatic Thoughts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Unhelpful Mindsets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e will discuss ways of challenging unhelpful mind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3B84-2AEF-4285-960E-9EE4BC4FF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BD74-DF5F-431B-A9C3-BD4E7943A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669960" y="766800"/>
            <a:ext cx="5759280" cy="3838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89A8-379E-42E8-88C1-AEEE4DF6E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669960" y="766800"/>
            <a:ext cx="5759280" cy="3838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FE32-3627-471B-9B52-3BF9D4091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669960" y="765000"/>
            <a:ext cx="5759280" cy="38386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47520" y="4863600"/>
            <a:ext cx="5203800" cy="46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839D-17D0-492A-BBC3-F3F8E8790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669960" y="765000"/>
            <a:ext cx="5759280" cy="3838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47520" y="4863600"/>
            <a:ext cx="5203800" cy="46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B00E-0CF4-4601-8361-FF59CC5A6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669960" y="765000"/>
            <a:ext cx="5759280" cy="3838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47520" y="4863600"/>
            <a:ext cx="5203800" cy="46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5B2B-3974-438E-A518-DAE249963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669960" y="765000"/>
            <a:ext cx="5759280" cy="38386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47520" y="4863600"/>
            <a:ext cx="5203800" cy="4604040"/>
          </a:xfrm>
          <a:prstGeom prst="rect">
            <a:avLst/>
          </a:prstGeom>
          <a:noFill/>
          <a:ln w="0">
            <a:noFill/>
          </a:ln>
        </p:spPr>
        <p:txBody>
          <a:bodyPr lIns="-76680" rIns="-76680" tIns="184320" bIns="184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6BE2-EC37-4CEE-8371-A4103C9B6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234720" y="4863600"/>
            <a:ext cx="6629400" cy="4604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ldImg"/>
          </p:nvPr>
        </p:nvSpPr>
        <p:spPr>
          <a:xfrm>
            <a:off x="649440" y="765000"/>
            <a:ext cx="575928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CDF-D6A6-4189-8097-C7ACCD03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073-3F30-4762-AD50-0B849205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6DB4-1038-49BA-834A-735F925A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B5E-F4B5-4522-9035-35E26BF2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A85-57CE-4D41-BEDE-00AEFB92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8C7-1709-47D6-B2D4-AF47E547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62A-3CD6-436A-838F-26474A14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74E-1C45-432A-850B-E26142A8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4A7-97AD-48FE-AA1A-91D1C0D8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98B-018A-4B5A-83EE-0F394BB3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E58-9106-4D54-93AD-BC69BF0B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5AB-5FF8-4282-BEAF-BDB33625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10A0-9579-4AA2-B16D-75DBE45D1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amazon.co.uk/s/ref=ntt_athr_dp_sr_1?_encoding=UTF8&amp;field-author=Jane%20B.%20Lenora%20M.%20Burka%20Yuen&amp;search-alias=books-uk&amp;sort=relevancerank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indtools.com/pages/article/newHTE_96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1752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an and Do What Needs to Be Done N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or how to overcome procrastinat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3047760"/>
            <a:ext cx="9677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Student Counselling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d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71120" y="1557000"/>
            <a:ext cx="874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t procrast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good to yourself by removing the anxiety of procrast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use fatigue or illness as an esc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 for the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self rew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rain from self punish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eciate the intermediate steps/accomplish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derstanding emotions: bas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895320" y="2708280"/>
            <a:ext cx="921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8ed5"/>
                </a:solidFill>
                <a:latin typeface="Times New Roman"/>
              </a:rPr>
              <a:t>Identifying and accepting basic emo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8ed5"/>
                </a:solidFill>
                <a:latin typeface="Times New Roman"/>
              </a:rPr>
              <a:t> “</a:t>
            </a:r>
            <a:r>
              <a:rPr b="1" lang="en-GB" sz="3600" spc="-1" strike="noStrike">
                <a:solidFill>
                  <a:srgbClr val="558ed5"/>
                </a:solidFill>
                <a:latin typeface="Times New Roman"/>
              </a:rPr>
              <a:t>Mad / bad / sad / glad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8ed5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558ed5"/>
                </a:solidFill>
                <a:latin typeface="Times New Roman"/>
              </a:rPr>
              <a:t>Sh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6727680" y="3860640"/>
            <a:ext cx="3378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0600" y="188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tomatic Though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tretch/>
        </p:blipFill>
        <p:spPr>
          <a:xfrm>
            <a:off x="2766960" y="1125360"/>
            <a:ext cx="44719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 of Conquering Procrast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three stage solu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 of 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ication of appropriate c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al time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A591-B49E-4961-A656-1BA4639C978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476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1614600" y="333360"/>
          <a:ext cx="6997680" cy="628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4600" y="333360"/>
                    <a:ext cx="6997680" cy="62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e personal timetabling t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14600" y="213372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acknowledge what you 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have</a:t>
            </a: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 achieve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ave mental energy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be purposeful and realistic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meet deadlines and keep up with wor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have 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effective</a:t>
            </a: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 study time and 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effective</a:t>
            </a: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 relaxation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Enjoy yourself without guilt and worr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871960" y="1600200"/>
            <a:ext cx="512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8C10-D7C1-47B8-9FEE-2A880972CB16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71120" y="1700280"/>
            <a:ext cx="87440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k yourself three ques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re specific tasks, or responsibilities in which I am currently procrastinat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re other specific items I can recall procrastinating about in the pa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I developed a pattern of procrastin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priate C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the correct solution to your probl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ime, task or mind,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need to implement your plan for overcoming procrastin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need to be committed to your pl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fectionism issues</a:t>
            </a:r>
            <a:br>
              <a:rPr sz="2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dentify perfectionistic stand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aluate costs and benefits of perfectionistic stand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 perfectionistic belie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30280" y="571680"/>
            <a:ext cx="90774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-360" y="0"/>
            <a:ext cx="102870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Procrastination Mini Questionn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.Describe the Internal Crit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What does he or she say to you when you are under pressur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list negative thought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’s voice is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.What is the resulting self defeating behaviour (i.e. procrastination) and          unhealthy emotion (i.e. anxiety, fear, panic etc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lf Defeating Behaviou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healthy Negative Emo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4. What could an alternative be to the Internal Critic? (i.e. a less judgemental voi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cial Support of Task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le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39840" y="2205000"/>
            <a:ext cx="7772400" cy="33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ek help from people who complete tas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social network of sup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so there is someone who can push you on when you lose sight of the go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s of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models who know how to get things done and use them as your model.  They can show you ways they use to stay on tas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34040" y="6400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Student academic skills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4240" y="1981080"/>
            <a:ext cx="97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CRASTINATION: WHY YOU DO IT, WHAT TO DO ABOUT IT ”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Jane B. Lenora M. Burka Yue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,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B.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Only one book is given so you don’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procrastinate by reading too mu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about procrastinat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1" descr=""/>
          <p:cNvPicPr/>
          <p:nvPr/>
        </p:nvPicPr>
        <p:blipFill>
          <a:blip r:embed="rId2"/>
          <a:stretch/>
        </p:blipFill>
        <p:spPr>
          <a:xfrm>
            <a:off x="6804000" y="274320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bliography: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3680" y="1981080"/>
            <a:ext cx="94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indtools.com/pages/article/newHTE_96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ww.lse.ac.uk/intranet/students/supportServices/.../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crastin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ww.people.stfx.ca/cgavard/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crastin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Procrastina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71120" y="1484280"/>
            <a:ext cx="87440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rastination is the avoidance of doing a task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s to be don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moti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the blockage, and reasons for procrastination which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lings of guilt; inadequacy; depression; and self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t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 organizational skills compound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 by making even small steps to complete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k difficult-to-seemingly im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6800" y="228240"/>
            <a:ext cx="865836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us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onality - Psychologic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71480" y="1218960"/>
            <a:ext cx="905184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r of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ectio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r of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renaline add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self-este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er Pan syndr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ping someone else will do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6800" y="228240"/>
            <a:ext cx="865836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us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al- Situat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71480" y="1218960"/>
            <a:ext cx="905184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sk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dead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whel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ong temper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 little to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ority re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 we procrastinat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 did you last procrastin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trigger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6800" y="228240"/>
            <a:ext cx="865836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coming Procrast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71120" y="1218960"/>
            <a:ext cx="874404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K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D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6656400" y="1222200"/>
            <a:ext cx="30812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3320" y="304920"/>
            <a:ext cx="100980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BT: Emotional Regulation Model</a:t>
            </a:r>
            <a:br>
              <a:rPr sz="43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crastination              temporary relief from negative emotions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1447560"/>
            <a:ext cx="9552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han’s Dialectical Behavior Therapy (DBT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bility to bear difficult emotions are seen as core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rastin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ef from negative emo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i="1" lang="en-US" sz="3600" spc="-1" strike="noStrike">
                <a:solidFill>
                  <a:srgbClr val="1f497d"/>
                </a:solidFill>
                <a:latin typeface="Calibri"/>
              </a:rPr>
              <a:t>IN THE SAME WAY AS</a:t>
            </a:r>
            <a:r>
              <a:rPr b="0" i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ulsive behaviou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e.g. time wasting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a relief from other, more difficult emo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2982960" y="961920"/>
            <a:ext cx="831960" cy="486000"/>
          </a:xfrm>
          <a:prstGeom prst="rightArrow">
            <a:avLst>
              <a:gd name="adj1" fmla="val 50000"/>
              <a:gd name="adj2" fmla="val 5019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6735600" y="501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4095720" y="378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55480" y="3483000"/>
            <a:ext cx="9217080" cy="297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unpleasant tasks fir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a starting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 a time slot for work on a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 daily priority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lize memory jog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ard against di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ways have your organizer with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n occasional time l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22:44:11Z</dcterms:created>
  <dc:creator>Stewart Agras</dc:creator>
  <dc:description/>
  <dc:language>en-US</dc:language>
  <cp:lastModifiedBy>Administrator</cp:lastModifiedBy>
  <cp:lastPrinted>2013-12-12T22:20:34Z</cp:lastPrinted>
  <dcterms:modified xsi:type="dcterms:W3CDTF">2016-11-07T16:02:30Z</dcterms:modified>
  <cp:revision>403</cp:revision>
  <dc:subject/>
  <dc:title>No Slide Title</dc:title>
</cp:coreProperties>
</file>