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24F1-31DB-4DF9-9755-B74ADCC949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DF34-B483-43CB-8E4B-E9E453CB52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095D-7A46-4132-80BF-E0B6A0CDDD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0505-9924-4B55-AF55-297837CD2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EACB-5019-4EE3-A505-255D078F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25EE-4254-4E4D-BA0F-06E01F96A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E3A0-945D-48DE-A700-18B8B0103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B747-CAD9-4E51-A699-8D54D1B65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50D4-F33B-4EE1-927C-539AA6E8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F2B4-17C2-44DE-9539-8622C4EF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9BB6-E005-4CEF-8CD3-DBA63E1F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9A7D-D24B-4178-894A-877806EE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7F63-5DF9-4503-B439-151D88A0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14AB-73E9-472F-9C04-4D0C4F3C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1BF9-26A9-49F3-BAA8-25988DEE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68FB-6A95-4F5B-8523-0F394A77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463B-FADC-4B2C-8184-04196843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36E2-1573-4110-95D0-B17E0EC8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C2BB-3CDD-468B-9DA5-EC78AB437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5AFB-1E63-4FE7-9A4C-557EE3C0D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41E5-F289-483F-A1F8-C8FCAB4C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E7D6-CB8D-446D-85F3-20A84DDD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75C2-C984-4688-8F4A-183AC94F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B6F8-A7F3-4C44-9F44-16C7F9A5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2F64-03F5-417D-8DB7-46080D0E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8D50-DF6F-4A56-BF2B-8D8CEFA1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3E96-9A9E-478C-8036-BFE98CA8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6000-0EEA-4979-B9CB-9A2FB838AC7E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F3D6-39FD-4B58-BE8B-9E5E3110F8E0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lse.ac.uk/collections/studentCounsellingService/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09DD-F818-451B-BC4A-0FBDB6606C4F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415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Presentation Skills and Confid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dam Sandel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4" descr="j0414037"/>
          <p:cNvPicPr/>
          <p:nvPr/>
        </p:nvPicPr>
        <p:blipFill>
          <a:blip r:embed="rId1"/>
          <a:stretch/>
        </p:blipFill>
        <p:spPr>
          <a:xfrm>
            <a:off x="6948360" y="3429000"/>
            <a:ext cx="1949400" cy="28083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1116000" y="47628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ahoma"/>
              </a:rPr>
              <a:t>LSE Student Counselling Servic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4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E669-5C6E-42D8-97DD-0EB54BEF3F70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Good practice tip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ositive self talk e.g. ‘good enough’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Vary vocal style – 3 P’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ess is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cus on positive listen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5148360" y="3213000"/>
            <a:ext cx="38098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EC32-86BA-4864-BC08-4ED1A1BF200A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nxiety Manage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Anxiety  =  high level of bodily arou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negative self-defeating though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Instead, lear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Physical relax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Brea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Mini-pause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6B8A-E1AE-49C7-AA7F-60B008EB2114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214200"/>
            <a:ext cx="8244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esentation Dynamic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60" name="Diagram 3"/>
          <p:cNvGrpSpPr/>
          <p:nvPr/>
        </p:nvGrpSpPr>
        <p:grpSpPr>
          <a:xfrm>
            <a:off x="167760" y="2149200"/>
            <a:ext cx="4484520" cy="3801600"/>
            <a:chOff x="167760" y="2149200"/>
            <a:chExt cx="4484520" cy="3801600"/>
          </a:xfrm>
        </p:grpSpPr>
        <p:sp>
          <p:nvSpPr>
            <p:cNvPr id="161" name="_s1028"/>
            <p:cNvSpPr/>
            <p:nvPr/>
          </p:nvSpPr>
          <p:spPr>
            <a:xfrm flipH="1">
              <a:off x="1026000" y="2149200"/>
              <a:ext cx="2769120" cy="2656800"/>
            </a:xfrm>
            <a:custGeom>
              <a:avLst/>
              <a:gdLst>
                <a:gd name="textAreaLeft" fmla="*/ 360 w 2769120"/>
                <a:gd name="textAreaRight" fmla="*/ 2769840 w 2769120"/>
                <a:gd name="textAreaTop" fmla="*/ 0 h 2656800"/>
                <a:gd name="textAreaBottom" fmla="*/ 2656800 h 265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_s1029"/>
            <p:cNvSpPr/>
            <p:nvPr/>
          </p:nvSpPr>
          <p:spPr>
            <a:xfrm flipH="1" rot="14400000">
              <a:off x="702000" y="2723040"/>
              <a:ext cx="2656800" cy="2769120"/>
            </a:xfrm>
            <a:custGeom>
              <a:avLst/>
              <a:gdLst>
                <a:gd name="textAreaLeft" fmla="*/ 0 w 2656800"/>
                <a:gd name="textAreaRight" fmla="*/ 2656800 w 2656800"/>
                <a:gd name="textAreaTop" fmla="*/ 0 h 2769120"/>
                <a:gd name="textAreaBottom" fmla="*/ 2769480 h 276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_s1030"/>
            <p:cNvSpPr/>
            <p:nvPr/>
          </p:nvSpPr>
          <p:spPr>
            <a:xfrm flipH="1" rot="7200000">
              <a:off x="1460160" y="2723400"/>
              <a:ext cx="2656800" cy="2769120"/>
            </a:xfrm>
            <a:custGeom>
              <a:avLst/>
              <a:gdLst>
                <a:gd name="textAreaLeft" fmla="*/ 0 w 2656800"/>
                <a:gd name="textAreaRight" fmla="*/ 2656800 w 2656800"/>
                <a:gd name="textAreaTop" fmla="*/ 0 h 2769120"/>
                <a:gd name="textAreaBottom" fmla="*/ 2769480 h 276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9f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_s1031"/>
            <p:cNvSpPr/>
            <p:nvPr/>
          </p:nvSpPr>
          <p:spPr>
            <a:xfrm>
              <a:off x="540000" y="2637000"/>
              <a:ext cx="111096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040" rIns="4104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s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lationship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_s1032"/>
            <p:cNvSpPr/>
            <p:nvPr/>
          </p:nvSpPr>
          <p:spPr>
            <a:xfrm>
              <a:off x="1856520" y="4820400"/>
              <a:ext cx="111060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040" rIns="4104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ith the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resenta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or talk…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_s1033"/>
            <p:cNvSpPr/>
            <p:nvPr/>
          </p:nvSpPr>
          <p:spPr>
            <a:xfrm>
              <a:off x="3168360" y="2635560"/>
              <a:ext cx="111096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040" rIns="4104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lationship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67" name="Picture 19" descr=""/>
          <p:cNvPicPr/>
          <p:nvPr/>
        </p:nvPicPr>
        <p:blipFill>
          <a:blip r:embed="rId1"/>
          <a:stretch/>
        </p:blipFill>
        <p:spPr>
          <a:xfrm>
            <a:off x="5340240" y="2828880"/>
            <a:ext cx="3511800" cy="23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4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4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4CC6-6BA6-4481-8982-492518E6549B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Underlying dynamic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ahoma"/>
              </a:rPr>
              <a:t>Trying to please other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ahoma"/>
              </a:rPr>
              <a:t>Wanting to be the bes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ahoma"/>
              </a:rPr>
              <a:t>Being a perfectionis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ahoma"/>
              </a:rPr>
              <a:t>Family /historic context for being successfu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ahoma"/>
              </a:rPr>
              <a:t>Setting yourself impossible target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9731-906E-4A58-AFBA-C7047A9D1017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Keeping perfectionism in chec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2206800"/>
            <a:ext cx="848664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et realistic and achievable 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cognise your achiev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ectionism is undesir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ment with standards for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 on 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roces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ot just the end resul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luate success 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did you accomplish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ld you enjoy the task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agine looking back – 2 hours/ 2 week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15E9-D7AC-4970-A476-02FDD18C49EA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hallenging negative though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67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magine them being tested in Cour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dentify the negative thou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g, My presentation will be terr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scertain the evidence For and Again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sk if you are making a ‘thinking error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pose a more reasonable alternative thou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3A5E-82D3-4805-88D9-4A385F66663C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inking err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6192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ll or nothing thin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iscounting the positive/ tunnel vis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eeing the negative side of th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vergeneralizin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cause it happened in the past it will happen again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lieving a catastrophe will hap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6523200" y="1989000"/>
            <a:ext cx="230184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5750-83E0-4E25-A9A6-CE6B38A61BBA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LSE Student Counselling Service – G50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10920" y="2276280"/>
            <a:ext cx="834372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Free and confidential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Mainly short term counselling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Book appointments in advanc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Urgent appointments (phone early in the day)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See </a:t>
            </a:r>
            <a:r>
              <a:rPr b="0" lang="en-GB" sz="29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ebsite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for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Stress management handout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Self help resources on a wide range of student issues (study – related and personal difficulties)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56280" indent="-31860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Relaxation MP3’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18ED-7406-4AB0-91F2-25DC2DDD9C84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inal Though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ny ques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1 or 2 things from today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at el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21E8-22B3-4813-B18A-6F580D3FB49B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Ai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ook at confidence building measures to giving good presen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velop positive self tal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vercome physical anxie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anage underlying feel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9321-E5C7-42B7-A256-CCAC899EEF1F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IRCLE OF CONFIDE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7280" y="1988640"/>
            <a:ext cx="7772400" cy="486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ituation      thoughts     feelings      behavio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self-talk)     sensations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Negative Cir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2700360" y="342900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6659640" y="3500280"/>
            <a:ext cx="431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Oval 10"/>
          <p:cNvSpPr/>
          <p:nvPr/>
        </p:nvSpPr>
        <p:spPr>
          <a:xfrm>
            <a:off x="3132000" y="2133720"/>
            <a:ext cx="3384720" cy="3457440"/>
          </a:xfrm>
          <a:prstGeom prst="ellipse">
            <a:avLst/>
          </a:prstGeom>
          <a:noFill/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Line 12"/>
          <p:cNvSpPr/>
          <p:nvPr/>
        </p:nvSpPr>
        <p:spPr>
          <a:xfrm>
            <a:off x="4500720" y="1916280"/>
            <a:ext cx="28728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Line 13"/>
          <p:cNvSpPr/>
          <p:nvPr/>
        </p:nvSpPr>
        <p:spPr>
          <a:xfrm flipH="1">
            <a:off x="4572000" y="2133720"/>
            <a:ext cx="21600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Line 14"/>
          <p:cNvSpPr/>
          <p:nvPr/>
        </p:nvSpPr>
        <p:spPr>
          <a:xfrm flipV="1">
            <a:off x="4427640" y="5229360"/>
            <a:ext cx="288720" cy="28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Line 15"/>
          <p:cNvSpPr/>
          <p:nvPr/>
        </p:nvSpPr>
        <p:spPr>
          <a:xfrm>
            <a:off x="4427640" y="5516640"/>
            <a:ext cx="288720" cy="28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927E-146E-492F-B7A0-EB4F8B127237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IRCLE OF CONFIDE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5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ituation      thoughts     feelings      behavio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self-talk)     sens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Positive Circle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0"/>
          <p:cNvSpPr/>
          <p:nvPr/>
        </p:nvSpPr>
        <p:spPr>
          <a:xfrm>
            <a:off x="3132000" y="2133720"/>
            <a:ext cx="3384720" cy="3457440"/>
          </a:xfrm>
          <a:prstGeom prst="ellipse">
            <a:avLst/>
          </a:prstGeom>
          <a:noFill/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500720" y="1916280"/>
            <a:ext cx="28728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Line 13"/>
          <p:cNvSpPr/>
          <p:nvPr/>
        </p:nvSpPr>
        <p:spPr>
          <a:xfrm flipH="1">
            <a:off x="4572000" y="2133720"/>
            <a:ext cx="21600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Line 14"/>
          <p:cNvSpPr/>
          <p:nvPr/>
        </p:nvSpPr>
        <p:spPr>
          <a:xfrm flipV="1">
            <a:off x="4427640" y="5229360"/>
            <a:ext cx="288720" cy="28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5"/>
          <p:cNvSpPr/>
          <p:nvPr/>
        </p:nvSpPr>
        <p:spPr>
          <a:xfrm>
            <a:off x="4427640" y="5516640"/>
            <a:ext cx="288720" cy="28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Line 6"/>
          <p:cNvSpPr/>
          <p:nvPr/>
        </p:nvSpPr>
        <p:spPr>
          <a:xfrm>
            <a:off x="2700360" y="3500280"/>
            <a:ext cx="36036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6588000" y="3500280"/>
            <a:ext cx="43200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6020-A709-49BD-BB61-F79797B14AEF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ahoma"/>
              </a:rPr>
              <a:t>Confidence for Presenta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Key Principl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ensible 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ositive Self tal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ole Rehears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laxation/ Stress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22CA-2414-46C2-ABB3-6D2C49B40510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resentation Plannin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lear simple stru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ummaris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at you’re going to s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a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ell them what you’ve sa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hearse it out lou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irst two minutes – repeat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7B9A-6671-469A-8AAB-0DE5D9620EDF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Developing Positive Self-Talk: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ere/when am I already confiden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at does that confidence feel lik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How is it different from feeling l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How did I build that confidenc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C321-79A1-4BA3-ADD3-EA2D04D87BB2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Role Rehears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at happens when I think about giving a 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3 desired ‘goals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 out matching behaviou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actice (in front of mirro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ake it till you mak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1F05-D0E9-45E5-8253-26B6486F5F4B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How is our message received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9" name="Object 4"/>
          <p:cNvGraphicFramePr/>
          <p:nvPr/>
        </p:nvGraphicFramePr>
        <p:xfrm>
          <a:off x="744480" y="1936800"/>
          <a:ext cx="7485120" cy="395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4480" y="1936800"/>
                    <a:ext cx="748512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5T13:30:24Z</dcterms:created>
  <dc:creator>emis2000</dc:creator>
  <dc:description/>
  <dc:language>en-US</dc:language>
  <cp:lastModifiedBy>Administrator</cp:lastModifiedBy>
  <dcterms:modified xsi:type="dcterms:W3CDTF">2012-09-20T09:30:01Z</dcterms:modified>
  <cp:revision>68</cp:revision>
  <dc:subject/>
  <dc:title>Slide 1</dc:title>
</cp:coreProperties>
</file>