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531C-2E2D-444E-8F99-D5828F8821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71CC-D30D-4479-A2EB-C823595982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A2DF-E588-4BA7-832C-9AAA395371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1C85-70B3-433B-ADC1-5CD562E4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CB6-4A34-4704-B582-D95A68BF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3359-5D5C-4E39-B947-1B9D9C9D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E33-6133-4ABE-AC3E-9C62D323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6F4E-6EAB-426A-AFE4-1FCD97C8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DDD7-35E4-4DE2-962D-E293008D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5848-65F7-4DA1-B828-4307DBCF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6C9C-099C-4CE2-9F3D-16D6858C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063A-01A8-4229-8DCF-0640FB6C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EAA9-789C-4CDB-B8E3-F9E826B8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56B3-9A47-4848-BAE0-147FC859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D49C-42F3-4D79-B506-9708CDBB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A12B-3635-4601-82AA-DD3A630A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C5D7-7152-4C03-A126-B6D14D87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39CF-AE54-472A-9AF8-43E45F70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461A-F0E0-4FA2-8601-EFCFA17E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2F9C-4E74-45DD-BD67-526AD39E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71E-DD92-4D13-9982-BC68D7D7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2EAC-570A-4B8F-B7EF-81DDB0F5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AAB-740F-4A43-84BA-829A1FA6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C93-E854-40E0-8DF6-36035846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EDD0-94B5-49EA-B588-04FF41C4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469-A6C0-433B-8E0A-81948044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1E9-BC82-4D1F-95CE-2777D1BE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4183-BD90-45D5-9F3B-4834065D550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3C2A-C0D7-4A55-A94F-29B964F9C0AE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lse.ac.uk/collections/studentCounsellingServic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2346-4FFC-4E10-BDF3-3F476BB7D16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415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resentation Skills and Confi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dam Sandel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4" descr="j0414037"/>
          <p:cNvPicPr/>
          <p:nvPr/>
        </p:nvPicPr>
        <p:blipFill>
          <a:blip r:embed="rId1"/>
          <a:stretch/>
        </p:blipFill>
        <p:spPr>
          <a:xfrm>
            <a:off x="6948360" y="3429000"/>
            <a:ext cx="1949400" cy="2808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116000" y="47628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</a:rPr>
              <a:t>LSE Student Counselling Servi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4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4102-0544-4AA0-BFCC-39A95F92E16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Good practice tip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sitive self talk e.g. ‘good enough’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ary vocal style – 3 P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ss is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cus on positive liste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5148360" y="321300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5563-6DBE-4792-A5D0-365FD1B0C6E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nxiety Manage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xiety  =  high level of bodily arou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egative self-defeating thou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stead, lear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hysical relax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rea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ni-pause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9A92-695E-43B0-B32E-496FDE2495F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244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sentation Dynamic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0" name="Diagram 3"/>
          <p:cNvGrpSpPr/>
          <p:nvPr/>
        </p:nvGrpSpPr>
        <p:grpSpPr>
          <a:xfrm>
            <a:off x="167760" y="2149200"/>
            <a:ext cx="4484520" cy="3801600"/>
            <a:chOff x="167760" y="2149200"/>
            <a:chExt cx="4484520" cy="3801600"/>
          </a:xfrm>
        </p:grpSpPr>
        <p:sp>
          <p:nvSpPr>
            <p:cNvPr id="161" name="_s1028"/>
            <p:cNvSpPr/>
            <p:nvPr/>
          </p:nvSpPr>
          <p:spPr>
            <a:xfrm flipH="1">
              <a:off x="1026000" y="2149200"/>
              <a:ext cx="2769120" cy="2656800"/>
            </a:xfrm>
            <a:custGeom>
              <a:avLst/>
              <a:gdLst>
                <a:gd name="textAreaLeft" fmla="*/ 360 w 2769120"/>
                <a:gd name="textAreaRight" fmla="*/ 2769840 w 2769120"/>
                <a:gd name="textAreaTop" fmla="*/ 0 h 2656800"/>
                <a:gd name="textAreaBottom" fmla="*/ 2656800 h 265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_s1029"/>
            <p:cNvSpPr/>
            <p:nvPr/>
          </p:nvSpPr>
          <p:spPr>
            <a:xfrm flipH="1" rot="14400000">
              <a:off x="702000" y="272304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_s1030"/>
            <p:cNvSpPr/>
            <p:nvPr/>
          </p:nvSpPr>
          <p:spPr>
            <a:xfrm flipH="1" rot="7200000">
              <a:off x="1460160" y="272340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_s1031"/>
            <p:cNvSpPr/>
            <p:nvPr/>
          </p:nvSpPr>
          <p:spPr>
            <a:xfrm>
              <a:off x="540000" y="263700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_s1032"/>
            <p:cNvSpPr/>
            <p:nvPr/>
          </p:nvSpPr>
          <p:spPr>
            <a:xfrm>
              <a:off x="1856520" y="4820400"/>
              <a:ext cx="11106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ith the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resent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r talk…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168360" y="263556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67" name="Picture 19" descr=""/>
          <p:cNvPicPr/>
          <p:nvPr/>
        </p:nvPicPr>
        <p:blipFill>
          <a:blip r:embed="rId1"/>
          <a:stretch/>
        </p:blipFill>
        <p:spPr>
          <a:xfrm>
            <a:off x="5340240" y="2828880"/>
            <a:ext cx="351180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4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213C-7D79-4C8E-A9ED-8DCE86A413A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Underlying dynamic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Trying to please other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Wanting to be the bes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Being a perfectionis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Family /historic context for being successfu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Setting yourself impossible targe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EBEF-229A-4C6D-BABC-93A5718E2FE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Keeping perfectionism in chec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206800"/>
            <a:ext cx="848664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t realistic and achievable 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cognise your achiev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ectionism is undesir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 with standards for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on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t just the end resul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e success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did you accomplis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ld you enjoy the tas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ine looking back – 2 hours/ 2 week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6E01-7E71-455D-96F6-ABEBC071691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hallenging negative thou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magine them being tested in Cour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dentify the negative thou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g, My presentation will be terr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certain the evidence For and Again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k if you are making a ‘thinking error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e a more reasonable alternative thou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446C-32B6-4CDC-85CF-79D2E26DA76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inking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619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l or nothing thin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ounting the positive/ tunnel vis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eeing the negative side of th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vergeneraliz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cause it happened in the past it will happen again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lieving a catastrophe will hap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6523200" y="1989000"/>
            <a:ext cx="23018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EFE9-A50E-4E58-9125-03233247592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LSE Student Counselling Service – G50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10920" y="2276280"/>
            <a:ext cx="83437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Free and confidential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ainly short term counselling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Book appointments in advan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Urgent appointments (phone early in the day)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e </a:t>
            </a:r>
            <a:r>
              <a:rPr b="0" lang="en-GB" sz="29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ebsite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for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Stress management handout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Self help resources on a wide range of student issues (study – related and personal difficulties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Relaxation MP3’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168A-6828-4932-99CF-9BDE3C6362C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inal Though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y 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1 or 2 things from today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e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BECB-37A5-4AE0-AE22-39F10E08064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ook at confidence building measures to giving good presen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velop positive self 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vercome physical anxie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nage underlying feel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2B67-06E7-496F-82D6-C2B080AD3AE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IRCLE OF CONFIDE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7772400" cy="48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ituation      thoughts     feelings      behavi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elf-talk)     sensations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Negative Cir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2700360" y="34290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6659640" y="3500280"/>
            <a:ext cx="431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3132000" y="2133720"/>
            <a:ext cx="3384720" cy="3457440"/>
          </a:xfrm>
          <a:prstGeom prst="ellipse">
            <a:avLst/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4500720" y="1916280"/>
            <a:ext cx="28728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4572000" y="2133720"/>
            <a:ext cx="21600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ine 14"/>
          <p:cNvSpPr/>
          <p:nvPr/>
        </p:nvSpPr>
        <p:spPr>
          <a:xfrm flipV="1">
            <a:off x="4427640" y="522936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15"/>
          <p:cNvSpPr/>
          <p:nvPr/>
        </p:nvSpPr>
        <p:spPr>
          <a:xfrm>
            <a:off x="4427640" y="551664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095F-AD00-448B-90B7-7FC811C8C15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IRCLE OF CONFIDE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ituation      thoughts     feelings      behavi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elf-talk)     sens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Positive Circl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132000" y="2133720"/>
            <a:ext cx="3384720" cy="3457440"/>
          </a:xfrm>
          <a:prstGeom prst="ellipse">
            <a:avLst/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500720" y="1916280"/>
            <a:ext cx="28728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4572000" y="2133720"/>
            <a:ext cx="21600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14"/>
          <p:cNvSpPr/>
          <p:nvPr/>
        </p:nvSpPr>
        <p:spPr>
          <a:xfrm flipV="1">
            <a:off x="4427640" y="522936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4427640" y="551664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2700360" y="3500280"/>
            <a:ext cx="36036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6588000" y="3500280"/>
            <a:ext cx="43200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B24B-7980-4C5B-951C-AC91CA4EB11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</a:rPr>
              <a:t>Confidence for Present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ey Princi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nsible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sitive Self 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ole Rehear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laxation/ Stress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8A70-7B2A-42BD-867D-D4344DF0A56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esentation Plann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lear simple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ummari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you’re going to s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a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ell them what you’ve sa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hearse it out lou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irst two minutes – repeat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8686-DD59-4128-A733-F4D952014BF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Developing Positive Self-Talk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ere/when am I already confide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does that confidence feel lik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is it different from feeling l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did I build that confide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685F-16EF-4D83-B8C9-1D7E1522973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Role Rehear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happens when I think about giving a 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3 desired ‘goals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out matching behavio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actice (in front of mirro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ke it till you mak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E788-CB07-41D8-947D-1B9A823CD39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How is our message received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744480" y="1936800"/>
          <a:ext cx="748512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480" y="1936800"/>
                    <a:ext cx="74851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3:30:24Z</dcterms:created>
  <dc:creator>emis2000</dc:creator>
  <dc:description/>
  <dc:language>en-US</dc:language>
  <cp:lastModifiedBy>Administrator</cp:lastModifiedBy>
  <dcterms:modified xsi:type="dcterms:W3CDTF">2012-09-20T09:30:01Z</dcterms:modified>
  <cp:revision>68</cp:revision>
  <dc:subject/>
  <dc:title>Slide 1</dc:title>
</cp:coreProperties>
</file>