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B9C-0150-4457-8D5C-20813FD6A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96D3-C4E0-4CC4-B2C6-FDB3A3521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9129-7251-48BF-AB9B-B3FCF70A9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06D-3F38-4941-87AF-8F6BDEA5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AB9-D080-4C7B-8C81-2A08D31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201-4A6F-4850-A7F9-0E0F1E2C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F1A-19A7-4E9B-BD3C-2C1DAF61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86C5-F4EF-4F09-BFC3-C6951707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842-7B44-4BEE-80FE-9E9A5D24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10F7-BDB8-41B3-97F9-480F1AF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E95-68BE-4765-AD19-0FBE2B7B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582F-B620-4FCA-9ABF-7407DC11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0282-DB67-4B1A-BFA2-8F4D620F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2B56-9AE4-459C-875F-D037194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ACC-381E-4E01-B2FA-72DDE37F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02A-9C49-4565-B496-293B5423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7DF0-4F10-4CE2-9509-8A43AA1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807-63FF-46CD-BCB6-81C06B5D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C855-5C97-4D1D-9D91-6BFF0C58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6134-D875-4282-8F5D-896093B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B14-0A3C-4A2E-BDE4-BA8822E6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EDA-27D2-472A-A8C8-63F2A07B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45A-2EF7-4AFE-A39A-0F07CF6D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732-CB36-4D15-84D8-9EA5551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B84-9F5B-4296-9807-56E0571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C40-B560-4108-91F6-0E9829F3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D3F-3574-4678-8028-6F53DFC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B99-FDDC-4A3D-B945-792F39BE55A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B3D5-0561-41B0-A79A-25E7C86F4C6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se.ac.uk/collections/studentCounsellingServic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56C-5438-48B4-86EC-23F5128ECB7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415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esentation Skills and Conf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j0414037"/>
          <p:cNvPicPr/>
          <p:nvPr/>
        </p:nvPicPr>
        <p:blipFill>
          <a:blip r:embed="rId1"/>
          <a:stretch/>
        </p:blipFill>
        <p:spPr>
          <a:xfrm>
            <a:off x="6948360" y="3429000"/>
            <a:ext cx="194940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160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547-876C-48BF-9CB4-8B8804AFF89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Good practice tip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 e.g. ‘good enough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y vocal style – 3 P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positive liste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6A2-A976-4CBF-8F2C-30A1FB624F1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nxiety Manage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xiety  =  high level of bodily 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gative self-defeating thou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stead, lear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hysical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i-paus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242B-0F66-4B41-B9A0-C65E18D7D67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Dynamic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61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th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talk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7" name="Picture 19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4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7760-C9AB-42AD-B213-F6EC87A53BA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Being a perfectioni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Family /historic context for being successfu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AF5E-079B-485E-8711-65F63F90DEA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Keeping perfectionism in che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20680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is un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succes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id you accomplis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you enjoy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looking back – 2 hours/ 2 week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7EC-805C-402E-A74D-0AA7737999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ine them being tested in Cou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My presentation will be terr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7179-12B6-4F93-9269-AFFBBDA6F09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ounting the positive/ tunnel 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eeing the negative side of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it happened in the past it will happen again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523200" y="198900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70E-94DD-4D02-979E-8F08F16C09E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G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Urgent appointments (phone early in the day)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e </a:t>
            </a:r>
            <a:r>
              <a:rPr b="0" lang="en-GB" sz="29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ebsit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for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elf help resources on a wide range of student issues (study – related and personal difficulties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C789-6676-4B42-9A53-D5438BDFAAA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y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 or 2 things from toda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4A2-B956-4B62-A803-B82A318319D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ok at confidence building measures to giving good 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come physical anx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age underlying fee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AC2B-D9C4-4EF0-8D44-22A089F2D93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egative Cir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700360" y="342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6659640" y="350028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52E-7805-43F2-A54A-F106EC34F86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ositive Circl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700360" y="350028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588000" y="3500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A072-590F-420A-8C09-0701D50FF94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onfidence for Present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ey Princi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nsible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le Rehea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laxation/ Stress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CCF-38B2-4DBB-8323-8F63E670144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esentation Plan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ear simpl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mmar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you’re going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ll them what you’ve s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hearse it out lou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rst two minutes – repeat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3EA0-191D-42EB-B82B-EE494980FA8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Developing Positive Self-Talk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/when am I already conf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es that confidence feel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it different from feeling 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I build that confid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A8ED-125F-46B2-BE0A-81B183241CC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ole Rehear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ppens when I think about giving a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 desired ‘goal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out matching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e (in front of mirr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ke it till you mak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B7A-EA4E-477D-AAAD-B0A4098B0F7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How is our message receiv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744480" y="1936800"/>
          <a:ext cx="7485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36800"/>
                    <a:ext cx="7485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2-09-20T09:30:01Z</dcterms:modified>
  <cp:revision>68</cp:revision>
  <dc:subject/>
  <dc:title>Slide 1</dc:title>
</cp:coreProperties>
</file>