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98AD-58B7-4E42-9F60-16128BA4D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5A73-3AE4-4C83-8A01-70DEB3CB0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4FE-D1CE-4F18-AEC6-09D3D9A8E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A8B-30DB-4943-9365-49254DE5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DE6-434C-452C-BEF0-CE78245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412-9BC1-4B29-B424-6F1D6BBC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DB1-6406-4F90-A92A-49B391C5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989A-A270-48AA-A9A7-F680ED89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660-485E-4504-A692-B3209AFA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43F4-1FAB-485C-A887-8DA8FD8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32D-B4FB-4FD2-8765-F10DE1F5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1E58-2073-4BE7-A608-ED2C2E61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4CD-AC99-42BB-AA52-BCA2E096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AC2-B088-4C6B-AA69-C7E62C6A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FA7-828D-4290-BE19-D6C61CA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7B1-2037-46DE-974F-34E20CB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D3DB-B2D1-47ED-A57D-9EF9B05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E1D-679B-4FD8-9321-50DA740D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2D1-876F-4B41-BE54-16EB8BBE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1E0-3CD5-46AC-B003-148AAD31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BD6-2CA9-495C-95F9-68BA4F78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3D-582D-4985-B5F6-6395B9B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82F-A87A-4AB9-9DEB-D2E3937E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A96-F1FF-4D98-B679-FC31542E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C72-CDC9-42FB-A5E5-CA9005AD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AD0-BF4A-4144-BD88-AC2849F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29E-5B7A-42D0-AE0C-7412E93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D29-21F5-40CA-BC3C-FD9E085DA0B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570-C24A-4F98-9FB4-22AE5F00EE54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C49-6457-4112-BDCB-A43F4D202D3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esentation Skills and 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j0414037"/>
          <p:cNvPicPr/>
          <p:nvPr/>
        </p:nvPicPr>
        <p:blipFill>
          <a:blip r:embed="rId1"/>
          <a:stretch/>
        </p:blipFill>
        <p:spPr>
          <a:xfrm>
            <a:off x="6948360" y="3429000"/>
            <a:ext cx="194940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352-6B85-4D99-AC0A-244AB112B13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804E-1D24-4829-B6CD-8A1AE850081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nxiety Manage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09A-477A-4680-9423-1D239972BA3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7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4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D18-E48C-4955-90B9-909CB8B9A22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F71-7E94-4E8F-BEED-0F5E17036B0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680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64E-4F17-4EAE-9C92-DB4615526C5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32F5-CA81-4DE8-8B24-2975F01C6C1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523200" y="1989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9647-0972-42B7-9FAE-4C0016AC180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G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Urgent appointments (phone early in the day)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GB" sz="2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fo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elf help resources on a wide range of student issues (study – related and personal difficultie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5234-7FB1-40F2-A73D-B0316F575CF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y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 or 2 things from toda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0398-5F15-4033-9780-01385D07788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CF4-12C3-4A1A-88EE-40666DBDF74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700360" y="342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659640" y="350028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F4C6-D70D-4DFE-8457-3B253C1D8EA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700360" y="350028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588000" y="3500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445-40A4-483B-9872-33F2F4FC5F6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1C2A-3AE0-4460-A1D7-85CE53A6513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A70-51EA-4437-917E-FC383211234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Developing Positive Self-Talk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052-7206-46F5-9BA9-8D93F3D197F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85D5-C698-4888-B245-F60D67877DA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0:01Z</dcterms:modified>
  <cp:revision>68</cp:revision>
  <dc:subject/>
  <dc:title>Slide 1</dc:title>
</cp:coreProperties>
</file>