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9591-7345-4E7E-B1E8-2006349AC0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EB72-B731-426E-9A67-A407C6A5CB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0B33-09A4-4F14-8381-8C14E4FAEB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5F5E-0B40-4CF9-B61C-19B45DB9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C1B-B5C7-49CA-A7B6-863A7B37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E65-D63A-470E-A0C5-D4AE3C95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BB5-DA29-4E6C-A6BB-9C858C12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9984-98F9-4087-BEFD-FB95A5CD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2335-27C6-4105-9BA2-4009C9E9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5206-EC9A-470F-83C3-4B27F788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7F69-C208-43BE-AD55-45F4987F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668A-4D0E-4771-91B2-01D31A71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21D6-9CD8-4901-A89C-5D1E16FD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FC05-49B5-4BC6-B27B-ABE26749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6ED-F7EA-41F7-BB21-E6C123E9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7FFA-D7B0-4130-90EC-20D409E2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F067-63F5-49BD-91D3-3291BD50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A1C8-09A7-4CA9-B911-73449235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6178-FB72-499A-98E5-F5FEB6F2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F641-31FC-49AB-A6E8-4D70A96D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1A2-6E1E-4077-8F4F-928E637A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24A-D50E-4C74-B9B6-B600D2D0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52C-5050-489F-9851-EE7301E6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96B8-465C-4AB3-B453-C0336C58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853-153B-4AF3-8D8A-AFADC5B7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EF2-5579-4257-BF16-BABDB94C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12A-E6E8-40BD-8C4B-068C3DB2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00DB-3C65-43C2-AA55-98B885CC5B4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4C54-7E0F-47ED-A036-CCB4A0EC1154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0923-AEC3-4A72-BE95-C3A1699F4DD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 Workshop – Revise and Destress</a:t>
            </a: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4 May 2016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laudine Provencher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am Sandelson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LC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SE Student Counselling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0B00-D761-4FFE-B951-955B38E8DFF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echniques for dealing with revision and ex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Content Placeholder 6" descr=""/>
          <p:cNvPicPr/>
          <p:nvPr/>
        </p:nvPicPr>
        <p:blipFill>
          <a:blip r:embed="rId1"/>
          <a:stretch/>
        </p:blipFill>
        <p:spPr>
          <a:xfrm>
            <a:off x="4648320" y="2276640"/>
            <a:ext cx="439560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817B-6C2A-4CA3-A8CB-F96891F3176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vising we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58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Don’t compare yourself to other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Work out your own schedule, be flexible if necessar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Explore ways/ places to work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Don’t be obsessive!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Talk to others, ask for help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2" descr="https://www.lse.ac.uk/intranet/staff/webSupport/images/imageBank/478/Year_11_Summer_School_5320.JPG"/>
          <p:cNvPicPr/>
          <p:nvPr/>
        </p:nvPicPr>
        <p:blipFill>
          <a:blip r:embed="rId1"/>
          <a:stretch/>
        </p:blipFill>
        <p:spPr>
          <a:xfrm>
            <a:off x="6253200" y="1989000"/>
            <a:ext cx="2652840" cy="39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D67B-6BE7-4628-B074-4E7E8B03FE3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ime and Targ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t realistic and achievabl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reak down huge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hort term targets and longer term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cognise short term achiev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vise study skills, time management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FF30-FCFB-4155-9C3B-C2B7FA7972D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ocussing on the ta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centrate on the task, not the outco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member past suc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cognise you are likely to p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 methodical, and allow time for breaks and space to breathe and th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mind maps, scribble ide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o for a walk, talk out lou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CCDA-3E85-4F0A-A80A-EB43D8AC3BF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n the day of the ex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240" y="1989000"/>
            <a:ext cx="65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Don’t cram, sleep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Relax, visualize it being OK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Read the question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Sketch out thoughts, mind map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Plan answer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Keep notes for later question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After – avoid show-off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F539-CBC3-4B18-B2BA-04A0C486674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sychological Issues 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pproaching r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d exams –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Family Dynamic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ocrastina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vision Bloc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erfectionis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7" descr="https://www2.lse.ac.uk/intranet/staff/webSupport/images/imageBank/478/UGP_08_035.jpg"/>
          <p:cNvPicPr/>
          <p:nvPr/>
        </p:nvPicPr>
        <p:blipFill>
          <a:blip r:embed="rId1"/>
          <a:stretch/>
        </p:blipFill>
        <p:spPr>
          <a:xfrm>
            <a:off x="4932360" y="2637000"/>
            <a:ext cx="403848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B972-CB0D-430C-977F-FC9529849AC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Underlying dynamic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The family / historic context for your success, eg keeping the family together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Trying to please others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Wanting to be the bes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etting yourself impossible targe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Repeating past anxiety, trauma, failure …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2D1D-FA05-48A7-9EC3-23B85DF2DC5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244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ynamics of study, work, life ..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2" name="Diagram 3"/>
          <p:cNvGrpSpPr/>
          <p:nvPr/>
        </p:nvGrpSpPr>
        <p:grpSpPr>
          <a:xfrm>
            <a:off x="167760" y="2149200"/>
            <a:ext cx="4484520" cy="3801600"/>
            <a:chOff x="167760" y="2149200"/>
            <a:chExt cx="4484520" cy="3801600"/>
          </a:xfrm>
        </p:grpSpPr>
        <p:sp>
          <p:nvSpPr>
            <p:cNvPr id="163" name="_s1028"/>
            <p:cNvSpPr/>
            <p:nvPr/>
          </p:nvSpPr>
          <p:spPr>
            <a:xfrm flipH="1">
              <a:off x="1026000" y="2149200"/>
              <a:ext cx="2769120" cy="2656800"/>
            </a:xfrm>
            <a:custGeom>
              <a:avLst/>
              <a:gdLst>
                <a:gd name="textAreaLeft" fmla="*/ 360 w 2769120"/>
                <a:gd name="textAreaRight" fmla="*/ 2769840 w 2769120"/>
                <a:gd name="textAreaTop" fmla="*/ 0 h 2656800"/>
                <a:gd name="textAreaBottom" fmla="*/ 2656800 h 265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_s1029"/>
            <p:cNvSpPr/>
            <p:nvPr/>
          </p:nvSpPr>
          <p:spPr>
            <a:xfrm flipH="1" rot="14400000">
              <a:off x="702000" y="272304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_s1030"/>
            <p:cNvSpPr/>
            <p:nvPr/>
          </p:nvSpPr>
          <p:spPr>
            <a:xfrm flipH="1" rot="7200000">
              <a:off x="1460160" y="272340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_s1031"/>
            <p:cNvSpPr/>
            <p:nvPr/>
          </p:nvSpPr>
          <p:spPr>
            <a:xfrm>
              <a:off x="540000" y="263700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_s1032"/>
            <p:cNvSpPr/>
            <p:nvPr/>
          </p:nvSpPr>
          <p:spPr>
            <a:xfrm>
              <a:off x="1856520" y="4820400"/>
              <a:ext cx="11106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with LSE or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xams o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or work or …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_s1033"/>
            <p:cNvSpPr/>
            <p:nvPr/>
          </p:nvSpPr>
          <p:spPr>
            <a:xfrm>
              <a:off x="3168360" y="263556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69" name="Picture 11" descr=""/>
          <p:cNvPicPr/>
          <p:nvPr/>
        </p:nvPicPr>
        <p:blipFill>
          <a:blip r:embed="rId1"/>
          <a:stretch/>
        </p:blipFill>
        <p:spPr>
          <a:xfrm>
            <a:off x="5340240" y="2828880"/>
            <a:ext cx="351180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5EEE-973C-4FA8-9E55-2DCC8D67C71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do we procrastinate?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45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ability to prioritise, task overloa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xiety/ boredo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ar of failure/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rfectio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-or-nothing think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5" descr="j0422183"/>
          <p:cNvPicPr/>
          <p:nvPr/>
        </p:nvPicPr>
        <p:blipFill>
          <a:blip r:embed="rId1"/>
          <a:stretch/>
        </p:blipFill>
        <p:spPr>
          <a:xfrm>
            <a:off x="5132520" y="2349360"/>
            <a:ext cx="3814560" cy="30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9290-2741-435D-8E50-3C1899E7CC9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Overcoming revision block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op new reading if this is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ke notes, summarize ideas, list key quotes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actice ques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actice drafting bullet poi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eak work down into chunk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ke a break/sleep on it/talk to some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lk to your mobil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CB0D-32D0-40F8-8F2D-B9ED915F9FF1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paring for exams – the last few wee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5892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Claudine Provenc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Teaching and Learning Cent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DC30-BA72-4385-A0BE-AD118FB7F97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</a:rPr>
              <a:t>Challenge perfectionism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ectionism can reduce achievement.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 with your standards for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for 80% or even 6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on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doing an activity not just the end res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success in terms of what you accomplished and whether you enjoyed the ta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hallenge ‘all or nothing’ thin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90FA-D212-435E-9A5F-95868623CFF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ress Management Ski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5" descr="j0422389"/>
          <p:cNvPicPr/>
          <p:nvPr/>
        </p:nvPicPr>
        <p:blipFill>
          <a:blip r:embed="rId1"/>
          <a:stretch/>
        </p:blipFill>
        <p:spPr>
          <a:xfrm>
            <a:off x="5580000" y="1773360"/>
            <a:ext cx="2854440" cy="42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D239-C292-4F27-A691-6A4CBDB5861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ess Management Ski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gularly switch off - physical 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ood self care – sleep, diet, caffeine, alcoho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low yourself time off without g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hallenge negative thoughts - are they realistic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7" descr="https://www.lse.ac.uk/intranet/staff/webSupport/images/imageBank/478/Library_Beanbags_6804.jpg"/>
          <p:cNvPicPr/>
          <p:nvPr/>
        </p:nvPicPr>
        <p:blipFill>
          <a:blip r:embed="rId1"/>
          <a:stretch/>
        </p:blipFill>
        <p:spPr>
          <a:xfrm>
            <a:off x="4500720" y="4221000"/>
            <a:ext cx="367164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2DD1-3831-4E6A-889E-30AFC49056B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hallenging negative thou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54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pply ‘Socratic reasoning’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est this in a Court of La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dentify the negative thou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g, I am going to fail the Cour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certain the evidence For and Again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k if you are making a ‘thinking error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pose a more reasonable alternative thou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6499080" y="2133720"/>
            <a:ext cx="23022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24F5-5B82-4612-8519-27FEB073A37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inking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or nothing thinking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scounting the positiv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motional Reaso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If I feel it then it must be tr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vergeneralizing - especially from a past bad exper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6" descr="https://www2.lse.ac.uk/intranet/staff/webSupport/images/imageBank/478/BLPES_199.JPG"/>
          <p:cNvPicPr/>
          <p:nvPr/>
        </p:nvPicPr>
        <p:blipFill>
          <a:blip r:embed="rId1"/>
          <a:stretch/>
        </p:blipFill>
        <p:spPr>
          <a:xfrm>
            <a:off x="5651640" y="1916280"/>
            <a:ext cx="2950920" cy="4438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1A49-6B0D-409C-A61C-A005832DFFE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SE Student Counselling Serv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ree and confidenti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hort term counse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ppointments need to be booked in adv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op in sessions – each day at 3.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laxation MP3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nks to self help resources on a wide range of student issues, including study – related and personal difficul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CAF8-8EBB-4CA7-8D10-17654C814B3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im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est use of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eam spirit is an illusion created by winning.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arker (200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A52B-9F97-488E-A4B6-F51F2C66517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ime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 session starts on 3 M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s run until 10 Ju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 an exam on 21 May, you could have 80 working hours  (no weekends or evening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viding this up into essay plans, for instance, you could make 60, you probably need to make 12 – 15 to be ready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0E57-6A8A-4B18-9AF6-2158AE3CB3E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ime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lanning – divide time based on the scheduling of your ex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ere possible focus on the next exam in the few days leading up to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 an 8 hour day, break time up into 1.5 hour blocks, working on answering different qu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CB5D-157C-4581-A104-D56D5558644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est use of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 need to be good at the exam tasks – these tasks include performance an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Tahoma"/>
              </a:rPr>
              <a:t>(e.g. for 1 hour essays, most people write 800 – 1000 words, therefore an introduction and 4 or 5 paragraphs and a conclusion.  The introduction answers the question and outlines the argument in support of this answer, each paragraph begins with a clear statement that helps answer the question and combines reference to the literature and other sources to justify and support the main idea of the paragraph in a detailed and convincing manner.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B5B0-D655-45DD-A1F7-2ECFB0226DC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est use of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ete and practise exam tasks, using texts / lecture notes etc. as you get stu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ook to produce answers tha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how you can think (answer the ques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how you’ve done the reading (references / contex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how expertise (detailed knowledge, real world context or use, locate the debate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BC6F-D045-4BF5-A96E-73C72052531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ch other – read each others essays, try the same questions and talk through the solutions (good end of day tas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vision sessions – examiner’s mindset, marking preference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ffice hours – take answers / plans rather than questions of det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EE92-19F7-47CC-9A1B-F4ADE640E6F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 Psych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40736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Practical techniques for revision and exam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Common psychological issu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tress management skill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990720" y="167652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403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ahoma"/>
              </a:rPr>
              <a:t>Adam Sandels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ahoma"/>
              </a:rPr>
              <a:t>LSE Student Counselling Servi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3:30:24Z</dcterms:created>
  <dc:creator>Sandelson,A</dc:creator>
  <dc:description/>
  <dc:language>en-US</dc:language>
  <cp:lastModifiedBy>CPPD New PC</cp:lastModifiedBy>
  <dcterms:modified xsi:type="dcterms:W3CDTF">2016-04-28T11:03:50Z</dcterms:modified>
  <cp:revision>125</cp:revision>
  <dc:subject/>
  <dc:title> </dc:title>
</cp:coreProperties>
</file>