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1A1-7A6A-4617-993E-9CEED7574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AFFF-4C79-4B76-8883-F3A69F3D0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854-9512-40D1-82F5-826AD66E6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028-92FE-4194-949B-719F25A5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52A-1650-4057-A94C-EAB5A439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440-C414-4DDE-BB83-9A416F78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D4A-F450-4163-B9B9-2F1ED8E9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6DA0-0851-43C9-BE87-5AA70157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3F0-9E62-4D66-83FE-66160C5F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BBC-AC21-4C61-8BCD-2D27E9E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6E61-1A16-485D-BA3D-CDD3697F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B51-CC41-4A4A-810E-B1A9B647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0ABC-1822-487A-BA44-13E1C00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7318-E7C9-434A-92F8-DC979C6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BA8-3279-4C10-9E1F-8F01C855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4B5-4916-431E-873F-51548DF9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4EDB-A266-406F-88DD-840182D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AE47-8824-4337-B0FD-6F1800B3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796-088D-4465-870B-9CFBC55E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E4C9-F3EC-4DCE-ADD4-973FC2A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7DE-4F2D-42A9-9845-3CFA17D1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1AC-7445-446E-AA36-9F74154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276-A685-46ED-B032-DE844CEE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003-9350-4B04-A9D2-1F45375D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350-F635-42B7-AC8B-AEA0896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0BC-623E-4AFB-805E-DD916BB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470-009C-4FA5-886D-9331B0D2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108-12B4-4C79-A1D1-FC1BAF72970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710-C145-48C1-89B2-8D252ABE073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D6C0-0969-415F-BC40-E28281EEDCF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 Workshop – Revise and Destress</a:t>
            </a:r>
            <a:r>
              <a:rPr b="0" i="1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4 May 2016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laudine Provencher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am Sandelso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L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D385-A819-4E25-A9A0-F4B436A7453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chniques for dealing with revision and ex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4648320" y="2276640"/>
            <a:ext cx="439560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819-4E57-4077-BBEA-5F9CD6C9335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vising we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58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on’t compare yourself to oth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ork out your own schedule, be flexible if necessar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xplore ways/ places to wor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on’t be obsessive!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lk to others, ask for hel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https://www.lse.ac.uk/intranet/staff/webSupport/images/imageBank/478/Year_11_Summer_School_5320.JPG"/>
          <p:cNvPicPr/>
          <p:nvPr/>
        </p:nvPicPr>
        <p:blipFill>
          <a:blip r:embed="rId1"/>
          <a:stretch/>
        </p:blipFill>
        <p:spPr>
          <a:xfrm>
            <a:off x="6253200" y="1989000"/>
            <a:ext cx="2652840" cy="39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75AC-613C-464F-B133-7F3B606F809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nd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reak down huge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hort term targets and longer term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cognise short term achiev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e study skills, time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C1C3-E738-4DD3-BA17-9C6387D3A4E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centrate on the task, not the outc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 are likely to p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 methodical, and allow time for breaks and space to breathe and th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mind maps, scribble id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9E4-5CFB-486D-A2C2-89AA1D33C93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n the day of the ex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240" y="1989000"/>
            <a:ext cx="65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Don’t cram, sleep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Relax, visualize it being OK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Read the ques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Sketch out thoughts, mind map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Plan answer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Keep notes for later question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ahoma"/>
              </a:rPr>
              <a:t>After – avoid show-offs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A9B-D38F-47DC-964E-0011175E711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sychological Issues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aching r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exams –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Family Dynamic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crastin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vision Bloc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erfectionis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7" descr="https://www2.lse.ac.uk/intranet/staff/webSupport/images/imageBank/478/UGP_08_035.jpg"/>
          <p:cNvPicPr/>
          <p:nvPr/>
        </p:nvPicPr>
        <p:blipFill>
          <a:blip r:embed="rId1"/>
          <a:stretch/>
        </p:blipFill>
        <p:spPr>
          <a:xfrm>
            <a:off x="4932360" y="2637000"/>
            <a:ext cx="40384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0D5-C0E7-4F68-9A6C-310CB15D759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he family / historic context for your success, eg keeping the family togethe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rying to please oth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anting to be the bes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epeating past anxiety, trauma, failure 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B5C-0581-4350-959F-1A27EA7BEDF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2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163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xams or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9" name="Picture 11" descr=""/>
          <p:cNvPicPr/>
          <p:nvPr/>
        </p:nvPicPr>
        <p:blipFill>
          <a:blip r:embed="rId1"/>
          <a:stretch/>
        </p:blipFill>
        <p:spPr>
          <a:xfrm>
            <a:off x="5340240" y="2828880"/>
            <a:ext cx="35118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73D-5420-431C-B320-6160A301726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do we procrastinate?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45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ability to prioritise, task overloa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xiety/ bored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ar of failure/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fectio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-or-nothing thi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5" descr="j0422183"/>
          <p:cNvPicPr/>
          <p:nvPr/>
        </p:nvPicPr>
        <p:blipFill>
          <a:blip r:embed="rId1"/>
          <a:stretch/>
        </p:blipFill>
        <p:spPr>
          <a:xfrm>
            <a:off x="5132520" y="2349360"/>
            <a:ext cx="38145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F9F2-E4AA-4894-8A80-B9F5ADF3274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Overcoming revision block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op new reading if this is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ke notes, summarize ideas, list key quotes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e drafting bullet poi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eak work down into chu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ke a break/sleep on it/talk to some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your mobi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541-FC46-4B53-9E25-22C541EBF18F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paring for exams – the last few wee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Claudine Provenc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Teaching and Learning Cent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AC12-D5BD-448F-AAC9-F2324FF6F9C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ahoma"/>
              </a:rPr>
              <a:t>Challenge perfectionis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ectionism can reduce achievement.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 with your standards for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for 80% or even 6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oing an activity not just the end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6120" indent="-3088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success in terms of what you accomplished and whether you enjoyed the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llenge ‘all or nothing’ thin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096-4CD5-4D76-BFEF-7B2D11140CE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5" descr="j0422389"/>
          <p:cNvPicPr/>
          <p:nvPr/>
        </p:nvPicPr>
        <p:blipFill>
          <a:blip r:embed="rId1"/>
          <a:stretch/>
        </p:blipFill>
        <p:spPr>
          <a:xfrm>
            <a:off x="5580000" y="1773360"/>
            <a:ext cx="2854440" cy="42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4C5-E855-4F2E-8E23-0AFA3778FA4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rly switch off - physic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ood self care – sleep, diet, caffeine, alcoho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low yourself time off without g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hallenge negative thoughts - are they realist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7" descr="https://www.lse.ac.uk/intranet/staff/webSupport/images/imageBank/478/Library_Beanbags_6804.jpg"/>
          <p:cNvPicPr/>
          <p:nvPr/>
        </p:nvPicPr>
        <p:blipFill>
          <a:blip r:embed="rId1"/>
          <a:stretch/>
        </p:blipFill>
        <p:spPr>
          <a:xfrm>
            <a:off x="4500720" y="4221000"/>
            <a:ext cx="367164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FFF2-786B-4EE8-A411-0A7DADC3D35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54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pply ‘Socratic reasoning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est this in a Court of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dentify the negative thou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g, I am going to fail the Cou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certain the evidence For and Again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 if you are making a ‘thinking error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499080" y="2133720"/>
            <a:ext cx="2302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050-C383-4075-A4E3-2FB39BC1F41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or nothing thinking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f I feel it then it must be tru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generalizing - especially from a past bad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6" descr="https://www2.lse.ac.uk/intranet/staff/webSupport/images/imageBank/478/BLPES_199.JPG"/>
          <p:cNvPicPr/>
          <p:nvPr/>
        </p:nvPicPr>
        <p:blipFill>
          <a:blip r:embed="rId1"/>
          <a:stretch/>
        </p:blipFill>
        <p:spPr>
          <a:xfrm>
            <a:off x="5651640" y="1916280"/>
            <a:ext cx="2950920" cy="4438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71A-B157-4D72-BC49-8CC961C4650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SE Student Counselling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couns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ments need to be booked in adv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op in sessions – each day at 3.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nks to self help resources on a wide range of student issues, including study – related and person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5441-0F3A-4B25-99DE-FC7CCEE845A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m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st use of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eam spirit is an illusion created by winning.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arker (200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6AA1-2376-4126-9C34-98B554150AA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 session starts on 3 M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s run until 10 Ju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an exam on 21 May, you could have 80 working hours  (no weekends or even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viding this up into essay plans, for instance, you could make 60, you probably need to make 12 – 15 to be read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70BC-2414-48B9-B7D5-C2121151334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ime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ning – divide time based on the scheduling of your ex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ere possible focus on the next exam in the few days leading up to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 an 8 hour day, break time up into 1.5 hour blocks, working on answering different 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936-2305-4B4F-AB0F-8D8E2E8BF81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need to be good at the exam tasks – these tasks include performance an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300" spc="-1" strike="noStrike">
                <a:solidFill>
                  <a:srgbClr val="ff0000"/>
                </a:solidFill>
                <a:latin typeface="Tahoma"/>
              </a:rPr>
              <a:t>(e.g. for 1 hour essays, most people write 800 – 1000 words, therefore an introduction and 4 or 5 paragraphs and a conclusion.  The introduction answers the question and outlines the argument in support of this answer, each paragraph begins with a clear statement that helps answer the question and combines reference to the literature and other sources to justify and support the main idea of the paragraph in a detailed and convincing manner.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E92-A448-4E34-8093-7B29279D999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Best use of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ete and practise exam tasks, using texts / lecture notes etc. as you get st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ok to produce answers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you can think (answer the ques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you’ve done the reading (references / con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expertise (detailed knowledge, real world context or use, locate the debate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274-1406-489F-A907-8D40A515B8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ch other – read each others essays, try the same questions and talk through the solutions (good end of day ta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vision sessions – examiner’s mindset, marking preference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ffice hours – take answers / plans rather than questions of det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D1A6-BA9D-47A3-9C41-B79C92BCCA1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xam Psych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4073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actical techniques for revision and exam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mmon psychological issu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403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CPPD New PC</cp:lastModifiedBy>
  <dcterms:modified xsi:type="dcterms:W3CDTF">2016-04-28T11:03:50Z</dcterms:modified>
  <cp:revision>125</cp:revision>
  <dc:subject/>
  <dc:title> </dc:title>
</cp:coreProperties>
</file>