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A822-F940-41C9-B72C-E894EF11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01D-2482-4DEE-BDDD-9AD86405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9CE-3EF7-4BFE-99C6-CF0FB2D2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1057-36C0-4E19-889F-0B1C8B28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46CB-3BDF-4168-B0EA-E9E3EC57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D7BB-DDA1-4B7B-AB95-89BEDE6D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078-5C9A-4E5F-99E0-B6BE933B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EC8-3E58-4153-B4A5-313E4B13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D93-04EA-4C1D-AB7F-7F0091BD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F3D-8F8B-4C81-A161-31BC68A2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B66-0E22-4FF0-8DCB-AB1F3765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91D3-1730-411F-A264-2E2F7C50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TLC PowerPoint_Bkgrnd V5.jpg"/>
          <p:cNvPicPr/>
          <p:nvPr/>
        </p:nvPicPr>
        <p:blipFill>
          <a:blip r:embed="rId2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E3B2-0DF4-4192-B5AC-7DBB915D55E5}" type="slidenum"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selling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5596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ee and confidential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alist understanding of student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33 students seen last year (4.8 FTE sta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rt term couns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ups and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op in service each day at 3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ice and consultation to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1:22:20Z</dcterms:created>
  <dc:creator>LSE</dc:creator>
  <dc:description/>
  <dc:language>en-US</dc:language>
  <cp:lastModifiedBy>Administrator</cp:lastModifiedBy>
  <dcterms:modified xsi:type="dcterms:W3CDTF">2011-03-17T10:03:58Z</dcterms:modified>
  <cp:revision>8</cp:revision>
  <dc:subject/>
  <dc:title>TLC roles</dc:title>
</cp:coreProperties>
</file>