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E7E6-EB1F-4DEC-81F8-B7BCFBB2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835-D357-4644-A62B-6404AFEF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8A7E-8F48-4FC3-A901-C547FE2A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8AB-C0C0-45C0-AE77-66A0F2BB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7B8-E39A-48E1-AA61-CB943DCF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C28B-94B3-42CD-8C84-EAD5BD20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2A65-BE6C-4C65-99F8-9DA1C88E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554E-1F86-4806-8B70-71D72823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97C3-1030-4027-8618-A7821130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9F0-D229-4CC6-B288-520A8801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0C7-2B58-44F9-8741-21E97410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3FE0-A56C-46B8-9369-6FE6D009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TLC PowerPoint_Bkgrnd V5.jpg"/>
          <p:cNvPicPr/>
          <p:nvPr/>
        </p:nvPicPr>
        <p:blipFill>
          <a:blip r:embed="rId2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2D0C-1CB4-4E17-A6CA-C6CA9E6E09AA}" type="slidenum"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selling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5596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ee and confidential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alist understanding of student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33 students seen last year (4.8 FTE sta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rt term couns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ups and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op in service each day at 3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ice and consultation to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1:22:20Z</dcterms:created>
  <dc:creator>LSE</dc:creator>
  <dc:description/>
  <dc:language>en-US</dc:language>
  <cp:lastModifiedBy>Administrator</cp:lastModifiedBy>
  <dcterms:modified xsi:type="dcterms:W3CDTF">2011-03-17T10:03:58Z</dcterms:modified>
  <cp:revision>8</cp:revision>
  <dc:subject/>
  <dc:title>TLC roles</dc:title>
</cp:coreProperties>
</file>