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4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ftr" idx="44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 type="sldNum" idx="45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55EE-D763-4F32-BBD6-5E9A3AC26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07CC-AA73-4563-A448-151B8500D3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97AE-670B-4EBB-A524-700559017B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303B-EF14-481D-8483-4C88F69C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4A3-1ED4-43BB-B6AB-67EE3D38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488CA-54F9-4FDF-B15E-951065A8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D91D0-7AC7-4D40-ABF6-D8DBFD93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1CABE-161D-4FB5-BA12-A7CEA222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BF5FF-7CBB-493A-ABC2-4A0F5D65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76185-002A-4360-8B67-8B6825F7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FCDAF-150F-47B6-AAAA-F1BFD45B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8EEFA-C88B-4C05-B5A4-F08CB438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4785E-3691-4F14-8BA0-F0AA9F9C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3BBEB-293D-48BC-A072-C8B3CAF9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0550D-5E94-433B-8297-410C51CA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AA1-D2E2-46F2-9D91-66164DA9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00DDF-EB86-4CD9-B714-FD0582C9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01454-AFD8-4EAC-B86B-5DD7615A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58568-606B-4040-A69F-777EBDFF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207B4-FB3D-4858-ABE9-FD051063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388DD-49F1-4B83-8A1C-80FB2457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D3637-7541-4715-B12D-B814D340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6AD42-BC90-4146-A8A7-AD09273A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A9BFB-F16E-4728-81F8-0E15AE00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9B3D8-82A9-4452-AF6E-690E7B64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21B40-A97D-4738-B95A-34012716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49CA-CBD7-4E61-9F19-13D346B4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8B903-8900-4BDA-9797-D24F72E6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E9807-336D-4B2E-B246-A2097DD8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00F68-A67D-4600-8DFA-4214154E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EE59A-6F3B-4288-A7D8-C8A75759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4C395-F86D-4E17-B095-D9A917E5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7EC9A-EF29-4ABE-BDC9-D562A245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555B5-973E-4219-B505-0BFB68A6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5BB62-55A1-463A-A2A7-60C46D4D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B7024-DA98-432C-AC72-B33CAC0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6C8FA-F2B6-468E-B9FC-4E3F59AD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1AC8-79B4-445F-9D03-3D763795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4AF9A-03BD-4ABA-B3CC-394C3102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82A38-EA93-4892-A227-B3E724A6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D2A72-DDB9-4298-B84E-A87D828B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BDDAE-3057-4D34-AF5D-597B4E24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5591D-1499-4F1D-BED7-830BFEC8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52C83-C5CE-49C5-8D35-36697078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D91B4-4017-4C91-8C45-E517EDB5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93358-9681-444A-85AC-BEB7014C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151EE-A856-451E-A52C-89248A5A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422F0-DC50-4493-9DFB-77696C3B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6473-B257-4D4F-950E-C5B99A4F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D77B3-CA54-473B-9ED8-287438E5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2B135-D124-4218-9780-756568D6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3E79CA-C07D-4C9E-A345-C4D8BCBB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8414A-B62D-4FC8-96CD-E4EDD1B8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B50AC-D352-4461-961D-044F4B5F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33408-5427-43E5-81CC-002DF1F0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2AAFA-0D58-4B25-8A78-7E623DCB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C565D-5D06-4CAC-94D0-F55ABD4F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187A6-D601-4F4B-A62B-CB1B9FB2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0F32A-0897-478D-B745-0A1EC7F3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85ED-F0F0-4408-8B6E-5C56EDC6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46204-D031-4239-BC4A-F1838E87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B3BA4-D12B-452B-99F7-B27CF97D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5DA8F-52DA-4FD2-A41F-371390D1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1F74B0-8D93-4202-A0F0-42CBEA1A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5AF56-9A49-4CD7-8E79-C2D332E4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0ED5D-6C48-49D1-902F-A47DE0E7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2A85D-418E-45BC-909C-890E9E1F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42F1B-2A22-475C-A548-7A717826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6A841-C3C7-4775-8ED9-02CFF030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73F40-E1CF-45F0-A197-4C1C4C00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A2D3-5302-4064-A345-815A1A93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E2FF29-E5A1-4DFB-ADBB-4869C910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49E7C-7225-421E-B60F-2872277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77337-2126-443B-B1B6-781D6E38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DCEDF-C5EB-412A-ABE4-2052DCA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C4276-00F6-4956-9413-72B889A5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CC118-2B67-4B56-BB20-5DC25AC2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293CB-66B3-4A19-A5C1-C046EB48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4A397-CFC9-4E1E-BCD3-7165AE4E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9219E-F2B5-4E56-B538-84603E0E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BDD5-49D9-447E-AD2A-576E0C5E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8D02-2389-405A-91AC-46F97415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BF16-2164-4E08-A5EA-4630AFEB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4DB-C847-4017-AB95-44D654E6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B799-77BF-45B8-9624-DD3C640C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88CC-70C2-43B6-AAA8-22BBAE48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E66B-8DB7-4F42-881C-ADF68F9E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FFBB-CF69-4322-9583-C3E0D45A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2F45-99BE-42B8-B418-0363578F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EF0B7-0CF4-4B7C-90BA-B1F591A9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14716-57B6-40E6-893E-740EF242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1420-0013-4512-A392-FF9D0145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05E1F-597E-4C63-A945-6899D06F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E8E78-5395-4BEA-A666-EE3E6A7A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186-E715-410B-A63D-6FB41C2A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98B6D-3A41-46E2-8559-44788796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D697A-6010-4A01-AC5B-977E6D4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D083-E27B-412B-828B-DB045D32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1C08-BB65-4B02-97C6-057689FE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84D6-6FF7-4B3D-9EE3-A9981D0B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C8306-D53D-42C1-AFC4-5B955C5C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37F2-AEFC-4ADF-AD80-E810AF07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58C4F-0486-40C7-9EC8-B852778C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06D11-31F0-4B87-A0D3-91C16804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35099-E13D-4515-88CF-A4E2E89E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E82-9442-4CD6-99F8-394FE061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3D331-A001-45E8-B919-9F7320C3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A428-E376-49F3-8276-D7AA2838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37DDF-8CE7-499A-82A4-D738BC8C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920CF-3F9B-4610-907B-71EBF858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75280-1413-464B-8628-5AF4309C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0AE29-7117-418D-908D-DD557758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6B1BD-1FAA-4922-B93A-B3BCE819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3FAC6-969B-4242-966D-712B15BD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C717F-37FF-402E-A335-7D610EFE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D087-1950-4C46-8D72-30B5405D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F193-70FE-4EFB-861D-DA49C6A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55749-8BB5-414E-8A88-EF3B7195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04DE7-F64F-4780-B160-6B52D57D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505D1-E14D-45D8-909D-96485FA5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F9C92-6129-4EB2-ABA5-E88C5A5B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4BEA-0892-4865-B6BA-BE7F8D9C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CEB91-FEB4-46DE-BE9F-160DB6C0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EC3FE-0FB0-43B2-BB41-9DCD6CD7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2BC8A-0DC8-4179-BE81-CBB78D61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9790F-992F-4B58-A067-E37030F0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D561A-FC15-498B-8B58-C92C2E89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B10-D1E6-4783-AD3C-6530750B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A7223-7743-498E-82BB-047FB6BE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246EF-C47A-4447-BE16-74E4C6204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1106F-D1E6-4891-A355-C411D1D7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120BE-D7C4-4780-B38A-7328C5F2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74793-401F-416B-B235-CF27079D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C354C-9EF2-4EF6-B7D0-ECFC4ADF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A185F-CBD1-4E0B-AA82-A5E0F0EB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CE07A-6FA8-4BAC-842A-D6C4B232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B384F-00E9-4A4E-80A9-B53924E9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66870-660F-432D-8810-B417B37C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850-1B27-4C1E-AD50-F749EDA0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80418-5DD4-4B41-974D-397D7245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E5667-BD26-4BB6-BBC8-A1CB7F92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5FB13-0518-42A3-B415-D2A4BC83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81E16-42F0-4D59-AD90-D92E1E8E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0F477-8975-4B66-A422-C2AEC099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8E58F-BADB-497A-A620-20952FC4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C4382-329A-4473-8D92-6DCD40F1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574BF-F1BA-4833-B5F9-09934395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875C3-6735-4E10-AF88-020A4352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D64D-2F62-4A9E-BC1D-116277A7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1F4-B4D4-429A-971A-544341C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2BBAB-96F0-4C5A-B85D-3827AAE6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93FEE-70D0-4D4E-8985-2C5049C7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EFC75-E551-4504-8B6B-4DD0C7F4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BFBAF-3A60-4217-A0A3-92F194DC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CC9DC-E6BD-4485-948F-05718184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8F6A9-839A-4258-80B4-63A702EF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9C65C-1462-49AC-B335-1DFC66C6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FDA3F-9BAB-4ED6-ADC0-47C9C71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BEF63-02A6-45DA-8EF4-8A7B52F5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B5250-DEB0-423F-95E5-B4615EF0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8D3-350A-40A8-8007-F7138199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198C0-39E7-4699-AE81-07D47F93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47ED4-857A-4BE9-82F0-70DF4EA4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CF99F-0502-4504-86ED-C277D457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6DC13-9AB7-4DC8-91A2-2FF30EAC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ECB9F-35B1-4064-B57E-FBAE7B80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0A11C-F317-41EC-9FFA-5C6E1C9E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8D521-3513-4123-BD70-8004DB62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7EC38-1D6F-4DFE-9DBC-5DFE518B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1F488-E79B-41CA-BFF8-67974EBB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7ABA0-D9B9-4D1E-8295-AEBB8D01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EDDD-10DD-4A20-9559-707D098575B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4868-7E32-46DC-960B-4EC7D11974A1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95A9-42B9-4101-A0B2-27DCFA93B4D2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67D4-DB3E-427D-BCFD-676E98A05BC4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6A4A-F696-48F4-90D8-3E3FE31528AA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09FA-EF27-4D52-8AB3-E2EA1A0B8685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0024-1735-4B71-A40B-71BD29A6C5E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E5EA-D396-4937-8C00-4780A8F7963B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7D15-130A-4566-8DC9-37C9A88BAAAE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DD9F-0BFC-4412-8D0E-B40BCCC31129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32DA-4CC5-413B-A400-BBB24CA8F927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E28B-D7A1-49AB-A094-61AF9DF7D850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EC2D-8582-4C1A-9532-8CA8E05F6F76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D17B-496A-4FFE-8A0B-930D716A5C4D}" type="slidenum">
              <a:rPr b="0" lang="en-GB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0E4F-3A09-4B43-B259-7944EE511F6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-181440" y="227664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500" spc="-1" strike="noStrike">
                <a:solidFill>
                  <a:srgbClr val="000000"/>
                </a:solidFill>
                <a:latin typeface="Tahoma"/>
              </a:rPr>
              <a:t>Studying and surviving at LS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Friday 15 October 2014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Wolfson Theatre, 3.30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Adam Sandels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LSE Student Counselling Service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1" name="Picture 7" descr="https://www2.lse.ac.uk/intranet/staff/webSupport/images/imageBank/478/sciencespo_0666.JPG"/>
          <p:cNvPicPr/>
          <p:nvPr/>
        </p:nvPicPr>
        <p:blipFill>
          <a:blip r:embed="rId1"/>
          <a:stretch/>
        </p:blipFill>
        <p:spPr>
          <a:xfrm>
            <a:off x="5651640" y="1773360"/>
            <a:ext cx="302868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EEE1-44C2-49F8-BBF3-3615581A377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omesickness is associated w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41672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tance from ho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gh expectations/ sense of anticlima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to adapt to culture, language, life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 overload and low control over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0000"/>
                </a:solidFill>
                <a:latin typeface="Tahoma"/>
              </a:rPr>
              <a:t>most people come through homesickness and go on to do well and enjoy their tim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EFCA-EA1E-49CF-AB7A-A65D3A2B364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Initial impres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23640" y="2060280"/>
            <a:ext cx="51116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y did you choose t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y at 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are your initial impression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0" name="Picture 10" descr="https://www2.lse.ac.uk/intranet/staff/webSupport/images/imageBank/478/Freshers_Fair_W7H6564.JPG"/>
          <p:cNvPicPr/>
          <p:nvPr/>
        </p:nvPicPr>
        <p:blipFill>
          <a:blip r:embed="rId1"/>
          <a:stretch/>
        </p:blipFill>
        <p:spPr>
          <a:xfrm>
            <a:off x="5580000" y="1773360"/>
            <a:ext cx="30384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2F5D-CC86-4178-92FA-A69F8123A51B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Settling in T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532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alk to someone - others feel th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ll home but also get involved he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It’s not disloyal to to enjoy yourself!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Be realistic about what to expect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Balance work and leisu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ime to adjus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You don't have to get everything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ght straight away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Food and slee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4" name="Picture 7" descr="https://www2.lse.ac.uk/intranet/staff/webSupport/images/imageBank/478/bankside_184.jpg"/>
          <p:cNvPicPr/>
          <p:nvPr/>
        </p:nvPicPr>
        <p:blipFill>
          <a:blip r:embed="rId1"/>
          <a:stretch/>
        </p:blipFill>
        <p:spPr>
          <a:xfrm>
            <a:off x="6164280" y="1773360"/>
            <a:ext cx="2736720" cy="41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5FB3-0689-4B0C-B728-1F0E4830F68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442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context for stud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at are you re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ing he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8" name="Picture 7" descr="https://www2.lse.ac.uk/intranet/staff/webSupport/images/imageBank/478/Graduations_2010_0766.jpg"/>
          <p:cNvPicPr/>
          <p:nvPr/>
        </p:nvPicPr>
        <p:blipFill>
          <a:blip r:embed="rId1"/>
          <a:stretch/>
        </p:blipFill>
        <p:spPr>
          <a:xfrm>
            <a:off x="5435640" y="1811160"/>
            <a:ext cx="3038400" cy="45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16AA-A335-49F1-8519-7D6066C65A4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mbivalenc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8000" y="2278080"/>
            <a:ext cx="36716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ing a stu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udying at 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r course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2" name="Picture 9" descr="https://www2.lse.ac.uk/intranet/staff/webSupport/images/imageBank/478/NAB_Classes_9820.JPG"/>
          <p:cNvPicPr/>
          <p:nvPr/>
        </p:nvPicPr>
        <p:blipFill>
          <a:blip r:embed="rId1"/>
          <a:stretch/>
        </p:blipFill>
        <p:spPr>
          <a:xfrm>
            <a:off x="395280" y="2589120"/>
            <a:ext cx="410040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1B99-4335-4CB9-B091-43F8F545D1C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derlying dynamic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5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rying to please oth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Tahoma"/>
              </a:rPr>
              <a:t>Being a perfectionis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eeling under pressure to do everything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Setting yourself impossible targe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Repeating anxiety, stress, fear of failure …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The family/ historic context for your success …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6" name="Picture 5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45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05CE-49E6-4531-8B6E-294179FBC49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244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ynamics of study, work, life 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59" name="Diagram 3"/>
          <p:cNvGrpSpPr/>
          <p:nvPr/>
        </p:nvGrpSpPr>
        <p:grpSpPr>
          <a:xfrm>
            <a:off x="167760" y="2149200"/>
            <a:ext cx="4484520" cy="3801600"/>
            <a:chOff x="167760" y="2149200"/>
            <a:chExt cx="4484520" cy="3801600"/>
          </a:xfrm>
        </p:grpSpPr>
        <p:sp>
          <p:nvSpPr>
            <p:cNvPr id="660" name="_s1028"/>
            <p:cNvSpPr/>
            <p:nvPr/>
          </p:nvSpPr>
          <p:spPr>
            <a:xfrm flipH="1">
              <a:off x="1026000" y="2149200"/>
              <a:ext cx="2769120" cy="2656800"/>
            </a:xfrm>
            <a:custGeom>
              <a:avLst/>
              <a:gdLst>
                <a:gd name="textAreaLeft" fmla="*/ 360 w 2769120"/>
                <a:gd name="textAreaRight" fmla="*/ 2769840 w 2769120"/>
                <a:gd name="textAreaTop" fmla="*/ 0 h 2656800"/>
                <a:gd name="textAreaBottom" fmla="*/ 2656800 h 265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_s1029"/>
            <p:cNvSpPr/>
            <p:nvPr/>
          </p:nvSpPr>
          <p:spPr>
            <a:xfrm flipH="1" rot="14400000">
              <a:off x="702000" y="272304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_s1030"/>
            <p:cNvSpPr/>
            <p:nvPr/>
          </p:nvSpPr>
          <p:spPr>
            <a:xfrm flipH="1" rot="7200000">
              <a:off x="1460160" y="2723400"/>
              <a:ext cx="2656800" cy="2769120"/>
            </a:xfrm>
            <a:custGeom>
              <a:avLst/>
              <a:gdLst>
                <a:gd name="textAreaLeft" fmla="*/ 0 w 2656800"/>
                <a:gd name="textAreaRight" fmla="*/ 2656800 w 2656800"/>
                <a:gd name="textAreaTop" fmla="*/ 0 h 2769120"/>
                <a:gd name="textAreaBottom" fmla="*/ 2769480 h 27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_s1031"/>
            <p:cNvSpPr/>
            <p:nvPr/>
          </p:nvSpPr>
          <p:spPr>
            <a:xfrm>
              <a:off x="540000" y="263700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_s1032"/>
            <p:cNvSpPr/>
            <p:nvPr/>
          </p:nvSpPr>
          <p:spPr>
            <a:xfrm>
              <a:off x="1856520" y="4820400"/>
              <a:ext cx="11106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ith LSE or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urse of stud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or work or …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_s1033"/>
            <p:cNvSpPr/>
            <p:nvPr/>
          </p:nvSpPr>
          <p:spPr>
            <a:xfrm>
              <a:off x="3168360" y="2635560"/>
              <a:ext cx="111096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040" rIns="4104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lationship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6" name="Picture 14" descr="https://www2.lse.ac.uk/intranet/staff/webSupport/images/imageBank/478/Graduations_2010_0686.jpg"/>
          <p:cNvPicPr/>
          <p:nvPr/>
        </p:nvPicPr>
        <p:blipFill>
          <a:blip r:embed="rId1"/>
          <a:stretch/>
        </p:blipFill>
        <p:spPr>
          <a:xfrm>
            <a:off x="4708440" y="2776680"/>
            <a:ext cx="4141800" cy="27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489C-08FE-41E7-9BB4-7F118150AFE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Under Pressur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460836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pressures are you under as a student coming to 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rom your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e these pressures realistic or excessiv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0" name="Picture 6" descr="https://www2.lse.ac.uk/intranet/staff/webSupport/images/imageBank/478/Teaching_071.JPG"/>
          <p:cNvPicPr/>
          <p:nvPr/>
        </p:nvPicPr>
        <p:blipFill>
          <a:blip r:embed="rId1"/>
          <a:stretch/>
        </p:blipFill>
        <p:spPr>
          <a:xfrm>
            <a:off x="4832280" y="2492280"/>
            <a:ext cx="4221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7C7F-21CE-452C-B8EC-2C905C88249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920" y="2019240"/>
            <a:ext cx="46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actical ways of de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ith study challe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4" name="Picture 14" descr="https://www2.lse.ac.uk/intranet/staff/webSupport/images/imageBank/478/Year_11_Summer_School_5327.JPG"/>
          <p:cNvPicPr/>
          <p:nvPr/>
        </p:nvPicPr>
        <p:blipFill>
          <a:blip r:embed="rId1"/>
          <a:stretch/>
        </p:blipFill>
        <p:spPr>
          <a:xfrm>
            <a:off x="4665600" y="2637000"/>
            <a:ext cx="4314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D44F-1E6A-4F09-8891-66D1F08AF7F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actical approac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vise study skil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420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e LSE Learning World on Moo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management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 realistic and achievabl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ort term targets, longer term strate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cognise your achiev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lk to others, ask for help and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62CF-F72E-42E0-AC6A-BABB3FB9663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Ai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mon challenges in starting at 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actical tips for dealing with transi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ources of advice and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EF9D-696E-4D1B-85C4-93A39FF15B2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centrate on the task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80" name="Picture 7" descr="Wilkinson sends a 45-yard penalty between the posts just a minute into extra-time to regain the lead for England"/>
          <p:cNvPicPr/>
          <p:nvPr/>
        </p:nvPicPr>
        <p:blipFill>
          <a:blip r:embed="rId1"/>
          <a:stretch/>
        </p:blipFill>
        <p:spPr>
          <a:xfrm>
            <a:off x="684360" y="2349360"/>
            <a:ext cx="3744720" cy="37450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8" descr="Jonny Wilkinson, Will Greenwood and Jason Robinson celebrate victory in the World Cup final"/>
          <p:cNvPicPr/>
          <p:nvPr/>
        </p:nvPicPr>
        <p:blipFill>
          <a:blip r:embed="rId2"/>
          <a:stretch/>
        </p:blipFill>
        <p:spPr>
          <a:xfrm>
            <a:off x="4859280" y="234936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117C-AEA3-4702-B767-7F8549174B7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ocussing on the ta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708360" y="1773360"/>
            <a:ext cx="524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centrate on the task, not the out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reak down huge activities into small manageable ta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member past su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 for break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ace to breathe and thin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nd maps, scribble id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o for a walk, talk out lou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835280" y="4149720"/>
            <a:ext cx="7308720" cy="19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6" name="Picture 8" descr="https://www2.lse.ac.uk/intranet/staff/webSupport/images/imageBank/478/School_Visit_4763.jpg"/>
          <p:cNvPicPr/>
          <p:nvPr/>
        </p:nvPicPr>
        <p:blipFill>
          <a:blip r:embed="rId1"/>
          <a:stretch/>
        </p:blipFill>
        <p:spPr>
          <a:xfrm>
            <a:off x="441360" y="2133720"/>
            <a:ext cx="27399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5AA4-CD7E-44C0-BD61-876358F992D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474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ess Management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0" name="Picture 6" descr=""/>
          <p:cNvPicPr/>
          <p:nvPr/>
        </p:nvPicPr>
        <p:blipFill>
          <a:blip r:embed="rId1"/>
          <a:stretch/>
        </p:blipFill>
        <p:spPr>
          <a:xfrm>
            <a:off x="5145120" y="2116080"/>
            <a:ext cx="380988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D84E-9EEE-4039-B3D2-F9EEA31BBCC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ess Management Ski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02680" y="2349360"/>
            <a:ext cx="573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ysical, behavioural, cognitive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gularly switch off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hedule some kind of physical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Good self ca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leep, diet, caffeine, alcohol and nicot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ime out without gui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knowledge anxiety, rather than denying it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k: ‘are my negative thoughts realistic?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4" name="Picture 8" descr="https://www2.lse.ac.uk/intranet/staff/webSupport/images/imageBank/478/UGP_08_045.jpg"/>
          <p:cNvPicPr/>
          <p:nvPr/>
        </p:nvPicPr>
        <p:blipFill>
          <a:blip r:embed="rId1"/>
          <a:stretch/>
        </p:blipFill>
        <p:spPr>
          <a:xfrm>
            <a:off x="5940360" y="1808280"/>
            <a:ext cx="306720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7B14-E32B-4B36-86DD-3FC8B228DE4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hallenging negative though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50560" y="2178000"/>
            <a:ext cx="561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agine them under test in a Court of La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dentify the negative thought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I can’t do this course, I’m going to fail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certain the evidence 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For and Again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m I making a ‘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hinking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pose a more reasonable alternative th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8" name="Picture 6" descr="https://www2.lse.ac.uk/intranet/staff/webSupport/images/imageBank/478/Law_Courts_8149.JPG"/>
          <p:cNvPicPr/>
          <p:nvPr/>
        </p:nvPicPr>
        <p:blipFill>
          <a:blip r:embed="rId1"/>
          <a:stretch/>
        </p:blipFill>
        <p:spPr>
          <a:xfrm>
            <a:off x="6012000" y="1773360"/>
            <a:ext cx="303840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B4B6-8D12-447F-9D34-30358ACC2120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inking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56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ll or nothing thin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iscounting the pos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nly seeing the negative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ver-generaliz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it happened before it will happen again’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lieving a catastrophe will hap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motional Reaso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f I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feel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t then it must be true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2" name="Picture 8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739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F554-0A2A-4008-855E-B34F1331D09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dvice and hel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6" name="Picture 7" descr="https://www2.lse.ac.uk/intranet/staff/webSupport/images/imageBank/478/LSE_PGP06__005.jpg"/>
          <p:cNvPicPr/>
          <p:nvPr/>
        </p:nvPicPr>
        <p:blipFill>
          <a:blip r:embed="rId1"/>
          <a:stretch/>
        </p:blipFill>
        <p:spPr>
          <a:xfrm>
            <a:off x="4067280" y="2421000"/>
            <a:ext cx="45529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1E87-1FA8-4FEE-84AE-C248C1FA991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Sources of advice and hel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00000" y="242100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Academic Adviser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partmental Sta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sability and Wellbeing Servic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Student Services Cent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TLC study skills adviso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arning Worl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udent Union and Advice Centr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edical Centr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ental Health and Wellbeing Advisor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a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900000" y="443664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Don't wait until problems have grown impossibly larg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GB" sz="3100" spc="-1" strike="noStrike">
                <a:solidFill>
                  <a:srgbClr val="3333cc"/>
                </a:solidFill>
                <a:latin typeface="Tahoma"/>
              </a:rPr>
              <a:t>It’s OK to ask for help earlier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333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16FF-4C87-4EA0-BDF0-2A764FB374E8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LSE Student Counselling Service – KSW.50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10920" y="2276280"/>
            <a:ext cx="83437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ee and confidential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Mainly short term counsell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ook appointments in advanc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ee Website for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tress management handou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lf help resource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Relaxation MP3’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E282-893A-461B-AAD4-857AA89E5CE7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Future Worksho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Good Writing Psycholog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dnesday 22 October, 3:30pm – 4:30pm: TW1 G.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riday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November, 3:00pm - 4:00pm: CLM G.02 (repeat sess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anaging study related st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dnesday 2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ctober, 3:30pm - 5:00pm: TW1 G.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dapting to Life at 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ednesday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November, 12:00pm - 1:45pm: CLM G.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41356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Stress Management Group (3 week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Self Esteem Group (3 week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ff0000"/>
                </a:solidFill>
                <a:uFillTx/>
                <a:latin typeface="Tahoma"/>
              </a:rPr>
              <a:t>Bereavement Group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(7 week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ff0000"/>
                </a:solidFill>
                <a:uFillTx/>
                <a:latin typeface="Tahoma"/>
              </a:rPr>
              <a:t>PhD grou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ff0000"/>
                </a:solidFill>
                <a:uFillTx/>
                <a:latin typeface="Tahoma"/>
              </a:rPr>
              <a:t>24+ Grou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laces on all groups need to be booked in adva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ease see the website, Call Ext 3627, visit KSW.507 or email student.counselling@lse.ac.u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7EFE-815E-4157-8562-C7459D63D47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333399"/>
                </a:solidFill>
                <a:latin typeface="Tahoma"/>
              </a:rPr>
              <a:t>Final though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74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ransition can be stressful, but also allows us to grow as a per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agine looking back in 5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3" name="Picture 7" descr="j0422483"/>
          <p:cNvPicPr/>
          <p:nvPr/>
        </p:nvPicPr>
        <p:blipFill>
          <a:blip r:embed="rId1"/>
          <a:stretch/>
        </p:blipFill>
        <p:spPr>
          <a:xfrm>
            <a:off x="5145120" y="2805120"/>
            <a:ext cx="3809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0F26-754A-4D59-A52E-9060BA04548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art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459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mmon challenges in starting at 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ttling in t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Picture 10" descr="https://www2.lse.ac.uk/intranet/staff/webSupport/images/imageBank/478/IT_Rooms_009.jpg"/>
          <p:cNvPicPr/>
          <p:nvPr/>
        </p:nvPicPr>
        <p:blipFill>
          <a:blip r:embed="rId1"/>
          <a:stretch/>
        </p:blipFill>
        <p:spPr>
          <a:xfrm>
            <a:off x="5364000" y="1773360"/>
            <a:ext cx="303876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EC4C-C818-4DE0-899A-B162109A8D22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3399"/>
                </a:solidFill>
                <a:latin typeface="Tahoma"/>
              </a:rPr>
              <a:t>Settling in: The Academic sid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5580000" cy="33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New level of stud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vious standar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ading strategi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16480" indent="-496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ahoma"/>
              </a:rPr>
              <a:t>Use SQ3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816480" indent="-49608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ahoma"/>
              </a:rPr>
              <a:t>Scan, Question, Read, Review, Recal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esentations, essays and exam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566640" indent="-56664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cademic adviser relationshi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5" name="Picture 12" descr="j0422458"/>
          <p:cNvPicPr/>
          <p:nvPr/>
        </p:nvPicPr>
        <p:blipFill>
          <a:blip r:embed="rId1"/>
          <a:stretch/>
        </p:blipFill>
        <p:spPr>
          <a:xfrm>
            <a:off x="5508720" y="1773360"/>
            <a:ext cx="346068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7499-21F1-474F-A7CA-5A73C3A3CA2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3399"/>
                </a:solidFill>
                <a:latin typeface="Tahoma"/>
              </a:rPr>
              <a:t>Academic challeng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verwhelmed with mater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style of 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dependent critical vo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nxiety can lead to </a:t>
            </a:r>
            <a:r>
              <a:rPr b="0" lang="en-GB" sz="3200" spc="-1" strike="noStrike">
                <a:solidFill>
                  <a:srgbClr val="ff0000"/>
                </a:solidFill>
                <a:latin typeface="Tahoma"/>
              </a:rPr>
              <a:t>procrast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e may disguise avoidance by being busy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878040" indent="-533520">
              <a:spcBef>
                <a:spcPts val="6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We may find things to do that are interesting, but don't contribute towards the main goa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DB07-5624-4E29-9E18-69E6EEFF4A4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Settling in - the Social Sid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4856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eting new peop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w contacts through shared activi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Keeping contact with people from h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alance of work and leis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2" name="Picture 8" descr="https://www2.lse.ac.uk/intranet/staff/webSupport/images/imageBank/478/Lib_May_11_0482.jpg"/>
          <p:cNvPicPr/>
          <p:nvPr/>
        </p:nvPicPr>
        <p:blipFill>
          <a:blip r:embed="rId1"/>
          <a:stretch/>
        </p:blipFill>
        <p:spPr>
          <a:xfrm>
            <a:off x="4859280" y="2768760"/>
            <a:ext cx="399276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0507-E821-407E-99C0-F2C167F7236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Tahoma"/>
              </a:rPr>
              <a:t>The challenge of trans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564000" y="2122560"/>
            <a:ext cx="529272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oss of famili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60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me, friends, family, rout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ping with loss, after initial excitement sub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pression and anx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ultural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tionships and Id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-6534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ancial difficul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53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087360" cy="38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AD93-113D-40E2-8D24-416FAFD2BF3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Feeling Homesic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43210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There is a natural grieving re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sociated with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tremely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ften in first wee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-325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n occur when leaving home, but also later (eg after Xmas break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1" name="Picture 7" descr=""/>
          <p:cNvPicPr/>
          <p:nvPr/>
        </p:nvPicPr>
        <p:blipFill>
          <a:blip r:embed="rId1"/>
          <a:stretch/>
        </p:blipFill>
        <p:spPr>
          <a:xfrm>
            <a:off x="4410000" y="2752560"/>
            <a:ext cx="4552920" cy="30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3:30:24Z</dcterms:created>
  <dc:creator>Sandelson,A</dc:creator>
  <dc:description/>
  <dc:language>en-US</dc:language>
  <cp:lastModifiedBy>Administrator</cp:lastModifiedBy>
  <cp:lastPrinted>2014-09-26T10:32:01Z</cp:lastPrinted>
  <dcterms:modified xsi:type="dcterms:W3CDTF">2014-10-20T08:41:24Z</dcterms:modified>
  <cp:revision>159</cp:revision>
  <dc:subject/>
  <dc:title> </dc:title>
</cp:coreProperties>
</file>