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4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 type="sldNum" idx="4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F3AE-7D04-4CF5-B151-DAE23BC2D2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7448-777D-42AE-B431-A564F83EB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F6FC-4543-486A-B145-3C0A5A2C9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402-30D5-4E34-A845-B55F8877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9E4-CB67-4C6B-9AF3-331B2DF1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8C6D4-8D5E-46F6-9B9F-5D1A6643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4073C-B0A0-468A-BA97-26A1E042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5CB60-4935-4483-B7A1-2C45CC4F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BAEC1-390F-495A-964C-8EC912C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09801-6180-4C54-A784-6A5CD2B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79B52-ADE7-4925-8266-B8EC9FD6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1F253-5918-4D51-8CB3-C9B3914D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ED886-63DD-4E21-9D13-5C92D227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7E0FE-747E-45E2-90C1-3B42CE6A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2640A-14B5-4021-802A-D3FFC9EE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1D8-FF30-401E-AF54-9BBAC95A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DE262-32CB-4755-818D-870B0D42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EB883-5F52-4BDF-A2DD-A94EC9E5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26CA2-C9A3-43C9-9025-D0D71BF2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96840-E8BE-4F34-BF3D-FE2AE620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7BBDF-70B8-47F7-B5A8-D13C1E0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560B3-F666-408F-88BD-4FCFB77E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0658F-4B33-49FC-B8F6-D85C6CCE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8B4F4-016D-443B-BAB6-83B9930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3AF51-9FCC-4B91-907F-BB95E61F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F1EF6-76A9-4F8C-AB0D-06A90B52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D7E-FE0E-4BE4-A8E7-B758A938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CCC17-A257-4AF1-96D5-DFEE33EE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E90C3-A41F-4D3D-AA07-EAD75B49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F2EAB-5EFB-44A7-8A41-D0CEC26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0C7B6-7131-41D5-A24C-0530B39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8100C-D205-4313-A561-4C23F847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849C1-C64B-4DD4-BF78-00253EC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71D1A-5796-4C50-AA68-31F6033F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6CA2A-4C89-43ED-AD0F-87858A3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DEBD8-9B65-4C1E-BCFE-EF12938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8704B-3493-4288-B2A6-925620A0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4D5C-0CA0-4380-B41C-A2221324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36BB8-8AF9-4B49-8F9A-B085AEEC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BDF6B-B9D3-4CFC-AEA3-07F0E080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208DB-A320-4FD0-85E5-4D2643FE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A4E0B-C145-4A49-8D3A-A28A8C36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F0B58-F0B0-4234-9441-D51F1248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B295A-6C47-4D60-A3EB-6E447A7E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F8ADB-3110-4386-B0F5-BEFAB523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3B025-FE67-4DD0-BA1F-827D866D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C7EB6-5956-4722-BB85-C1CDCCDA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B10F8-0890-4897-9910-0E23056F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A345-689C-455B-BB24-2867A978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37F81-BFEF-4BA1-8BC5-D4B17503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61819-8619-4A57-9302-EC3C924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0AA16-BEF3-4EEE-929B-A55783C8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98366-3B4E-4BE8-BF24-5182B557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1B2C9-FDB1-4C4A-8779-9916C4E4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2959C-823F-4478-BB3D-71814C21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5A205-BE00-46DE-B37E-504E8AB1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2DDA5-D86A-4203-A895-D89DBFCC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22561-A140-474D-A726-45B17369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A0BD8-F82D-46AE-A809-A0D6A844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4FEE-E7E3-45F2-BE6C-44A08F9B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2CCDC-11B3-4F48-9DC8-BB5234FA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25A0D-F8B0-4F31-BBBA-425AA6B7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AF93E-0B2D-4342-9F7E-763FA7B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320CA-6174-463B-B859-0BF71BBA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ACA55-BED7-44E6-983B-A867ECBE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FEB54-4801-4934-ABEA-2D7FD295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45FF3-3D71-4FBE-84B4-703572DD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7CF48-31BC-4704-AD73-C1EC961A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AFF7D-562F-42B5-A442-BA52E104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E76CC-8EEE-45F6-A1F1-8E62991F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926D-0C20-4BDE-89EB-3C48A25C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4DA82-3F15-446A-81C6-F64992D2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F9361-602B-430E-8B57-45C4B307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36214-3DD2-4D79-A02E-4712043A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03F05-335B-4A63-A3E6-8ABC2C4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D6281-14B8-4A61-BBB8-A95FE095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29F59-7690-40B9-8730-5CEC631C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A1C6A-74ED-4933-A76E-A51A4E86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748DC-51CA-450B-9A14-32F46102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0BC67-D2A3-462F-AF50-7FDCAB70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CE86-536F-4711-831C-83D1D48E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0C3A-681C-4439-A61A-6C0C55B9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D43D-DE8F-4D03-8666-1A5E6680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F6F-08C8-4626-8B10-91098AF5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1436-3FBF-4C93-858A-1DFFF6E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05DA-DECA-4917-ADAD-DCD39376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A77F-7431-4169-8860-72EC385D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AD65-EA49-4598-97F2-9DEDEF3B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DC3B-C764-481F-B7D2-3AADE023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B4FC-5412-4944-A2CB-EC814A4F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8159D-76C8-42FB-A48A-A91DD96F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E2D7-1A67-411A-B65B-28944ACE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716E-5A69-4394-AC2C-CEB74008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7B11-950E-4444-945A-25820E24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332-CBFB-4100-96F6-BD9ECFE1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82BD-B44E-4DE6-B776-555A4267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6A60-5640-422B-9F40-879E2A75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7D4B-06F0-4185-B58F-BEFE75E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584C-96A4-46D9-835D-90F6DFBD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E311-B739-4174-8A8B-0681F4AA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C8A4-2604-464C-827A-8577C19F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751B-70AA-4680-817D-0644E06B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F309D-6BA0-4FF2-89D2-F9F38E69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12F6-568A-4271-92D8-506B2061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C45E6-451A-44ED-816C-20C0CECD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885-D98A-4BB0-ACB7-9997DB80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13A2-0E22-4431-8B64-75F30E10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A919-0B74-4E95-9D70-7880E1DF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2541A-F979-4714-A36C-2737B0EA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9582A-BF3A-49D8-944F-CBFD094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716C-0BB8-4708-8867-699016DE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9B76-E0E6-4F56-9B35-41D740CE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9C84-5BA8-4B02-A60E-6F0E3527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9B98-5C87-4221-B4BC-D70C8D71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DB54A-8CD6-4C21-80C5-35702CC4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CC66C-C4C6-4E8F-BC64-CF7CD9D8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D6A-9DED-427D-B778-2ECD1139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4F9BB-8054-4F98-B640-AF40CE7D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CEA3-48D8-43C2-9528-070B4026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0929-B871-44C1-938B-686999A0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21DF3-331B-412B-99B6-8840854D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46721-C8FC-4D21-B48F-3532C6DE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A3AB-23C3-48E3-B36C-353BA3B5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3524C-8A8F-4976-8A10-885FE593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EDE55-E0D7-448F-ADD3-B2774845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719EA-7E38-4355-BD0D-6EA89D2F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E9F56-7499-4DC4-8B2B-2807D983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335-6467-4230-8EB2-ACFEB2FA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E85E-349D-4742-8414-0D4D52B3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1EF98-E515-4846-BDA1-77752FC9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AF06-2678-4428-8A2A-1DFF2346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A8680-CE26-4C1D-ABB8-A2727AC7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F2B74-5F75-4166-B18B-7E3952A5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22F81-12E9-427B-8A28-FD19A654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5A90-DE6C-4A88-A21F-D74DC8DF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0952-7A7D-47E7-8603-C4C9469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F9C28-222D-49B0-90D0-D4BDF03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E25DB-E8E7-4746-90B0-989870D6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631-B520-4875-AAA7-6827706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CA004-9E7E-43D9-AFA3-A0AFB31F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55774-53DE-45F3-A353-A28AF38E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EE6D4-7F6E-42F3-AC82-263E0DEF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B304B-3361-4C2D-8F3F-DD2170AA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257BC-DF52-4852-82B9-FB95D86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5ABF3-4F2C-4277-A6C7-ECEB552F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A2640-A86F-47CD-8450-AF95F7DE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4FD4F-74FC-4CDF-A55E-41389C9F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1C91B-AD20-4829-BAA1-3A736BA2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20DCF-336A-4C1B-B1B9-84751557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710-B415-4F36-B02C-610B5EFE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81F5-A51E-4D32-B111-8CCDB805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856F3-1967-4B1B-9C15-8A036FB6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5684C-F4D3-48B3-9CE6-BE6441A7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F2BE3-CB08-4784-B15A-CF20B750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B8111-D464-4E83-B515-11C53CA5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3C175-6CA4-4B4D-BB24-933930D8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79C55-1E24-4BC9-ACDE-84017363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55695-F4E1-46D6-BAD3-EC3CAF24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76324-A899-4F0D-8685-5C43C34F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21988-9793-4E7C-AB15-50230782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7BA-1DA8-485D-B1C5-3061017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A3B3-B426-4ADD-9626-2F869212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E5B6-D13E-42D4-8DE1-05C2D71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EAAC-A481-466E-9480-13C50530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3D2B5-142E-44CA-9F6A-319FFDDE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C7BDA-3981-42FE-85DE-C4BA577B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E6F37-583A-4214-A6A7-8AFB0E37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53B92-85F8-4416-B25B-1CBAD511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CA28B-8F45-45BF-B68F-3FDCA5A2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53364-24A9-4C07-A30D-47140EE6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9A9F6-FB54-4C4E-A905-D2A4E5F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39B9-0D39-4105-AE2F-EFDEB2AB6DE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5760-5B03-4FC0-B937-CD207AE917FA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6CF0-3D9F-4179-A0CC-38DE8AE1BE6E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5E4E-241A-4E1F-978C-08127D311D8B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EEF7-4C32-411B-AC3C-56514FE185CB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A21-5846-496C-AD11-10EC61FE30A1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0C46-1707-43EE-8D1D-DFA4D4A9C6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EFF5-09B0-49DC-B7B6-5757B30CB257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4D0A-F4A2-4498-9B34-019D3B13CC56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F4B7-151C-4BEF-970B-AECAF4A65929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7605-97A3-4202-BCD1-B5CD8F1F0D6E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6DA8-2918-4F7D-B559-C3AC9DC01669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2A3-C0EF-48C6-90BD-CB05D7044480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02BC-B643-4BB3-91DC-EC5AD9AF63E2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39E-BFED-4E20-8B94-7B7DC728E37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-181440" y="227664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ahoma"/>
              </a:rPr>
              <a:t>Studying and surviving at LS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Friday 15 October 2014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Wolfson Theatre, 3.30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7" descr="https://www2.lse.ac.uk/intranet/staff/webSupport/images/imageBank/478/sciencespo_0666.JPG"/>
          <p:cNvPicPr/>
          <p:nvPr/>
        </p:nvPicPr>
        <p:blipFill>
          <a:blip r:embed="rId1"/>
          <a:stretch/>
        </p:blipFill>
        <p:spPr>
          <a:xfrm>
            <a:off x="5651640" y="1773360"/>
            <a:ext cx="30286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00F9-58FA-443D-B795-740EA7E2CBF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omesickness is associated w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41672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tance from ho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 expectations/ sense of anticlima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to adapt to culture, language, life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 overload and low control over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0000"/>
                </a:solidFill>
                <a:latin typeface="Tahoma"/>
              </a:rPr>
              <a:t>most people come through homesickness and go on to do well and enjoy their tim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C0A1-8788-4305-80C5-B09092D19CA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Initial impres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51116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y did you choose t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y at 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r initial impress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0" name="Picture 10" descr="https://www2.lse.ac.uk/intranet/staff/webSupport/images/imageBank/478/Freshers_Fair_W7H6564.JPG"/>
          <p:cNvPicPr/>
          <p:nvPr/>
        </p:nvPicPr>
        <p:blipFill>
          <a:blip r:embed="rId1"/>
          <a:stretch/>
        </p:blipFill>
        <p:spPr>
          <a:xfrm>
            <a:off x="5580000" y="1773360"/>
            <a:ext cx="30384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AD02-4820-4101-B603-7987E9274A1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Settling in 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53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lk to someone - others feel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home but also get involved 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t’s not disloyal to to enjoy yourself!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Be realistic about what to expect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Balance work and leis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ime to adju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You don't have to get everything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ght straight awa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Food and slee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7" descr="https://www2.lse.ac.uk/intranet/staff/webSupport/images/imageBank/478/bankside_184.jpg"/>
          <p:cNvPicPr/>
          <p:nvPr/>
        </p:nvPicPr>
        <p:blipFill>
          <a:blip r:embed="rId1"/>
          <a:stretch/>
        </p:blipFill>
        <p:spPr>
          <a:xfrm>
            <a:off x="6164280" y="1773360"/>
            <a:ext cx="2736720" cy="41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82D5-212A-4927-B4C6-13F908ED798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context for stud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 re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ing h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8" name="Picture 7" descr="https://www2.lse.ac.uk/intranet/staff/webSupport/images/imageBank/478/Graduations_2010_0766.jpg"/>
          <p:cNvPicPr/>
          <p:nvPr/>
        </p:nvPicPr>
        <p:blipFill>
          <a:blip r:embed="rId1"/>
          <a:stretch/>
        </p:blipFill>
        <p:spPr>
          <a:xfrm>
            <a:off x="5435640" y="1811160"/>
            <a:ext cx="3038400" cy="45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73C9-DBF0-45E0-9EBA-1C1CAE3A748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mbivalenc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8000" y="2278080"/>
            <a:ext cx="36716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ing a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ying at 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r course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2" name="Picture 9" descr="https://www2.lse.ac.uk/intranet/staff/webSupport/images/imageBank/478/NAB_Classes_9820.JPG"/>
          <p:cNvPicPr/>
          <p:nvPr/>
        </p:nvPicPr>
        <p:blipFill>
          <a:blip r:embed="rId1"/>
          <a:stretch/>
        </p:blipFill>
        <p:spPr>
          <a:xfrm>
            <a:off x="395280" y="2589120"/>
            <a:ext cx="410040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7C5B-3108-4D47-8A54-C0B89F2605F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5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</a:rPr>
              <a:t>Being a perfectioni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eeling under pressure to do everything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Repeating anxiety, stress, fear of failure …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he family/ historic context for your success …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6" name="Picture 5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8823-6F7F-432D-8014-02027ED94ED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ynamics of study, work, life 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59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660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LSE or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urse of stud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work or 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6" name="Picture 14" descr="https://www2.lse.ac.uk/intranet/staff/webSupport/images/imageBank/478/Graduations_2010_0686.jpg"/>
          <p:cNvPicPr/>
          <p:nvPr/>
        </p:nvPicPr>
        <p:blipFill>
          <a:blip r:embed="rId1"/>
          <a:stretch/>
        </p:blipFill>
        <p:spPr>
          <a:xfrm>
            <a:off x="4708440" y="2776680"/>
            <a:ext cx="4141800" cy="27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2E61-8448-4E14-A7CC-79B73CF0684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Under Pressur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460836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pressures are you under as a student coming to 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your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e these pressures realistic or excess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0" name="Picture 6" descr="https://www2.lse.ac.uk/intranet/staff/webSupport/images/imageBank/478/Teaching_071.JPG"/>
          <p:cNvPicPr/>
          <p:nvPr/>
        </p:nvPicPr>
        <p:blipFill>
          <a:blip r:embed="rId1"/>
          <a:stretch/>
        </p:blipFill>
        <p:spPr>
          <a:xfrm>
            <a:off x="4832280" y="2492280"/>
            <a:ext cx="4221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CB46-25CB-4CBD-84CB-A5B27293E81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920" y="2019240"/>
            <a:ext cx="46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al ways of de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th study challe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4" name="Picture 14" descr="https://www2.lse.ac.uk/intranet/staff/webSupport/images/imageBank/478/Year_11_Summer_School_5327.JPG"/>
          <p:cNvPicPr/>
          <p:nvPr/>
        </p:nvPicPr>
        <p:blipFill>
          <a:blip r:embed="rId1"/>
          <a:stretch/>
        </p:blipFill>
        <p:spPr>
          <a:xfrm>
            <a:off x="4665600" y="2637000"/>
            <a:ext cx="4314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96BB-D973-4056-B9C5-74606800001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actical approac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vise study skil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e LSE Learning World on Moo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ort term targets, longer term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 to others, ask for help and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9C3F-40A7-4414-A8E4-B005CF55E53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mon challenges in starting at 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al tips for dealing with trans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urces of advice and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8223-A11C-4162-B477-B10EF4B4473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centrate on the task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80" name="Picture 7" descr="Wilkinson sends a 45-yard penalty between the posts just a minute into extra-time to regain the lead for England"/>
          <p:cNvPicPr/>
          <p:nvPr/>
        </p:nvPicPr>
        <p:blipFill>
          <a:blip r:embed="rId1"/>
          <a:stretch/>
        </p:blipFill>
        <p:spPr>
          <a:xfrm>
            <a:off x="684360" y="2349360"/>
            <a:ext cx="3744720" cy="37450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8" descr="Jonny Wilkinson, Will Greenwood and Jason Robinson celebrate victory in the World Cup final"/>
          <p:cNvPicPr/>
          <p:nvPr/>
        </p:nvPicPr>
        <p:blipFill>
          <a:blip r:embed="rId2"/>
          <a:stretch/>
        </p:blipFill>
        <p:spPr>
          <a:xfrm>
            <a:off x="4859280" y="234936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E338-FCD0-4B9C-BC40-A50A169E833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cussing on the t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708360" y="1773360"/>
            <a:ext cx="524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centrate on the task, not the 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reak down huge activities into small manageable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member past su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for break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ce to breathe and th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d maps, scribble id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o for a walk, talk out lou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835280" y="4149720"/>
            <a:ext cx="730872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6" name="Picture 8" descr="https://www2.lse.ac.uk/intranet/staff/webSupport/images/imageBank/478/School_Visit_4763.jpg"/>
          <p:cNvPicPr/>
          <p:nvPr/>
        </p:nvPicPr>
        <p:blipFill>
          <a:blip r:embed="rId1"/>
          <a:stretch/>
        </p:blipFill>
        <p:spPr>
          <a:xfrm>
            <a:off x="441360" y="2133720"/>
            <a:ext cx="27399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7103-C670-4B49-ABB9-FDFEABD1859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474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0" name="Picture 6" descr=""/>
          <p:cNvPicPr/>
          <p:nvPr/>
        </p:nvPicPr>
        <p:blipFill>
          <a:blip r:embed="rId1"/>
          <a:stretch/>
        </p:blipFill>
        <p:spPr>
          <a:xfrm>
            <a:off x="5145120" y="2116080"/>
            <a:ext cx="380988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D89C-1A00-4939-B6F0-A1488501ADF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02680" y="2349360"/>
            <a:ext cx="573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ysical, behavioural, cognitive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gularly switch off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hedule some kind of physical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Good self ca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leep, diet, caffeine, alcohol and nicot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me out without gui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knowledge anxiety, rather than denying 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k: ‘are my negative thoughts realistic?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4" name="Picture 8" descr="https://www2.lse.ac.uk/intranet/staff/webSupport/images/imageBank/478/UGP_08_045.jpg"/>
          <p:cNvPicPr/>
          <p:nvPr/>
        </p:nvPicPr>
        <p:blipFill>
          <a:blip r:embed="rId1"/>
          <a:stretch/>
        </p:blipFill>
        <p:spPr>
          <a:xfrm>
            <a:off x="5940360" y="1808280"/>
            <a:ext cx="30672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AA29-CF58-4635-A913-A2C4575732D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50560" y="2178000"/>
            <a:ext cx="56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agine them under test in a Court of La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dentify the negative though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I can’t do this course, I’m going to fail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certain the evidence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For and Agai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m I making a ‘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hinking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8" name="Picture 6" descr="https://www2.lse.ac.uk/intranet/staff/webSupport/images/imageBank/478/Law_Courts_8149.JPG"/>
          <p:cNvPicPr/>
          <p:nvPr/>
        </p:nvPicPr>
        <p:blipFill>
          <a:blip r:embed="rId1"/>
          <a:stretch/>
        </p:blipFill>
        <p:spPr>
          <a:xfrm>
            <a:off x="6012000" y="1773360"/>
            <a:ext cx="303840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F55D-4759-43E6-B049-D1C13B7BFA9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unting the pos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ly seeing the negative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-generaliz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it happened before it will happen again’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otional Reaso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eel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t then it must be true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2" name="Picture 8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739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32A8-2F35-411B-8E40-B52F51333DD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vice and hel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6" name="Picture 7" descr="https://www2.lse.ac.uk/intranet/staff/webSupport/images/imageBank/478/LSE_PGP06__005.jpg"/>
          <p:cNvPicPr/>
          <p:nvPr/>
        </p:nvPicPr>
        <p:blipFill>
          <a:blip r:embed="rId1"/>
          <a:stretch/>
        </p:blipFill>
        <p:spPr>
          <a:xfrm>
            <a:off x="4067280" y="2421000"/>
            <a:ext cx="4552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C3E9-CA14-4D41-A5EA-10A64498087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Sources of advice and he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00000" y="242100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cademic Advise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partmental Sta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ability and Wellbeing Servic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Student Services Cent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TLC study skills adviso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arning Worl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udent Union and Advice Centr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edical Centr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ental Health and Wellbeing Adviso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900000" y="443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Don't wait until problems have grown impossibly lar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It’s OK to ask for help earlier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6F04-84AC-4628-A2B1-A0C78FAB505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 – KSW.5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343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Mainly short term counsell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ook appointments in advanc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ee Website for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tress management handou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lf help resource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415-3829-4627-BA0A-6C2A08A9760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ood Writing Psycholog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dnesday 22 October, 3:30pm – 4:30pm: TW1 G.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riday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November, 3:00pm - 4:00pm: CLM G.02 (repeat sess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naging study related st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dnesday 2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ctober, 3:30pm - 5:00pm: TW1 G.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dapting to Life at 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dnesday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November, 12:00pm - 1:45pm: CLM G.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135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Stress Management Group (3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Self Esteem Group (3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0000"/>
                </a:solidFill>
                <a:uFillTx/>
                <a:latin typeface="Tahoma"/>
              </a:rPr>
              <a:t>Bereavement Group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(7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ff0000"/>
                </a:solidFill>
                <a:uFillTx/>
                <a:latin typeface="Tahoma"/>
              </a:rPr>
              <a:t>PhD grou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ff0000"/>
                </a:solidFill>
                <a:uFillTx/>
                <a:latin typeface="Tahoma"/>
              </a:rPr>
              <a:t>24+ Grou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laces on all groups need to be booked in adva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ease see the website, Call Ext 3627, visit KSW.507 or email student.counselling@lse.ac.u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3A13-2F0B-482D-830E-D282AF70669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74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ition can be stressful, but also allows us to grow as a per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agine looking back in 5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3" name="Picture 7" descr="j0422483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9BFA-F8B4-4E36-8886-C6F4DB648C8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5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mon challenges in starting at 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tling in t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10" descr="https://www2.lse.ac.uk/intranet/staff/webSupport/images/imageBank/478/IT_Rooms_009.jpg"/>
          <p:cNvPicPr/>
          <p:nvPr/>
        </p:nvPicPr>
        <p:blipFill>
          <a:blip r:embed="rId1"/>
          <a:stretch/>
        </p:blipFill>
        <p:spPr>
          <a:xfrm>
            <a:off x="5364000" y="1773360"/>
            <a:ext cx="30387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965F-A7DA-4B2C-907A-AC28503ED15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99"/>
                </a:solidFill>
                <a:latin typeface="Tahoma"/>
              </a:rPr>
              <a:t>Settling in: The Academic sid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558000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w level of stud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vious standar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ading strategi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16480" indent="-496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Use SQ3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16480" indent="-496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Scan, Question, Read, Review, Recal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sentations, essays and exa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cademic adviser relationshi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Picture 12" descr="j0422458"/>
          <p:cNvPicPr/>
          <p:nvPr/>
        </p:nvPicPr>
        <p:blipFill>
          <a:blip r:embed="rId1"/>
          <a:stretch/>
        </p:blipFill>
        <p:spPr>
          <a:xfrm>
            <a:off x="5508720" y="1773360"/>
            <a:ext cx="346068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5267-0764-4B7A-A13D-BAF7FC6ECC1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99"/>
                </a:solidFill>
                <a:latin typeface="Tahoma"/>
              </a:rPr>
              <a:t>Academic challeng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whelmed with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style of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dependent critical 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xiety can lead to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procra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e may disguise avoidance by being busy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e may find things to do that are interesting, but don't contribute towards the main go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9F49-E30B-4390-8BA1-05B9CC35606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Settling in - the Social S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4856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eting new peop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w contacts through shared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eeping contact with people from h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alance of work and lei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2" name="Picture 8" descr="https://www2.lse.ac.uk/intranet/staff/webSupport/images/imageBank/478/Lib_May_11_0482.jpg"/>
          <p:cNvPicPr/>
          <p:nvPr/>
        </p:nvPicPr>
        <p:blipFill>
          <a:blip r:embed="rId1"/>
          <a:stretch/>
        </p:blipFill>
        <p:spPr>
          <a:xfrm>
            <a:off x="4859280" y="2768760"/>
            <a:ext cx="399276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0689-04EF-4177-A701-D1EBE0C5A94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The challenge of tran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564000" y="2122560"/>
            <a:ext cx="5292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ss of famili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60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me, friends, family, rout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ping with loss, after initial excitement sub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pression and anx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ltural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tionships and Id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ncial difficul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087360" cy="38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B489-7F6F-46B8-A943-353D93C0444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Feeling Homesi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3210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re is a natural grieving re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sociated with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remely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ften in first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occur when leaving home, but also later (eg after Xmas break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1" name="Picture 7" descr=""/>
          <p:cNvPicPr/>
          <p:nvPr/>
        </p:nvPicPr>
        <p:blipFill>
          <a:blip r:embed="rId1"/>
          <a:stretch/>
        </p:blipFill>
        <p:spPr>
          <a:xfrm>
            <a:off x="4410000" y="2752560"/>
            <a:ext cx="4552920" cy="30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Sandelson,A</dc:creator>
  <dc:description/>
  <dc:language>en-US</dc:language>
  <cp:lastModifiedBy>Administrator</cp:lastModifiedBy>
  <cp:lastPrinted>2014-09-26T10:32:01Z</cp:lastPrinted>
  <dcterms:modified xsi:type="dcterms:W3CDTF">2014-10-20T08:41:24Z</dcterms:modified>
  <cp:revision>159</cp:revision>
  <dc:subject/>
  <dc:title> </dc:title>
</cp:coreProperties>
</file>