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dt" idx="4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ftr" idx="4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 type="sldNum" idx="4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58EF-9AFC-4A74-9221-A43ABA10E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59D0-5605-47DF-B845-807DDBBB14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0AB2-2759-418F-B6F7-13402E2312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EFA-DA2D-4ED5-8577-812F2C87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C8A-72E8-4665-ACD2-A8644210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5AB13-D29C-42A8-9CB7-F9B385BC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5A0B5-E4AB-4501-80B9-9E8E2F7F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6EDAC-C6EC-40FB-A4FA-08CC8785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0B401-62AC-4715-BECF-924636E2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3E256-7B28-4492-945D-C33B1EC0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2FE82-BA9C-405E-97B5-80A2C30F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CD012-F5C8-4122-B7C7-8FD84FCE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5FBE0-BBB8-471E-BF70-5F364E3E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1534E-764B-4846-8662-BF775B29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D0301-CA64-4518-8A15-6E048A8F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EC7-9DB0-437B-937E-1B41A420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9DAF7-A2E7-4591-9D02-F3D0CFD0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01D3A-2BD6-4140-B76A-2BD8A07A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D709E-E813-4BB0-ADB0-18CAA336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C981F-7C36-4521-8392-BB2C1F22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DAFA7-01A5-4F7B-871F-B2A74AAF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8F2DC-4D96-4C19-B49E-A6E6ED39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3EDA6-63C1-4417-9A7B-D02F09A9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8E91B-F790-4E53-96D4-D2A82E3F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84F65-4624-4684-9F41-6D12CD28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B515D-CAA1-4B2A-8025-525388F6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7DE-FB75-43E3-8A77-8CAFD6EB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BA6D6-349D-4745-A5EA-938E3C23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D566C-CDEF-4C52-8968-9EF0A7E9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43CF8-A768-4062-AA34-70556488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00680-A511-4C53-A998-65E4465F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9A5FF-75EC-45F9-9704-E105E167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172EA-A425-45E3-B8F1-0984515A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B3F0E-A400-4381-9E65-C4AC6771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4467C-24E6-4D60-A7BB-ECE30C2F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5E020-F72E-49A9-94A6-525067E9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852D3-E2E2-49AF-8EE9-0F925922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9370-2681-468A-A813-3DF545E8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68217-7010-46FC-9802-4058FD82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1F812-A6C3-4EDF-A325-6CCD0A6A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F0419-78DC-49A3-BF05-1E329355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3B1A3-E1CF-4700-8AAE-D9D6B0CA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94CA9-CF00-4E1D-A44B-6683F957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2B50A-B43B-4379-80A9-BAF6596A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59444-9719-4B58-96DD-21AF89FE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AB6ED-6FBF-46F8-9FF3-F54F9D58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C0E86-27DA-494E-BE7D-E27E0139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29FE8-F725-4861-BDE5-BD5A7D76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FEED-086A-4697-B815-E524B954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D11B9-E050-4654-9CBB-AA19E888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1A038-1E70-4FF9-A281-CD72FDA4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49AB1-EC16-4F1A-B5C3-548A0487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729F8-109D-4D10-A1E9-A91A3F3D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8D1C8-F68D-4222-ABA0-EE78B38F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D400D-4EEE-4E9C-B373-525F978A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739DC-A775-46D8-B842-6061BC04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A7726-3A5A-4E8A-9209-93ECFE2F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EF73E-621A-4E9E-BA6C-D9755110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1BE7B-E2C3-4842-A84C-8EF74B54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3D3F-BC3E-4A83-8384-A2FEDC3C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71387-D23F-4E2E-B3CE-8F1E82B1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74175-D2BB-4BBE-8ED6-3CCDAF98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D60CC-FA48-4384-8CF5-00F3BABD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FD9C2-EF1E-4C7B-89A0-750A5F13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67548-16E8-4E04-B3BB-4259C204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283A2-71FC-4A7D-861D-59867EE2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84D35-9645-430B-9D0C-4CCB2CEC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44C70-C6E0-426B-B13B-A3EF3607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67D70-8D44-4445-8DA3-50BDE5B6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C6CEDF-B9E5-4D08-A764-925BEEBF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B972-029F-48C0-B3F8-3D9CA951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77897-D523-4E4A-9712-83D30765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8F8C5-0BDC-47C7-A2E5-3183CA8E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94C2DC-3CD6-4A66-A932-589415C9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6B836-061D-44AF-897A-6A69A776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0EDC62-DDA9-46EF-B0EB-EF45D670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6F6175-8D02-4BDC-8533-9E264F07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98F9A-2BB2-437D-BFE6-3EE8B740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F8187-F717-4961-BAAD-A322BC29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54751-AB8E-4E12-8769-ED109954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2C03-73CB-4ECA-9EAF-B0F7E017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A704-6145-4688-8D09-D8160724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9E39-3D40-41D8-ADF1-BBE895FB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DE6B-BA2F-43CC-B09C-4B0F545B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F4EC-22B4-4C82-AE18-80183664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5D06-F28E-426E-BB22-08F5CAA4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9E42-85F4-4705-BBE9-AEC809E4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80B4-F8A0-4960-9BD6-6232BDC4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B586-6EFD-45B4-A15C-72DED54D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DD2E2-5608-4654-B910-731A56D7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D7400-6C49-4893-B0F0-FBC54702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3A33D-7058-4A74-BBB7-78B597BC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13A5-A61B-4EC2-BD07-5CDAB315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DE979-2AE7-4E53-B886-D231FA34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78B-135B-4440-8B0A-007178BC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4CC2F-61FE-4E3E-A739-C675685B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E59E3-FBBC-4BB8-9D49-D69BEB30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FE630-BB6B-4373-9E51-63E081CE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282F4-848A-40AF-BDC7-BBB6580D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CB22-4E1C-45CF-A709-830964C5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1F586-93B3-4A7E-9DDD-736E8FC9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64626-32C5-415C-BE31-B5543FE3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5B5A3-5688-49C8-BD0E-C7A13C89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F088B-D8A3-4B7E-8131-286A4F8F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45439-8AF7-4CBF-85B0-D7C5F3CF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E8E-D892-4998-AD34-8179D162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45B37-3D49-41E4-B63E-FA7E88BE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65D93-DD06-4ADD-B6FE-C791E05A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C3BBB-B4F5-42C1-93CD-3745EA9C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56833-2179-4ECD-B35B-E6B373B4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2BBDA-DFCC-4ABF-BE81-AA2AB051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550EE-46C5-4A5F-B4E6-B872C61E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A0C78-454E-456C-A2BF-E542A0F0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2E9B5-3491-4296-AC6D-F8FDC5C5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23F83-7A6F-4736-935C-C3A4F778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EA0C2-94A7-4EE0-BD09-1E579B31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3EA-8B61-4C98-A5D7-82617DE9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3541C-4A62-4132-A07F-B1F996BC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8EE7C-6F07-48C0-8E2E-C93BEEC8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674E2-5BBC-4CCA-98AB-97D6E9EA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25639-C24F-4BCB-844E-E748AB81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5464F-1488-4BC9-A1E6-7EA5744A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56E6F-FCF8-4E09-83BB-78E7E357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8FCCD-B862-49CD-9ACA-8CE2ED29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D7EFE-7266-4430-8749-0AC7FFC6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83B9A-8D5B-4B4B-BDE1-E47FAC5C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EE525-21F4-4B03-A07B-BBCF4840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0CA-5B88-490C-8562-7EBC2934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FFEE7-BBD4-4920-A806-07D5F452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AE08B-0EBB-4C97-81F5-2740B950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D8FB9-7702-47DC-AE98-D947EDA0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1F2BF-B11B-4466-9014-80461475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0B23D-93F3-4D27-B106-736DEAA6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FBA7D-8FD3-4C15-A375-E06AF023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2AA02-1205-4429-9F0D-5A1F1C39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731DA-3485-4FB3-BE9E-FF6DAB05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89B59-D6B1-4EE8-94F2-35309FE0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470A3-2965-4765-98F8-1B2F331F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6E2-86F5-4CBA-BA4F-5880F233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184C0-FD01-47F6-9FB4-B341B5F9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1DE5C-B3E8-4E2C-8BEA-29C14211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C31E5-EFFF-4C6E-B56B-CF3C136E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923E9-D37B-4599-BD82-58D601AE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95E3C-E0F6-4E7C-9A69-FFD326B7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70743-6124-47BB-930D-D459B020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60A05-A3BF-43DB-B3DF-C4DBAC33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44E97-99FF-432B-86ED-CB912B99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A8B1F-4472-4444-AC5B-6B6348D3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F588B-55BE-44E2-A497-256BBDA1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D9B-80FA-4BCD-9CD4-F682602C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4C480-3C93-4C33-A0F6-3DD7B7B0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AB507-6025-41D5-9E23-5A236703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374A6-C3D1-4B46-9686-2C4E18F2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D623E-081E-4F07-8D0A-E25603A8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78674-065D-472D-9A61-7F236710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E2DD1-9D34-47FB-8D71-09DBCDAE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DFB03-E4AB-469F-86A6-ECC0C7C5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BD04C-71D2-4F37-979C-1AA4EDF4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84EDB-D391-4EEB-A264-06E0EB09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4FCC5-BB80-4BDA-8FB9-CBB9B45C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B5D-7ECF-4534-9C75-272F14EB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EC928-6C01-43E7-9A52-5BE05269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4DF28-7960-4898-92C1-47AC33F4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83B1F-93CC-46CC-A849-1A857BAB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72EBD-63A9-40B3-B059-9E25AD38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5CD8E-DFD6-4A44-B65C-A612DFE4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981A3-AFB6-447A-86CC-20F2A444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0E68F-6609-4EB1-A500-19AA87D0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77529-531B-480A-8A2F-DBCEF6BF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3E352-2056-454C-8DE3-55857F6A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703E8-71A6-4A0A-B1C9-52C522C1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3F1E-2741-496E-987A-CCF057B1B34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0997-B3F9-4C04-AA77-0A16A6EAF97E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C7A7-901F-4384-B2CF-9F8BC8F67E02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CB92-7B56-4A48-A132-C48FBBE1DD8B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58A5-D19F-455E-BCF5-A7A1526BD3A1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B76C-C23A-47D5-8158-BC24A0B338BE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26E9-A57B-4A65-9A0B-9FF58B37A1E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7CD2-D8E4-4050-B4EE-CC49BEBBA0AC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F56C-FE6B-4780-920E-1732428E4637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321C-A938-4E0B-81B6-9678765A3D45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E345-C954-43B9-AE2B-22DBA8481444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61D9-4F6E-40B6-9668-3E270ACA7C61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03C4-512D-4A4C-92E7-C57C35ACCB9D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F174-5674-4D12-8E48-C082EA2B8E89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F7C9-E7A0-4ED3-9D13-437F20B3D98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-181440" y="227664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ahoma"/>
              </a:rPr>
              <a:t>Studying and surviving at LS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Tuesday 15 September 2015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2.00pm, CLM.302 </a:t>
            </a: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Repeat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1.00 pm, 17 September - KSW.G.01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2.00 pm, 23 September – PAR.LG.03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3.30 pm, 7 October – NAB.LG.01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LSE Student Counselling Service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Picture 7" descr="https://www2.lse.ac.uk/intranet/staff/webSupport/images/imageBank/478/sciencespo_0666.JPG"/>
          <p:cNvPicPr/>
          <p:nvPr/>
        </p:nvPicPr>
        <p:blipFill>
          <a:blip r:embed="rId1"/>
          <a:stretch/>
        </p:blipFill>
        <p:spPr>
          <a:xfrm>
            <a:off x="5651640" y="1773360"/>
            <a:ext cx="302868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9177-CC8B-499D-B770-BC5D52A60DF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omesickness is associated w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416720" cy="39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tance from ho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gh expectations/ sense of anticlima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me to adapt to culture, language, life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 overload and low control over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0000"/>
                </a:solidFill>
                <a:latin typeface="Tahoma"/>
              </a:rPr>
              <a:t>most people come through homesickness and go on to do well and enjoy their tim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33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683D-A059-4668-95F4-04BAD9611EB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Initial impres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51116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y did you choose t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udy at 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are your initial impression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ade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0" name="Picture 10" descr="https://www2.lse.ac.uk/intranet/staff/webSupport/images/imageBank/478/Freshers_Fair_W7H6564.JPG"/>
          <p:cNvPicPr/>
          <p:nvPr/>
        </p:nvPicPr>
        <p:blipFill>
          <a:blip r:embed="rId1"/>
          <a:stretch/>
        </p:blipFill>
        <p:spPr>
          <a:xfrm>
            <a:off x="5580000" y="1773360"/>
            <a:ext cx="303840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D880-F41C-432B-ADD2-5B991E94295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Settling in T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532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lk to someone - others feel th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ll home but also get involved 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t’s not disloyal to to enjoy yourself!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Be realistic about what to expect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Balance work and leisur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Time to adjus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You don't have to get everything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ight straight awa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Food and slee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4" name="Picture 7" descr="https://www2.lse.ac.uk/intranet/staff/webSupport/images/imageBank/478/bankside_184.jpg"/>
          <p:cNvPicPr/>
          <p:nvPr/>
        </p:nvPicPr>
        <p:blipFill>
          <a:blip r:embed="rId1"/>
          <a:stretch/>
        </p:blipFill>
        <p:spPr>
          <a:xfrm>
            <a:off x="6164280" y="1773360"/>
            <a:ext cx="2736720" cy="41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E386-3CB3-40D6-9EBC-1EC4B2E0C51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42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context for stud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are you re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ing he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8" name="Picture 7" descr="https://www2.lse.ac.uk/intranet/staff/webSupport/images/imageBank/478/Graduations_2010_0766.jpg"/>
          <p:cNvPicPr/>
          <p:nvPr/>
        </p:nvPicPr>
        <p:blipFill>
          <a:blip r:embed="rId1"/>
          <a:stretch/>
        </p:blipFill>
        <p:spPr>
          <a:xfrm>
            <a:off x="5435640" y="1811160"/>
            <a:ext cx="3038400" cy="455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4448-C7CD-49EB-AC22-746A6B20C38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Ambivalenc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148000" y="2278080"/>
            <a:ext cx="367164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ing a stu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udying at 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r course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2" name="Picture 9" descr="https://www2.lse.ac.uk/intranet/staff/webSupport/images/imageBank/478/NAB_Classes_9820.JPG"/>
          <p:cNvPicPr/>
          <p:nvPr/>
        </p:nvPicPr>
        <p:blipFill>
          <a:blip r:embed="rId1"/>
          <a:stretch/>
        </p:blipFill>
        <p:spPr>
          <a:xfrm>
            <a:off x="395280" y="2589120"/>
            <a:ext cx="410040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7C12-410C-499F-B436-1AA320F10B8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derlying dynamic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5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Trying to please othe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Tahoma"/>
              </a:rPr>
              <a:t>Being a perfectionis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eeling under pressure to do everything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etting yourself impossible targe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Repeating anxiety, stress, fear of failure …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The family/ historic context for your success …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6" name="Picture 5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2745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85A9-E321-453D-9CBD-DBADDF323AD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244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ynamics of study, work, life ..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59" name="Diagram 3"/>
          <p:cNvGrpSpPr/>
          <p:nvPr/>
        </p:nvGrpSpPr>
        <p:grpSpPr>
          <a:xfrm>
            <a:off x="-1476360" y="1844640"/>
            <a:ext cx="7772400" cy="4106160"/>
            <a:chOff x="-1476360" y="1844640"/>
            <a:chExt cx="7772400" cy="4106160"/>
          </a:xfrm>
        </p:grpSpPr>
        <p:sp>
          <p:nvSpPr>
            <p:cNvPr id="660" name="AutoShape 4"/>
            <p:cNvSpPr/>
            <p:nvPr/>
          </p:nvSpPr>
          <p:spPr>
            <a:xfrm>
              <a:off x="-1476360" y="1844640"/>
              <a:ext cx="7772400" cy="41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_s1028"/>
            <p:cNvSpPr/>
            <p:nvPr/>
          </p:nvSpPr>
          <p:spPr>
            <a:xfrm flipH="1">
              <a:off x="1026000" y="2149200"/>
              <a:ext cx="2769120" cy="2656800"/>
            </a:xfrm>
            <a:custGeom>
              <a:avLst/>
              <a:gdLst>
                <a:gd name="textAreaLeft" fmla="*/ 404640 w 2769120"/>
                <a:gd name="textAreaRight" fmla="*/ 2364480 w 2769120"/>
                <a:gd name="textAreaTop" fmla="*/ 388440 h 2656800"/>
                <a:gd name="textAreaBottom" fmla="*/ 2268360 h 265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_s1029"/>
            <p:cNvSpPr/>
            <p:nvPr/>
          </p:nvSpPr>
          <p:spPr>
            <a:xfrm flipH="1" rot="14400000">
              <a:off x="702000" y="2723040"/>
              <a:ext cx="2656800" cy="2769120"/>
            </a:xfrm>
            <a:custGeom>
              <a:avLst/>
              <a:gdLst>
                <a:gd name="textAreaLeft" fmla="*/ 388440 w 2656800"/>
                <a:gd name="textAreaRight" fmla="*/ 2268360 w 2656800"/>
                <a:gd name="textAreaTop" fmla="*/ 404640 h 2769120"/>
                <a:gd name="textAreaBottom" fmla="*/ 2364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_s1030"/>
            <p:cNvSpPr/>
            <p:nvPr/>
          </p:nvSpPr>
          <p:spPr>
            <a:xfrm flipH="1" rot="7200000">
              <a:off x="1460160" y="2723400"/>
              <a:ext cx="2656800" cy="2769120"/>
            </a:xfrm>
            <a:custGeom>
              <a:avLst/>
              <a:gdLst>
                <a:gd name="textAreaLeft" fmla="*/ 388440 w 2656800"/>
                <a:gd name="textAreaRight" fmla="*/ 2268360 w 2656800"/>
                <a:gd name="textAreaTop" fmla="*/ 404640 h 2769120"/>
                <a:gd name="textAreaBottom" fmla="*/ 2364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_s1031"/>
            <p:cNvSpPr/>
            <p:nvPr/>
          </p:nvSpPr>
          <p:spPr>
            <a:xfrm>
              <a:off x="540000" y="263700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_s1032"/>
            <p:cNvSpPr/>
            <p:nvPr/>
          </p:nvSpPr>
          <p:spPr>
            <a:xfrm>
              <a:off x="1856520" y="4820400"/>
              <a:ext cx="11106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ith LSE or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urse of stud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r work or …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_s1033"/>
            <p:cNvSpPr/>
            <p:nvPr/>
          </p:nvSpPr>
          <p:spPr>
            <a:xfrm>
              <a:off x="3168360" y="263556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67" name="Picture 14" descr="https://www2.lse.ac.uk/intranet/staff/webSupport/images/imageBank/478/Graduations_2010_0686.jpg"/>
          <p:cNvPicPr/>
          <p:nvPr/>
        </p:nvPicPr>
        <p:blipFill>
          <a:blip r:embed="rId1"/>
          <a:stretch/>
        </p:blipFill>
        <p:spPr>
          <a:xfrm>
            <a:off x="4708440" y="2776680"/>
            <a:ext cx="4141800" cy="27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0EE3-6F9B-422F-9FD4-9522CDCFAFE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Under Pressur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460836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pressures are you under as a student coming to 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om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om your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re these pressures realistic or excess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1" name="Picture 6" descr="https://www2.lse.ac.uk/intranet/staff/webSupport/images/imageBank/478/Teaching_071.JPG"/>
          <p:cNvPicPr/>
          <p:nvPr/>
        </p:nvPicPr>
        <p:blipFill>
          <a:blip r:embed="rId1"/>
          <a:stretch/>
        </p:blipFill>
        <p:spPr>
          <a:xfrm>
            <a:off x="4832280" y="2492280"/>
            <a:ext cx="4221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61DF-D00F-47F9-B39C-6D8BA39C3BA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78920" y="2019240"/>
            <a:ext cx="46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actical ways of de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ith study challe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5" name="Picture 14" descr="https://www2.lse.ac.uk/intranet/staff/webSupport/images/imageBank/478/Year_11_Summer_School_5327.JPG"/>
          <p:cNvPicPr/>
          <p:nvPr/>
        </p:nvPicPr>
        <p:blipFill>
          <a:blip r:embed="rId1"/>
          <a:stretch/>
        </p:blipFill>
        <p:spPr>
          <a:xfrm>
            <a:off x="4665600" y="2637000"/>
            <a:ext cx="4314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6FB5-0F6A-49B2-8752-7B6E99C942C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actical approach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vise study skill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e LSE Learning World on Moo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me management sk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 realistic and achievabl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hort term targets, longer term strate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cognise your achie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lk to others, ask for help and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6EE7-4FB1-4547-8F62-4CCF8AE4595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87280" y="2492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mon challenges in starting at 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actical tips for dealing with transi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ress management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ources of advice and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63D8-03CD-4FDF-B4FD-A0A0398CEA3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centrate on the task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81" name="Picture 7" descr="Wilkinson sends a 45-yard penalty between the posts just a minute into extra-time to regain the lead for England"/>
          <p:cNvPicPr/>
          <p:nvPr/>
        </p:nvPicPr>
        <p:blipFill>
          <a:blip r:embed="rId1"/>
          <a:stretch/>
        </p:blipFill>
        <p:spPr>
          <a:xfrm>
            <a:off x="684360" y="2349360"/>
            <a:ext cx="3744720" cy="37450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8" descr="Jonny Wilkinson, Will Greenwood and Jason Robinson celebrate victory in the World Cup final"/>
          <p:cNvPicPr/>
          <p:nvPr/>
        </p:nvPicPr>
        <p:blipFill>
          <a:blip r:embed="rId2"/>
          <a:stretch/>
        </p:blipFill>
        <p:spPr>
          <a:xfrm>
            <a:off x="4859280" y="234936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7376-8A9D-4AC0-A844-A2898757476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ocussing on the ta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708360" y="1773360"/>
            <a:ext cx="524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centrate on the task, not the out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reak down huge activities into small manageable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member past suc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 for break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ace to breathe and thi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nd maps, scribble id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o for a walk, talk out lou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835280" y="4149720"/>
            <a:ext cx="730872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7" name="Picture 8" descr="https://www2.lse.ac.uk/intranet/staff/webSupport/images/imageBank/478/School_Visit_4763.jpg"/>
          <p:cNvPicPr/>
          <p:nvPr/>
        </p:nvPicPr>
        <p:blipFill>
          <a:blip r:embed="rId1"/>
          <a:stretch/>
        </p:blipFill>
        <p:spPr>
          <a:xfrm>
            <a:off x="441360" y="2133720"/>
            <a:ext cx="273996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AA03-8175-4A24-9D2B-DDA72641120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474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ress Management Sk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1" name="Picture 6" descr=""/>
          <p:cNvPicPr/>
          <p:nvPr/>
        </p:nvPicPr>
        <p:blipFill>
          <a:blip r:embed="rId1"/>
          <a:stretch/>
        </p:blipFill>
        <p:spPr>
          <a:xfrm>
            <a:off x="5145120" y="2116080"/>
            <a:ext cx="380988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2C15-A2A0-491B-9F96-0A71F871C68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ess Management Ski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02680" y="2349360"/>
            <a:ext cx="573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hysical, behavioural, cognitive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gularly switch off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hedule some kind of physical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Good self ca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leep, diet, caffeine, alcohol and nicot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ime out without gui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knowledge anxiety, rather than denying i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k: ‘are my negative thoughts realistic?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5" name="Picture 8" descr="https://www2.lse.ac.uk/intranet/staff/webSupport/images/imageBank/478/UGP_08_045.jpg"/>
          <p:cNvPicPr/>
          <p:nvPr/>
        </p:nvPicPr>
        <p:blipFill>
          <a:blip r:embed="rId1"/>
          <a:stretch/>
        </p:blipFill>
        <p:spPr>
          <a:xfrm>
            <a:off x="5940360" y="1808280"/>
            <a:ext cx="306720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FF21-A7BD-4FD6-AAC0-F6719AD8E4D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hallenging negative thou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50560" y="2178000"/>
            <a:ext cx="56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agine them under test in a Court of La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dentify the negative thought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I can’t do this course, I’m going to fail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certain the evidence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For and Again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m I making a ‘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MS PGothic"/>
              </a:rPr>
              <a:t>thinking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pose a more reasonable alternative th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Picture 6" descr="https://www2.lse.ac.uk/intranet/staff/webSupport/images/imageBank/478/Law_Courts_8149.JPG"/>
          <p:cNvPicPr/>
          <p:nvPr/>
        </p:nvPicPr>
        <p:blipFill>
          <a:blip r:embed="rId1"/>
          <a:stretch/>
        </p:blipFill>
        <p:spPr>
          <a:xfrm>
            <a:off x="6012000" y="1773360"/>
            <a:ext cx="303840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4347-EABC-431A-B8EF-A8EEB43B883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inking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56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ll or nothing thin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scounting the pos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ly seeing the negative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ver-generaliz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f it happened before it will happen again’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lieving a catastrophe will hap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motional Reaso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f I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feel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t then it must be true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3" name="Picture 8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739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DF54-1A44-4549-BFCB-84FC630131E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vice and hel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7" name="Picture 7" descr="https://www2.lse.ac.uk/intranet/staff/webSupport/images/imageBank/478/LSE_PGP06__005.jpg"/>
          <p:cNvPicPr/>
          <p:nvPr/>
        </p:nvPicPr>
        <p:blipFill>
          <a:blip r:embed="rId1"/>
          <a:stretch/>
        </p:blipFill>
        <p:spPr>
          <a:xfrm>
            <a:off x="4067280" y="2421000"/>
            <a:ext cx="45529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DF63-2D3D-4274-B350-F85B78CED0E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Sources of advice and hel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00000" y="242100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Academic Adviser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partmental Sta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sability and Wellbeing Servic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Student Services Cent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TLC study skills advisor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arning Worl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udent Union and Advice Centr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edical Centr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ental Health and Wellbeing Advisor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a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900000" y="443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100" spc="-1" strike="noStrike">
                <a:solidFill>
                  <a:srgbClr val="3333cc"/>
                </a:solidFill>
                <a:latin typeface="Tahoma"/>
              </a:rPr>
              <a:t>Don't wait until problems have grown impossibly larg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100" spc="-1" strike="noStrike">
                <a:solidFill>
                  <a:srgbClr val="3333cc"/>
                </a:solidFill>
                <a:latin typeface="Tahoma"/>
              </a:rPr>
              <a:t>It’s OK to ask for help earlier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333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8978-67FC-4B55-A2A5-69C2B65D517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LSE Student Counselling Service – KSW.50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8343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ee and confidential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Mainly short term counsell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ook appointments in advanc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ee Website for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tress management handou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lf help resources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Relaxation MP3’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C3DE-2A5E-4760-8B7F-F5209C43694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Future Workshops  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(1/4 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187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udying and Surviving at LS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esday   15  Sept 2015.    Time: 14.00 - 15.00 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ion: CLM.302 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rsday 17  Sept 2015.    Time: 13.00 - 14.00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ocation: KSW.G.01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dnesday 23  Sept 2015. Time: 14.00 - 15.00 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ion: PAR.LG.03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e:   Wednesday 7  Oct 2015.    Time: 15.30 - 16.30  Location: NAB.LG.01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7" name="Picture 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41356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EE05-F3C2-44E0-82D6-97BBE7DC972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Future Workshops  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(2/4 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187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Good Writing Psycholog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dnesday 14 Oct 2015.    Time: 15.30 - 16.30 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ion:  KSW.G.01  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iday         30 Oct 2015.     Time: 15.30 - 16.30 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ion:  KSW.G.01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How to Deal with Study-related Stres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d 2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ct  15.00 – 17.00 p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ion: NAB.LG.08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42FD-2134-456A-B39C-C05FF033A3E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Future Workshops  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(3/4 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87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How to manage your time effectivel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v 15.00   17:0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ion: NAB.LG.08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ress Manag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 16th Nov  11.00 – 1.00 pm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on  23rd Nov  11.00 – 1.00 pm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  30th Nov   11.00 – 1.00 p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ion: TB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C392-3314-4452-8F2D-9CB53EEFE90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Future Workshops 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(4/4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187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aise Your Self-Esteem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rs. 19th Nov    11.00 am – 1 p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rs 26th Nov     11.00 am – 1 p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rs 3rd of Dec.  11.00 am – 1 p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ocation:  TB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Gro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</a:rPr>
              <a:t>Stress Management Group (3 weeks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</a:rPr>
              <a:t>Self Esteem Group (3 weeks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0000"/>
                </a:solidFill>
                <a:uFillTx/>
                <a:latin typeface="Tahoma"/>
              </a:rPr>
              <a:t>Therapy Grou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ff0000"/>
                </a:solidFill>
                <a:uFillTx/>
                <a:latin typeface="Tahoma"/>
              </a:rPr>
              <a:t>PhD self-reflective grou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laces on all groups need to be booked in advanc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lease see the website, Call Ext 3627, visit KSW.507 or email student.counselling@lse.ac.u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C5B2-99A8-4161-85C8-1052171EF0C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333399"/>
                </a:solidFill>
                <a:latin typeface="Tahoma"/>
              </a:rPr>
              <a:t>Final though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74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ition can be stressful, but also allows us to grow as a pers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agine looking back in 5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3" name="Picture 7" descr="j0422483"/>
          <p:cNvPicPr/>
          <p:nvPr/>
        </p:nvPicPr>
        <p:blipFill>
          <a:blip r:embed="rId1"/>
          <a:stretch/>
        </p:blipFill>
        <p:spPr>
          <a:xfrm>
            <a:off x="5145120" y="280512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C044-A364-481A-8EAD-542845880FA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45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mon challenges in starting at 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ade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tling in t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1" name="Picture 10" descr="https://www2.lse.ac.uk/intranet/staff/webSupport/images/imageBank/478/IT_Rooms_009.jpg"/>
          <p:cNvPicPr/>
          <p:nvPr/>
        </p:nvPicPr>
        <p:blipFill>
          <a:blip r:embed="rId1"/>
          <a:stretch/>
        </p:blipFill>
        <p:spPr>
          <a:xfrm>
            <a:off x="5364000" y="1773360"/>
            <a:ext cx="303876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7100-1B3C-4D90-8639-56D2CA7CC21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3399"/>
                </a:solidFill>
                <a:latin typeface="Tahoma"/>
              </a:rPr>
              <a:t>Settling in: The Academic sid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0" y="2781000"/>
            <a:ext cx="5580000" cy="33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ew level of stud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evious standard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ading strategi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816480" indent="-496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ahoma"/>
              </a:rPr>
              <a:t>Use SQ3R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816480" indent="-496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ahoma"/>
              </a:rPr>
              <a:t>Scan, Question, Read, Review, Recal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esentations, essays and exam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cademic adviser relationshi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5" name="Picture 12" descr="j0422458"/>
          <p:cNvPicPr/>
          <p:nvPr/>
        </p:nvPicPr>
        <p:blipFill>
          <a:blip r:embed="rId1"/>
          <a:stretch/>
        </p:blipFill>
        <p:spPr>
          <a:xfrm>
            <a:off x="5508720" y="1773360"/>
            <a:ext cx="3460680" cy="43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A380-6C22-4ED2-978E-8E52C598569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3399"/>
                </a:solidFill>
                <a:latin typeface="Tahoma"/>
              </a:rPr>
              <a:t>Academic challeng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verwhelmed with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style of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dependent critical 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xiety can lead to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procrast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53352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We may disguise avoidance by being busy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53352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We may find things to do that are interesting, but don't contribute towards the main go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721D-BBC0-46EF-8517-397E4A1C98E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Settling in - the Social Sid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4856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eeting new peop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w contacts through shared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Keeping contact with people from h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alance of work and lei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2" name="Picture 8" descr="https://www2.lse.ac.uk/intranet/staff/webSupport/images/imageBank/478/Lib_May_11_0482.jpg"/>
          <p:cNvPicPr/>
          <p:nvPr/>
        </p:nvPicPr>
        <p:blipFill>
          <a:blip r:embed="rId1"/>
          <a:stretch/>
        </p:blipFill>
        <p:spPr>
          <a:xfrm>
            <a:off x="4859280" y="2768760"/>
            <a:ext cx="399276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4831-1AD7-478D-8E1B-EA17D9C27CD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The challenge of trans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564000" y="2122560"/>
            <a:ext cx="529272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ss of famili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60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ome, friends, family, rout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ping with loss, after initial excitement sub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pression and anx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ultural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lationships and Id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ancial difficul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087360" cy="38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2266-F752-4B41-A70A-CEF08452E96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Feeling Homesic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43210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re is a natural grieving re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sociated with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tremely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ften in first wee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n occur when leaving home, but also later (eg after Xmas break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1" name="Picture 7" descr=""/>
          <p:cNvPicPr/>
          <p:nvPr/>
        </p:nvPicPr>
        <p:blipFill>
          <a:blip r:embed="rId1"/>
          <a:stretch/>
        </p:blipFill>
        <p:spPr>
          <a:xfrm>
            <a:off x="4410000" y="2752560"/>
            <a:ext cx="4552920" cy="30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3:30:24Z</dcterms:created>
  <dc:creator>Sandelson,A</dc:creator>
  <dc:description/>
  <dc:language>en-US</dc:language>
  <cp:lastModifiedBy>Administrator</cp:lastModifiedBy>
  <cp:lastPrinted>2014-09-26T10:32:01Z</cp:lastPrinted>
  <dcterms:modified xsi:type="dcterms:W3CDTF">2015-09-15T12:04:43Z</dcterms:modified>
  <cp:revision>170</cp:revision>
  <dc:subject/>
  <dc:title> </dc:title>
</cp:coreProperties>
</file>