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5623-E625-4C43-B4B8-9C54B829C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F4F2-47F7-4D0D-BF95-34C23F81F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25EB-DB24-4FE5-B006-BE2BF4EA8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731-B65B-469F-B58D-AED7FB90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B05-DDC2-4B8E-B9F6-049DAD45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5CF3B-60DD-4320-B0F3-635DDE8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FAC46-CEDF-4817-A5B7-00C89E61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0D2DE-2B4F-44FB-A453-FD766BCA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E2A00-B8A5-4AFE-846A-3A9858C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7D27F-2F31-4EEA-8AA7-30D9C5C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87D94-C9AE-4596-A527-497929BD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8CA2A-1326-45BE-9F83-CB95B2CE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A3CE6-430A-4723-A9AC-B4756F80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53D59-E23B-4827-8CFB-478CC78E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DEB71-5DC1-4782-9B4A-E27FA79E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BC8-DE0D-4345-B902-148D52A1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FB131-83BC-42D0-80F9-54A7F670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8E2FC-99AB-42E8-B52E-D1524E4A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4AE2C-687E-4530-8E2E-31D8682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0A930-9661-4633-A869-C2C8301A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8EAFA-B9FA-46AD-AF65-849460A6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B3E24-DEE9-4CC1-ACD5-8FF8D19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3AAD3-42C3-4E5F-B5B8-27275C9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1F068-E6C8-4ECA-8DDA-721141D5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6C2B5-4AA8-4364-A0CC-007A1230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F01E2-3756-429C-B46A-3AB56A9F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038-5D76-4627-9FF3-F66C878A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0A738-229B-4659-9826-7B2D19B5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ED062-766E-4234-9E55-A152C6E9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36080-8C91-4AEB-88A2-9BB245BE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FB467-9CAB-4DB5-8E7B-340F585F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2897F-B9B1-4E80-B4BA-E93810D4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BF823-5CCE-406D-998D-DFFDFF25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6B589-E7AB-47D8-BAC5-C36189A7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72CB0-B657-4A9B-A450-C16B4BCE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E671D-3737-47C7-AE81-801280A4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73871-6DE0-4E22-8C91-31FD78B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16E-06C1-48BD-A46E-5C2E4E0E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9B29D-CEE8-43A0-B4F8-B3EA163A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70917-A170-4DF6-A2E0-4F4BD16F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4342E-1085-4570-9FD0-A14C4F0E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33E95-E2F7-4B39-B995-BD8379E7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08DEB-09DC-4BCF-B02F-EE540826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F93F5-B910-4B0D-91AD-97F32DE5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FA83C-F881-4944-A889-89FDBE7C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48B6E-96F1-4663-8A2B-282BDD90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AC37C-D71C-41D0-A23A-20CE4487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0288C-6D4D-42FA-BFFE-2278105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5924-B8FF-4A7B-86C5-9DE7351C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6237A-2C31-4210-A61F-6F3EBCB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E5F35-62F6-4C5A-8A0E-7CAC049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2EF3B-BFB5-461D-B816-C84CC96F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7BC0F-5137-456D-8D40-34FC1FEE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0BBFC-240F-40BC-A79E-0FCF1245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9B4BC-E7A4-45F8-B8B2-D4583DE9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C0397-CF07-4656-B0B5-C0F03ED4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A9580-1D28-4940-8B46-B64DAB87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CBD2E-37F8-4307-9E2E-00F24852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81457-882B-442F-8CD0-BDF86A46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71F-5D6F-460B-B94E-03034983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F11AE-D269-4BA9-B232-A171EC4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BA72F-9B8A-471D-9ABB-848D1D98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8F810-C0A7-4E34-B418-C613849D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5B82A-D31A-42A3-9A38-24048C0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CF519-AAF1-4F77-B0AB-7711949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9BA8A-8CA9-44F3-A9A3-BE0892A4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11599-ACAA-4514-8C09-8DFF632D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A71B2-9794-4842-96B3-C090AF74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7C77B-4ADB-4BEE-927C-F1888E1B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2ED0E-2137-45D7-997D-47E11781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01BD-78CF-4762-8B64-DCC76ED8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1964F-89A6-4AC9-8EC8-847F2A18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0ACE6-B09E-4F02-A299-0DE9EB5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A92DA-765A-4379-A165-DB46C7F7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99682-3794-4955-B41D-B41E1F7B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BB314-23AF-4C80-B8A6-E79A348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B26DC-CE26-4C23-8199-6F2E1920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9B108-77A6-423A-A0ED-87F62555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3A321-1C8B-449B-8345-0AE56916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32CCD-2FC8-4B08-BEAF-19028BFB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9028-59A2-4E16-B177-2B05DC48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3748-B6C2-4648-A953-79183FC8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EEB3-558A-43D8-9102-5625FE7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501-36EB-4BBE-A505-EC5E2DA9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7426-7904-4FC3-A349-EA2145E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6A37-805E-47A1-9D20-2AD66149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090A-EBB1-46EA-9C9E-7EEACB31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9697-5644-4BCA-A4DE-34413A63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9E41-FD26-4887-B9E5-BC3AC8A3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8D0F-989C-43CD-8321-71F3A24C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EDD2-3E90-4B89-A4A0-B8795A24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7533B-2D49-4EC1-8481-4EE1C6B9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3041-79E7-4850-ADC1-DFC28543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6C64-B8DB-4F95-9E9D-04445589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2CC-E146-42A1-A266-6A65769C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FBE4-CAE8-440D-BC9A-61D7516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BD97A-6625-4B5E-A887-0A8D810D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CAC0-A9EC-46E8-A5C7-E629B9CF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6E01-A531-4CC1-9D52-AA98872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A880-9265-4F13-8702-A097A367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CD6F-0D89-457C-916C-4964CCAA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3E4A-DA48-45DF-AF16-D056AC9D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4AB5-F772-4434-AFC2-58CDE6B1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2D02-8007-4D63-9743-F06A035F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7950-8CAA-4611-9E54-C1CF8415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BF8-EA60-49E7-95F0-03DAF362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2E184-F047-453A-9084-BD288252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C70C-5877-4721-B874-F1C3AC81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489B-5026-40C5-89CE-E1FACE10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84586-86E9-4FAB-8BC7-E4EADF5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2366-B1D8-4406-ACDE-FB9FB962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27367-8D3D-4AF9-A439-CB5B6453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8DBE-44F6-478E-B739-D1B3D3BA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6139E-9A57-4921-897F-CAED7097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0179-0D1B-4373-B70C-9C1A2EE6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221C6-7C95-4167-B748-287DA2E7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DD4-0CDD-40DF-9E3F-2179B6D0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25C22-9B3F-4A80-BD8A-976D3946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8C5D9-5618-471D-B4F9-C1551A9E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C3E8-52CA-4812-A615-5F9430B0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AA422-7C91-4BDC-91B6-84562AFF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50FB0-0187-4183-859D-95F2946F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A1578-1F51-4715-83DD-70D25530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0C400-6743-4C6E-A692-26CB0971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397F2-CC30-4903-9668-ADD0A1A1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4CA43-E35A-40F7-B36C-71F1FC19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E453-B5D0-4634-AC06-EBA4A2AC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64D-4C21-44A0-AE6A-05E555D7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3C240-1009-44B9-B92E-808B4F5B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0418C-27FA-40E4-94FA-670097E2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2ADB0-F028-40BA-87BE-3C53297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9A9C5-9FC8-4FFD-B13E-1C732D02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55AB7-0249-4EEE-A301-89B80A46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2588-B78B-4B61-8266-69F29A06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8A88-4F52-4CD0-B467-72AE1A62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A61F6-8612-4B0B-8C71-1FBA2BD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BDA6B-A270-4DBC-BC49-9FCEC0A1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839DE-5215-41AC-A14A-1743BF6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CEA-36B1-42A1-A6FA-95E5970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81AB9-5FF7-45F4-94D3-D076D86E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381EB-7376-4414-8E14-1896A202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EC015-32FF-43FD-8078-528CF5A8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AB2C5-FCFD-4B01-9423-FEB7691D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5FE76-DA95-4A43-9452-A984E644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4C9F3-679B-4145-B66C-495BFF2B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1EE1C-91F4-41C7-B1CF-E1F73634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6F12-525F-414F-A763-DF3544CB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2147-A0EE-4B35-96CC-EB99D2F2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DEB54-E2BF-4F11-AF37-A74B06E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BA0-39F2-4C30-9EDB-8C3859E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C1D69-7F0F-4F87-A803-CB113EDE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9078F-6591-442F-9EC8-22AE6A2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76EC6-C800-4DB1-B7D4-F7B8A3E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F02D-F1EE-4285-86E2-2807D04D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A24C1-4494-45EE-AA37-826C276A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8BD6D-3E43-4311-BA0E-A51B04DF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B9B0-3D2D-4ACE-8FB5-D1B9CCE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01495-84D5-420F-B41B-5A4A512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2B71C-F460-4C0E-977D-C4E10F10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8AAB4-A5E3-42F6-BE05-21F9308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04C-C2B9-4F1F-869A-8058A09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AB01F-FDD3-41D6-B615-983BD8C8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CFAF-225A-403C-9EAD-EE2F9250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D2329-4709-4E3E-837C-41771DA4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B72A7-87F4-4654-B7E8-AFC4B17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E221-B735-4B99-90F1-ED33D2BD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5E220-5511-4E10-9083-06BEAE0A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4550B-E4C2-40E4-8994-AE7031A4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0E7C4-20A2-42F3-8145-AD1E7923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06C4C-1FF8-42AB-BBA3-A6DAEB96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C7620-EBE5-4025-9859-A0F2247A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3DC-CFF2-4597-989E-E7DF7476D87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66CE-17A1-48AD-B89A-6AF37CB04834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E864-E3F9-464B-BD5F-3DF0B42540B8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47E2-6FFC-4C4F-ACFC-8869118CBC76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DC75-10FD-4D37-A4A1-C8F7E99CE35E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5E56-9CCD-4B0F-BA4A-F0A163F52185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B2C3-E1CB-41CC-A7B9-FA3B1B10C5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C3F-C59C-4032-B5D8-3FFBC2FDD56F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A2BD-413C-4153-8FCE-4546F877B0E4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41AB-18B8-4C66-8A6C-DDA3616189E8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D2EB-F539-4C14-9749-66E3B63D4F2C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7AA0-B9B5-4520-BD74-B29FA90D44C4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D4DF-0258-4488-AE98-28B43D5F52D5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AE2A-E972-4C20-ACAC-D24072BB893A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B746-2033-4985-9074-C91B3B80879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-181440" y="227664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ahoma"/>
              </a:rPr>
              <a:t>Studying and surviving at LS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uesday 15 September 2015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2.00pm, CLM.302 </a:t>
            </a: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Repeat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1.00 pm, 17 September - KSW.G.01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2.00 pm, 23 September – PAR.LG.03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3.30 pm, 7 October – NAB.LG.01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7" descr="https://www2.lse.ac.uk/intranet/staff/webSupport/images/imageBank/478/sciencespo_0666.JPG"/>
          <p:cNvPicPr/>
          <p:nvPr/>
        </p:nvPicPr>
        <p:blipFill>
          <a:blip r:embed="rId1"/>
          <a:stretch/>
        </p:blipFill>
        <p:spPr>
          <a:xfrm>
            <a:off x="5651640" y="1773360"/>
            <a:ext cx="30286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475-BD1A-4F49-A9C4-AE712DDDFDA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omesickness is associated w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41672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tance from ho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 expectations/ sense of anticlima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to adapt to culture, language, life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 overload and low control over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Tahoma"/>
              </a:rPr>
              <a:t>most people come through homesickness and go on to do well and enjoy their tim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5836-BD46-454E-AB22-FCC5F916AA6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Initial impres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51116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y did you choose t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y at 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r initial impress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0" name="Picture 10" descr="https://www2.lse.ac.uk/intranet/staff/webSupport/images/imageBank/478/Freshers_Fair_W7H6564.JPG"/>
          <p:cNvPicPr/>
          <p:nvPr/>
        </p:nvPicPr>
        <p:blipFill>
          <a:blip r:embed="rId1"/>
          <a:stretch/>
        </p:blipFill>
        <p:spPr>
          <a:xfrm>
            <a:off x="5580000" y="1773360"/>
            <a:ext cx="30384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2148-8427-465D-8AAC-C700354CBE5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Settling in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53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lk to someone - others feel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home but also get involved 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t’s not disloyal to to enjoy yourself!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Be realistic about what to expect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Balance work and leis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ime to adju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You don't have to get everything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ght straight awa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Food and slee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7" descr="https://www2.lse.ac.uk/intranet/staff/webSupport/images/imageBank/478/bankside_184.jpg"/>
          <p:cNvPicPr/>
          <p:nvPr/>
        </p:nvPicPr>
        <p:blipFill>
          <a:blip r:embed="rId1"/>
          <a:stretch/>
        </p:blipFill>
        <p:spPr>
          <a:xfrm>
            <a:off x="6164280" y="1773360"/>
            <a:ext cx="2736720" cy="41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D41D-5CE0-4FE7-A565-D85A7E36688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context for stud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 re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ing h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8" name="Picture 7" descr="https://www2.lse.ac.uk/intranet/staff/webSupport/images/imageBank/478/Graduations_2010_0766.jpg"/>
          <p:cNvPicPr/>
          <p:nvPr/>
        </p:nvPicPr>
        <p:blipFill>
          <a:blip r:embed="rId1"/>
          <a:stretch/>
        </p:blipFill>
        <p:spPr>
          <a:xfrm>
            <a:off x="5435640" y="1811160"/>
            <a:ext cx="3038400" cy="45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1249-F89A-478C-B5CC-B2882D4ABFA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mbivalenc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8000" y="2278080"/>
            <a:ext cx="36716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ing a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ying at 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r course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2" name="Picture 9" descr="https://www2.lse.ac.uk/intranet/staff/webSupport/images/imageBank/478/NAB_Classes_9820.JPG"/>
          <p:cNvPicPr/>
          <p:nvPr/>
        </p:nvPicPr>
        <p:blipFill>
          <a:blip r:embed="rId1"/>
          <a:stretch/>
        </p:blipFill>
        <p:spPr>
          <a:xfrm>
            <a:off x="395280" y="2589120"/>
            <a:ext cx="410040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77F2-393F-430E-85CA-69CA1988EC6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5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</a:rPr>
              <a:t>Being a perfectioni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eeling under pressure to do everything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Repeating anxiety, stress, fear of failure 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he family/ historic context for your success 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6" name="Picture 5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7CF6-9D99-4BE7-A348-B2E3FCFC578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ynamics of study, work, life 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59" name="Diagram 3"/>
          <p:cNvGrpSpPr/>
          <p:nvPr/>
        </p:nvGrpSpPr>
        <p:grpSpPr>
          <a:xfrm>
            <a:off x="-1476360" y="1844640"/>
            <a:ext cx="7772400" cy="4106160"/>
            <a:chOff x="-1476360" y="1844640"/>
            <a:chExt cx="7772400" cy="4106160"/>
          </a:xfrm>
        </p:grpSpPr>
        <p:sp>
          <p:nvSpPr>
            <p:cNvPr id="660" name="AutoShape 4"/>
            <p:cNvSpPr/>
            <p:nvPr/>
          </p:nvSpPr>
          <p:spPr>
            <a:xfrm>
              <a:off x="-1476360" y="1844640"/>
              <a:ext cx="7772400" cy="41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404640 w 2769120"/>
                <a:gd name="textAreaRight" fmla="*/ 2364480 w 2769120"/>
                <a:gd name="textAreaTop" fmla="*/ 388440 h 2656800"/>
                <a:gd name="textAreaBottom" fmla="*/ 226836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388440 w 2656800"/>
                <a:gd name="textAreaRight" fmla="*/ 2268360 w 2656800"/>
                <a:gd name="textAreaTop" fmla="*/ 404640 h 2769120"/>
                <a:gd name="textAreaBottom" fmla="*/ 2364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388440 w 2656800"/>
                <a:gd name="textAreaRight" fmla="*/ 2268360 w 2656800"/>
                <a:gd name="textAreaTop" fmla="*/ 404640 h 2769120"/>
                <a:gd name="textAreaBottom" fmla="*/ 2364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LSE or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urse of stud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work or 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7" name="Picture 14" descr="https://www2.lse.ac.uk/intranet/staff/webSupport/images/imageBank/478/Graduations_2010_0686.jpg"/>
          <p:cNvPicPr/>
          <p:nvPr/>
        </p:nvPicPr>
        <p:blipFill>
          <a:blip r:embed="rId1"/>
          <a:stretch/>
        </p:blipFill>
        <p:spPr>
          <a:xfrm>
            <a:off x="4708440" y="2776680"/>
            <a:ext cx="4141800" cy="27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0CF0-60DD-4715-B307-8CF74EF7732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Under Pressur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460836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pressures are you under as a student coming to 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your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e these pressures realistic or excess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1" name="Picture 6" descr="https://www2.lse.ac.uk/intranet/staff/webSupport/images/imageBank/478/Teaching_071.JPG"/>
          <p:cNvPicPr/>
          <p:nvPr/>
        </p:nvPicPr>
        <p:blipFill>
          <a:blip r:embed="rId1"/>
          <a:stretch/>
        </p:blipFill>
        <p:spPr>
          <a:xfrm>
            <a:off x="4832280" y="2492280"/>
            <a:ext cx="4221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F9E-6E00-4CC5-B65C-9C2EEDEEDDD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8920" y="2019240"/>
            <a:ext cx="46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al ways of de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th study challe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5" name="Picture 14" descr="https://www2.lse.ac.uk/intranet/staff/webSupport/images/imageBank/478/Year_11_Summer_School_5327.JPG"/>
          <p:cNvPicPr/>
          <p:nvPr/>
        </p:nvPicPr>
        <p:blipFill>
          <a:blip r:embed="rId1"/>
          <a:stretch/>
        </p:blipFill>
        <p:spPr>
          <a:xfrm>
            <a:off x="4665600" y="2637000"/>
            <a:ext cx="4314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3556-EBC6-430A-BEAE-6CBF97660CA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actical approa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vise study skil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e LSE Learning World on Moo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rt term targets, longer term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 to others, ask for help and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BE79-05D5-4C1C-972D-B818BE04840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mon challenges in starting at 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al tips for dealing with trans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urces of advice and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7F52-0DC7-4795-97CB-80BCF0889F3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centrate on the task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81" name="Picture 7" descr="Wilkinson sends a 45-yard penalty between the posts just a minute into extra-time to regain the lead for England"/>
          <p:cNvPicPr/>
          <p:nvPr/>
        </p:nvPicPr>
        <p:blipFill>
          <a:blip r:embed="rId1"/>
          <a:stretch/>
        </p:blipFill>
        <p:spPr>
          <a:xfrm>
            <a:off x="684360" y="2349360"/>
            <a:ext cx="3744720" cy="37450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8" descr="Jonny Wilkinson, Will Greenwood and Jason Robinson celebrate victory in the World Cup final"/>
          <p:cNvPicPr/>
          <p:nvPr/>
        </p:nvPicPr>
        <p:blipFill>
          <a:blip r:embed="rId2"/>
          <a:stretch/>
        </p:blipFill>
        <p:spPr>
          <a:xfrm>
            <a:off x="4859280" y="234936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B005-9BE4-4932-B4B6-C5D1A0B8830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cussing on the t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708360" y="1773360"/>
            <a:ext cx="524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entrate on the task, not the 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reak down huge activities into small manageable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member past su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for break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ce to breathe and th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d maps, scribble id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o for a walk, talk out lo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835280" y="4149720"/>
            <a:ext cx="730872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7" name="Picture 8" descr="https://www2.lse.ac.uk/intranet/staff/webSupport/images/imageBank/478/School_Visit_4763.jpg"/>
          <p:cNvPicPr/>
          <p:nvPr/>
        </p:nvPicPr>
        <p:blipFill>
          <a:blip r:embed="rId1"/>
          <a:stretch/>
        </p:blipFill>
        <p:spPr>
          <a:xfrm>
            <a:off x="441360" y="2133720"/>
            <a:ext cx="27399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60D1-2DB0-47EF-A854-5126B8BCEC5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474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1" name="Picture 6" descr=""/>
          <p:cNvPicPr/>
          <p:nvPr/>
        </p:nvPicPr>
        <p:blipFill>
          <a:blip r:embed="rId1"/>
          <a:stretch/>
        </p:blipFill>
        <p:spPr>
          <a:xfrm>
            <a:off x="5145120" y="2116080"/>
            <a:ext cx="380988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40B8-B5B8-4FAF-99D1-6E7084F1EE2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02680" y="2349360"/>
            <a:ext cx="573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ysical, behavioural, cognitive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gularly switch off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hedule some kind of physical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Good self ca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leep, diet, caffeine, alcohol and nicot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me out without gui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knowledge anxiety, rather than denying 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k: ‘are my negative thoughts realistic?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5" name="Picture 8" descr="https://www2.lse.ac.uk/intranet/staff/webSupport/images/imageBank/478/UGP_08_045.jpg"/>
          <p:cNvPicPr/>
          <p:nvPr/>
        </p:nvPicPr>
        <p:blipFill>
          <a:blip r:embed="rId1"/>
          <a:stretch/>
        </p:blipFill>
        <p:spPr>
          <a:xfrm>
            <a:off x="5940360" y="1808280"/>
            <a:ext cx="30672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5DAD-4A11-483B-9D39-053DE61A77F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50560" y="2178000"/>
            <a:ext cx="56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agine them under test in a Court of L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dentify the negative though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I can’t do this course, I’m going to fail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certain the evidence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or and Agai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m I making a ‘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MS PGothic"/>
              </a:rPr>
              <a:t>thinking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Picture 6" descr="https://www2.lse.ac.uk/intranet/staff/webSupport/images/imageBank/478/Law_Courts_8149.JPG"/>
          <p:cNvPicPr/>
          <p:nvPr/>
        </p:nvPicPr>
        <p:blipFill>
          <a:blip r:embed="rId1"/>
          <a:stretch/>
        </p:blipFill>
        <p:spPr>
          <a:xfrm>
            <a:off x="6012000" y="1773360"/>
            <a:ext cx="303840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12AE-E9D9-44F4-8FAF-02DE13F390D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unting the po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ly seeing the negative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-generaliz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it happened before it will happen again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otional Reaso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eel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t then it must be true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8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739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D4A1-ADA7-4650-B931-7DEC1FA5167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vice and hel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7" name="Picture 7" descr="https://www2.lse.ac.uk/intranet/staff/webSupport/images/imageBank/478/LSE_PGP06__005.jpg"/>
          <p:cNvPicPr/>
          <p:nvPr/>
        </p:nvPicPr>
        <p:blipFill>
          <a:blip r:embed="rId1"/>
          <a:stretch/>
        </p:blipFill>
        <p:spPr>
          <a:xfrm>
            <a:off x="4067280" y="2421000"/>
            <a:ext cx="4552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8A69-88B0-4CDE-ACB2-3C92593B353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Sources of advice and he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00000" y="242100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cademic Advise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partmental Sta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ability and Wellbeing Servic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Student Services Cent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TLC study skills adviso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arning Worl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udent Union and Advice Centr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edical Centr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ental Health and Wellbeing Adviso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00000" y="443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Don't wait until problems have grown impossibly lar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It’s OK to ask for help earlier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09E9-9C66-41A8-8826-6B9792650C2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 – KSW.5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343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Mainly short term counsell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ook appointments in advanc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ee Website for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tress management handou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lf help resourc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7994-C2B2-4A25-B16E-4C958D17256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  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(1/4 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udying and Surviving at L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esday   15  Sept 2015.    Time: 14.00 - 15.00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CLM.302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day 17  Sept 2015.    Time: 13.00 - 14.00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cation: KSW.G.01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dnesday 23  Sept 2015. Time: 14.00 - 15.00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PAR.LG.03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:   Wednesday 7  Oct 2015.    Time: 15.30 - 16.30  Location: NAB.LG.01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135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83EF-0C55-4B74-8B89-373F5070B2D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  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(2/4 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ood Writing Psycholog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dnesday 14 Oct 2015.    Time: 15.30 - 16.30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 KSW.G.01  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iday         30 Oct 2015.     Time: 15.30 - 16.30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 KSW.G.01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w to Deal with Study-related Stres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d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ct  15.00 – 17.00 p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NAB.LG.08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265B-2880-497A-A833-83D5FF536A4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  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(3/4 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w to manage your time effectivel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v 15.00   17: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 NAB.LG.08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ress Manag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16th Nov  11.00 – 1.00 pm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on  23rd Nov  11.00 – 1.00 pm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 30th Nov   11.00 – 1.00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: TB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E080-7A06-40F1-8A6E-8B320249D89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 </a:t>
            </a:r>
            <a:r>
              <a:rPr b="1" i="1" lang="en-GB" sz="3200" spc="-1" strike="noStrike">
                <a:solidFill>
                  <a:srgbClr val="333399"/>
                </a:solidFill>
                <a:latin typeface="Tahoma"/>
              </a:rPr>
              <a:t>(4/4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aise Your Self-Esteem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. 19th Nov    11.00 am – 1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 26th Nov     11.00 am – 1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 3rd of Dec.  11.00 am – 1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ocation:  TB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Stress Management Group (3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Self Esteem Group (3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0000"/>
                </a:solidFill>
                <a:uFillTx/>
                <a:latin typeface="Tahoma"/>
              </a:rPr>
              <a:t>Therapy Grou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ff0000"/>
                </a:solidFill>
                <a:uFillTx/>
                <a:latin typeface="Tahoma"/>
              </a:rPr>
              <a:t>PhD self-reflective grou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laces on all groups need to be booked in adva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ease see the website, Call Ext 3627, visit KSW.507 or email student.counselling@lse.ac.u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194E-461C-4E15-8B1F-1A88D268010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74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ition can be stressful, but also allows us to grow as a per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agine looking back in 5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3" name="Picture 7" descr="j0422483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2D9E-89EA-411C-9BB8-B8ADB631DE6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5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mon challenges in starting at 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tling in t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10" descr="https://www2.lse.ac.uk/intranet/staff/webSupport/images/imageBank/478/IT_Rooms_009.jpg"/>
          <p:cNvPicPr/>
          <p:nvPr/>
        </p:nvPicPr>
        <p:blipFill>
          <a:blip r:embed="rId1"/>
          <a:stretch/>
        </p:blipFill>
        <p:spPr>
          <a:xfrm>
            <a:off x="5364000" y="1773360"/>
            <a:ext cx="30387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A741-CBDA-4038-B0BF-036AC0FEC13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99"/>
                </a:solidFill>
                <a:latin typeface="Tahoma"/>
              </a:rPr>
              <a:t>Settling in: The Academic sid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558000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w level of stud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vious standar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ading strategi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16480" indent="-496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Use SQ3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16480" indent="-496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Scan, Question, Read, Review, Recal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sentations, essays and exa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ademic adviser relationshi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12" descr="j0422458"/>
          <p:cNvPicPr/>
          <p:nvPr/>
        </p:nvPicPr>
        <p:blipFill>
          <a:blip r:embed="rId1"/>
          <a:stretch/>
        </p:blipFill>
        <p:spPr>
          <a:xfrm>
            <a:off x="5508720" y="1773360"/>
            <a:ext cx="34606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6A6-8CFA-4CAE-AF44-38122ADDEC7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99"/>
                </a:solidFill>
                <a:latin typeface="Tahoma"/>
              </a:rPr>
              <a:t>Academic challeng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whelmed with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style of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ependent critical 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xiety can lead to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procra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e may disguise avoidance by being busy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e may find things to do that are interesting, but don't contribute towards the main go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39D7-EDF4-43EF-846A-7F36061644B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Settling in - the Social S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856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eting new peop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w contacts through share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eeping contact with people from h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alance of work and lei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2" name="Picture 8" descr="https://www2.lse.ac.uk/intranet/staff/webSupport/images/imageBank/478/Lib_May_11_0482.jpg"/>
          <p:cNvPicPr/>
          <p:nvPr/>
        </p:nvPicPr>
        <p:blipFill>
          <a:blip r:embed="rId1"/>
          <a:stretch/>
        </p:blipFill>
        <p:spPr>
          <a:xfrm>
            <a:off x="4859280" y="2768760"/>
            <a:ext cx="39927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DCB5-B67C-4EB5-A79E-8213141A077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The challenge of tran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564000" y="2122560"/>
            <a:ext cx="5292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ss of famili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60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me, friends, family, rout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ping with loss, after initial excitement sub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pression and anx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ltural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tionships and Id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ncial difficul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087360" cy="38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12B4-065F-4B68-955A-546FBB21C9F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Feeling Homesi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3210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re is a natural grieving re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sociated with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remely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ften in first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occur when leaving home, but also later (eg after Xmas break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1" name="Picture 7" descr=""/>
          <p:cNvPicPr/>
          <p:nvPr/>
        </p:nvPicPr>
        <p:blipFill>
          <a:blip r:embed="rId1"/>
          <a:stretch/>
        </p:blipFill>
        <p:spPr>
          <a:xfrm>
            <a:off x="4410000" y="2752560"/>
            <a:ext cx="4552920" cy="30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Sandelson,A</dc:creator>
  <dc:description/>
  <dc:language>en-US</dc:language>
  <cp:lastModifiedBy>Administrator</cp:lastModifiedBy>
  <cp:lastPrinted>2014-09-26T10:32:01Z</cp:lastPrinted>
  <dcterms:modified xsi:type="dcterms:W3CDTF">2015-09-15T12:04:43Z</dcterms:modified>
  <cp:revision>170</cp:revision>
  <dc:subject/>
  <dc:title> </dc:title>
</cp:coreProperties>
</file>