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2BF-2B6F-4837-B2F4-6B34B53B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82280" y="592704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AB9-EB0A-45EE-A056-3A637CA1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34652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ECB-C340-44C0-AE37-0B233BA4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1944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5696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8228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41944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15696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3E9-EC1B-4FA0-BF55-2C5DB423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95AD-BA8F-450F-9B66-CB0ACD30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1B90-F476-45CE-8701-ED173983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B2F3-59C1-40F5-8FBC-C055B1CA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8704-AB36-47E3-BCAA-1108ADEF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54A1-50FA-40CC-9504-6032D1F8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36200" y="304920"/>
            <a:ext cx="11084040" cy="96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9B46-9194-4DFB-ABFD-DACA7B45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40E3-2D70-4132-B8B5-CC75E7BB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EAF-0D84-4199-8FB6-C7AFDD41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4652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D539-ACEC-4166-A6C1-F207C3DB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F590-8EE2-4F52-929D-1F2324E7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82280" y="592704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C60B-F30F-4455-87BD-562DEC93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34652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FE8F-5F75-414B-907A-9A9CCEB5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1944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5696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8228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541944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915696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A19C-8EBF-446B-A9E9-27A9FFD3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BF282-EEDB-4B3C-8295-6B15BA67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7FD1-4597-4AB2-8E5E-EEE99F3C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2DFE8-18EA-483D-8244-8CEF5367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CFAB-025A-4BA4-8479-4275DF95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9040B-5717-45DD-BE62-6D86FD4D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D1E-4AF4-4B8D-8469-54923DDA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36200" y="304920"/>
            <a:ext cx="11084040" cy="96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AF4E1-69EF-4A12-9CD7-BCB2A464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5ACCF-7DB1-4531-8105-09252DB0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34652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7A9E-E4EA-4E45-9807-0B74A849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E9A18-A16B-4EFA-8D6D-0BD55231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682280" y="592704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6E77-1C3D-4E88-B9BE-C7096835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34652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222A-AFAE-4749-9D76-E1720DC5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944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5696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68228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41944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15696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CD59-33B4-4661-8513-78AD0504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DBA97-2B71-451B-8967-25CFDF03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4FE3F-5FCF-437B-BD08-6399A731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8EF82-D5A7-4304-AB42-F37B609A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4DA-878A-4EF5-BB53-1BB57936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2CB4F-9920-4E26-9E35-21AB589C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0F01B-C8BB-4286-98C3-9006DA04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636200" y="304920"/>
            <a:ext cx="11084040" cy="96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61E5E-16CA-4477-8292-7E505456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EB898-F19A-4F8F-B89E-C5F79558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34652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65D23-A5AB-4527-BE12-A667A1D9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ABAA2-2030-4BEB-8CCB-54C79CC8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682280" y="592704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F498C-9346-4F95-9A2C-01FBE122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34652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95E66-D1F4-4B44-9EDF-78243E86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41944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5696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68228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541944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915696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B95D1-8E43-4FB4-B9BB-262782ED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653-7709-4E8A-B2F2-B88F281C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36200" y="304920"/>
            <a:ext cx="11084040" cy="96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5EE-C2AA-4B10-962C-20CF6DF9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F16-FCE7-4D98-A2D5-A1CF7C0E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4652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198-89BD-4D0F-A8E3-548D20E6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C30-9269-4FCB-A309-19D5908A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006440" cy="975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452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63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4520" y="2817720"/>
            <a:ext cx="11055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9000"/>
          </a:bodyPr>
          <a:p>
            <a:pPr marL="482400" indent="-482400">
              <a:spcBef>
                <a:spcPts val="1151"/>
              </a:spcBef>
              <a:buClr>
                <a:srgbClr val="ffffff"/>
              </a:buClr>
              <a:buFont typeface="Times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520" indent="-402120">
              <a:spcBef>
                <a:spcPts val="1151"/>
              </a:spcBef>
              <a:buClr>
                <a:srgbClr val="ffffff"/>
              </a:buClr>
              <a:buFont typeface="Times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2" marL="1609200" indent="-321840">
              <a:spcBef>
                <a:spcPts val="1151"/>
              </a:spcBef>
              <a:buClr>
                <a:srgbClr val="ffffff"/>
              </a:buClr>
              <a:buFont typeface="Times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3" marL="2253600" indent="-321840">
              <a:spcBef>
                <a:spcPts val="1151"/>
              </a:spcBef>
              <a:buClr>
                <a:srgbClr val="ffffff"/>
              </a:buClr>
              <a:buFont typeface="Times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4" marL="2896200" indent="-321840">
              <a:spcBef>
                <a:spcPts val="1151"/>
              </a:spcBef>
              <a:buClr>
                <a:srgbClr val="ffffff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5" marL="2896200" indent="-321840">
              <a:spcBef>
                <a:spcPts val="1151"/>
              </a:spcBef>
              <a:buClr>
                <a:srgbClr val="ffffff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6" marL="2896200" indent="-321840">
              <a:spcBef>
                <a:spcPts val="1151"/>
              </a:spcBef>
              <a:buClr>
                <a:srgbClr val="ffffff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74520" y="8886600"/>
            <a:ext cx="270972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443120" y="8886600"/>
            <a:ext cx="411804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20040" y="8886600"/>
            <a:ext cx="271008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2FD7A3C9-0267-4EFD-B0D3-E2A1BF5BB1BF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006440" cy="975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452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63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74520" y="2817720"/>
            <a:ext cx="11055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9000"/>
          </a:bodyPr>
          <a:p>
            <a:pPr marL="482400" indent="-482400">
              <a:spcBef>
                <a:spcPts val="1151"/>
              </a:spcBef>
              <a:buClr>
                <a:srgbClr val="ffffff"/>
              </a:buClr>
              <a:buFont typeface="Times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520" indent="-402120">
              <a:spcBef>
                <a:spcPts val="1151"/>
              </a:spcBef>
              <a:buClr>
                <a:srgbClr val="ffffff"/>
              </a:buClr>
              <a:buFont typeface="Times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2" marL="1609200" indent="-321840">
              <a:spcBef>
                <a:spcPts val="1151"/>
              </a:spcBef>
              <a:buClr>
                <a:srgbClr val="ffffff"/>
              </a:buClr>
              <a:buFont typeface="Times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3" marL="2253600" indent="-321840">
              <a:spcBef>
                <a:spcPts val="1151"/>
              </a:spcBef>
              <a:buClr>
                <a:srgbClr val="ffffff"/>
              </a:buClr>
              <a:buFont typeface="Times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4" marL="2896200" indent="-321840">
              <a:spcBef>
                <a:spcPts val="1151"/>
              </a:spcBef>
              <a:buClr>
                <a:srgbClr val="ffffff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5" marL="2896200" indent="-321840">
              <a:spcBef>
                <a:spcPts val="1151"/>
              </a:spcBef>
              <a:buClr>
                <a:srgbClr val="ffffff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6" marL="2896200" indent="-321840">
              <a:spcBef>
                <a:spcPts val="1151"/>
              </a:spcBef>
              <a:buClr>
                <a:srgbClr val="ffffff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74520" y="8886600"/>
            <a:ext cx="270972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443120" y="8886600"/>
            <a:ext cx="411804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9320040" y="8886600"/>
            <a:ext cx="271008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118F58C9-05F4-4FF5-A10E-8AA846F8084A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93640" y="1562040"/>
            <a:ext cx="623880" cy="6746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5" name=""/>
          <p:cNvSpPr/>
          <p:nvPr/>
        </p:nvSpPr>
        <p:spPr>
          <a:xfrm>
            <a:off x="1138320" y="1562040"/>
            <a:ext cx="466560" cy="67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6" name=""/>
          <p:cNvSpPr/>
          <p:nvPr/>
        </p:nvSpPr>
        <p:spPr>
          <a:xfrm>
            <a:off x="770040" y="2162160"/>
            <a:ext cx="600120" cy="676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2162160"/>
            <a:ext cx="524160" cy="676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8" name=""/>
          <p:cNvSpPr/>
          <p:nvPr/>
        </p:nvSpPr>
        <p:spPr>
          <a:xfrm>
            <a:off x="181080" y="2058840"/>
            <a:ext cx="796680" cy="600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9" name=""/>
          <p:cNvSpPr/>
          <p:nvPr/>
        </p:nvSpPr>
        <p:spPr>
          <a:xfrm>
            <a:off x="1084320" y="1407960"/>
            <a:ext cx="44280" cy="1497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0" name=""/>
          <p:cNvSpPr/>
          <p:nvPr/>
        </p:nvSpPr>
        <p:spPr>
          <a:xfrm>
            <a:off x="630360" y="2533680"/>
            <a:ext cx="11699640" cy="4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9000"/>
          </a:bodyPr>
          <a:p>
            <a:pPr marL="482400" indent="-48240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  <a:p>
            <a:pPr lvl="1" marL="1046520" indent="-402120">
              <a:spcBef>
                <a:spcPts val="11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  <a:p>
            <a:pPr lvl="2" marL="1609200" indent="-321840">
              <a:spcBef>
                <a:spcPts val="11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  <a:p>
            <a:pPr lvl="3" marL="2253600" indent="-321840">
              <a:spcBef>
                <a:spcPts val="11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  <a:p>
            <a:pPr lvl="4" marL="2896200" indent="-321840">
              <a:spcBef>
                <a:spcPts val="11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  <a:p>
            <a:pPr lvl="5" marL="2896200" indent="-321840">
              <a:spcBef>
                <a:spcPts val="11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  <a:p>
            <a:pPr lvl="6" marL="2896200" indent="-321840">
              <a:spcBef>
                <a:spcPts val="11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652400" y="8880480"/>
            <a:ext cx="270972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664CF5B1-152B-4E7C-8E51-3747DEA89F2D}" type="datetime">
              <a:rPr b="0" lang="en-US" sz="2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202360" y="8880480"/>
            <a:ext cx="411768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015200" y="8880480"/>
            <a:ext cx="270972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474263F4-5A69-46FA-8555-CD14FF8B4682}" type="slidenum">
              <a:rPr b="0" lang="en-US" sz="2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3468600"/>
            <a:ext cx="12812040" cy="1495080"/>
            <a:chOff x="0" y="3468600"/>
            <a:chExt cx="12812040" cy="1495080"/>
          </a:xfrm>
        </p:grpSpPr>
        <p:grpSp>
          <p:nvGrpSpPr>
            <p:cNvPr id="133" name=""/>
            <p:cNvGrpSpPr/>
            <p:nvPr/>
          </p:nvGrpSpPr>
          <p:grpSpPr>
            <a:xfrm>
              <a:off x="412920" y="3621960"/>
              <a:ext cx="1011240" cy="674280"/>
              <a:chOff x="412920" y="3621960"/>
              <a:chExt cx="1011240" cy="674280"/>
            </a:xfrm>
          </p:grpSpPr>
          <p:sp>
            <p:nvSpPr>
              <p:cNvPr id="134" name=""/>
              <p:cNvSpPr/>
              <p:nvPr/>
            </p:nvSpPr>
            <p:spPr>
              <a:xfrm>
                <a:off x="412920" y="3621960"/>
                <a:ext cx="622080" cy="674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957600" y="3621960"/>
                <a:ext cx="466560" cy="674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88960" y="4221720"/>
              <a:ext cx="1049400" cy="674280"/>
              <a:chOff x="588960" y="4221720"/>
              <a:chExt cx="1049400" cy="674280"/>
            </a:xfrm>
          </p:grpSpPr>
          <p:sp>
            <p:nvSpPr>
              <p:cNvPr id="137" name=""/>
              <p:cNvSpPr/>
              <p:nvPr/>
            </p:nvSpPr>
            <p:spPr>
              <a:xfrm>
                <a:off x="588960" y="4221720"/>
                <a:ext cx="599400" cy="6742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13480" y="4221720"/>
                <a:ext cx="524880" cy="674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0" y="4118040"/>
              <a:ext cx="797040" cy="5997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02880" y="3468600"/>
              <a:ext cx="45000" cy="14950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49280" y="4636440"/>
              <a:ext cx="12362760" cy="78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7960" y="2383920"/>
            <a:ext cx="11055600" cy="207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1407960" y="8886600"/>
            <a:ext cx="271008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3711FCAE-1DA3-4628-9AB9-ECB84EE0F405}" type="datetime">
              <a:rPr b="0" lang="en-US" sz="20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4876920" y="8886600"/>
            <a:ext cx="411768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9753480" y="8886600"/>
            <a:ext cx="271008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AC647AEF-555D-4345-9D2B-5906CBB78954}" type="slidenum">
              <a:rPr b="0" lang="en-US" sz="20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tsomeheadspace.com/Tools/Take10" TargetMode="External"/><Relationship Id="rId2" Type="http://schemas.openxmlformats.org/officeDocument/2006/relationships/hyperlink" Target="http://sf-act.com/docs/resources_harris.pdf" TargetMode="External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6300" spc="-1" strike="noStrike" u="sng">
                <a:solidFill>
                  <a:srgbClr val="333399"/>
                </a:solidFill>
                <a:uFillTx/>
                <a:latin typeface="Tahoma"/>
              </a:rPr>
              <a:t>10 minute Mindfulness exercise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t quietly, set a gentle alarm for 5 – 20 minute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your ey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 deep brea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dy Scan for 1 min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e your breathing, note the rise and fall of your ch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unt 5 breaths, rep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your thoughts, try to let them go by refocusing on your breathing and counting mi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en the alarm goes, count 3 further sets of 5 brea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ly bring back awareness, stretch and open your ey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6300" spc="-1" strike="noStrike" u="sng">
                <a:solidFill>
                  <a:srgbClr val="333399"/>
                </a:solidFill>
                <a:uFillTx/>
                <a:latin typeface="Tahoma"/>
              </a:rPr>
              <a:t>Stress Management Guide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ctice Mindfulness at least once a 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Brea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getting too tired or anx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Stress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indfulness to reduce arousal or recuperate if t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y Li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diet, sleep, exer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 work, rest and p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6300" spc="-1" strike="noStrike" u="sng">
                <a:solidFill>
                  <a:srgbClr val="333399"/>
                </a:solidFill>
                <a:uFillTx/>
                <a:latin typeface="Tahoma"/>
              </a:rPr>
              <a:t>Further Help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5000"/>
          </a:bodyPr>
          <a:p>
            <a:pPr marL="462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LSE Student Counselling Servi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2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2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Teaching and Learning Centre – Study Adviser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2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Mindfulness Guides</a:t>
            </a: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62960" indent="-46296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3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getsomeheadspace.com/Tools/Take10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6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62960" indent="-46296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36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sf-act.com/docs/resources_harris.pd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6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62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2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2-02-13T11:09:03Z</dcterms:modified>
  <cp:revision>7</cp:revision>
  <dc:subject/>
  <dc:title>  Management development programme</dc:title>
</cp:coreProperties>
</file>