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17F6C-E1D0-45CB-9DC3-05D6478CC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636200" y="304920"/>
            <a:ext cx="11084040" cy="207936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b">
            <a:noAutofit/>
          </a:bodyPr>
          <a:p>
            <a:pPr indent="0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63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682280" y="2870280"/>
            <a:ext cx="11053800" cy="279108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682280" y="5927040"/>
            <a:ext cx="11053800" cy="279108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8D12B-1997-4FDE-B661-93603507E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36200" y="304920"/>
            <a:ext cx="11084040" cy="207936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b">
            <a:noAutofit/>
          </a:bodyPr>
          <a:p>
            <a:pPr indent="0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63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82280" y="2870280"/>
            <a:ext cx="5394240" cy="279108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7346520" y="2870280"/>
            <a:ext cx="5394240" cy="279108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682280" y="5927040"/>
            <a:ext cx="5394240" cy="279108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7346520" y="5927040"/>
            <a:ext cx="5394240" cy="279108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F662B-1CEF-43D9-9302-11C5B715B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636200" y="304920"/>
            <a:ext cx="11084040" cy="207936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b">
            <a:noAutofit/>
          </a:bodyPr>
          <a:p>
            <a:pPr indent="0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63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682280" y="2870280"/>
            <a:ext cx="3558960" cy="279108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419440" y="2870280"/>
            <a:ext cx="3558960" cy="279108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56960" y="2870280"/>
            <a:ext cx="3558960" cy="279108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682280" y="5927040"/>
            <a:ext cx="3558960" cy="279108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5419440" y="5927040"/>
            <a:ext cx="3558960" cy="279108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9156960" y="5927040"/>
            <a:ext cx="3558960" cy="279108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7EECF-02B2-4144-A32B-7EE2B6B48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E0935-2000-45F1-B2E3-D098A45ED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636200" y="304920"/>
            <a:ext cx="11084040" cy="207936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b">
            <a:noAutofit/>
          </a:bodyPr>
          <a:p>
            <a:pPr indent="0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63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682280" y="2870280"/>
            <a:ext cx="11053800" cy="58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51"/>
              </a:spcBef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96E6E-C641-49B5-BEEF-0875184F4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36200" y="304920"/>
            <a:ext cx="11084040" cy="207936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b">
            <a:noAutofit/>
          </a:bodyPr>
          <a:p>
            <a:pPr indent="0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63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682280" y="2870280"/>
            <a:ext cx="11053800" cy="5851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158AB-7685-403D-9295-637E7FF67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636200" y="304920"/>
            <a:ext cx="11084040" cy="207936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b">
            <a:noAutofit/>
          </a:bodyPr>
          <a:p>
            <a:pPr indent="0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63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682280" y="2870280"/>
            <a:ext cx="5394240" cy="5851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7346520" y="2870280"/>
            <a:ext cx="5394240" cy="5851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4FF4D-4BEC-40DF-90AA-A10D4BBBE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36200" y="304920"/>
            <a:ext cx="11084040" cy="207936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b">
            <a:noAutofit/>
          </a:bodyPr>
          <a:p>
            <a:pPr indent="0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63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65A43-B955-433C-A121-74F9478CE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636200" y="304920"/>
            <a:ext cx="11084040" cy="96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51"/>
              </a:spcBef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57895-028E-4546-A47F-90B9ECD81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36200" y="304920"/>
            <a:ext cx="11084040" cy="207936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b">
            <a:noAutofit/>
          </a:bodyPr>
          <a:p>
            <a:pPr indent="0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63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682280" y="2870280"/>
            <a:ext cx="5394240" cy="279108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7346520" y="2870280"/>
            <a:ext cx="5394240" cy="5851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682280" y="5927040"/>
            <a:ext cx="5394240" cy="279108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431F3-0147-483C-A066-69EF05C6E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636200" y="304920"/>
            <a:ext cx="11084040" cy="207936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b">
            <a:noAutofit/>
          </a:bodyPr>
          <a:p>
            <a:pPr indent="0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63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682280" y="2870280"/>
            <a:ext cx="11053800" cy="58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51"/>
              </a:spcBef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804C4-036F-4D23-9CA4-5774A036C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636200" y="304920"/>
            <a:ext cx="11084040" cy="207936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b">
            <a:noAutofit/>
          </a:bodyPr>
          <a:p>
            <a:pPr indent="0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63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682280" y="2870280"/>
            <a:ext cx="5394240" cy="5851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7346520" y="2870280"/>
            <a:ext cx="5394240" cy="279108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346520" y="5927040"/>
            <a:ext cx="5394240" cy="279108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ECCB8-0ACD-40F7-AB96-93B149AFD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636200" y="304920"/>
            <a:ext cx="11084040" cy="207936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b">
            <a:noAutofit/>
          </a:bodyPr>
          <a:p>
            <a:pPr indent="0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63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682280" y="2870280"/>
            <a:ext cx="5394240" cy="279108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7346520" y="2870280"/>
            <a:ext cx="5394240" cy="279108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682280" y="5927040"/>
            <a:ext cx="11053800" cy="279108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41694-2082-4323-B487-94BED642E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636200" y="304920"/>
            <a:ext cx="11084040" cy="207936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b">
            <a:noAutofit/>
          </a:bodyPr>
          <a:p>
            <a:pPr indent="0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63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682280" y="2870280"/>
            <a:ext cx="11053800" cy="279108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682280" y="5927040"/>
            <a:ext cx="11053800" cy="279108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47EE2-5B7C-4016-B276-26B2D0146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636200" y="304920"/>
            <a:ext cx="11084040" cy="207936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b">
            <a:noAutofit/>
          </a:bodyPr>
          <a:p>
            <a:pPr indent="0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63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682280" y="2870280"/>
            <a:ext cx="5394240" cy="279108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7346520" y="2870280"/>
            <a:ext cx="5394240" cy="279108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682280" y="5927040"/>
            <a:ext cx="5394240" cy="279108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7346520" y="5927040"/>
            <a:ext cx="5394240" cy="279108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A574C-34A5-4D18-9C56-435293086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36200" y="304920"/>
            <a:ext cx="11084040" cy="207936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b">
            <a:noAutofit/>
          </a:bodyPr>
          <a:p>
            <a:pPr indent="0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63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682280" y="2870280"/>
            <a:ext cx="3558960" cy="279108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419440" y="2870280"/>
            <a:ext cx="3558960" cy="279108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56960" y="2870280"/>
            <a:ext cx="3558960" cy="279108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682280" y="5927040"/>
            <a:ext cx="3558960" cy="279108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5419440" y="5927040"/>
            <a:ext cx="3558960" cy="279108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9156960" y="5927040"/>
            <a:ext cx="3558960" cy="279108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15508-3CDB-4C07-9375-187101E7C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B57D36-FC8D-403B-A663-CE984788F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636200" y="304920"/>
            <a:ext cx="11084040" cy="207936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b">
            <a:noAutofit/>
          </a:bodyPr>
          <a:p>
            <a:pPr indent="0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63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682280" y="2870280"/>
            <a:ext cx="11053800" cy="58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51"/>
              </a:spcBef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9FE08B-D12C-43D2-A124-91282A6D5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36200" y="304920"/>
            <a:ext cx="11084040" cy="207936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b">
            <a:noAutofit/>
          </a:bodyPr>
          <a:p>
            <a:pPr indent="0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63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682280" y="2870280"/>
            <a:ext cx="11053800" cy="5851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4595FD-12E5-47D1-98F5-440809E94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36200" y="304920"/>
            <a:ext cx="11084040" cy="207936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b">
            <a:noAutofit/>
          </a:bodyPr>
          <a:p>
            <a:pPr indent="0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63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682280" y="2870280"/>
            <a:ext cx="5394240" cy="5851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7346520" y="2870280"/>
            <a:ext cx="5394240" cy="5851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D44149-EFC1-48AD-9784-31F425EB4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636200" y="304920"/>
            <a:ext cx="11084040" cy="207936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b">
            <a:noAutofit/>
          </a:bodyPr>
          <a:p>
            <a:pPr indent="0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63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971E55-AB0D-49BD-95BD-57B6C067A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36200" y="304920"/>
            <a:ext cx="11084040" cy="207936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b">
            <a:noAutofit/>
          </a:bodyPr>
          <a:p>
            <a:pPr indent="0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63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682280" y="2870280"/>
            <a:ext cx="11053800" cy="5851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5D506-7E43-405A-81DF-891943E4D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636200" y="304920"/>
            <a:ext cx="11084040" cy="96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51"/>
              </a:spcBef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6C35F4-1C4A-451F-8759-72D9EA3E8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636200" y="304920"/>
            <a:ext cx="11084040" cy="207936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b">
            <a:noAutofit/>
          </a:bodyPr>
          <a:p>
            <a:pPr indent="0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63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682280" y="2870280"/>
            <a:ext cx="5394240" cy="279108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7346520" y="2870280"/>
            <a:ext cx="5394240" cy="5851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682280" y="5927040"/>
            <a:ext cx="5394240" cy="279108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C55686-C447-4BE8-990B-5BA2DF461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636200" y="304920"/>
            <a:ext cx="11084040" cy="207936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b">
            <a:noAutofit/>
          </a:bodyPr>
          <a:p>
            <a:pPr indent="0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63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682280" y="2870280"/>
            <a:ext cx="5394240" cy="5851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7346520" y="2870280"/>
            <a:ext cx="5394240" cy="279108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7346520" y="5927040"/>
            <a:ext cx="5394240" cy="279108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764070-DD9A-4D39-9F04-12010C1FA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636200" y="304920"/>
            <a:ext cx="11084040" cy="207936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b">
            <a:noAutofit/>
          </a:bodyPr>
          <a:p>
            <a:pPr indent="0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63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682280" y="2870280"/>
            <a:ext cx="5394240" cy="279108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7346520" y="2870280"/>
            <a:ext cx="5394240" cy="279108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682280" y="5927040"/>
            <a:ext cx="11053800" cy="279108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893399-9AAF-4561-A277-13D6707A3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636200" y="304920"/>
            <a:ext cx="11084040" cy="207936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b">
            <a:noAutofit/>
          </a:bodyPr>
          <a:p>
            <a:pPr indent="0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63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682280" y="2870280"/>
            <a:ext cx="11053800" cy="279108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1682280" y="5927040"/>
            <a:ext cx="11053800" cy="279108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A9C745-527A-4DCD-8E0A-0D981A0E2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636200" y="304920"/>
            <a:ext cx="11084040" cy="207936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b">
            <a:noAutofit/>
          </a:bodyPr>
          <a:p>
            <a:pPr indent="0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63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682280" y="2870280"/>
            <a:ext cx="5394240" cy="279108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7346520" y="2870280"/>
            <a:ext cx="5394240" cy="279108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682280" y="5927040"/>
            <a:ext cx="5394240" cy="279108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7346520" y="5927040"/>
            <a:ext cx="5394240" cy="279108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1683CE-85AB-4442-ABDD-CA0680420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36200" y="304920"/>
            <a:ext cx="11084040" cy="207936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b">
            <a:noAutofit/>
          </a:bodyPr>
          <a:p>
            <a:pPr indent="0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63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682280" y="2870280"/>
            <a:ext cx="3558960" cy="279108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419440" y="2870280"/>
            <a:ext cx="3558960" cy="279108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56960" y="2870280"/>
            <a:ext cx="3558960" cy="279108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1682280" y="5927040"/>
            <a:ext cx="3558960" cy="279108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5419440" y="5927040"/>
            <a:ext cx="3558960" cy="279108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9156960" y="5927040"/>
            <a:ext cx="3558960" cy="279108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EC4B99-8E9A-4BD0-B028-7C8E5D25E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77B43A-329F-4595-B69B-3411EFD23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636200" y="304920"/>
            <a:ext cx="11084040" cy="207936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b">
            <a:noAutofit/>
          </a:bodyPr>
          <a:p>
            <a:pPr indent="0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63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1682280" y="2870280"/>
            <a:ext cx="11053800" cy="58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51"/>
              </a:spcBef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A0AD38-E7D2-4B2A-81D6-34BBB157E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636200" y="304920"/>
            <a:ext cx="11084040" cy="207936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b">
            <a:noAutofit/>
          </a:bodyPr>
          <a:p>
            <a:pPr indent="0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63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682280" y="2870280"/>
            <a:ext cx="11053800" cy="5851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FAC8D8-6278-4B48-AF9A-C20E0D032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36200" y="304920"/>
            <a:ext cx="11084040" cy="207936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b">
            <a:noAutofit/>
          </a:bodyPr>
          <a:p>
            <a:pPr indent="0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63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682280" y="2870280"/>
            <a:ext cx="5394240" cy="5851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7346520" y="2870280"/>
            <a:ext cx="5394240" cy="5851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49A4C-E40B-4E73-A6D9-5146C54E6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636200" y="304920"/>
            <a:ext cx="11084040" cy="207936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b">
            <a:noAutofit/>
          </a:bodyPr>
          <a:p>
            <a:pPr indent="0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63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682280" y="2870280"/>
            <a:ext cx="5394240" cy="5851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7346520" y="2870280"/>
            <a:ext cx="5394240" cy="5851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56DE41-CE0F-4672-8E96-E2D3E9DBF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36200" y="304920"/>
            <a:ext cx="11084040" cy="207936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b">
            <a:noAutofit/>
          </a:bodyPr>
          <a:p>
            <a:pPr indent="0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63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DA4DB8-8B4D-4F49-A08B-EC7CA5419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1636200" y="304920"/>
            <a:ext cx="11084040" cy="96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51"/>
              </a:spcBef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5E2E85-61F4-40E5-A62C-F4F57578B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636200" y="304920"/>
            <a:ext cx="11084040" cy="207936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b">
            <a:noAutofit/>
          </a:bodyPr>
          <a:p>
            <a:pPr indent="0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63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682280" y="2870280"/>
            <a:ext cx="5394240" cy="279108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7346520" y="2870280"/>
            <a:ext cx="5394240" cy="5851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682280" y="5927040"/>
            <a:ext cx="5394240" cy="279108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89593D-A578-4F9C-91F7-573AF3937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36200" y="304920"/>
            <a:ext cx="11084040" cy="207936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b">
            <a:noAutofit/>
          </a:bodyPr>
          <a:p>
            <a:pPr indent="0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63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682280" y="2870280"/>
            <a:ext cx="5394240" cy="5851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7346520" y="2870280"/>
            <a:ext cx="5394240" cy="279108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7346520" y="5927040"/>
            <a:ext cx="5394240" cy="279108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905F7A-6D0A-4D08-9767-A0BA0A12A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636200" y="304920"/>
            <a:ext cx="11084040" cy="207936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b">
            <a:noAutofit/>
          </a:bodyPr>
          <a:p>
            <a:pPr indent="0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63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682280" y="2870280"/>
            <a:ext cx="5394240" cy="279108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7346520" y="2870280"/>
            <a:ext cx="5394240" cy="279108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1682280" y="5927040"/>
            <a:ext cx="11053800" cy="279108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3127DF-D952-4EBF-8D87-941171957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636200" y="304920"/>
            <a:ext cx="11084040" cy="207936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b">
            <a:noAutofit/>
          </a:bodyPr>
          <a:p>
            <a:pPr indent="0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63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682280" y="2870280"/>
            <a:ext cx="11053800" cy="279108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1682280" y="5927040"/>
            <a:ext cx="11053800" cy="279108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02E4B4-54C9-4F1E-B687-92F1BD08C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636200" y="304920"/>
            <a:ext cx="11084040" cy="207936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b">
            <a:noAutofit/>
          </a:bodyPr>
          <a:p>
            <a:pPr indent="0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63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682280" y="2870280"/>
            <a:ext cx="5394240" cy="279108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7346520" y="2870280"/>
            <a:ext cx="5394240" cy="279108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1682280" y="5927040"/>
            <a:ext cx="5394240" cy="279108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7346520" y="5927040"/>
            <a:ext cx="5394240" cy="279108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F1B0BE-84CA-465C-848D-BD06E34E4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636200" y="304920"/>
            <a:ext cx="11084040" cy="207936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b">
            <a:noAutofit/>
          </a:bodyPr>
          <a:p>
            <a:pPr indent="0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63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682280" y="2870280"/>
            <a:ext cx="3558960" cy="279108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5419440" y="2870280"/>
            <a:ext cx="3558960" cy="279108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9156960" y="2870280"/>
            <a:ext cx="3558960" cy="279108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1682280" y="5927040"/>
            <a:ext cx="3558960" cy="279108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5419440" y="5927040"/>
            <a:ext cx="3558960" cy="279108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9156960" y="5927040"/>
            <a:ext cx="3558960" cy="279108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726B55-0C39-4BD1-92A2-FC1150219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636200" y="304920"/>
            <a:ext cx="11084040" cy="207936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b">
            <a:noAutofit/>
          </a:bodyPr>
          <a:p>
            <a:pPr indent="0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63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9B91B-CBFB-4132-9A6F-CE03BABA1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636200" y="304920"/>
            <a:ext cx="11084040" cy="96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51"/>
              </a:spcBef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A03ED-EF83-4E9C-A7A9-138AF30B9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36200" y="304920"/>
            <a:ext cx="11084040" cy="207936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b">
            <a:noAutofit/>
          </a:bodyPr>
          <a:p>
            <a:pPr indent="0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63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682280" y="2870280"/>
            <a:ext cx="5394240" cy="279108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7346520" y="2870280"/>
            <a:ext cx="5394240" cy="5851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682280" y="5927040"/>
            <a:ext cx="5394240" cy="279108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DA0F0-7CC2-4CCE-84F9-3F5E27BCB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636200" y="304920"/>
            <a:ext cx="11084040" cy="207936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b">
            <a:noAutofit/>
          </a:bodyPr>
          <a:p>
            <a:pPr indent="0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63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682280" y="2870280"/>
            <a:ext cx="5394240" cy="5851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7346520" y="2870280"/>
            <a:ext cx="5394240" cy="279108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7346520" y="5927040"/>
            <a:ext cx="5394240" cy="279108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368BC-E7F4-415D-8EED-41B938BDE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36200" y="304920"/>
            <a:ext cx="11084040" cy="207936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b">
            <a:noAutofit/>
          </a:bodyPr>
          <a:p>
            <a:pPr indent="0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63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682280" y="2870280"/>
            <a:ext cx="5394240" cy="279108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7346520" y="2870280"/>
            <a:ext cx="5394240" cy="279108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682280" y="5927040"/>
            <a:ext cx="11053800" cy="279108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CE502-36EA-4DA7-9810-55CD9D7EA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"/>
          <p:cNvPicPr/>
          <p:nvPr/>
        </p:nvPicPr>
        <p:blipFill>
          <a:blip r:embed="rId2"/>
          <a:stretch/>
        </p:blipFill>
        <p:spPr>
          <a:xfrm>
            <a:off x="0" y="0"/>
            <a:ext cx="13006440" cy="97552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74520" y="866520"/>
            <a:ext cx="11055240" cy="16254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ctr">
            <a:noAutofit/>
          </a:bodyPr>
          <a:p>
            <a:pPr indent="0" algn="ctr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6300" spc="-1" strike="noStrike">
                <a:solidFill>
                  <a:srgbClr val="e3ebf1"/>
                </a:solidFill>
                <a:latin typeface="Times New Roman"/>
              </a:rPr>
              <a:t>Click to edit the title text format</a:t>
            </a:r>
            <a:endParaRPr b="0" lang="en-US" sz="63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74520" y="2817720"/>
            <a:ext cx="11055240" cy="5851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 fontScale="99000"/>
          </a:bodyPr>
          <a:p>
            <a:pPr marL="482400" indent="-482400">
              <a:spcBef>
                <a:spcPts val="1151"/>
              </a:spcBef>
              <a:buClr>
                <a:srgbClr val="ffffff"/>
              </a:buClr>
              <a:buFont typeface="Times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4600" spc="-1" strike="noStrike">
              <a:solidFill>
                <a:srgbClr val="ffffff"/>
              </a:solidFill>
              <a:latin typeface="Times New Roman"/>
            </a:endParaRPr>
          </a:p>
          <a:p>
            <a:pPr lvl="1" marL="1046520" indent="-402120">
              <a:spcBef>
                <a:spcPts val="1151"/>
              </a:spcBef>
              <a:buClr>
                <a:srgbClr val="ffffff"/>
              </a:buClr>
              <a:buFont typeface="Times"/>
              <a:buChar char="–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4600" spc="-1" strike="noStrike">
              <a:solidFill>
                <a:srgbClr val="ffffff"/>
              </a:solidFill>
              <a:latin typeface="Times New Roman"/>
            </a:endParaRPr>
          </a:p>
          <a:p>
            <a:pPr lvl="2" marL="1609200" indent="-321840">
              <a:spcBef>
                <a:spcPts val="1151"/>
              </a:spcBef>
              <a:buClr>
                <a:srgbClr val="ffffff"/>
              </a:buClr>
              <a:buFont typeface="Times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4600" spc="-1" strike="noStrike">
              <a:solidFill>
                <a:srgbClr val="ffffff"/>
              </a:solidFill>
              <a:latin typeface="Times New Roman"/>
            </a:endParaRPr>
          </a:p>
          <a:p>
            <a:pPr lvl="3" marL="2253600" indent="-321840">
              <a:spcBef>
                <a:spcPts val="1151"/>
              </a:spcBef>
              <a:buClr>
                <a:srgbClr val="ffffff"/>
              </a:buClr>
              <a:buFont typeface="Times"/>
              <a:buChar char="–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4600" spc="-1" strike="noStrike">
              <a:solidFill>
                <a:srgbClr val="ffffff"/>
              </a:solidFill>
              <a:latin typeface="Times New Roman"/>
            </a:endParaRPr>
          </a:p>
          <a:p>
            <a:pPr lvl="4" marL="2896200" indent="-321840">
              <a:spcBef>
                <a:spcPts val="1151"/>
              </a:spcBef>
              <a:buClr>
                <a:srgbClr val="ffffff"/>
              </a:buClr>
              <a:buFont typeface="Times"/>
              <a:buChar char="»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4600" spc="-1" strike="noStrike">
              <a:solidFill>
                <a:srgbClr val="ffffff"/>
              </a:solidFill>
              <a:latin typeface="Times New Roman"/>
            </a:endParaRPr>
          </a:p>
          <a:p>
            <a:pPr lvl="5" marL="2896200" indent="-321840">
              <a:spcBef>
                <a:spcPts val="1151"/>
              </a:spcBef>
              <a:buClr>
                <a:srgbClr val="ffffff"/>
              </a:buClr>
              <a:buFont typeface="Times"/>
              <a:buChar char="»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4600" spc="-1" strike="noStrike">
              <a:solidFill>
                <a:srgbClr val="ffffff"/>
              </a:solidFill>
              <a:latin typeface="Times New Roman"/>
            </a:endParaRPr>
          </a:p>
          <a:p>
            <a:pPr lvl="6" marL="2896200" indent="-321840">
              <a:spcBef>
                <a:spcPts val="1151"/>
              </a:spcBef>
              <a:buClr>
                <a:srgbClr val="ffffff"/>
              </a:buClr>
              <a:buFont typeface="Times"/>
              <a:buChar char="»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4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74520" y="8886600"/>
            <a:ext cx="2709720" cy="64908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4443120" y="8886600"/>
            <a:ext cx="4118040" cy="64908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9320040" y="8886600"/>
            <a:ext cx="2710080" cy="64908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  <a:defRPr b="0" lang="en-US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fld id="{95C73D44-4F3A-4AB0-8FC2-21FB6FEF8B41}" type="slidenum"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"/>
          <p:cNvPicPr/>
          <p:nvPr/>
        </p:nvPicPr>
        <p:blipFill>
          <a:blip r:embed="rId2"/>
          <a:stretch/>
        </p:blipFill>
        <p:spPr>
          <a:xfrm>
            <a:off x="0" y="0"/>
            <a:ext cx="13006440" cy="975528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74520" y="866520"/>
            <a:ext cx="11055240" cy="16254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ctr">
            <a:noAutofit/>
          </a:bodyPr>
          <a:p>
            <a:pPr indent="0" algn="ctr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6300" spc="-1" strike="noStrike">
                <a:solidFill>
                  <a:srgbClr val="e3ebf1"/>
                </a:solidFill>
                <a:latin typeface="Times New Roman"/>
              </a:rPr>
              <a:t>Click to edit the title text format</a:t>
            </a:r>
            <a:endParaRPr b="0" lang="en-US" sz="63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974520" y="2817720"/>
            <a:ext cx="11055240" cy="5851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 fontScale="99000"/>
          </a:bodyPr>
          <a:p>
            <a:pPr marL="482400" indent="-482400">
              <a:spcBef>
                <a:spcPts val="1151"/>
              </a:spcBef>
              <a:buClr>
                <a:srgbClr val="ffffff"/>
              </a:buClr>
              <a:buFont typeface="Times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4600" spc="-1" strike="noStrike">
              <a:solidFill>
                <a:srgbClr val="ffffff"/>
              </a:solidFill>
              <a:latin typeface="Times New Roman"/>
            </a:endParaRPr>
          </a:p>
          <a:p>
            <a:pPr lvl="1" marL="1046520" indent="-402120">
              <a:spcBef>
                <a:spcPts val="1151"/>
              </a:spcBef>
              <a:buClr>
                <a:srgbClr val="ffffff"/>
              </a:buClr>
              <a:buFont typeface="Times"/>
              <a:buChar char="–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4600" spc="-1" strike="noStrike">
              <a:solidFill>
                <a:srgbClr val="ffffff"/>
              </a:solidFill>
              <a:latin typeface="Times New Roman"/>
            </a:endParaRPr>
          </a:p>
          <a:p>
            <a:pPr lvl="2" marL="1609200" indent="-321840">
              <a:spcBef>
                <a:spcPts val="1151"/>
              </a:spcBef>
              <a:buClr>
                <a:srgbClr val="ffffff"/>
              </a:buClr>
              <a:buFont typeface="Times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4600" spc="-1" strike="noStrike">
              <a:solidFill>
                <a:srgbClr val="ffffff"/>
              </a:solidFill>
              <a:latin typeface="Times New Roman"/>
            </a:endParaRPr>
          </a:p>
          <a:p>
            <a:pPr lvl="3" marL="2253600" indent="-321840">
              <a:spcBef>
                <a:spcPts val="1151"/>
              </a:spcBef>
              <a:buClr>
                <a:srgbClr val="ffffff"/>
              </a:buClr>
              <a:buFont typeface="Times"/>
              <a:buChar char="–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4600" spc="-1" strike="noStrike">
              <a:solidFill>
                <a:srgbClr val="ffffff"/>
              </a:solidFill>
              <a:latin typeface="Times New Roman"/>
            </a:endParaRPr>
          </a:p>
          <a:p>
            <a:pPr lvl="4" marL="2896200" indent="-321840">
              <a:spcBef>
                <a:spcPts val="1151"/>
              </a:spcBef>
              <a:buClr>
                <a:srgbClr val="ffffff"/>
              </a:buClr>
              <a:buFont typeface="Times"/>
              <a:buChar char="»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4600" spc="-1" strike="noStrike">
              <a:solidFill>
                <a:srgbClr val="ffffff"/>
              </a:solidFill>
              <a:latin typeface="Times New Roman"/>
            </a:endParaRPr>
          </a:p>
          <a:p>
            <a:pPr lvl="5" marL="2896200" indent="-321840">
              <a:spcBef>
                <a:spcPts val="1151"/>
              </a:spcBef>
              <a:buClr>
                <a:srgbClr val="ffffff"/>
              </a:buClr>
              <a:buFont typeface="Times"/>
              <a:buChar char="»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4600" spc="-1" strike="noStrike">
              <a:solidFill>
                <a:srgbClr val="ffffff"/>
              </a:solidFill>
              <a:latin typeface="Times New Roman"/>
            </a:endParaRPr>
          </a:p>
          <a:p>
            <a:pPr lvl="6" marL="2896200" indent="-321840">
              <a:spcBef>
                <a:spcPts val="1151"/>
              </a:spcBef>
              <a:buClr>
                <a:srgbClr val="ffffff"/>
              </a:buClr>
              <a:buFont typeface="Times"/>
              <a:buChar char="»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4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74520" y="8886600"/>
            <a:ext cx="2709720" cy="64908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4443120" y="8886600"/>
            <a:ext cx="4118040" cy="64908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9320040" y="8886600"/>
            <a:ext cx="2710080" cy="64908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  <a:defRPr b="0" lang="en-US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fld id="{707402B2-2206-4775-9650-2E25AB6CE2F5}" type="slidenum"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93640" y="1562040"/>
            <a:ext cx="623880" cy="6746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9960" rIns="129960" tIns="65160" bIns="65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85" name=""/>
          <p:cNvSpPr/>
          <p:nvPr/>
        </p:nvSpPr>
        <p:spPr>
          <a:xfrm>
            <a:off x="1138320" y="1562040"/>
            <a:ext cx="466560" cy="674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9960" rIns="129960" tIns="65160" bIns="65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86" name=""/>
          <p:cNvSpPr/>
          <p:nvPr/>
        </p:nvSpPr>
        <p:spPr>
          <a:xfrm>
            <a:off x="770040" y="2162160"/>
            <a:ext cx="600120" cy="6764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9960" rIns="129960" tIns="65160" bIns="65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87" name=""/>
          <p:cNvSpPr/>
          <p:nvPr/>
        </p:nvSpPr>
        <p:spPr>
          <a:xfrm>
            <a:off x="1295280" y="2162160"/>
            <a:ext cx="524160" cy="676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9960" rIns="129960" tIns="65160" bIns="65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88" name=""/>
          <p:cNvSpPr/>
          <p:nvPr/>
        </p:nvSpPr>
        <p:spPr>
          <a:xfrm>
            <a:off x="181080" y="2058840"/>
            <a:ext cx="796680" cy="60012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9960" rIns="129960" tIns="65160" bIns="65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89" name=""/>
          <p:cNvSpPr/>
          <p:nvPr/>
        </p:nvSpPr>
        <p:spPr>
          <a:xfrm>
            <a:off x="1084320" y="1407960"/>
            <a:ext cx="44280" cy="14972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9960" rIns="129960" tIns="65160" bIns="65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90" name=""/>
          <p:cNvSpPr/>
          <p:nvPr/>
        </p:nvSpPr>
        <p:spPr>
          <a:xfrm>
            <a:off x="630360" y="2533680"/>
            <a:ext cx="11699640" cy="44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9960" rIns="129960" tIns="-20880" bIns="-20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36200" y="304920"/>
            <a:ext cx="11084040" cy="207936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b">
            <a:noAutofit/>
          </a:bodyPr>
          <a:p>
            <a:pPr indent="0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63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63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1682280" y="2870280"/>
            <a:ext cx="11053800" cy="5851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 fontScale="99000"/>
          </a:bodyPr>
          <a:p>
            <a:pPr marL="482400" indent="-482400">
              <a:spcBef>
                <a:spcPts val="11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4600" spc="-1" strike="noStrike">
              <a:solidFill>
                <a:srgbClr val="000000"/>
              </a:solidFill>
              <a:latin typeface="Tahoma"/>
            </a:endParaRPr>
          </a:p>
          <a:p>
            <a:pPr lvl="1" marL="1046520" indent="-402120">
              <a:spcBef>
                <a:spcPts val="11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4600" spc="-1" strike="noStrike">
              <a:solidFill>
                <a:srgbClr val="000000"/>
              </a:solidFill>
              <a:latin typeface="Tahoma"/>
            </a:endParaRPr>
          </a:p>
          <a:p>
            <a:pPr lvl="2" marL="1609200" indent="-321840">
              <a:spcBef>
                <a:spcPts val="11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4600" spc="-1" strike="noStrike">
              <a:solidFill>
                <a:srgbClr val="000000"/>
              </a:solidFill>
              <a:latin typeface="Tahoma"/>
            </a:endParaRPr>
          </a:p>
          <a:p>
            <a:pPr lvl="3" marL="2253600" indent="-321840">
              <a:spcBef>
                <a:spcPts val="11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4600" spc="-1" strike="noStrike">
              <a:solidFill>
                <a:srgbClr val="000000"/>
              </a:solidFill>
              <a:latin typeface="Tahoma"/>
            </a:endParaRPr>
          </a:p>
          <a:p>
            <a:pPr lvl="4" marL="2896200" indent="-321840">
              <a:spcBef>
                <a:spcPts val="1151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4600" spc="-1" strike="noStrike">
              <a:solidFill>
                <a:srgbClr val="000000"/>
              </a:solidFill>
              <a:latin typeface="Tahoma"/>
            </a:endParaRPr>
          </a:p>
          <a:p>
            <a:pPr lvl="5" marL="2896200" indent="-321840">
              <a:spcBef>
                <a:spcPts val="115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4600" spc="-1" strike="noStrike">
              <a:solidFill>
                <a:srgbClr val="000000"/>
              </a:solidFill>
              <a:latin typeface="Tahoma"/>
            </a:endParaRPr>
          </a:p>
          <a:p>
            <a:pPr lvl="6" marL="2896200" indent="-321840">
              <a:spcBef>
                <a:spcPts val="115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4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1652400" y="8880480"/>
            <a:ext cx="2709720" cy="649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  <a:defRPr b="0" lang="en-US" sz="2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fld id="{84A971CB-5CA0-43D1-880C-52EA17C734FB}" type="datetime">
              <a:rPr b="0" lang="en-US" sz="2000" spc="-1" strike="noStrike">
                <a:solidFill>
                  <a:srgbClr val="000000"/>
                </a:solidFill>
                <a:latin typeface="Tahoma"/>
              </a:rPr>
              <a:t>07/29/26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5202360" y="8880480"/>
            <a:ext cx="4117680" cy="649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  <a:defRPr b="0" lang="en-US" sz="2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10015200" y="8880480"/>
            <a:ext cx="2709720" cy="649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  <a:defRPr b="0" lang="en-US" sz="2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fld id="{8216DAEA-2A4C-41A8-A6C3-5D0C65938D16}" type="slidenum">
              <a:rPr b="0" lang="en-US" sz="2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"/>
          <p:cNvGrpSpPr/>
          <p:nvPr/>
        </p:nvGrpSpPr>
        <p:grpSpPr>
          <a:xfrm>
            <a:off x="0" y="3468600"/>
            <a:ext cx="12812040" cy="1495080"/>
            <a:chOff x="0" y="3468600"/>
            <a:chExt cx="12812040" cy="1495080"/>
          </a:xfrm>
        </p:grpSpPr>
        <p:grpSp>
          <p:nvGrpSpPr>
            <p:cNvPr id="133" name=""/>
            <p:cNvGrpSpPr/>
            <p:nvPr/>
          </p:nvGrpSpPr>
          <p:grpSpPr>
            <a:xfrm>
              <a:off x="412920" y="3621960"/>
              <a:ext cx="1011240" cy="674280"/>
              <a:chOff x="412920" y="3621960"/>
              <a:chExt cx="1011240" cy="674280"/>
            </a:xfrm>
          </p:grpSpPr>
          <p:sp>
            <p:nvSpPr>
              <p:cNvPr id="134" name=""/>
              <p:cNvSpPr/>
              <p:nvPr/>
            </p:nvSpPr>
            <p:spPr>
              <a:xfrm>
                <a:off x="412920" y="3621960"/>
                <a:ext cx="622080" cy="67428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584280"/>
                    <a:tab algn="l" pos="1168560"/>
                    <a:tab algn="l" pos="1752480"/>
                    <a:tab algn="l" pos="2336760"/>
                    <a:tab algn="l" pos="2921040"/>
                    <a:tab algn="l" pos="3505320"/>
                    <a:tab algn="l" pos="4089240"/>
                    <a:tab algn="l" pos="4673520"/>
                    <a:tab algn="l" pos="5257800"/>
                    <a:tab algn="l" pos="5842080"/>
                    <a:tab algn="l" pos="6426360"/>
                    <a:tab algn="l" pos="7010280"/>
                    <a:tab algn="l" pos="7594560"/>
                    <a:tab algn="l" pos="8178840"/>
                    <a:tab algn="l" pos="8763120"/>
                    <a:tab algn="l" pos="9347040"/>
                    <a:tab algn="l" pos="9931320"/>
                    <a:tab algn="l" pos="105156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Helvetica Light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957600" y="3621960"/>
                <a:ext cx="466560" cy="6742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584280"/>
                    <a:tab algn="l" pos="1168560"/>
                    <a:tab algn="l" pos="1752480"/>
                    <a:tab algn="l" pos="2336760"/>
                    <a:tab algn="l" pos="2921040"/>
                    <a:tab algn="l" pos="3505320"/>
                    <a:tab algn="l" pos="4089240"/>
                    <a:tab algn="l" pos="4673520"/>
                    <a:tab algn="l" pos="5257800"/>
                    <a:tab algn="l" pos="5842080"/>
                    <a:tab algn="l" pos="6426360"/>
                    <a:tab algn="l" pos="7010280"/>
                    <a:tab algn="l" pos="7594560"/>
                    <a:tab algn="l" pos="8178840"/>
                    <a:tab algn="l" pos="8763120"/>
                    <a:tab algn="l" pos="9347040"/>
                    <a:tab algn="l" pos="9931320"/>
                    <a:tab algn="l" pos="105156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Helvetica Light"/>
                </a:endParaRPr>
              </a:p>
            </p:txBody>
          </p:sp>
        </p:grpSp>
        <p:grpSp>
          <p:nvGrpSpPr>
            <p:cNvPr id="136" name=""/>
            <p:cNvGrpSpPr/>
            <p:nvPr/>
          </p:nvGrpSpPr>
          <p:grpSpPr>
            <a:xfrm>
              <a:off x="588960" y="4221720"/>
              <a:ext cx="1049400" cy="674280"/>
              <a:chOff x="588960" y="4221720"/>
              <a:chExt cx="1049400" cy="674280"/>
            </a:xfrm>
          </p:grpSpPr>
          <p:sp>
            <p:nvSpPr>
              <p:cNvPr id="137" name=""/>
              <p:cNvSpPr/>
              <p:nvPr/>
            </p:nvSpPr>
            <p:spPr>
              <a:xfrm>
                <a:off x="588960" y="4221720"/>
                <a:ext cx="599400" cy="67428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584280"/>
                    <a:tab algn="l" pos="1168560"/>
                    <a:tab algn="l" pos="1752480"/>
                    <a:tab algn="l" pos="2336760"/>
                    <a:tab algn="l" pos="2921040"/>
                    <a:tab algn="l" pos="3505320"/>
                    <a:tab algn="l" pos="4089240"/>
                    <a:tab algn="l" pos="4673520"/>
                    <a:tab algn="l" pos="5257800"/>
                    <a:tab algn="l" pos="5842080"/>
                    <a:tab algn="l" pos="6426360"/>
                    <a:tab algn="l" pos="7010280"/>
                    <a:tab algn="l" pos="7594560"/>
                    <a:tab algn="l" pos="8178840"/>
                    <a:tab algn="l" pos="8763120"/>
                    <a:tab algn="l" pos="9347040"/>
                    <a:tab algn="l" pos="9931320"/>
                    <a:tab algn="l" pos="105156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Helvetica Light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113480" y="4221720"/>
                <a:ext cx="524880" cy="6742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584280"/>
                    <a:tab algn="l" pos="1168560"/>
                    <a:tab algn="l" pos="1752480"/>
                    <a:tab algn="l" pos="2336760"/>
                    <a:tab algn="l" pos="2921040"/>
                    <a:tab algn="l" pos="3505320"/>
                    <a:tab algn="l" pos="4089240"/>
                    <a:tab algn="l" pos="4673520"/>
                    <a:tab algn="l" pos="5257800"/>
                    <a:tab algn="l" pos="5842080"/>
                    <a:tab algn="l" pos="6426360"/>
                    <a:tab algn="l" pos="7010280"/>
                    <a:tab algn="l" pos="7594560"/>
                    <a:tab algn="l" pos="8178840"/>
                    <a:tab algn="l" pos="8763120"/>
                    <a:tab algn="l" pos="9347040"/>
                    <a:tab algn="l" pos="9931320"/>
                    <a:tab algn="l" pos="105156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Helvetica Light"/>
                </a:endParaRPr>
              </a:p>
            </p:txBody>
          </p:sp>
        </p:grpSp>
        <p:sp>
          <p:nvSpPr>
            <p:cNvPr id="139" name=""/>
            <p:cNvSpPr/>
            <p:nvPr/>
          </p:nvSpPr>
          <p:spPr>
            <a:xfrm>
              <a:off x="0" y="4118040"/>
              <a:ext cx="797040" cy="59976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Helvetica Light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902880" y="3468600"/>
              <a:ext cx="45000" cy="149508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Helvetica Light"/>
              </a:endParaRPr>
            </a:p>
          </p:txBody>
        </p:sp>
        <p:sp>
          <p:nvSpPr>
            <p:cNvPr id="141" name=""/>
            <p:cNvSpPr/>
            <p:nvPr/>
          </p:nvSpPr>
          <p:spPr>
            <a:xfrm flipV="1">
              <a:off x="449280" y="4636440"/>
              <a:ext cx="12362760" cy="784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Helvetica Light"/>
              </a:endParaRPr>
            </a:p>
          </p:txBody>
        </p:sp>
      </p:grp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407960" y="2383920"/>
            <a:ext cx="11055600" cy="207972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b">
            <a:noAutofit/>
          </a:bodyPr>
          <a:p>
            <a:pPr indent="0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63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63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10"/>
          </p:nvPr>
        </p:nvSpPr>
        <p:spPr>
          <a:xfrm>
            <a:off x="1407960" y="8886600"/>
            <a:ext cx="2710080" cy="64908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  <a:defRPr b="0" lang="en-US" sz="20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fld id="{D67E5702-9FA3-48A1-BB41-A4813FE51126}" type="datetime">
              <a:rPr b="0" lang="en-US" sz="2000" spc="-1" strike="noStrike">
                <a:solidFill>
                  <a:srgbClr val="1c1c1c"/>
                </a:solidFill>
                <a:latin typeface="Tahoma"/>
              </a:rPr>
              <a:t>07/29/26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ftr" idx="11"/>
          </p:nvPr>
        </p:nvSpPr>
        <p:spPr>
          <a:xfrm>
            <a:off x="4876920" y="8886600"/>
            <a:ext cx="4117680" cy="64908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  <a:defRPr b="0" lang="en-US" sz="20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sldNum" idx="12"/>
          </p:nvPr>
        </p:nvSpPr>
        <p:spPr>
          <a:xfrm>
            <a:off x="9753480" y="8886600"/>
            <a:ext cx="2710080" cy="64908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  <a:defRPr b="0" lang="en-US" sz="20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fld id="{01A432D7-3D44-4DF0-9EBC-9EB6E384B740}" type="slidenum">
              <a:rPr b="0" lang="en-US" sz="20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getsomeheadspace.com/Tools/Take10" TargetMode="External"/><Relationship Id="rId2" Type="http://schemas.openxmlformats.org/officeDocument/2006/relationships/hyperlink" Target="http://sf-act.com/docs/resources_harris.pdf" TargetMode="External"/><Relationship Id="rId3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636200" y="304920"/>
            <a:ext cx="11084040" cy="207936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b">
            <a:noAutofit/>
          </a:bodyPr>
          <a:p>
            <a:pPr indent="0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1" lang="en-US" sz="6300" spc="-1" strike="noStrike" u="sng">
                <a:solidFill>
                  <a:srgbClr val="333399"/>
                </a:solidFill>
                <a:uFillTx/>
                <a:latin typeface="Tahoma"/>
              </a:rPr>
              <a:t>10 minute Mindfulness exercise</a:t>
            </a:r>
            <a:endParaRPr b="0" lang="en-US" sz="63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682280" y="2870280"/>
            <a:ext cx="11053800" cy="5851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marL="487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t quietly, set a gentle alarm for 5 – 20 minutes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87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87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 your ey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87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87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 deep breath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87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87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ody Scan for 1 min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87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bserve your breathing, note the rise and fall of your ch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87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87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unt 5 breaths, repe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87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ice your thoughts, try to let them go by refocusing on your breathing and counting mi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87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87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When the alarm goes, count 3 further sets of 5 breath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87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owly bring back awareness, stretch and open your ey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636200" y="304920"/>
            <a:ext cx="11084040" cy="207936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b">
            <a:noAutofit/>
          </a:bodyPr>
          <a:p>
            <a:pPr indent="0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1" lang="en-US" sz="6300" spc="-1" strike="noStrike" u="sng">
                <a:solidFill>
                  <a:srgbClr val="333399"/>
                </a:solidFill>
                <a:uFillTx/>
                <a:latin typeface="Tahoma"/>
              </a:rPr>
              <a:t>Stress Management Guide</a:t>
            </a:r>
            <a:endParaRPr b="0" lang="en-US" sz="63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682280" y="2870280"/>
            <a:ext cx="11053800" cy="5851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marL="487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actice Mindfulness at least once a d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87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87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87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87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n Brea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87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oid getting too tired or anxi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87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87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nitor Stress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87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87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Mindfulness to reduce arousal or recuperate if t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87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87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althy Liv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87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87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nk about diet, sleep, exerc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87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lance work, rest and p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636200" y="304920"/>
            <a:ext cx="11084040" cy="207936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b">
            <a:noAutofit/>
          </a:bodyPr>
          <a:p>
            <a:pPr indent="0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1" lang="en-US" sz="6300" spc="-1" strike="noStrike" u="sng">
                <a:solidFill>
                  <a:srgbClr val="333399"/>
                </a:solidFill>
                <a:uFillTx/>
                <a:latin typeface="Tahoma"/>
              </a:rPr>
              <a:t>Further Help</a:t>
            </a:r>
            <a:endParaRPr b="0" lang="en-US" sz="63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682280" y="2870280"/>
            <a:ext cx="11053800" cy="5851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 fontScale="95000"/>
          </a:bodyPr>
          <a:p>
            <a:pPr marL="4629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ahoma"/>
              </a:rPr>
              <a:t>LSE Student Counselling Service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4629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4629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ahoma"/>
              </a:rPr>
              <a:t>Teaching and Learning Centre – Study Advisers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4629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4629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ahoma"/>
              </a:rPr>
              <a:t>Mindfulness Guides</a:t>
            </a:r>
            <a:br>
              <a:rPr sz="4000"/>
            </a:b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462960" indent="-462960">
              <a:lnSpc>
                <a:spcPct val="9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GB" sz="36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getsomeheadspace.com/Tools/Take10</a:t>
            </a: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4629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462960" indent="-462960">
              <a:lnSpc>
                <a:spcPct val="9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GB" sz="36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sf-act.com/docs/resources_harris.pdf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4629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4629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4629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istrator</cp:lastModifiedBy>
  <dcterms:modified xsi:type="dcterms:W3CDTF">2012-02-13T11:09:03Z</dcterms:modified>
  <cp:revision>7</cp:revision>
  <dc:subject/>
  <dc:title>  Management development programme</dc:title>
</cp:coreProperties>
</file>