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6155-7F38-4E52-A9D8-D3736D3F8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EDF4-A83A-486C-A719-F53D4EFFE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8C5-80DA-4CE3-A79E-41FE91B2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C6D-55E7-44B2-9141-77381E04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B77-BABE-4478-AEB9-B1E5E278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419-C23C-4023-AEFD-04ED7E06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9B63-0609-42CA-9DBB-48A38407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4CB6-9D01-4E52-91FD-BCCCEC9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D5D3-F0F2-4CC0-BCAF-747DA2A6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C96F-93A3-4374-A30C-24F030D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BA9F-2BD9-4585-A4E2-43171805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A36-7022-45CC-9D49-98076B77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4F1F-5E70-41CF-B6C5-D4D793B5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396-D2B8-4D63-A130-6A88848C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9742-D621-4885-8215-35C8F563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70E-DB58-48D1-A302-E9A029C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903-4D49-4B8A-9A73-6C8DD93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D40-5D1B-481E-9FCF-0DC4CD47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CC00-E8A1-4EFF-B27E-EA0F9CD2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B99-5FE5-41D6-BF3C-29F2F94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D50-FA76-400B-A0E5-A929DFEF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947-F0B0-4E01-A8F7-BAD82F3E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762-6CF0-4436-9FDD-97365643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A07-BF64-46B2-97DD-4AAB34B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3D6-AC77-447C-820A-1160A1B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744-3B4F-47FD-A878-0D8CC67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DE1F-72C2-4C5F-A2D4-EAAB61C68B9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6DA3-DF9B-4C00-A61B-825BDA7F8AD1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585-F31D-428D-A6E7-B0BAC174676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6696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End of Term 2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Wednesday 16 March 20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Please note the workshop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the day may be delivered in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differ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066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67A6-B99F-4F58-B80B-80DE3057010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nitor perfectio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ognise you are likely to p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thodical, and allow time for breaks and space to breathe and th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4120" indent="-506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mind maps, scribble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4120" indent="-506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B9A8-3F7E-4DD2-BB68-4ED71A81F9E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crastination top tip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0 minute rule –at least make a sta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scheduling – SMART – specific, measurable, achievable, realistic, timetabled (by wh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e when you work b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actice imperfection – aim for 80% or even 6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ine looking back on this task in 3 months, 1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lk to others/ check out if your fears are reasonable – can help get a sense of persp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E2E3-EC4A-4157-8F3B-EFA6C32C7BF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erfectioni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can reduce achie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to be perfect can reduce your satisfaction and make you achieve far l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an undesirable illu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your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for 80% or even 6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oing an activity not just the end resul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outcome - what did you achie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d you enjoy the tas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178A-9705-4188-9E5C-8C17476DE5A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he family / historic context for your success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ahoma"/>
              </a:rPr>
              <a:t>Re-enacting anxiety, fear of failure …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8762-49BA-4309-A132-227F6F540C5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5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56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urse of stud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r tutor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2" name="Picture 19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AAC-4C3D-4092-8FB7-17A21D8DB56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5 minut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9840" y="1954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 top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ps for good r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sycholog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https://www.lse.ac.uk/intranet/staff/webSupport/images/imageBank/478/Library_Beanbags_6804.jpg"/>
          <p:cNvPicPr/>
          <p:nvPr/>
        </p:nvPicPr>
        <p:blipFill>
          <a:blip r:embed="rId1"/>
          <a:stretch/>
        </p:blipFill>
        <p:spPr>
          <a:xfrm>
            <a:off x="4211640" y="249228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A2C-F713-403F-B91E-A4DE6C67FF1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5" descr="j0422389"/>
          <p:cNvPicPr/>
          <p:nvPr/>
        </p:nvPicPr>
        <p:blipFill>
          <a:blip r:embed="rId1"/>
          <a:stretch/>
        </p:blipFill>
        <p:spPr>
          <a:xfrm>
            <a:off x="6080040" y="2017800"/>
            <a:ext cx="2354400" cy="349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41D8-4123-4A10-ADEA-E881152F55D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rly switch off with some kind of  physic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od self care – sleep, diet, caffeine,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ow yourself time out without g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knowledge anxiety, rather than denying i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r negative thoughts a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2665-C1F7-40CA-8CEE-EAB5206618A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pply ‘Socratic reasoning’ or imagine this being tested in a Court of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g, I am going to fail the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74FD-861E-432D-A22E-CB9740B626D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or nothing thi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I feel it then it must be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generaliz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9800" indent="-31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cause something bad happened in the past it is certain to happen ag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6" descr="https://www2.lse.ac.uk/intranet/staff/webSupport/images/imageBank/478/BLPES_199.JPG"/>
          <p:cNvPicPr/>
          <p:nvPr/>
        </p:nvPicPr>
        <p:blipFill>
          <a:blip r:embed="rId1"/>
          <a:stretch/>
        </p:blipFill>
        <p:spPr>
          <a:xfrm>
            <a:off x="5651640" y="1916280"/>
            <a:ext cx="2950920" cy="4438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49EB-732F-4ED4-BA89-58765F3011C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37000"/>
            <a:ext cx="5003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psychology/ Practical t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https://www.lse.ac.uk/intranet/staff/webSupport/images/imageBank/478/32_LIF_8058.JPG"/>
          <p:cNvPicPr/>
          <p:nvPr/>
        </p:nvPicPr>
        <p:blipFill>
          <a:blip r:embed="rId1"/>
          <a:stretch/>
        </p:blipFill>
        <p:spPr>
          <a:xfrm>
            <a:off x="4500720" y="263700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6CBB-CE20-43F4-AF65-3B20972F944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couns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ointments need to be booked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op in sessions – each day at 3.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s to self help resources on a wide range of student issues, including study – related and person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210B-2C94-456D-9247-141AFA86CC2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740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vision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https://www2.lse.ac.uk/intranet/staff/webSupport/images/imageBank/478/UGP_08_035.jpg"/>
          <p:cNvPicPr/>
          <p:nvPr/>
        </p:nvPicPr>
        <p:blipFill>
          <a:blip r:embed="rId1"/>
          <a:stretch/>
        </p:blipFill>
        <p:spPr>
          <a:xfrm>
            <a:off x="4427640" y="2565360"/>
            <a:ext cx="455292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F977-70B0-4CF3-83A5-17F8F2C43E2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st use of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ete and practise exam tas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duce answers to sh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can think (answer the ques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’ve done the reading (references / con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pertise (detailed knowledge, locate the debate e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0AE8-1A23-47A1-9CC0-A86032FDA25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vi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 many topics – 2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ok for repeated questions on same top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d links, key ideas – see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eto Principle – 20% gets 80% of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duce each week to a single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e down further as you get clo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w material if necessary and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nd work you enjoy – motivation is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3819-443E-4990-AFAB-49C8EE9EEB1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other – read each others essays, try the same questions and talk through the solutions (good end of day ta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sessions – examiner’s mindset, marking preference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ffice hours – take answers / plans rather than questions of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7657-B197-4ECC-B794-BB0379325A8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5 minutes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are your top revision tips?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vision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lanning last two mon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aging work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eping f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2" descr="https://www.lse.ac.uk/intranet/staff/webSupport/images/imageBank/478/Year_11_Summer_School_5320.JPG"/>
          <p:cNvPicPr/>
          <p:nvPr/>
        </p:nvPicPr>
        <p:blipFill>
          <a:blip r:embed="rId1"/>
          <a:stretch/>
        </p:blipFill>
        <p:spPr>
          <a:xfrm>
            <a:off x="6253200" y="1989000"/>
            <a:ext cx="265284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13F-DC86-4A3B-8A77-F2119DDD3FA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al t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5" descr="j0422183"/>
          <p:cNvPicPr/>
          <p:nvPr/>
        </p:nvPicPr>
        <p:blipFill>
          <a:blip r:embed="rId1"/>
          <a:stretch/>
        </p:blipFill>
        <p:spPr>
          <a:xfrm>
            <a:off x="5132520" y="2565360"/>
            <a:ext cx="381456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98C-B19A-430E-9A15-6C3E79F4457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ctical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me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an short term targets and longer term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alk to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centrate on the task, not the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Sandelson,A</cp:lastModifiedBy>
  <cp:lastPrinted>2015-03-18T10:39:53Z</cp:lastPrinted>
  <dcterms:modified xsi:type="dcterms:W3CDTF">2016-03-16T09:30:38Z</dcterms:modified>
  <cp:revision>81</cp:revision>
  <dc:subject/>
  <dc:title> </dc:title>
</cp:coreProperties>
</file>