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9F0A-C680-4946-B008-A9BB42C50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55A3-94D6-459A-81A9-298481109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451-8557-4618-867D-DC207BFE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F4A-0364-4BEB-876F-B3E766E7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714-E3E6-4490-927B-7B611FB3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4C7-3E6A-4870-B2B8-FA903321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CE9E-108B-4A1C-8685-994BD85F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F174-C9D5-494B-8204-EE44155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43FF-6250-4ECF-90B3-198E8FD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AC8-1700-4537-8E90-A3DB1D9D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C91F-D00F-4D2B-9DDF-576C0191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80E4-FD19-4914-9407-1B11B5D8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B983-92FB-4670-9DA2-5CAFC9B1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F40-8B92-4A49-8211-2C546DA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7411-E1CC-4ABB-8ADD-B5E4FB8B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3046-5966-48AA-8A58-2D98BA8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1011-68B0-49A0-A378-9C4FF82B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6616-F502-4C34-A163-7DC8F3C6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4611-9F9B-493C-946E-9F9081F9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E61-00E6-4259-9E32-BEFF6407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6B1-0FA7-4CD2-989A-CB1628B3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918-435E-4DF5-B132-62B75213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4CF-DD1A-445F-A7BF-71D94FF8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58B-BF0F-4384-AB7B-CEF19F1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631-D887-4FFB-A097-E41268AC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B41-A1DE-4437-A85B-D026EED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3A82-4C16-4848-9D82-CF4EE82BF86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4E78-FEA2-49F0-AF71-C7B3A3E03AA0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92B3-102E-46B4-9DD7-BBC315E7F96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6696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End of Term 2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Wednesday 16 March 20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Please note the workshop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the day may be delivered in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differ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066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77AD-344E-41C5-AA10-3249BE4E60B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nitor perfectio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ognise you are likely to p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methodical, and allow time for breaks and space to breathe and th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4120" indent="-506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mind maps, scribble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4120" indent="-506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78D5-C5E6-48C4-BC1D-4306E5B386A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crastination top tip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0 minute rule –at least make a sta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scheduling – SMART – specific, measurable, achievable, realistic, timetabled (by wh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tilise when you work b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actice imperfection – aim for 80% or even 6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gine looking back on this task in 3 months, 1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lk to others/ check out if your fears are reasonable – can help get a sense of persp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F35-7D99-4AC9-BA47-BDDFBCDB4A4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erfectioni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can reduce achie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be perfect can reduce your satisfaction and make you achieve far l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an undesirable illu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your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for 80% or even 6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oing an activity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outcome - what did you achie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d you enjoy the tas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9F2E-DEFF-42E5-BECF-8A54F850E76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he family / historic context for your success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Re-enacting anxiety, fear of failure …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679-8A7D-4F68-9A49-9F845DC86C4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5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56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urse of stud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r tutor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2" name="Picture 19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A991-BC58-4E7A-891B-BE2D2835693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5 minut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9840" y="1954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 top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ps for good r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sycholog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https://www.lse.ac.uk/intranet/staff/webSupport/images/imageBank/478/Library_Beanbags_6804.jpg"/>
          <p:cNvPicPr/>
          <p:nvPr/>
        </p:nvPicPr>
        <p:blipFill>
          <a:blip r:embed="rId1"/>
          <a:stretch/>
        </p:blipFill>
        <p:spPr>
          <a:xfrm>
            <a:off x="4211640" y="249228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33B0-F3DD-4DDF-9B35-8F243B7AAE8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5" descr="j0422389"/>
          <p:cNvPicPr/>
          <p:nvPr/>
        </p:nvPicPr>
        <p:blipFill>
          <a:blip r:embed="rId1"/>
          <a:stretch/>
        </p:blipFill>
        <p:spPr>
          <a:xfrm>
            <a:off x="6080040" y="2017800"/>
            <a:ext cx="2354400" cy="349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F8BB-2B7E-4BF8-BF83-17AB20F196A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rly switch off with some kind of  physic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od self care – sleep, diet, caffeine, alcoh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ow yourself time out without g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knowledge anxiety, rather than denying i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r negative thoughts a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5F78-A90D-4BA5-9306-439071A43E2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ly ‘Socratic reasoning’ or imagine this being tested in a Court of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I am going to fail the 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BCF6-67FD-4ECD-B9B8-4B55301658A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or nothing thi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I feel it then it must be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something bad happened in the past it is certain to happen ag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6" descr="https://www2.lse.ac.uk/intranet/staff/webSupport/images/imageBank/478/BLPES_199.JPG"/>
          <p:cNvPicPr/>
          <p:nvPr/>
        </p:nvPicPr>
        <p:blipFill>
          <a:blip r:embed="rId1"/>
          <a:stretch/>
        </p:blipFill>
        <p:spPr>
          <a:xfrm>
            <a:off x="5651640" y="1916280"/>
            <a:ext cx="2950920" cy="4438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F97-FE5F-4790-A747-7417F8B7B20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37000"/>
            <a:ext cx="5003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psychology/ Practical t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https://www.lse.ac.uk/intranet/staff/webSupport/images/imageBank/478/32_LIF_8058.JPG"/>
          <p:cNvPicPr/>
          <p:nvPr/>
        </p:nvPicPr>
        <p:blipFill>
          <a:blip r:embed="rId1"/>
          <a:stretch/>
        </p:blipFill>
        <p:spPr>
          <a:xfrm>
            <a:off x="4500720" y="263700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8E9F-33CA-48F2-9967-0A0796DE7E6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couns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ointments need to be booked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op in sessions – each day at 3.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s to self help resources on a wide range of student issues, including study – related and person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E431-CB6E-4B0A-837B-9A805462A16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740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vision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https://www2.lse.ac.uk/intranet/staff/webSupport/images/imageBank/478/UGP_08_035.jpg"/>
          <p:cNvPicPr/>
          <p:nvPr/>
        </p:nvPicPr>
        <p:blipFill>
          <a:blip r:embed="rId1"/>
          <a:stretch/>
        </p:blipFill>
        <p:spPr>
          <a:xfrm>
            <a:off x="4427640" y="2565360"/>
            <a:ext cx="455292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C5FE-2EC5-4673-8EFE-258CEED38DD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st use of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ete and practise exam tas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duce answers to show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can think (answer the ques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’ve done the reading (references / con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ertise (detailed knowledge, locate the debate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28BC-0759-4600-8F4E-B4FCE0285C3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vi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w many topics – 2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ok for repeated questions on same top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d links, key ideas – see the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eto Principle – 20% gets 80% of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duce each week to a single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e down further as you get clo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material if necessary and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d work you enjoy – motivation is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26E9-9B9C-4325-9920-88A84299BB3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other – read each others essays, try the same questions and talk through the solutions (good end of day ta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sessions – examiner’s mindset, marking preference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ffice hours – take answers / plans rather than questions of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C92C-E86A-48B6-B691-6AF6026CB7E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5 minutes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re your top revision tips?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vision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lanning last two mon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naging work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eping f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2" descr="https://www.lse.ac.uk/intranet/staff/webSupport/images/imageBank/478/Year_11_Summer_School_5320.JPG"/>
          <p:cNvPicPr/>
          <p:nvPr/>
        </p:nvPicPr>
        <p:blipFill>
          <a:blip r:embed="rId1"/>
          <a:stretch/>
        </p:blipFill>
        <p:spPr>
          <a:xfrm>
            <a:off x="6253200" y="1989000"/>
            <a:ext cx="265284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B2C3-B022-4AA8-A558-F4F3A8EC3BA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al t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j0422183"/>
          <p:cNvPicPr/>
          <p:nvPr/>
        </p:nvPicPr>
        <p:blipFill>
          <a:blip r:embed="rId1"/>
          <a:stretch/>
        </p:blipFill>
        <p:spPr>
          <a:xfrm>
            <a:off x="5132520" y="2565360"/>
            <a:ext cx="381456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F6B7-B074-4BB6-A61E-48B150ACF7A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actical approa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ime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lan short term targets and longer term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alk to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centrate on the task, not the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Sandelson,A</cp:lastModifiedBy>
  <cp:lastPrinted>2015-03-18T10:39:53Z</cp:lastPrinted>
  <dcterms:modified xsi:type="dcterms:W3CDTF">2016-03-16T09:30:38Z</dcterms:modified>
  <cp:revision>81</cp:revision>
  <dc:subject/>
  <dc:title> </dc:title>
</cp:coreProperties>
</file>