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CA41-859C-4495-B3E9-86770224D4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58BF-B321-4EA0-8773-A9C16AA9AB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98A6-D0B5-4CCA-9A27-85D5F11E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F14D-132E-458A-B2B5-ABBCA875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86A1-A6BD-4C12-806C-A8D785AE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3698-2210-430B-84FC-90391FBC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99B9-3229-4FA5-AF93-DC06A1FD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118A-079A-45C2-8A35-EEAFABBA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138C-D907-4FAA-B4E0-321F370A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43BE-F1F7-491A-9CB2-C0EB3E15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C97C-82EC-4BC4-83EB-6A5E6D19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1533-E8B9-4DD5-96FC-CF7E7174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2A3E-33FA-487B-AFB2-3C97B788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8EFB-5821-48AC-AE22-69A4047B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15E6-A8B4-4E1B-AE40-AB22EC5C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427E-B7EF-41DA-80D4-5CA1C6E2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260B-1376-4F60-AD04-E986684E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65AF-BB55-4918-9C83-E907A5F0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6E6B-66C0-4459-A8BF-93B421D5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C49C-7094-4384-B7A8-CA8EFD8C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820B-5C55-432B-9503-140F08F5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3C08-213F-4E1D-93E8-2BF650AD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3FB8-0E96-464B-8F62-892EB1D0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2256-36E1-4530-9C25-68C08216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48CD-5BE7-4009-AB4F-42B92DCA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4173-608B-4822-B088-4A54E861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50000">
                  <a:srgbClr val="a7d3ff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a7d3ff"/>
                </a:gs>
                <a:gs pos="50000">
                  <a:srgbClr val="eaeaea"/>
                </a:gs>
                <a:gs pos="100000">
                  <a:srgbClr val="a7d3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50000">
                  <a:srgbClr val="a7d3ff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50000">
                  <a:srgbClr val="a7d3ff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7d3ff"/>
                </a:gs>
                <a:gs pos="100000">
                  <a:srgbClr val="eaeae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7d3ff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7d3ff"/>
                </a:gs>
                <a:gs pos="100000">
                  <a:srgbClr val="eaeae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6C7D-85FE-4DDF-A4B8-8AAA04DF12F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50000">
                  <a:srgbClr val="a7d3ff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a7d3ff"/>
                </a:gs>
                <a:gs pos="50000">
                  <a:srgbClr val="eaeaea"/>
                </a:gs>
                <a:gs pos="100000">
                  <a:srgbClr val="a7d3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50000">
                  <a:srgbClr val="a7d3ff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50000">
                  <a:srgbClr val="a7d3ff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7d3ff"/>
                </a:gs>
                <a:gs pos="100000">
                  <a:srgbClr val="eaeae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7d3ff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7d3ff"/>
                </a:gs>
                <a:gs pos="100000">
                  <a:srgbClr val="eaeae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81BD-C908-4B61-8A8A-DF258666705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1197000"/>
            <a:ext cx="8064360" cy="1582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Communicating  Assertivel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547280" y="3499920"/>
            <a:ext cx="72392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Presenter: Adam Sandel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Teaching &amp; Learning Cent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64388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To summarise 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921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Assertiveness is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ing clear about your needs &amp; rights, asking for what you want, saying no to what you don’t w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sing direct, open &amp; honest communication, taking responsibility, respecting others &amp; not violating their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When you are assertive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thers will feel comfortable, know where you stand &amp; respect you for your hones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Your needs get met, you experience less stress &amp; more satisfaction with life i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27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ahoma"/>
              </a:rPr>
              <a:t>What Assertiveness will not d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280" y="1557000"/>
            <a:ext cx="7715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uarante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you happiness or fair treatment by o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uarantee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at you will automatically get what you want in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uarante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that others will be assertive &amp; not aggressive towards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Solv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all your person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U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 lack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of assertiveness will be one reason that your feelings or needs are not acknowledged or met by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4388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ahoma"/>
              </a:rPr>
              <a:t>How can I be more Asserti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First recognise that it is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ulture specific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Recognise that you &amp; everyone else has a right to your “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personal bill of rights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” – see handou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Truly believing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that you have a right to your needs &amp; have a right to ask for what you wan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Taking responsibility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to protect your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rights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in situations where they are infringed up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Personal Bill of Righ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Is drawn from the idea that we all have basic human right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ometimes we do not realize these rights, because we were not taught them as childre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Being more conscious &amp; learning to exercise your rights is the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gateway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to being more assertiv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Tahoma"/>
              </a:rPr>
              <a:t>What do you think? Are any striking to you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49636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How can I be more Asserti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991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rst be aware of your feelings, needs &amp; w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n say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directly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how you feel inside &amp;  what changes you would like to see happ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“ I statements”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to express your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i="1" lang="en-GB" sz="2900" spc="-1" strike="noStrike">
                <a:solidFill>
                  <a:srgbClr val="000000"/>
                </a:solidFill>
                <a:latin typeface="Tahoma"/>
              </a:rPr>
              <a:t>.. I feel unhappy with you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ahoma"/>
              </a:rPr>
              <a:t>suggestion &amp; I would like you to listen t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ahoma"/>
              </a:rPr>
              <a:t>mine..”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o not back off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or move away from someone you are addressing (stand your grou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3640" y="277920"/>
            <a:ext cx="8569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How can I be more Asserti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136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ote that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30%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of our communication is verbal, while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70%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is non-ver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velop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non-verbal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sertive behaviours. These are about your voice tone, gestures, eye contact, facial expression &amp; posture (“social signalling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on-verbal behaviours definitely influence your impact on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 example;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look directly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at another person when addressi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277920"/>
            <a:ext cx="8497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How can I be more Asserti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06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intain an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pen postur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– if sitting down don’t cross your legs/arms - if standing up do so erectly &amp; on both f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Stay calm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- avoid getting overly emotional or exc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actice being assertive through writing, role-play &amp; real life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on’t assume others just know how you feel, what you need or want. Make these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ther people are not mind r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ahoma"/>
              </a:rPr>
              <a:t>How can I be more Assertiv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arn to also say 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“ </a:t>
            </a: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no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”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aying “no” </a:t>
            </a: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sets limit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on other people’s demands for your time, especially when it conflicts with your own nee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You can </a:t>
            </a: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acknowledge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other person’s request by repeating it back, </a:t>
            </a: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explain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your reason for declining &amp; then say </a:t>
            </a: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“no”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f appropriate suggest an </a:t>
            </a: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alternative proposal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here both your needs will be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424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How can I be more Asserti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848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An example of how to say “ no ”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..</a:t>
            </a:r>
            <a:r>
              <a:rPr b="0" i="1" lang="en-GB" sz="2900" spc="-1" strike="noStrike">
                <a:solidFill>
                  <a:srgbClr val="000000"/>
                </a:solidFill>
                <a:latin typeface="Tahoma"/>
              </a:rPr>
              <a:t>I understand that you would like to get together tonight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[</a:t>
            </a:r>
            <a:r>
              <a:rPr b="1" lang="en-GB" sz="2900" spc="-1" strike="noStrike">
                <a:solidFill>
                  <a:srgbClr val="000066"/>
                </a:solidFill>
                <a:latin typeface="Tahoma"/>
              </a:rPr>
              <a:t>acknowledgement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]. </a:t>
            </a:r>
            <a:r>
              <a:rPr b="0" i="1" lang="en-GB" sz="2900" spc="-1" strike="noStrike">
                <a:solidFill>
                  <a:srgbClr val="000000"/>
                </a:solidFill>
                <a:latin typeface="Tahoma"/>
              </a:rPr>
              <a:t>It turns out that I had a really long day &amp; feel exhausted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[</a:t>
            </a:r>
            <a:r>
              <a:rPr b="1" lang="en-GB" sz="2900" spc="-1" strike="noStrike">
                <a:solidFill>
                  <a:srgbClr val="000066"/>
                </a:solidFill>
                <a:latin typeface="Tahoma"/>
              </a:rPr>
              <a:t>explanation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], </a:t>
            </a:r>
            <a:r>
              <a:rPr b="0" i="1" lang="en-GB" sz="2900" spc="-1" strike="noStrike">
                <a:solidFill>
                  <a:srgbClr val="000000"/>
                </a:solidFill>
                <a:latin typeface="Tahoma"/>
              </a:rPr>
              <a:t>so I will pass on tonight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[</a:t>
            </a:r>
            <a:r>
              <a:rPr b="1" lang="en-GB" sz="2900" spc="-1" strike="noStrike">
                <a:solidFill>
                  <a:srgbClr val="000066"/>
                </a:solidFill>
                <a:latin typeface="Tahoma"/>
              </a:rPr>
              <a:t>saying no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]. </a:t>
            </a:r>
            <a:r>
              <a:rPr b="0" i="1" lang="en-GB" sz="2900" spc="-1" strike="noStrike">
                <a:solidFill>
                  <a:srgbClr val="000000"/>
                </a:solidFill>
                <a:latin typeface="Tahoma"/>
              </a:rPr>
              <a:t>Perhaps there is another night later this week when we can get together – what do you think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?..” [</a:t>
            </a:r>
            <a:r>
              <a:rPr b="1" lang="en-GB" sz="2900" spc="-1" strike="noStrike">
                <a:solidFill>
                  <a:srgbClr val="000066"/>
                </a:solidFill>
                <a:latin typeface="Tahoma"/>
              </a:rPr>
              <a:t>alternative option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]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003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What do I get from being more asser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t enables you to </a:t>
            </a: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obtain mor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of what you need &amp; want in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t helps </a:t>
            </a: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minimise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ress, frustration &amp; resentment in your relationships &amp; interactions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t helps you take </a:t>
            </a: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more risk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&amp; ask </a:t>
            </a: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more of lif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i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t adds to your sense of </a:t>
            </a: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autonomy, freedom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sel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You definitely </a:t>
            </a:r>
            <a:r>
              <a:rPr b="0" lang="en-GB" sz="2800" spc="-1" strike="noStrike">
                <a:solidFill>
                  <a:srgbClr val="000066"/>
                </a:solidFill>
                <a:latin typeface="Verdana"/>
              </a:rPr>
              <a:t>gain respect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from others for being direct, open &amp; hon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2472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Why be asser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993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99"/>
                </a:solidFill>
                <a:latin typeface="Tahoma"/>
              </a:rPr>
              <a:t>Because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- its more than subject knowledge that makes you successful at studying &amp; fulfilling your career aspira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99"/>
                </a:solidFill>
                <a:latin typeface="Tahoma"/>
              </a:rPr>
              <a:t>Because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- assertiveness is a communication style that can be useful in job or academic interviews, presentations, public speaking etc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99"/>
                </a:solidFill>
                <a:latin typeface="Tahoma"/>
              </a:rPr>
              <a:t>Because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– assertiveness “energizers” your communication with academics, colleagues, friends, partners, family etc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56000" y="188640"/>
            <a:ext cx="640872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Coming to the end…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9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Assertiveness is really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Knowing</a:t>
            </a:r>
            <a:r>
              <a:rPr b="0" lang="en-GB" sz="2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isn’t &amp; what is assertive communication, and what it will &amp; will not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easing</a:t>
            </a: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 opportunities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be more asser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cognising the</a:t>
            </a: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 value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 being asser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creasing the prospect of your rights, feelings, needs &amp; wants being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In all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sertiveness contributes to your academic success, and it helps fulfil your career &amp; life amb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Aims of this sess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800280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66"/>
                </a:solidFill>
                <a:latin typeface="Tahoma"/>
              </a:rPr>
              <a:t>To discuss </a:t>
            </a:r>
            <a:r>
              <a:rPr b="1" lang="en-GB" sz="3100" spc="-1" strike="noStrike">
                <a:solidFill>
                  <a:srgbClr val="000066"/>
                </a:solidFill>
                <a:latin typeface="Tahoma"/>
              </a:rPr>
              <a:t>assertiveness</a:t>
            </a:r>
            <a:r>
              <a:rPr b="0" lang="en-GB" sz="3100" spc="-1" strike="noStrike">
                <a:solidFill>
                  <a:srgbClr val="000066"/>
                </a:solidFill>
                <a:latin typeface="Tahoma"/>
              </a:rPr>
              <a:t> in terms of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What is &amp; isn’t assertiveness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What it will &amp; will not 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How can someone be more assertiv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What do you get from being an assertive communicato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277560"/>
            <a:ext cx="771516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What </a:t>
            </a:r>
            <a:r>
              <a:rPr b="1" lang="en-GB" sz="3800" spc="-1" strike="noStrike" u="sng">
                <a:solidFill>
                  <a:srgbClr val="a20000"/>
                </a:solidFill>
                <a:uFillTx/>
                <a:latin typeface="Verdana"/>
              </a:rPr>
              <a:t>isn’t</a:t>
            </a:r>
            <a:r>
              <a:rPr b="1" lang="en-GB" sz="3800" spc="-1" strike="noStrike">
                <a:solidFill>
                  <a:srgbClr val="a20000"/>
                </a:solidFill>
                <a:latin typeface="Verdana"/>
              </a:rPr>
              <a:t> </a:t>
            </a: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assertivene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20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Being Sel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ere you are concerned only with your rights &amp; needs, with little regard for the rights &amp; needs of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Being Aggr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ere you are demanding, abrasive &amp; hostile with others. You are insensitive to other people’s feelings &amp; their individual ri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You succeed with sheer force, creating enemies &amp; conflict along the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What </a:t>
            </a:r>
            <a:r>
              <a:rPr b="1" lang="en-GB" sz="3800" spc="-1" strike="noStrike" u="sng">
                <a:solidFill>
                  <a:srgbClr val="a20000"/>
                </a:solidFill>
                <a:uFillTx/>
                <a:latin typeface="Verdana"/>
              </a:rPr>
              <a:t>isn’t</a:t>
            </a:r>
            <a:r>
              <a:rPr b="1" lang="en-GB" sz="3800" spc="-1" strike="noStrike">
                <a:solidFill>
                  <a:srgbClr val="a20000"/>
                </a:solidFill>
                <a:latin typeface="Verdana"/>
              </a:rPr>
              <a:t> </a:t>
            </a: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assertivene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0503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Being Passive-aggres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You express anger &amp; aggression in a covert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You fail to do your share of the work &amp; make unreasonable criticisms of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ommon Trait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crastination, sulking or arguing when you are asked to do something, complaining without justification, “forgetting” your obligations, believing you are better than others, you can’t stand useful suggestions or constructive crit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7396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What </a:t>
            </a:r>
            <a:r>
              <a:rPr b="1" lang="en-GB" sz="3800" spc="-1" strike="noStrike" u="sng">
                <a:solidFill>
                  <a:srgbClr val="a20000"/>
                </a:solidFill>
                <a:uFillTx/>
                <a:latin typeface="Verdana"/>
              </a:rPr>
              <a:t>isn’t</a:t>
            </a:r>
            <a:r>
              <a:rPr b="1" lang="en-GB" sz="3800" spc="-1" strike="noStrike">
                <a:solidFill>
                  <a:srgbClr val="a20000"/>
                </a:solidFill>
                <a:latin typeface="Verdana"/>
              </a:rPr>
              <a:t> </a:t>
            </a: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assertivene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280" y="1557000"/>
            <a:ext cx="7715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Being Manipu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You get others to feel sorry or guilty to you get what you w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You play the role of victim or marty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t only works work when others do not realise what you are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ventually its makes people feel confused, “crazy,” angry &amp; resentful towards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277920"/>
            <a:ext cx="764388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To summarise 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920" y="1197000"/>
            <a:ext cx="8066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66"/>
                </a:solidFill>
                <a:latin typeface="Tahoma"/>
              </a:rPr>
              <a:t>Assertiveness is no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26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Being selfish, aggressive, passive-aggressive or manipul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Even though we do use these “communicative tactics” at some point in our  lives to get what we wa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ahoma"/>
              </a:rPr>
              <a:t>- BUT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pending your life or time being a non- assertive communicator will bring you much stress, dissatisfaction &amp; disappoint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Assertiveness Questionnai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Take a look at the “</a:t>
            </a:r>
            <a:r>
              <a:rPr b="0" lang="en-GB" sz="3000" spc="-1" strike="noStrike">
                <a:solidFill>
                  <a:srgbClr val="000066"/>
                </a:solidFill>
                <a:latin typeface="Tahoma"/>
              </a:rPr>
              <a:t>assertiveness questionnaire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” handout. Read each situation and define each of your responses as either </a:t>
            </a:r>
            <a:r>
              <a:rPr b="1" lang="en-GB" sz="3000" spc="-1" strike="noStrike">
                <a:solidFill>
                  <a:srgbClr val="000000"/>
                </a:solidFill>
                <a:latin typeface="Tahoma"/>
              </a:rPr>
              <a:t>aggressive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ahoma"/>
              </a:rPr>
              <a:t>passive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GB" sz="3000" spc="-1" strike="noStrike">
                <a:solidFill>
                  <a:srgbClr val="000000"/>
                </a:solidFill>
                <a:latin typeface="Tahoma"/>
              </a:rPr>
              <a:t>assertive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. Share your answer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806436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What </a:t>
            </a:r>
            <a:r>
              <a:rPr b="1" lang="en-GB" sz="3800" spc="-1" strike="noStrike" u="sng">
                <a:solidFill>
                  <a:srgbClr val="a20000"/>
                </a:solidFill>
                <a:uFillTx/>
                <a:latin typeface="Verdana"/>
              </a:rPr>
              <a:t>is</a:t>
            </a: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 assertivene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8137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rect, open &amp; honest communication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king for what you want &amp; saying “no” to what you don’t w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ot negating, attacking or manipulating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specting the dignity of othe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anding up for yourself &amp; your rights without apologising or feeling gui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aking responsibility for your own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nerg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16:12:47Z</dcterms:created>
  <dc:creator>Administrator</dc:creator>
  <dc:description/>
  <dc:language>en-US</dc:language>
  <cp:lastModifiedBy>Administrator</cp:lastModifiedBy>
  <dcterms:modified xsi:type="dcterms:W3CDTF">2011-02-16T13:34:04Z</dcterms:modified>
  <cp:revision>27</cp:revision>
  <dc:subject/>
  <dc:title>Stress Management</dc:title>
</cp:coreProperties>
</file>