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D4E-7EE2-4329-8285-210E73302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BB29-90F5-48C1-8DA6-A2DD0DDAF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B44-4181-4EAA-AF97-FC8B4000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8AB-DBE7-4330-921F-FF16FAD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FA3-FC1E-4CCE-853A-4DBC8286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2C8-1BB8-41EC-8609-F6024879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606-94C0-4406-A6CD-DF7AA268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313-FDE9-4912-B8A6-FA350737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DAE-FABD-4ABE-93C2-C27FC15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7075-B020-43B2-A2CB-F670981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7D2-D4C8-4759-8D21-D3B3211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DDF-5360-40E5-B7AF-52F6036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D4F0-339F-4224-B15E-12FE405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198-9144-41E3-9DBC-3997B2B2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C47-9320-430A-B874-399B675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59D2-522C-43B1-B2EB-1620710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1BF-380C-421B-971B-683F4E4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9A8-2777-409F-84D0-114CDD78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5CC9-691B-4274-9A76-3C60E2DF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5E5-6EBD-4D96-8337-B5B9A57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582-57F7-4B28-808D-6419EAA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EB8-4D56-4B39-B54B-44D5338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DD3-45A8-43B4-89B1-0E6CBA71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74B-F85B-4127-8197-F1F113D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EC0-9525-4B25-B471-B932E32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3B4-8EEF-4954-9C33-DEA84CC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7d3ff"/>
                </a:gs>
                <a:gs pos="50000">
                  <a:srgbClr val="eaeaea"/>
                </a:gs>
                <a:gs pos="100000">
                  <a:srgbClr val="a7d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970-F413-4BD6-8115-30341195CB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7d3ff"/>
                </a:gs>
                <a:gs pos="50000">
                  <a:srgbClr val="eaeaea"/>
                </a:gs>
                <a:gs pos="100000">
                  <a:srgbClr val="a7d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D48-E647-4F63-8580-0AAEAE6D40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8064360" cy="158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Communicating  Assertive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47280" y="3499920"/>
            <a:ext cx="7239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esenter: Adam Sande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eaching &amp; Learning Cent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To summarise 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921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ssertiveness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ing clear about your needs &amp; rights, asking for what you want, saying no to what you don’t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ing direct, open &amp; honest communication, taking responsibility, respecting others &amp; not violating their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When you are assertiv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s will feel comfortable, know where you stand &amp; respect you for your hones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needs get met, you experience less stress &amp; more satisfaction with life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</a:rPr>
              <a:t>What Assertiveness will not 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you happiness or fair treatment by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at you will automatically get what you want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at others will be assertive &amp; not aggressive toward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ll your pers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U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 lac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f assertiveness will be one reason that your feelings or needs are not acknowledged or met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4388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irst recognise that it is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lture specific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cognise that you &amp; everyone else has a right to your “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ersonal bill of rights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” – see handou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Truly believing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hat you have a right to your needs &amp; have a right to ask for what you wa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Taking responsibility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o protect your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rights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in situations where they are infringed up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Personal Bill of Righ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Is drawn from the idea that we all have basic human right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times we do not realize these rights, because we were not taught them as childre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ing more conscious &amp; learning to exercise your rights is the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gateway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o being more asser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Tahoma"/>
              </a:rPr>
              <a:t>What do you think? Are any striking to you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4963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be aware of your feelings, needs &amp;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n say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directl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how you feel inside &amp;  what changes you would like to see happ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“ I statements”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 express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.. I feel unhappy with 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suggestion &amp; I would like you to listen 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mine.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o not back of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r move away from someone you are addressing (stand your g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f our communication is verbal, whil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70%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non-ver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elop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verbal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ertive behaviours. These are about your voice tone, gestures, eye contact, facial expression &amp; posture (“social signall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n-verbal behaviours definitely influence your impact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example;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ook directl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t another person when addr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intain a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pen postu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if sitting down don’t cross your legs/arms - if standing up do so erectly &amp; on both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tay cal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- avoid getting overly emotional or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being assertive through writing, role-play &amp; real lif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n’t assume others just know how you feel, what you need or want. Make thes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people are not mind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ahoma"/>
              </a:rPr>
              <a:t>How can I be more Asser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to also say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“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”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ing “no”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sets limi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n other people’s demands for your time, especially when it conflicts with your own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can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cknowledg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other person’s request by repeating it back,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explain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reason for declining &amp; then say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“no”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appropriate suggest an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lternative propos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here both your needs will b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An example of how to say “ no ”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I understand that you would like to get together tonigh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cknowledgemen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It turns out that I had a really long day &amp; feel exhausted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explanation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,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so I will pass on tonigh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saying n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Perhaps there is another night later this week when we can get together – what do you think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?..”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lternative option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00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hat do I get from being more asse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enables you to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obtain mor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what you need &amp; want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elps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inimis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ess, frustration &amp; resentment in your relationships &amp; interaction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elps you take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ore risk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ask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ore of lif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adds to your sense of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autonomy, freedo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sel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 definitely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gain respec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others for being direct, open &amp;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Why be asse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- its more than subject knowledge that makes you successful at studying &amp; fulfilling your career aspi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- assertiveness is a communication style that can be useful in job or academic interviews, presentations, public speaking et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– assertiveness “energizers” your communication with academics, colleagues, friends, partners, family et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Coming to the end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ssertiveness is really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Knowing</a:t>
            </a: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n’t &amp; what is assertive communication, and what it will &amp; will not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asing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 opportunities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be more asser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ing the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 valu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being asser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ing the prospect of your rights, feelings, needs &amp; wants being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In all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ertiveness contributes to your academic success, and it helps fulfil your career &amp; life am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ims of this ses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To discuss </a:t>
            </a:r>
            <a:r>
              <a:rPr b="1" lang="en-GB" sz="3100" spc="-1" strike="noStrike">
                <a:solidFill>
                  <a:srgbClr val="000066"/>
                </a:solidFill>
                <a:latin typeface="Tahoma"/>
              </a:rPr>
              <a:t>assertiveness</a:t>
            </a: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 in terms of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is &amp; isn’t assertivenes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it will &amp; will not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How can someone be more asser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do you get from being an assertive communica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560"/>
            <a:ext cx="77151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Sel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you are concerned only with your rights &amp; needs, with little regard for the rights &amp; need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you are demanding, abrasive &amp; hostile with others. You are insensitive to other people’s feelings &amp; their individual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succeed with sheer force, creating enemies &amp; conflict along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050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Passive-aggres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express anger &amp; aggression in a cover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fail to do your share of the work &amp; make unreasonable criticism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mmon Trai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rastination, sulking or arguing when you are asked to do something, complaining without justification, “forgetting” your obligations, believing you are better than others, you can’t stand useful suggestions or constructive 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396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Manipu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get others to feel sorry or guilty to you get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play the role of victim or mart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only works work when others do not realise w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ntually its makes people feel confused, “crazy,” angry &amp; resentful toward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To summarise 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8066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ssertiveness is n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ing selfish, aggressive, passive-aggressive or manipul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ven though we do use these “communicative tactics” at some point in our  lives to get what we w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- BUT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pending your life or time being a non- assertive communicator will bring you much stress, dissatisfaction &amp; disappoin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 Question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ke a look at the “</a:t>
            </a:r>
            <a:r>
              <a:rPr b="0" lang="en-GB" sz="3000" spc="-1" strike="noStrike">
                <a:solidFill>
                  <a:srgbClr val="000066"/>
                </a:solidFill>
                <a:latin typeface="Tahoma"/>
              </a:rPr>
              <a:t>assertiveness questionnair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” handout. Read each situation and define each of your responses as either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aggress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pass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assert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. Share your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 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137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rect, open &amp; honest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ing for what you want &amp; saying “no” to what you don’t w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 negating, attacking or manipulating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pecting the dignity of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ing up for yourself &amp; your rights without apologising or feeling gu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ing responsibility for your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er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6:12:47Z</dcterms:created>
  <dc:creator>Administrator</dc:creator>
  <dc:description/>
  <dc:language>en-US</dc:language>
  <cp:lastModifiedBy>Administrator</cp:lastModifiedBy>
  <dcterms:modified xsi:type="dcterms:W3CDTF">2011-02-16T13:34:04Z</dcterms:modified>
  <cp:revision>27</cp:revision>
  <dc:subject/>
  <dc:title>Stress Management</dc:title>
</cp:coreProperties>
</file>