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1271-6EFD-4D45-9F64-F0A69B3993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430D-161E-4285-AB58-7FF50F2911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33480" y="741240"/>
            <a:ext cx="4935600" cy="3702240"/>
          </a:xfrm>
          <a:prstGeom prst="rect">
            <a:avLst/>
          </a:prstGeom>
          <a:ln w="0">
            <a:noFill/>
          </a:ln>
        </p:spPr>
      </p:sp>
      <p:sp>
        <p:nvSpPr>
          <p:cNvPr id="1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03D4-BA47-458F-B428-FDF94CC990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33480" y="741240"/>
            <a:ext cx="493560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n’t overlook opportunity for collaboration on articles with established names too, including your supervisor, if that is appropri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ferences are obviously an opportunity to deliver a paper.  Take opportunities to publish in proceedings if offered and see other points on how to use conferences to progress your career and raise your pro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nowing the funding process is often crucial and will come up at interviews. Know where the money comes from, how to apply for it, what the cycles are, and get as much advice – and experience too if possible – on how to make a successful applic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nowing the research culture in HE both generally and in specific institutions is really important, because it will help you to gauge your likelihood of successful applications and also where a research post might lead yo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Quality assessment is everywhere in research and teaching, so know how your work is going to be assessed, who is doing the assessing, which institutions are doing well and w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E results for 2008 (last one in 2001) published on 18 December this year, rated from 4* to U (unclassified), so you will be able to see which institutions in the UK have raised their profiles and are more likely to attract fu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nowing how your topic fits within the subject is important – not just immediately in relation to supervisors, competitors, etc., but also in relation to the teaching profiles of different departments, and also to other non-academic institutions.  You need to be able to judge the mileage in your topic beyond the end of your the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re is your research going to go next – for any application for research or teaching post, you will need to be able to say something about this in more or less detail depending on the audience.  Also know what you are going to submit for publication to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eloping a second research interest is also a good idea – helps broaden your appeal to an academic department both for teaching and research; also may give you additional publishing opportunities; keeps your original work fresh </a:t>
            </a: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1887-C806-4F94-87EE-5654CE57C8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32040" y="741240"/>
            <a:ext cx="4935240" cy="3702240"/>
          </a:xfrm>
          <a:prstGeom prst="rect">
            <a:avLst/>
          </a:prstGeom>
          <a:ln w="0">
            <a:noFill/>
          </a:ln>
        </p:spPr>
      </p:sp>
      <p:sp>
        <p:nvSpPr>
          <p:cNvPr id="148" name="PlaceHolder 2"/>
          <p:cNvSpPr>
            <a:spLocks noGrp="1"/>
          </p:cNvSpPr>
          <p:nvPr>
            <p:ph type="body"/>
          </p:nvPr>
        </p:nvSpPr>
        <p:spPr>
          <a:xfrm>
            <a:off x="679320" y="4692600"/>
            <a:ext cx="5438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31F78-E8BC-4A45-A2B8-8352FBF5A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AE7F-5DC5-4E70-AC4E-A7CBA458D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7247A-A527-4622-86A6-9299DB937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BB47D-7D33-4CA6-BE90-64F1471A2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E87D7-F86F-4A3E-94A3-483D4106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D3204-288F-42DA-9DF0-0A4767F6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7441-1000-483F-A566-FC03FE25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BA7F0-CB88-41A2-BEA2-D46CD07E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F1F63-0217-47B4-8217-EACF92CB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E6C8-3946-44CE-9E9D-8F43DC0A4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EF9B-0524-4F60-B2D1-474FAC38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7332-21AD-4974-ACB9-03BCF784C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2573-6DD2-4971-B259-FACDA0D0800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lse.ac.uk/careers" TargetMode="External"/><Relationship Id="rId2" Type="http://schemas.openxmlformats.org/officeDocument/2006/relationships/hyperlink" Target="http://www.lse.ac.uk/collections/studentCounsellingService/"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cademic Job Applications: How to do them and Keep Go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06864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Tracy Bussoli</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Sandel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b Application package</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include some or all of:</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V and/or application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personal stat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 of PhD the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ment of current and future research, including proposed publ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ment of teaching philosophy, experience and proposed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4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ilding a Job Application…</a:t>
            </a:r>
            <a:r>
              <a:rPr b="0" lang="en-GB"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right CV for the job</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correct’ way to structure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To abstract’, or not ‘to abstr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ducation or work experienc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work experience by ‘relevant’ and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publications, use ‘forthcoming’ or ‘submitted for peer review’ or ‘in prep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wards, honours, professional bo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 always:</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lude title of your thesis, supervisor(s), proposed submission date (and viva d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lude publications, conferences/seminars, awa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layout of dates and information cle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give too much info with each ent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ider the reader’s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s of Academic CV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ve a look at the academic CVs provided (all available on-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you notice about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ent positives and negatives of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inciples of a good covering lett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troductory paragraph – refer to job title, where it was advertis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en-GB" sz="2800" spc="-1" strike="noStrike">
                <a:solidFill>
                  <a:srgbClr val="000000"/>
                </a:solidFill>
                <a:latin typeface="Calibri"/>
              </a:rPr>
              <a:t>My shoes’ – establish my credentials: who am I (a PhD at LSE!), why does this job appeal to me, how does it fit with who I am n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en-GB" sz="2800" spc="-1" strike="noStrike">
                <a:solidFill>
                  <a:srgbClr val="000000"/>
                </a:solidFill>
                <a:latin typeface="Calibri"/>
              </a:rPr>
              <a:t>Their shoes’ – seeing myself through the recruiter’s eyes, emphasising key strengths they are looking f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luding paragraph - include any unavailable interview dates if appropri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acticals of a good covering lett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2768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sure you include:</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dence of teaching experienc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ntion courses from their syllabus you could teach at UG1, UG2/3 and PG</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ggest new courses at UG and PG level you could offer</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mmary of past and future research plans, especially proposed publication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monstrate understanding of key research issues in your area and research dissemination activitie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ntion relevant conference or journal activities</a:t>
            </a:r>
            <a:endParaRPr b="0" lang="en-US" sz="24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pplication statements (e.g. LSE), make sure you respond to the person spec. headings in fu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vering letters </a:t>
            </a:r>
            <a:br>
              <a:rPr sz="4000"/>
            </a:br>
            <a:r>
              <a:rPr b="0" lang="en-GB" sz="4000" spc="-1" strike="noStrike">
                <a:solidFill>
                  <a:srgbClr val="000000"/>
                </a:solidFill>
                <a:latin typeface="Calibri"/>
              </a:rPr>
              <a:t>with additional statements</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is case, letter is a shorter introduction to your teaching and research statem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 use the letter to summarise key points from your statem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se and string together to show breadth and depth</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repeat phraseology – boring to r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should you writ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V – 2+ pages (models on the CS websi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tter 1-2 pages – shorter if you have statem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ments – 2-4 pag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s can be mo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ve something for int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scribe your existing experienc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rses, class sizes, teaching mod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aining, mentor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sertation supervision</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hilosophy – general, subjec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posed role in their depart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isting courses to teac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w UG/Masters cours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ow you understand their teaching of the subject</a:t>
            </a:r>
            <a:endParaRPr b="0" lang="en-US" sz="2400" spc="-1" strike="noStrike">
              <a:solidFill>
                <a:srgbClr val="000000"/>
              </a:solidFill>
              <a:latin typeface="Arial"/>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to stand out - Tea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Topics</a:t>
            </a:r>
            <a:endParaRPr b="0" lang="en-US" sz="4400" spc="-1" strike="noStrike">
              <a:solidFill>
                <a:srgbClr val="000000"/>
              </a:solidFill>
              <a:latin typeface="Arial"/>
            </a:endParaRPr>
          </a:p>
        </p:txBody>
      </p:sp>
      <p:sp>
        <p:nvSpPr>
          <p:cNvPr id="51" name="PlaceHolder 2"/>
          <p:cNvSpPr>
            <a:spLocks noGrp="1"/>
          </p:cNvSpPr>
          <p:nvPr>
            <p:ph/>
          </p:nvPr>
        </p:nvSpPr>
        <p:spPr>
          <a:xfrm>
            <a:off x="250920" y="1125000"/>
            <a:ext cx="8642160" cy="42483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you have the experience and skills for the job? Assessing a job advertisemen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sic principles for a good appli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keep going. Some job seeking psycholog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to stand out -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t published in good refereed journ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conferences to raise your prof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t experience of fund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derstand issues in HE research cul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derstand quality assessment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Know the field beyond your own topic</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Know where your research will go n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 second research inter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y to get publishers interested in your book id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a research statement</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mmarise your current re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ore possible future dire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sent and justify your next new research ide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is it important, what does it add to the field, how does it fit your existing 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terature re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hodology</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tputs including publications, conferences, network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hedule of work</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ember……</a:t>
            </a:r>
            <a:endParaRPr b="0" lang="en-US" sz="4400" spc="-1" strike="noStrike">
              <a:solidFill>
                <a:srgbClr val="000000"/>
              </a:solidFill>
              <a:latin typeface="Arial"/>
            </a:endParaRPr>
          </a:p>
        </p:txBody>
      </p:sp>
      <p:sp>
        <p:nvSpPr>
          <p:cNvPr id="89" name=""/>
          <p:cNvSpPr txBox="1"/>
          <p:nvPr/>
        </p:nvSpPr>
        <p:spPr>
          <a:xfrm>
            <a:off x="457200" y="1600200"/>
            <a:ext cx="8229600" cy="4060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 research shows that for PhDs currently working in academia, 3 or 4 years after graduating, </a:t>
            </a:r>
            <a:r>
              <a:rPr b="1" lang="en-GB" sz="2800" spc="-1" strike="noStrike">
                <a:solidFill>
                  <a:srgbClr val="000000"/>
                </a:solidFill>
                <a:latin typeface="Arial"/>
              </a:rPr>
              <a:t>the most common way they found out about their job was through their professional, work or educational contac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ing at employer’s websites or job adverts came third or fourth (depending on whether they were in research or teaching rol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ing for academic job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academiccareer.manchester.ac.uk/jobs/adve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jobs.ac.uk –UK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higheredjobs.com – US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h-net.org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academiccareers.com -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academicjobseu.com – EU</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eui.eu/maxweberprogramme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europa.eu/dgs/jrc/index.cfm – EC joint research centre</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ronicle.com/jobs – US + internat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n’t forget your networ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24000" y="1412640"/>
            <a:ext cx="8229600" cy="427644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ferenc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o!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eer to help with organis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 to help edit proceeding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arch speakers, know the personalities, say hello!</a:t>
            </a:r>
            <a:endParaRPr b="0" lang="en-US" sz="20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ear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t your own out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 to collabo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 to help with editing of  compiled books</a:t>
            </a:r>
            <a:endParaRPr b="0" lang="en-US" sz="20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 out for non-academic forums for speaking, listening or wri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ch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o beyond your dept: other depts, summer schools, other univs</a:t>
            </a:r>
            <a:endParaRPr b="0" lang="en-US" sz="2000" spc="-1" strike="noStrike">
              <a:solidFill>
                <a:srgbClr val="000000"/>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rriers to Networking</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am to do something o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b seeking psychology</a:t>
            </a: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sues</a:t>
            </a:r>
            <a:endParaRPr b="0" lang="en-US" sz="4400" spc="-1" strike="noStrike">
              <a:solidFill>
                <a:srgbClr val="000000"/>
              </a:solidFill>
              <a:latin typeface="Arial"/>
            </a:endParaRPr>
          </a:p>
        </p:txBody>
      </p:sp>
      <p:sp>
        <p:nvSpPr>
          <p:cNvPr id="99" name="PlaceHolder 2"/>
          <p:cNvSpPr>
            <a:spLocks noGrp="1"/>
          </p:cNvSpPr>
          <p:nvPr>
            <p:ph/>
          </p:nvPr>
        </p:nvSpPr>
        <p:spPr>
          <a:xfrm>
            <a:off x="395280" y="1557360"/>
            <a:ext cx="8229600" cy="3456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ition</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ure – internal and external</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y and Competition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f esteem</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mily pressur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ic patterns of thinking and rela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14200"/>
            <a:ext cx="82440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ynamics of work, life ... </a:t>
            </a:r>
            <a:endParaRPr b="0" lang="en-US" sz="4400" spc="-1" strike="noStrike">
              <a:solidFill>
                <a:srgbClr val="000000"/>
              </a:solidFill>
              <a:latin typeface="Arial"/>
            </a:endParaRPr>
          </a:p>
        </p:txBody>
      </p:sp>
      <p:grpSp>
        <p:nvGrpSpPr>
          <p:cNvPr id="101" name="Diagram 2"/>
          <p:cNvGrpSpPr/>
          <p:nvPr/>
        </p:nvGrpSpPr>
        <p:grpSpPr>
          <a:xfrm>
            <a:off x="312120" y="2004840"/>
            <a:ext cx="4484520" cy="3801240"/>
            <a:chOff x="312120" y="2004840"/>
            <a:chExt cx="4484520" cy="3801240"/>
          </a:xfrm>
        </p:grpSpPr>
        <p:sp>
          <p:nvSpPr>
            <p:cNvPr id="102" name="_s1028"/>
            <p:cNvSpPr/>
            <p:nvPr/>
          </p:nvSpPr>
          <p:spPr>
            <a:xfrm flipH="1">
              <a:off x="1170360" y="200484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_s1029"/>
            <p:cNvSpPr/>
            <p:nvPr/>
          </p:nvSpPr>
          <p:spPr>
            <a:xfrm flipH="1" rot="14400000">
              <a:off x="846360" y="257832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_s1030"/>
            <p:cNvSpPr/>
            <p:nvPr/>
          </p:nvSpPr>
          <p:spPr>
            <a:xfrm flipH="1" rot="7200000">
              <a:off x="1604520" y="257868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_s1031"/>
            <p:cNvSpPr/>
            <p:nvPr/>
          </p:nvSpPr>
          <p:spPr>
            <a:xfrm>
              <a:off x="684360" y="249228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s</a:t>
              </a:r>
              <a:endParaRPr b="0" lang="en-US" sz="2000" spc="-1" strike="noStrike">
                <a:solidFill>
                  <a:srgbClr val="000000"/>
                </a:solidFill>
                <a:latin typeface="Arial"/>
              </a:endParaRPr>
            </a:p>
          </p:txBody>
        </p:sp>
        <p:sp>
          <p:nvSpPr>
            <p:cNvPr id="106" name="_s1032"/>
            <p:cNvSpPr/>
            <p:nvPr/>
          </p:nvSpPr>
          <p:spPr>
            <a:xfrm>
              <a:off x="2000880" y="467604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a job/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LSE/ cour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07" name="_s1033"/>
            <p:cNvSpPr/>
            <p:nvPr/>
          </p:nvSpPr>
          <p:spPr>
            <a:xfrm>
              <a:off x="3312720" y="24912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s</a:t>
              </a:r>
              <a:endParaRPr b="0" lang="en-US" sz="2000" spc="-1" strike="noStrike">
                <a:solidFill>
                  <a:srgbClr val="000000"/>
                </a:solidFill>
                <a:latin typeface="Arial"/>
              </a:endParaRPr>
            </a:p>
          </p:txBody>
        </p:sp>
      </p:grpSp>
      <p:pic>
        <p:nvPicPr>
          <p:cNvPr id="108" name="Picture 11" descr=""/>
          <p:cNvPicPr/>
          <p:nvPr/>
        </p:nvPicPr>
        <p:blipFill>
          <a:blip r:embed="rId1"/>
          <a:stretch/>
        </p:blipFill>
        <p:spPr>
          <a:xfrm>
            <a:off x="4859280" y="2492280"/>
            <a:ext cx="3718080" cy="25732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000" spc="-1" strike="noStrike">
                <a:solidFill>
                  <a:srgbClr val="000000"/>
                </a:solidFill>
                <a:latin typeface="Arial"/>
              </a:rPr>
              <a:t>Underlying dynamics</a:t>
            </a:r>
            <a:endParaRPr b="0" lang="en-US" sz="4000" spc="-1" strike="noStrike">
              <a:solidFill>
                <a:srgbClr val="000000"/>
              </a:solidFill>
              <a:latin typeface="Arial"/>
            </a:endParaRPr>
          </a:p>
        </p:txBody>
      </p:sp>
      <p:sp>
        <p:nvSpPr>
          <p:cNvPr id="110" name="PlaceHolder 2"/>
          <p:cNvSpPr>
            <a:spLocks noGrp="1"/>
          </p:cNvSpPr>
          <p:nvPr>
            <p:ph/>
          </p:nvPr>
        </p:nvSpPr>
        <p:spPr>
          <a:xfrm>
            <a:off x="394920" y="2017800"/>
            <a:ext cx="4597560" cy="4114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rying to please oth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anting to be the bes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etting yourself impossible targe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e family/ historic context for your success</a:t>
            </a:r>
            <a:endParaRPr b="0" lang="en-US" sz="2900" spc="-1" strike="noStrike">
              <a:solidFill>
                <a:srgbClr val="000000"/>
              </a:solidFill>
              <a:latin typeface="Arial"/>
            </a:endParaRPr>
          </a:p>
        </p:txBody>
      </p:sp>
      <p:pic>
        <p:nvPicPr>
          <p:cNvPr id="111" name="Picture 4" descr=""/>
          <p:cNvPicPr/>
          <p:nvPr/>
        </p:nvPicPr>
        <p:blipFill>
          <a:blip r:embed="rId1"/>
          <a:stretch/>
        </p:blipFill>
        <p:spPr>
          <a:xfrm>
            <a:off x="5216400" y="1600200"/>
            <a:ext cx="2905200" cy="452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txBox="1"/>
          <p:nvPr/>
        </p:nvSpPr>
        <p:spPr>
          <a:xfrm>
            <a:off x="457200" y="1600200"/>
            <a:ext cx="8507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 complete a ‘good’ academic application if you have developed the appropriate </a:t>
            </a:r>
            <a:r>
              <a:rPr b="0" lang="en-GB" sz="3200" spc="-1" strike="noStrike">
                <a:solidFill>
                  <a:srgbClr val="ff0000"/>
                </a:solidFill>
                <a:latin typeface="Arial"/>
              </a:rPr>
              <a:t>experience</a:t>
            </a:r>
            <a:r>
              <a:rPr b="0" lang="en-GB" sz="3200" spc="-1" strike="noStrike">
                <a:solidFill>
                  <a:srgbClr val="000000"/>
                </a:solidFill>
                <a:latin typeface="Arial"/>
              </a:rPr>
              <a:t>/</a:t>
            </a:r>
            <a:r>
              <a:rPr b="0" lang="en-GB" sz="3200" spc="-1" strike="noStrike">
                <a:solidFill>
                  <a:srgbClr val="ff3300"/>
                </a:solidFill>
                <a:latin typeface="Arial"/>
              </a:rPr>
              <a:t>skills</a:t>
            </a:r>
            <a:r>
              <a:rPr b="0" lang="en-GB" sz="3200" spc="-1" strike="noStrike">
                <a:solidFill>
                  <a:srgbClr val="000000"/>
                </a:solidFill>
                <a:latin typeface="Arial"/>
              </a:rPr>
              <a:t>/</a:t>
            </a:r>
            <a:r>
              <a:rPr b="0" lang="en-GB" sz="3200" spc="-1" strike="noStrike">
                <a:solidFill>
                  <a:srgbClr val="ff3300"/>
                </a:solidFill>
                <a:latin typeface="Arial"/>
              </a:rPr>
              <a:t>connections </a:t>
            </a:r>
            <a:r>
              <a:rPr b="0" lang="en-GB" sz="3200" spc="-1" strike="noStrike">
                <a:solidFill>
                  <a:srgbClr val="000000"/>
                </a:solidFill>
                <a:latin typeface="Arial"/>
              </a:rPr>
              <a:t>during your PhD. </a:t>
            </a:r>
            <a:r>
              <a:rPr b="0" i="1" lang="en-GB" sz="3200" spc="-1" strike="noStrike">
                <a:solidFill>
                  <a:srgbClr val="000000"/>
                </a:solidFill>
                <a:latin typeface="Arial"/>
              </a:rPr>
              <a:t>Then you have something to write ab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actical approache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me management skill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realistic and achievable goal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rt term targets, longer term strategie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achievement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lk to others, ask for help and support</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tting things done</a:t>
            </a:r>
            <a:endParaRPr b="0" lang="en-US" sz="4400" spc="-1" strike="noStrike">
              <a:solidFill>
                <a:srgbClr val="000000"/>
              </a:solidFill>
              <a:latin typeface="Arial"/>
            </a:endParaRPr>
          </a:p>
        </p:txBody>
      </p:sp>
      <p:sp>
        <p:nvSpPr>
          <p:cNvPr id="115" name="PlaceHolder 2"/>
          <p:cNvSpPr>
            <a:spLocks noGrp="1"/>
          </p:cNvSpPr>
          <p:nvPr>
            <p:ph/>
          </p:nvPr>
        </p:nvSpPr>
        <p:spPr>
          <a:xfrm>
            <a:off x="456840" y="1600200"/>
            <a:ext cx="4033800" cy="45259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entrate on the task,</a:t>
            </a:r>
            <a:endParaRPr b="0" lang="en-US" sz="4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 the outcome</a:t>
            </a:r>
            <a:endParaRPr b="0" lang="en-US" sz="4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4" descr="j0422389"/>
          <p:cNvPicPr/>
          <p:nvPr/>
        </p:nvPicPr>
        <p:blipFill>
          <a:blip r:embed="rId1"/>
          <a:stretch/>
        </p:blipFill>
        <p:spPr>
          <a:xfrm>
            <a:off x="5227560" y="1598760"/>
            <a:ext cx="2897280" cy="4514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6"/>
                                        </p:tgtEl>
                                        <p:attrNameLst>
                                          <p:attrName>style.visibility</p:attrName>
                                        </p:attrNameLst>
                                      </p:cBhvr>
                                      <p:to>
                                        <p:strVal val="visible"/>
                                      </p:to>
                                    </p:set>
                                    <p:animEffect filter="circle(in)" transition="in">
                                      <p:cBhvr additive="repl">
                                        <p:cTn id="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cussing on the task</a:t>
            </a:r>
            <a:endParaRPr b="0" lang="en-US" sz="4400" spc="-1" strike="noStrike">
              <a:solidFill>
                <a:srgbClr val="000000"/>
              </a:solidFill>
              <a:latin typeface="Arial"/>
            </a:endParaRPr>
          </a:p>
        </p:txBody>
      </p:sp>
      <p:sp>
        <p:nvSpPr>
          <p:cNvPr id="118" name=""/>
          <p:cNvSpPr txBox="1"/>
          <p:nvPr/>
        </p:nvSpPr>
        <p:spPr>
          <a:xfrm>
            <a:off x="3435120" y="1600200"/>
            <a:ext cx="52513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eak down activities into small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past suc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you are likely to get a job and have a care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ethodical and allow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for breaks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ace to breathe and thin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835280" y="4149720"/>
            <a:ext cx="7308720" cy="1982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Picture 5" descr="BG1"/>
          <p:cNvPicPr/>
          <p:nvPr/>
        </p:nvPicPr>
        <p:blipFill>
          <a:blip r:embed="rId1"/>
          <a:stretch/>
        </p:blipFill>
        <p:spPr>
          <a:xfrm>
            <a:off x="250920" y="2565360"/>
            <a:ext cx="3457440" cy="2594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ess Management Skill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rly switch off - physical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f care – sleep, diet, caffeine, alcoh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yourself time out without gui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knowledge anxiety, don’t deny 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ck if negative thoughts are realistic</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nking errors</a:t>
            </a:r>
            <a:endParaRPr b="0" lang="en-US" sz="4400" spc="-1" strike="noStrike">
              <a:solidFill>
                <a:srgbClr val="000000"/>
              </a:solidFill>
              <a:latin typeface="Arial"/>
            </a:endParaRPr>
          </a:p>
        </p:txBody>
      </p:sp>
      <p:sp>
        <p:nvSpPr>
          <p:cNvPr id="124" name="PlaceHolder 2"/>
          <p:cNvSpPr>
            <a:spLocks noGrp="1"/>
          </p:cNvSpPr>
          <p:nvPr>
            <p:ph/>
          </p:nvPr>
        </p:nvSpPr>
        <p:spPr>
          <a:xfrm>
            <a:off x="468360" y="1197000"/>
            <a:ext cx="49608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ounting the posi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generaliz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cause I couldn’t get a good job in the past it will certainly happen agai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or nothing thin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ther I’ll get a great job or it will be rubbish and I’ll be a fail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 Reason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 feel it then it must be true</a:t>
            </a:r>
            <a:endParaRPr b="0" lang="en-US" sz="2000" spc="-1" strike="noStrike">
              <a:solidFill>
                <a:srgbClr val="000000"/>
              </a:solidFill>
              <a:latin typeface="Arial"/>
            </a:endParaRPr>
          </a:p>
        </p:txBody>
      </p:sp>
      <p:pic>
        <p:nvPicPr>
          <p:cNvPr id="125" name="Picture 4" descr=""/>
          <p:cNvPicPr/>
          <p:nvPr/>
        </p:nvPicPr>
        <p:blipFill>
          <a:blip r:embed="rId1"/>
          <a:stretch/>
        </p:blipFill>
        <p:spPr>
          <a:xfrm>
            <a:off x="5796000" y="1125360"/>
            <a:ext cx="2895480" cy="4391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ing negative thought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y ‘Socratic reasoning’ or imagine this being tested in a Court of Law</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the negative though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I won’t get a job or it will be a rubbish o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certain the evidence </a:t>
            </a:r>
            <a:r>
              <a:rPr b="0" lang="en-GB" sz="2800" spc="-1" strike="noStrike">
                <a:solidFill>
                  <a:srgbClr val="99cc00"/>
                </a:solidFill>
                <a:latin typeface="Arial"/>
              </a:rPr>
              <a:t>For and Again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k if you are making a ‘</a:t>
            </a:r>
            <a:r>
              <a:rPr b="0" lang="en-GB" sz="2800" spc="-1" strike="noStrike">
                <a:solidFill>
                  <a:srgbClr val="009999"/>
                </a:solidFill>
                <a:latin typeface="Arial"/>
              </a:rPr>
              <a:t>thinking error</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 a more reasonable alternative thought</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ngs to Do</a:t>
            </a: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n’t Panic</a:t>
            </a:r>
            <a:endParaRPr b="0" lang="en-US" sz="4400" spc="-1" strike="noStrike">
              <a:solidFill>
                <a:srgbClr val="000000"/>
              </a:solidFill>
              <a:latin typeface="Arial"/>
            </a:endParaRPr>
          </a:p>
        </p:txBody>
      </p:sp>
      <p:sp>
        <p:nvSpPr>
          <p:cNvPr id="131" name="PlaceHolder 2"/>
          <p:cNvSpPr>
            <a:spLocks noGrp="1"/>
          </p:cNvSpPr>
          <p:nvPr>
            <p:ph/>
          </p:nvPr>
        </p:nvSpPr>
        <p:spPr>
          <a:xfrm>
            <a:off x="468360" y="1412640"/>
            <a:ext cx="8229600" cy="431964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2% of Social Science PhDs work in HE 3 years after graduating (Vitae, 2010).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ccessful applications are about a good match, not 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 your research</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27680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twork and find out as much as possible about relevant academic department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id they do in the RAE/REF?</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they have an internal candidate in mind?</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behind the job adver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 flexible and consider alternativ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uct rigorous research into different academic institutions to broaden your chances of succ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a ‘less prestigious’ university to develop your teaching and/or research skil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willing to reloca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rtfolio career e.g. consultancy work in your chosen field, part-time teaching post, part-time editor for academic publ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mall groups, compile a list of skills and experiences that would be essential for your first academic role after your PhD e.g. a postdoc or a teaching fellow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t advice and help</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the Careers Service staff and information resour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ing a strategy is essential, as is flexibility and adapt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advice to help you think laterally and broaden your op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are struggling to manage the experience, contact the Counselling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to get help</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SE Careers Service, 3rd floor, Tower 3</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Calibri"/>
                <a:hlinkClick r:id="rId1"/>
              </a:rPr>
              <a:t>www.lse.ac.uk/careers</a:t>
            </a:r>
            <a:r>
              <a:rPr b="0" lang="en-GB" sz="2800" spc="-1" strike="noStrike">
                <a:solidFill>
                  <a:srgbClr val="000000"/>
                </a:solidFill>
                <a:latin typeface="Calibri"/>
              </a:rPr>
              <a:t>, Information Room</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reers Guidance, CV checking, interview coach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SE Student Counselling Service, G507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0 Kings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Calibri"/>
                <a:hlinkClick r:id="rId2"/>
              </a:rPr>
              <a:t>www.lse.ac.uk/collections/studentCounsellingService/</a:t>
            </a:r>
            <a:r>
              <a:rPr b="0" lang="en-GB"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akes you suitable for an academic job?</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90000"/>
              </a:lnSpc>
              <a:spcBef>
                <a:spcPts val="700"/>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Existing or</a:t>
            </a:r>
            <a:r>
              <a:rPr b="0" lang="en-GB" sz="2800" spc="-1" strike="noStrike">
                <a:solidFill>
                  <a:srgbClr val="000000"/>
                </a:solidFill>
                <a:latin typeface="Calibri"/>
              </a:rPr>
              <a:t> </a:t>
            </a:r>
            <a:r>
              <a:rPr b="0" lang="en-GB" sz="2800" spc="-1" strike="noStrike">
                <a:solidFill>
                  <a:srgbClr val="cc0000"/>
                </a:solidFill>
                <a:latin typeface="Calibri"/>
              </a:rPr>
              <a:t>planned publications</a:t>
            </a:r>
            <a:endParaRPr b="0" lang="en-US" sz="2800" spc="-1" strike="noStrike">
              <a:solidFill>
                <a:srgbClr val="000000"/>
              </a:solidFill>
              <a:latin typeface="Arial"/>
            </a:endParaRPr>
          </a:p>
          <a:p>
            <a:pPr marL="343080" indent="-343080">
              <a:lnSpc>
                <a:spcPct val="90000"/>
              </a:lnSpc>
              <a:spcBef>
                <a:spcPts val="700"/>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eaching experience</a:t>
            </a:r>
            <a:endParaRPr b="0" lang="en-US" sz="2800" spc="-1" strike="noStrike">
              <a:solidFill>
                <a:srgbClr val="000000"/>
              </a:solidFill>
              <a:latin typeface="Arial"/>
            </a:endParaRPr>
          </a:p>
          <a:p>
            <a:pPr marL="343080" indent="-343080">
              <a:lnSpc>
                <a:spcPct val="90000"/>
              </a:lnSpc>
              <a:spcBef>
                <a:spcPts val="700"/>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eaching qualific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Potential as a developing researcher</a:t>
            </a:r>
            <a:endParaRPr b="0" lang="en-US" sz="2800" spc="-1" strike="noStrike">
              <a:solidFill>
                <a:srgbClr val="000000"/>
              </a:solidFill>
              <a:latin typeface="Arial"/>
            </a:endParaRPr>
          </a:p>
          <a:p>
            <a:pPr marL="343080" indent="-34308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Sense of where you/your expertise are situated within your subject</a:t>
            </a:r>
            <a:endParaRPr b="0" lang="en-US" sz="2800" spc="-1" strike="noStrike">
              <a:solidFill>
                <a:srgbClr val="000000"/>
              </a:solidFill>
              <a:latin typeface="Arial"/>
            </a:endParaRPr>
          </a:p>
          <a:p>
            <a:pPr marL="343080" indent="-343080">
              <a:lnSpc>
                <a:spcPct val="90000"/>
              </a:lnSpc>
              <a:spcBef>
                <a:spcPts val="700"/>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Calibri"/>
              </a:rPr>
              <a:t>Transferable experience/knowledge of academic world</a:t>
            </a:r>
            <a:endParaRPr b="0" lang="en-US" sz="2800" spc="-1" strike="noStrike">
              <a:solidFill>
                <a:srgbClr val="000000"/>
              </a:solidFill>
              <a:latin typeface="Arial"/>
            </a:endParaRPr>
          </a:p>
          <a:p>
            <a:pPr marL="343080" indent="-343080">
              <a:lnSpc>
                <a:spcPct val="90000"/>
              </a:lnSpc>
              <a:spcBef>
                <a:spcPts val="700"/>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Calibri"/>
              </a:rPr>
              <a:t>Experience of conference/journal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sessing a job adver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es the job appeal to 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I offer that they are asking fo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I </a:t>
            </a:r>
            <a:r>
              <a:rPr b="1" lang="en-GB" sz="3200" spc="-1" strike="noStrike">
                <a:solidFill>
                  <a:srgbClr val="000000"/>
                </a:solidFill>
                <a:latin typeface="Calibri"/>
              </a:rPr>
              <a:t>not </a:t>
            </a:r>
            <a:r>
              <a:rPr b="0" lang="en-GB" sz="3200" spc="-1" strike="noStrike">
                <a:solidFill>
                  <a:srgbClr val="000000"/>
                </a:solidFill>
                <a:latin typeface="Calibri"/>
              </a:rPr>
              <a:t>have that they w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otential is there for me in this job to enhance and develop my care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idden demands and requirements might there be once I am doing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k yourself…</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can I teach on their syllabu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new courses for UGs or PGs can I of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do I fit with their culture of teaching my sub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re other people teaching in the department, and how will that affect m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m I comfortable teaching things I know nothing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k yourself…</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earch – open agenda:</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I fit with their research cul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opportunities for collaboration or support are there for me as a new researc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n I add to research groups/create new 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an I contribute to conferences and/or publications or establish new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 principles of a good application</a:t>
            </a:r>
            <a:endParaRPr b="0" lang="en-US" sz="4000" spc="-1" strike="noStrike">
              <a:solidFill>
                <a:srgbClr val="000000"/>
              </a:solidFill>
              <a:latin typeface="Arial"/>
            </a:endParaRPr>
          </a:p>
        </p:txBody>
      </p:sp>
      <p:sp>
        <p:nvSpPr>
          <p:cNvPr id="64"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ways tailor your application materials to each individual job – CV, letter, statements etc.</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ways provide </a:t>
            </a:r>
            <a:r>
              <a:rPr b="1" lang="en-GB" sz="2800" spc="-1" strike="noStrike">
                <a:solidFill>
                  <a:srgbClr val="000000"/>
                </a:solidFill>
                <a:latin typeface="Calibri"/>
              </a:rPr>
              <a:t>evidence</a:t>
            </a:r>
            <a:r>
              <a:rPr b="0" lang="en-GB" sz="2800" spc="-1" strike="noStrike">
                <a:solidFill>
                  <a:srgbClr val="000000"/>
                </a:solidFill>
                <a:latin typeface="Calibri"/>
              </a:rPr>
              <a:t> of relevant achieveme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ok objectively at your application materials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will they look to someone who doesn’t know yo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first thing the reader will see/learn about you?</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scuss with supervisor, careers adviser, or other person with academic persp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0:28:52Z</dcterms:created>
  <dc:creator>LSE</dc:creator>
  <dc:description/>
  <dc:language>en-US</dc:language>
  <cp:lastModifiedBy>Tracy Bussoli</cp:lastModifiedBy>
  <dcterms:modified xsi:type="dcterms:W3CDTF">2011-05-23T14:09:49Z</dcterms:modified>
  <cp:revision>55</cp:revision>
  <dc:subject/>
  <dc:title>Applying for Academic Jobs</dc:title>
</cp:coreProperties>
</file>