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CDA-D999-4510-BA3D-9CCAF78E1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Pays the Mem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mber contribution is paid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pays the employer contribution to the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both Member and employer contributions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a reduced Salary to th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7C4-161E-4516-9E0C-F82E8CAD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2A7-044D-492E-B332-EA821DD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947-E312-46BE-A49B-5B83F0AB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7B4-C1A1-4306-95DE-1EB4241D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1BD2-2D90-44AA-98B1-F1B3BF65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1511-EE2A-42A4-8E90-D055E25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9E1-B2BA-4DCB-81FD-CE0DC41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9F81-AA32-4F85-BFB4-673397EE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930C-B74B-4FC4-815E-63E4E474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3EF9-1B1A-44AD-9665-B25744F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1AD-F27E-49F6-85D7-6EC081D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4BF-087D-4D97-A51F-AB66DAE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9BF-8799-41C8-86E3-76E0D277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DE51-9A3C-42A8-87A1-0D7E956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2741-497D-4AD6-A1AC-A2809EB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23A-B585-4AA5-A65B-73AFC713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BB6A-A19B-4C8C-9BA0-6708FBE5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E31-8FDE-40B7-BDC7-965D432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8F5-841F-48D1-B5DA-B019902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32C-969A-4FED-B379-3238E5C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E14-BF96-44DE-9811-3C70F21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0B6-5BF9-4135-B0B9-1EFDF6A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2FD-9A0B-4E7C-B3B2-D0BC84E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D3C-24CF-4BD4-ABA6-6B1F8D86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088B-F2B5-4909-A93A-72CF17D774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2330-8D31-4FC4-8C3D-66ABB51B4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50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sionPl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Jenny Casey &amp; Ben Han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ions              Pay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hanges to your Pay Advi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-PensionPlus (Current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814320"/>
            <a:ext cx="7343640" cy="592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948360" y="2492280"/>
            <a:ext cx="115272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623736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8160" cy="5605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20000" y="6308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565360"/>
            <a:ext cx="1152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ake home pay will incr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will make a sa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ual National Insurance Sav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8880" cy="4530240"/>
        </p:xfrm>
        <a:graphic>
          <a:graphicData uri="http://schemas.openxmlformats.org/drawingml/2006/table">
            <a:tbl>
              <a:tblPr/>
              <a:tblGrid>
                <a:gridCol w="3994200"/>
                <a:gridCol w="4234680"/>
              </a:tblGrid>
              <a:tr h="63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Employee NIC 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89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19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49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79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8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38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1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5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5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4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6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8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ll PensionPlus reduce my pension benefi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ull pensionable salary will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 calculations will still use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in service lump sum payments will be calculated on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PensionPlus may not be advantageous to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with 2 years or less pensionable service who wish to leave the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to my contributio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contributions can eit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transfer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cheme after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in the calcu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enefits at retirement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f I do not wish to participate in PensionPl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not need to participate in PensionPlus as it is not compulsory, however the School initially intends to enter all USS members into Pension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opt out of PensionPlus then your current pension arrangements will continue a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 I opt back into the sche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you will be able to opt back into PensionPlus but only on the anniversary date of PensionPlus which will be 1 July on each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nsionPl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else has introduc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dvic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ensionPlus for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-912" t="2746" r="-461" b="2717"/>
          <a:stretch/>
        </p:blipFill>
        <p:spPr>
          <a:xfrm>
            <a:off x="539640" y="90792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ook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website under HR or P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, your pension contributions are tax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PensionPlus the total employee and employer contributions will be paid to USS by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 Savings for the employee an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 AVCs will not be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have changed their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SE believes that this will be advantageous to employees to maximise their take home pay by a reduction in their National Insurance con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also benefit from lower National Insuranc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waterhouseCoopers (PW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W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C will seek HMRC approval which will enable us to go ahead with the scheme in July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 Institutions who have implemented their own versions of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Ex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Southam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Birm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London Sen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urrent employee pension deduction will be reduced to n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then pay an increased payment to the Pension Company made up of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 along with the standard employer con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tal pay each month will be reduced by an amount equivalent to your original pension con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34136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508640"/>
            <a:ext cx="201600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508640"/>
            <a:ext cx="201636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9200">
            <a:off x="1905480" y="3287160"/>
            <a:ext cx="1441440" cy="1150920"/>
          </a:xfrm>
          <a:prstGeom prst="rightArrow">
            <a:avLst>
              <a:gd name="adj1" fmla="val 50000"/>
              <a:gd name="adj2" fmla="val 31311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605800">
            <a:off x="4355640" y="3645000"/>
            <a:ext cx="2243160" cy="718920"/>
          </a:xfrm>
          <a:prstGeom prst="rightArrow">
            <a:avLst>
              <a:gd name="adj1" fmla="val 50000"/>
              <a:gd name="adj2" fmla="val 7800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229360"/>
            <a:ext cx="2232000" cy="792000"/>
          </a:xfrm>
          <a:prstGeom prst="rightArrow">
            <a:avLst>
              <a:gd name="adj1" fmla="val 50000"/>
              <a:gd name="adj2" fmla="val 7045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148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72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472428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31000">
            <a:off x="1907640" y="3357360"/>
            <a:ext cx="2684520" cy="950760"/>
          </a:xfrm>
          <a:prstGeom prst="rightArrow">
            <a:avLst>
              <a:gd name="adj1" fmla="val 50000"/>
              <a:gd name="adj2" fmla="val 70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s reduced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869000"/>
            <a:ext cx="2376360" cy="718920"/>
          </a:xfrm>
          <a:prstGeom prst="rightArrow">
            <a:avLst>
              <a:gd name="adj1" fmla="val 50000"/>
              <a:gd name="adj2" fmla="val 8263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661000"/>
            <a:ext cx="2232000" cy="792360"/>
          </a:xfrm>
          <a:prstGeom prst="rightArrow">
            <a:avLst>
              <a:gd name="adj1" fmla="val 50000"/>
              <a:gd name="adj2" fmla="val 7042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19:12Z</dcterms:created>
  <dc:creator>LSE</dc:creator>
  <dc:description/>
  <dc:language>en-US</dc:language>
  <cp:lastModifiedBy>LSE</cp:lastModifiedBy>
  <dcterms:modified xsi:type="dcterms:W3CDTF">2009-06-15T09:43:34Z</dcterms:modified>
  <cp:revision>58</cp:revision>
  <dc:subject/>
  <dc:title>Pensions Plus A short guide to the scheme</dc:title>
</cp:coreProperties>
</file>