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50AB-1B3D-4B34-838F-2613218630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r Pays the Memb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mber contribution is paid to the sc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ool pays the employer contribution to the sch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Arrangement under Pension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loyer pays both Member and employer contributions to the sc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loyer pays a reduced Salary to the 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53F-99FB-4AFB-B5AD-C94512C1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EEE-4752-4162-B568-AD20E928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C07-3813-40BE-AF71-61741941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223-77E6-4050-BEA9-737D759E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7E31-AB02-4EC5-8C84-7B3A972A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237B-54A2-4091-AFE8-3A207F73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1C51-DAC8-44BD-8970-592913CE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73FC-229E-4DFB-BFB9-F6DB4C2E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0DE6-4C26-447F-B281-E3D2B0F5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A5C0-AF39-48CD-8167-88EEB128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5B21-440F-4185-A6BF-5F0AF258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F23-9A02-4697-894B-1773B96A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9947-6173-4421-A96E-690A2AC0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2E7C-4E9C-4984-A153-ADD46D87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6D00-9A42-4AF1-AEC9-F04EC96A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10B0-2C60-4C27-ABA1-5F3EFE42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D262-9D95-42CD-AE4E-436D6367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FAD-376C-4337-BCA2-17B11A3E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B68-4F5B-42C7-96E2-8C912992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3A3-4349-4A42-8437-746E2E91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1B3-2450-4251-A361-256F7EA6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FE8-703E-499D-BCFA-9FB91781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4F9-CAE6-4ED2-BD6D-60B611D5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C54-E3F1-4D45-9AA7-E7C1942A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A330-4AE0-4434-9064-4FF9A6FD42D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FA5C-9E12-4E31-BD7A-D318CF2465F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26504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sionPl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U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58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Jenny Casey &amp; Ben Hanc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sions              Pay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hanges to your Pay Advic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840360" cy="5761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-PensionPlus (Current)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2276640"/>
            <a:ext cx="1152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877000"/>
            <a:ext cx="1152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553080" cy="5568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th PensionPlu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2276640"/>
            <a:ext cx="1152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720" y="6093000"/>
            <a:ext cx="1152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benef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take home pay will incr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ool will make a sav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nual National Insurance Sav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16000" y="1600200"/>
          <a:ext cx="7777080" cy="4492440"/>
        </p:xfrm>
        <a:graphic>
          <a:graphicData uri="http://schemas.openxmlformats.org/drawingml/2006/table">
            <a:tbl>
              <a:tblPr/>
              <a:tblGrid>
                <a:gridCol w="2665440"/>
                <a:gridCol w="3937680"/>
                <a:gridCol w="1173960"/>
              </a:tblGrid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nual Sal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nual Employee NIC sa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84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12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4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69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3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179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4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£225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ll PensionPlus reduce my pension benefit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full pensionable salary will be un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rement calculations will still use the full pensionable sa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th in service lump sum payments will be calculated on the full pensionable sa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PensionPlus may not be advantageous to yo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with 2 years or less pensionable service who wish to leave the sc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 I cannot have a refun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ur contributions can eithe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 to transfer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scheme after lea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used in the calcu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your pension at retir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f I do not wish to participate in PensionPlu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not need to participate in PensionPlus as it is not compulsory, however the School initially intends to enter all SAUL members into Pensions P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ecide to opt out of PensionPlus then your current pension arrangements will continue as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n I opt back into the schem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you will be able to opt back into PensionPlus but only on the anniversary date of PensionPlus which will be 1 July on each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nsionPl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ensionP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LSE introducing PensionP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else has introduce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PensionPlu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dvic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benef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ensionPlus for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can I find out more detai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972" t="19993" r="16833" b="8367"/>
          <a:stretch/>
        </p:blipFill>
        <p:spPr>
          <a:xfrm>
            <a:off x="755640" y="765000"/>
            <a:ext cx="7920000" cy="59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ere can I find out more detail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book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website under HR or P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PensionPlu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resent, your pension contributions are tax 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PensionPlus the total employee and employer contributions will be paid to SAUL by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C Savings for the employee and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resent AVCs will not be in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LSE introducing PensionPlu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UL have changed their r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SE believes that this will be advantageous to employees to maximise their take home pay by a reduction in their National Insurance contrib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ool will also benefit from lower National Insuranc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l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waterhouseCoopers (PW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PW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WC will seek HMRC approval which will enable us to go ahead with the scheme in July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ther Institutions who have implemented their own versions of PensionPlu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Ex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Southamp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Birm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College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London Senat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does PensionPlus work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urrent employee pension deduction will be reduced to n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hool will then pay an increased payment to the Pension Company made up of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yo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on along with the standard employer contrib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otal pay each month will be reduced by an amount equivalent to your original pension con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32000" y="1341360"/>
            <a:ext cx="201636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508640"/>
            <a:ext cx="2016000" cy="180000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4508640"/>
            <a:ext cx="2016360" cy="180000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889200">
            <a:off x="1905480" y="3287160"/>
            <a:ext cx="1441440" cy="1150920"/>
          </a:xfrm>
          <a:prstGeom prst="rightArrow">
            <a:avLst>
              <a:gd name="adj1" fmla="val 50000"/>
              <a:gd name="adj2" fmla="val 31311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605800">
            <a:off x="4355640" y="3645000"/>
            <a:ext cx="2243160" cy="718920"/>
          </a:xfrm>
          <a:prstGeom prst="rightArrow">
            <a:avLst>
              <a:gd name="adj1" fmla="val 50000"/>
              <a:gd name="adj2" fmla="val 78005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5229360"/>
            <a:ext cx="2232000" cy="792000"/>
          </a:xfrm>
          <a:prstGeom prst="rightArrow">
            <a:avLst>
              <a:gd name="adj1" fmla="val 50000"/>
              <a:gd name="adj2" fmla="val 70455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r 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isting Arran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w Arrangement under PensionPl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1484280"/>
            <a:ext cx="201600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724280"/>
            <a:ext cx="201600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4724280"/>
            <a:ext cx="2016360" cy="1800360"/>
          </a:xfrm>
          <a:prstGeom prst="donut">
            <a:avLst>
              <a:gd name="adj" fmla="val 1259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9431000">
            <a:off x="1907640" y="3357360"/>
            <a:ext cx="2684520" cy="950760"/>
          </a:xfrm>
          <a:prstGeom prst="rightArrow">
            <a:avLst>
              <a:gd name="adj1" fmla="val 50000"/>
              <a:gd name="adj2" fmla="val 70589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s reduced sa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4869000"/>
            <a:ext cx="2376360" cy="718920"/>
          </a:xfrm>
          <a:prstGeom prst="rightArrow">
            <a:avLst>
              <a:gd name="adj1" fmla="val 50000"/>
              <a:gd name="adj2" fmla="val 82636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er 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661000"/>
            <a:ext cx="2232000" cy="792360"/>
          </a:xfrm>
          <a:prstGeom prst="rightArrow">
            <a:avLst>
              <a:gd name="adj1" fmla="val 50000"/>
              <a:gd name="adj2" fmla="val 70423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r con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4:19:12Z</dcterms:created>
  <dc:creator>LSE</dc:creator>
  <dc:description/>
  <dc:language>en-US</dc:language>
  <cp:lastModifiedBy>LSE</cp:lastModifiedBy>
  <dcterms:modified xsi:type="dcterms:W3CDTF">2009-06-16T11:42:39Z</dcterms:modified>
  <cp:revision>52</cp:revision>
  <dc:subject/>
  <dc:title>Pensions Plus A short guide to the scheme</dc:title>
</cp:coreProperties>
</file>