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A379-DE57-4CE0-AF74-AB504120AD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Pays the Mem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mber contribution is paid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pays the employer contribution to the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both Member and employer contributions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a reduced Salary to the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87B-5978-4533-840D-0D46FA1B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704-6C56-43C7-AAB5-E933961E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F9F-DBC2-4837-B558-1D3501DB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6D3-1887-4B90-959A-592802CB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A6A-F84C-4221-B461-070F56DC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792E-B487-4C23-9903-E70A9AD0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510-8A10-4E72-9C49-1B0ED845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F1C4-BDA9-40FE-A54F-3E7AC2C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A489-17BB-48C0-A3DA-4A3A71F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20F-B85E-47F7-B1E8-A856DA0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34DA-D694-4F97-9585-B2A51AD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D74-07AF-4E10-8056-1174D65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A0D9-7E1F-4B4F-893A-135EA31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A2F-6AED-4D76-A693-D98C83E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36F-C667-49F9-ADBB-AFF35431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7C8-F515-4437-BE35-FAF823C1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36FB-EDEB-4AC3-8E9B-7000915E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3BC-4CC8-4192-BE29-6977D606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E0D-7F3C-4D1C-B7E4-F22B0F99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5A8-1050-4EE7-A357-570683E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7D4-7A75-4EC4-816F-C26861B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60B-F97C-4CE5-B195-462BE1B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3C8-800D-4D64-8BF3-A85D987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701-BF94-4834-AD9F-95FD2F7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D12-AEC0-4FD8-8699-41224D2EBC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54A-1A36-4319-88D5-C2040EB794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2650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sionPl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U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Jenny Casey &amp; Ben Han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sions              Pay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hanges to your Pay Advic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84036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-PensionPlus (Current)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227664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87700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553080" cy="5568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th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27664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609300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ake home pay will incr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will make a sa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nual National Insurance Sav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16000" y="1600200"/>
          <a:ext cx="7777080" cy="4492440"/>
        </p:xfrm>
        <a:graphic>
          <a:graphicData uri="http://schemas.openxmlformats.org/drawingml/2006/table">
            <a:tbl>
              <a:tblPr/>
              <a:tblGrid>
                <a:gridCol w="2665440"/>
                <a:gridCol w="3937680"/>
                <a:gridCol w="1173960"/>
              </a:tblGrid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Employee NIC sa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84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12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4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69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79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4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25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ll PensionPlus reduce my pension benefi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ull pensionable salary will be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 calculations will still use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in service lump sum payments will be calculated on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PensionPlus may not be advantageous to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with 2 years or less pensionable service who wish to leave the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I cannot have a refun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contributions can eith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to transfer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cheme after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in the calcu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your pension at reti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f I do not wish to participate in PensionPlu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not need to participate in PensionPlus as it is not compulsory, however the School initially intends to enter all SAUL members into Pensions 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to opt out of PensionPlus then your current pension arrangements will continue as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 I opt back into the sche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you will be able to opt back into PensionPlus but only on the anniversary date of PensionPlus which will be 1 July on each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nsionPl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else has introduc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dvic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ensionPlus for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972" t="19993" r="16833" b="8367"/>
          <a:stretch/>
        </p:blipFill>
        <p:spPr>
          <a:xfrm>
            <a:off x="755640" y="76500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ook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website under HR or P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, your pension contributions are tax 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PensionPlus the total employee and employer contributions will be paid to SAUL by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 Savings for the employee an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 AVCs will not be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UL have changed their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SE believes that this will be advantageous to employees to maximise their take home pay by a reduction in their National Insurance con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also benefit from lower National Insuranc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waterhouseCoopers (PW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W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C will seek HMRC approval which will enable us to go ahead with the scheme in July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 Institutions who have implemented their own versions of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Ex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Southam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Birm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London Sena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urrent employee pension deduction will be reduced to n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then pay an increased payment to the Pension Company made up of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 along with the standard employer contrib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tal pay each month will be reduced by an amount equivalent to your original pension con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134136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508640"/>
            <a:ext cx="201600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508640"/>
            <a:ext cx="201636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9200">
            <a:off x="1905480" y="3287160"/>
            <a:ext cx="1441440" cy="1150920"/>
          </a:xfrm>
          <a:prstGeom prst="rightArrow">
            <a:avLst>
              <a:gd name="adj1" fmla="val 50000"/>
              <a:gd name="adj2" fmla="val 31311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605800">
            <a:off x="4355640" y="3645000"/>
            <a:ext cx="2243160" cy="718920"/>
          </a:xfrm>
          <a:prstGeom prst="rightArrow">
            <a:avLst>
              <a:gd name="adj1" fmla="val 50000"/>
              <a:gd name="adj2" fmla="val 7800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5229360"/>
            <a:ext cx="2232000" cy="792000"/>
          </a:xfrm>
          <a:prstGeom prst="rightArrow">
            <a:avLst>
              <a:gd name="adj1" fmla="val 50000"/>
              <a:gd name="adj2" fmla="val 7045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148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72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472428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31000">
            <a:off x="1907640" y="3357360"/>
            <a:ext cx="2684520" cy="950760"/>
          </a:xfrm>
          <a:prstGeom prst="rightArrow">
            <a:avLst>
              <a:gd name="adj1" fmla="val 50000"/>
              <a:gd name="adj2" fmla="val 70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s reduced sa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869000"/>
            <a:ext cx="2376360" cy="718920"/>
          </a:xfrm>
          <a:prstGeom prst="rightArrow">
            <a:avLst>
              <a:gd name="adj1" fmla="val 50000"/>
              <a:gd name="adj2" fmla="val 8263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661000"/>
            <a:ext cx="2232000" cy="792360"/>
          </a:xfrm>
          <a:prstGeom prst="rightArrow">
            <a:avLst>
              <a:gd name="adj1" fmla="val 50000"/>
              <a:gd name="adj2" fmla="val 7042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19:12Z</dcterms:created>
  <dc:creator>LSE</dc:creator>
  <dc:description/>
  <dc:language>en-US</dc:language>
  <cp:lastModifiedBy>LSE</cp:lastModifiedBy>
  <dcterms:modified xsi:type="dcterms:W3CDTF">2009-06-16T11:42:39Z</dcterms:modified>
  <cp:revision>52</cp:revision>
  <dc:subject/>
  <dc:title>Pensions Plus A short guide to the scheme</dc:title>
</cp:coreProperties>
</file>