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90A-CC20-442D-9EB6-D43ED0FE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48E-60B6-4939-825F-AA0F8B7C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CE9-0241-416F-A9B2-3D26A3B3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9AF-AB57-4C95-BDA0-9D1B1EA7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9BD5-F870-4B55-BBE2-37DFADD2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C580-B9F0-4377-AA32-C711DE19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0F1A-C868-4CEF-B02E-E85FB536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9451-B293-4AED-8357-8AB711BC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3853-AF9E-4CB1-BE62-1EC02790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9706-8976-4299-866A-CFF4D7E2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39AA-E897-4380-81D9-B66BB356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005-FD0E-41DD-9B55-470F1F2C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E291-81D5-4211-B8A2-613E83EF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2CE9-760D-407C-8362-CC9C8B2F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2696-31BE-42A5-BBBC-8031CD81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4CB5-00B5-496A-8372-11CD87D8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FFAB-9350-43B8-810C-045A55AE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77A5-1861-41CD-90C6-F0A76DE3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74506-67E3-4C6D-A98D-40E1D317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E7FC9-55EB-4409-9F41-7D4AD7F6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88C7-8490-4C57-83A0-5419B726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45F3-AAAC-4053-9574-77BE5EB7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0B2-8C59-44E9-A0DD-76734141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29E19-C233-4B34-BEE9-4B5935BF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BDE0-46CA-43F7-A49A-13EAADC5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CA7DF-16B9-4F03-8A7C-1E45BD4A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F0BE-E4E4-4D94-A844-D046A8E0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F6B2-F819-414E-AE9F-73351BF8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6CB2-07EA-43CD-916D-9CEF7A3A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14DC-B00B-40DA-97A8-6D14049B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FFA-402F-4FE4-9AC7-5D59FA4F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EAC-D6B5-487F-83B8-3A3F39BA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B19-B36F-4E29-9BC5-09CB99DA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511-8904-4D41-8AA8-F07CCAC1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810-4361-43EB-926C-821E7D45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DD4-2AE1-4FA4-97BD-CD250B96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995E-6248-4B1E-A9AC-F81025B68F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5C6F-923C-4491-898A-973714BCE79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658F-D6AF-4492-B470-7FAEB7A7BE1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LSE CRIME STATISTIC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UMMER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ontent Placeholder 10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5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7" descr=""/>
          <p:cNvPicPr/>
          <p:nvPr/>
        </p:nvPicPr>
        <p:blipFill>
          <a:blip r:embed="rId1"/>
          <a:stretch/>
        </p:blipFill>
        <p:spPr>
          <a:xfrm>
            <a:off x="57240" y="223920"/>
            <a:ext cx="90295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3:28:41Z</dcterms:created>
  <dc:creator>LSE</dc:creator>
  <dc:description/>
  <dc:language>en-US</dc:language>
  <cp:lastModifiedBy>Administrator</cp:lastModifiedBy>
  <dcterms:modified xsi:type="dcterms:W3CDTF">2016-01-14T10:34:29Z</dcterms:modified>
  <cp:revision>9</cp:revision>
  <dc:subject/>
  <dc:title>LSE CRIME STATISTICS</dc:title>
</cp:coreProperties>
</file>