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4904-B7DD-4AC7-B735-56EFFE6F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A8BC-756A-48BA-961F-81EC4849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2FCB-87AA-4338-8398-C5865E24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0237-DC6A-4018-9C7C-DF219666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B9FE-AAAB-49F2-A455-B3D6D44C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A9E6-C96A-4194-A7D9-DB27193E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A19F-46F1-4A21-BCB5-F6339756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C017-32E1-48C7-AFEC-FB93A400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7AD1-0B71-4BD7-80A6-904D21A8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DC43-4B5A-4695-82F6-709F8268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596B-1991-4392-93B0-3D44E86D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EAF7-E8A2-49BD-8BC8-A957DC19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344E-54E9-4489-857F-1FE7B6C4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B6F7-50FE-4148-901B-12B2B6F6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BE2E-5CAE-42DD-A313-78C05B00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3551-FC19-4472-8761-8E0EB652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4010-4408-4907-8870-B3CE533F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F15D2-CC7C-46E6-ADF4-8542DFAF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12D24-8DD2-45AF-9EE0-12B6B3F8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7035D-E2EC-40B1-9478-98DFD052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21AB3-DEA2-434C-AAA7-BB9DE50F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AF774-4D56-47D2-970B-FA6E484D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1F8F-D46F-462D-845C-C8A7A6EF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776F4-A5B1-4178-86CE-C4670C3A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B0444-63BF-42BF-AEC5-3217F114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38621-5EE5-4366-85F7-5C6B8738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A32CA-81CD-4EB0-A08E-5068AEE3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C1C28-1F9A-4119-88AE-BD1AFD5E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B36A9-7108-47C3-9987-FAE567E9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6EA11-7899-48A9-9E50-B71A3432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4503-0E17-448D-88ED-56E92E62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3701-817E-4F10-8035-81D08543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9E1D-E507-40DF-9249-8D47ACDA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2AE2-569A-4F8E-9D7B-677EF9AE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82F6-8F14-463A-A22E-DF9B0E53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CBB8-7A0A-44C9-9248-C3B8211A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7498-CEB7-4841-8D6A-F2E2B10FF4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E54E-E83C-4516-8B31-8E661AC26ED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2992-2831-4DB5-8FDD-C13D70F3A94F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Tahoma"/>
              </a:rPr>
              <a:t>LSE CRIME STATISTIC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UMMER TE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Content Placeholder 10" descr=""/>
          <p:cNvPicPr/>
          <p:nvPr/>
        </p:nvPicPr>
        <p:blipFill>
          <a:blip r:embed="rId1"/>
          <a:stretch/>
        </p:blipFill>
        <p:spPr>
          <a:xfrm>
            <a:off x="406440" y="223920"/>
            <a:ext cx="833112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Content Placeholder 3" descr=""/>
          <p:cNvPicPr/>
          <p:nvPr/>
        </p:nvPicPr>
        <p:blipFill>
          <a:blip r:embed="rId1"/>
          <a:stretch/>
        </p:blipFill>
        <p:spPr>
          <a:xfrm>
            <a:off x="406440" y="223920"/>
            <a:ext cx="833112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Content Placeholder 5" descr=""/>
          <p:cNvPicPr/>
          <p:nvPr/>
        </p:nvPicPr>
        <p:blipFill>
          <a:blip r:embed="rId1"/>
          <a:stretch/>
        </p:blipFill>
        <p:spPr>
          <a:xfrm>
            <a:off x="406440" y="223920"/>
            <a:ext cx="83311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Content Placeholder 3" descr=""/>
          <p:cNvPicPr/>
          <p:nvPr/>
        </p:nvPicPr>
        <p:blipFill>
          <a:blip r:embed="rId1"/>
          <a:stretch/>
        </p:blipFill>
        <p:spPr>
          <a:xfrm>
            <a:off x="406440" y="223920"/>
            <a:ext cx="833112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Content Placeholder 3" descr=""/>
          <p:cNvPicPr/>
          <p:nvPr/>
        </p:nvPicPr>
        <p:blipFill>
          <a:blip r:embed="rId1"/>
          <a:stretch/>
        </p:blipFill>
        <p:spPr>
          <a:xfrm>
            <a:off x="406440" y="223920"/>
            <a:ext cx="833112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Content Placeholder 3" descr=""/>
          <p:cNvPicPr/>
          <p:nvPr/>
        </p:nvPicPr>
        <p:blipFill>
          <a:blip r:embed="rId1"/>
          <a:stretch/>
        </p:blipFill>
        <p:spPr>
          <a:xfrm>
            <a:off x="406440" y="223920"/>
            <a:ext cx="833112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Content Placeholder 3" descr=""/>
          <p:cNvPicPr/>
          <p:nvPr/>
        </p:nvPicPr>
        <p:blipFill>
          <a:blip r:embed="rId1"/>
          <a:stretch/>
        </p:blipFill>
        <p:spPr>
          <a:xfrm>
            <a:off x="406440" y="223920"/>
            <a:ext cx="833112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Content Placeholder 7" descr=""/>
          <p:cNvPicPr/>
          <p:nvPr/>
        </p:nvPicPr>
        <p:blipFill>
          <a:blip r:embed="rId1"/>
          <a:stretch/>
        </p:blipFill>
        <p:spPr>
          <a:xfrm>
            <a:off x="57240" y="223920"/>
            <a:ext cx="902952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13:28:41Z</dcterms:created>
  <dc:creator>LSE</dc:creator>
  <dc:description/>
  <dc:language>en-US</dc:language>
  <cp:lastModifiedBy>Administrator</cp:lastModifiedBy>
  <dcterms:modified xsi:type="dcterms:W3CDTF">2016-01-14T10:34:29Z</dcterms:modified>
  <cp:revision>9</cp:revision>
  <dc:subject/>
  <dc:title>LSE CRIME STATISTICS</dc:title>
</cp:coreProperties>
</file>