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0A6-A240-4A68-9790-A1063818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8DB-1F8D-4FF1-BC2E-0447A2D3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67D-6F01-4F05-96DF-A1BB40BD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CBA-E1DF-4919-84A7-257879C6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987C-5CAB-4C54-9954-CA05F0A2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FC97-F2C6-4A21-8B14-1DF32633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B694-E2C8-4C3D-B539-34DA42D0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6CA4-F2F3-4AFA-82BA-B5A032E9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97D0-81F0-4990-87A8-4D8F4724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E02E-03C0-45DD-9A30-6A027653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DC4D-B787-45B0-86DF-DB928260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E94-0A04-49D9-BBD3-43C5354D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94F6-3DD3-4393-944D-453E191B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DC87-5F2B-40A2-AEB3-CD59C0A8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FE74-5D6E-4200-80CC-03B3805D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9198-1972-4096-9FD1-0C6A5FF4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4AED-C70C-4E64-9D09-8CD95937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267B-0178-4C42-8080-BDB4DDF9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F774F-3D44-49DA-B213-651D192C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E831-1C7E-40C3-A696-9ED76265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55FF-CBDF-4F0C-8337-E99BE374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80EE8-6FEA-4E57-AE1D-F04F6DB7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AF4-5544-4D87-B931-9ABE777F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AE5B-3270-4FCC-94CB-A296DEB0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8CCC-6292-40D9-BCB1-4CFB39F3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54DEE-4825-4DBF-8D34-CF050A25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FDF4-0222-406D-9FF5-CFC8C3AF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53BBE-5A19-40A8-8A48-96E8375A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7FD0-6776-44A0-BC07-A5D5569D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6731-B49C-46D0-934F-B22C6C1F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898-D49D-4818-9A52-C78B5B22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27E-5ECA-4FBB-A95D-F3C01B53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E92-E707-43C4-99E0-1D863A1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A0F-DFED-43FC-8C42-47DF72BF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C89-EA0A-4331-9435-77128E13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D5F-07D8-4915-AD9E-274682E7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0373-3F1A-4FF1-A7A2-1FCEC4D6BF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5B31-67E4-4DE1-ABF7-80987412C4F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4DF6-6941-4EED-A973-1326862C6A8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LSE CRIME STATISTIC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ICHAELMAS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ontent Placeholder 7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3" descr=""/>
          <p:cNvPicPr/>
          <p:nvPr/>
        </p:nvPicPr>
        <p:blipFill>
          <a:blip r:embed="rId1"/>
          <a:stretch/>
        </p:blipFill>
        <p:spPr>
          <a:xfrm>
            <a:off x="272880" y="223920"/>
            <a:ext cx="867096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3" descr=""/>
          <p:cNvPicPr/>
          <p:nvPr/>
        </p:nvPicPr>
        <p:blipFill>
          <a:blip r:embed="rId1"/>
          <a:stretch/>
        </p:blipFill>
        <p:spPr>
          <a:xfrm>
            <a:off x="272880" y="223920"/>
            <a:ext cx="867096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200160" y="223920"/>
            <a:ext cx="874368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3" descr=""/>
          <p:cNvPicPr/>
          <p:nvPr/>
        </p:nvPicPr>
        <p:blipFill>
          <a:blip r:embed="rId1"/>
          <a:stretch/>
        </p:blipFill>
        <p:spPr>
          <a:xfrm>
            <a:off x="200160" y="223920"/>
            <a:ext cx="88153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200160" y="223920"/>
            <a:ext cx="88153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200160" y="223920"/>
            <a:ext cx="874368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5" descr=""/>
          <p:cNvPicPr/>
          <p:nvPr/>
        </p:nvPicPr>
        <p:blipFill>
          <a:blip r:embed="rId1"/>
          <a:stretch/>
        </p:blipFill>
        <p:spPr>
          <a:xfrm>
            <a:off x="128520" y="223920"/>
            <a:ext cx="88153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3:28:41Z</dcterms:created>
  <dc:creator>LSE</dc:creator>
  <dc:description/>
  <dc:language>en-US</dc:language>
  <cp:lastModifiedBy>Administrator</cp:lastModifiedBy>
  <dcterms:modified xsi:type="dcterms:W3CDTF">2016-01-14T10:47:20Z</dcterms:modified>
  <cp:revision>11</cp:revision>
  <dc:subject/>
  <dc:title>LSE CRIME STATISTICS</dc:title>
</cp:coreProperties>
</file>