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578-838D-4AF4-A6AF-96AC63EF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FC2-9DD0-423D-B1B9-BFE580DA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62E-43A1-4FA0-8459-25799B45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ABB-EAE4-46F4-B4BE-1D28E9D0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D3DC-8B91-4A95-A735-8C38BCCC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1DF9-3076-40A1-8704-5A3C86CE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CA92-8848-4C5A-914A-1E57A095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EAE3-48E0-4AD0-8B53-43639B77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9A7B-8A74-47BB-B32F-0F5B8B2D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725F-0424-4E6F-B705-60E2810C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6352-492D-4290-BFCA-8CD24EA1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656-9773-4D2F-8417-D110A29B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5DE3-237B-4B72-8A36-4D7A575B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143E-9097-49C2-846B-C7931732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26B4-9342-413F-A53D-C7F57502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BCE5-B925-4BEC-B855-230C32DA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0DFA-70B7-4B1F-AF17-784683CD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9ED75-C9EB-4ECC-BC0A-74F1286B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A789-B1C9-476C-81C5-54E81A59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958FC-C7DD-4249-A880-17A01221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D433-10C3-4821-8BA0-E713EEAA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37B0-DAF7-4B04-9C65-FE700910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54D-06E4-4C71-A592-C4E03550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B3D80-09EB-4A7A-AB0C-180A983F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E75D-6F95-4D17-960B-AE11FDD1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52FA5-0A37-4626-95CA-6B90F1E8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5816-8AFF-4139-9F85-6379CF3E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4CE3-AE09-402F-980B-D925E8C1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ED1B-3BB4-40AE-A24D-58BCBBB7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355D-0572-4F4B-841B-A1081507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2CD-4AF2-4B67-8628-9AA635AB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A4E-B331-4F21-8542-F3B48856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155-1A09-4189-A011-462E32BC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25F1-ECBE-47BC-B865-C3CB90BC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5DF-B81A-4889-B9CD-397BBA0E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89E-A96A-4283-8E4D-29DFD83C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2DFC-A390-4190-9A08-50853E1FA5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FDFF-4E89-41F4-A7EE-B34328B4248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FE01-7453-46A0-9322-DBB3F4A060A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LSE CRIME STATISTIC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ICHAELMAS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ontent Placeholder 7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3" descr=""/>
          <p:cNvPicPr/>
          <p:nvPr/>
        </p:nvPicPr>
        <p:blipFill>
          <a:blip r:embed="rId1"/>
          <a:stretch/>
        </p:blipFill>
        <p:spPr>
          <a:xfrm>
            <a:off x="272880" y="223920"/>
            <a:ext cx="867096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3" descr=""/>
          <p:cNvPicPr/>
          <p:nvPr/>
        </p:nvPicPr>
        <p:blipFill>
          <a:blip r:embed="rId1"/>
          <a:stretch/>
        </p:blipFill>
        <p:spPr>
          <a:xfrm>
            <a:off x="272880" y="223920"/>
            <a:ext cx="867096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200160" y="223920"/>
            <a:ext cx="874368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ontent Placeholder 3" descr=""/>
          <p:cNvPicPr/>
          <p:nvPr/>
        </p:nvPicPr>
        <p:blipFill>
          <a:blip r:embed="rId1"/>
          <a:stretch/>
        </p:blipFill>
        <p:spPr>
          <a:xfrm>
            <a:off x="200160" y="223920"/>
            <a:ext cx="88153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200160" y="223920"/>
            <a:ext cx="88153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200160" y="223920"/>
            <a:ext cx="874368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ntent Placeholder 5" descr=""/>
          <p:cNvPicPr/>
          <p:nvPr/>
        </p:nvPicPr>
        <p:blipFill>
          <a:blip r:embed="rId1"/>
          <a:stretch/>
        </p:blipFill>
        <p:spPr>
          <a:xfrm>
            <a:off x="128520" y="223920"/>
            <a:ext cx="88153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3:28:41Z</dcterms:created>
  <dc:creator>LSE</dc:creator>
  <dc:description/>
  <dc:language>en-US</dc:language>
  <cp:lastModifiedBy>Administrator</cp:lastModifiedBy>
  <dcterms:modified xsi:type="dcterms:W3CDTF">2016-01-14T10:47:20Z</dcterms:modified>
  <cp:revision>11</cp:revision>
  <dc:subject/>
  <dc:title>LSE CRIME STATISTICS</dc:title>
</cp:coreProperties>
</file>