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A51-1AEB-42ED-B119-10A9C85B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FE1-54A6-4669-98C6-05E92B8A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B0C-620D-4EF8-BA93-ECBC5CCD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2A8-5431-42BF-A08B-39C559AF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31EA-1F31-4469-BCE7-2CB5A52A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A147-8E72-492C-96D4-BF1ABABF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6EA-8396-4DA3-A740-5D0BB622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C756-1995-4F2F-907A-C842C217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A5A1-A572-4590-B5A9-F870CFA2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B84B-173D-4489-890E-D1C0325E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B988-7C23-4A15-8961-1079BC3E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B22-09C4-48C8-94CF-E8D5ADA2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041D-F016-48F0-876E-2EAEBA5F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AC01-D69D-4D56-95E9-76D223C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3DA8-65FB-447E-B203-1CB3C914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23F3-CFBA-4545-968A-6DE44E2D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5181-8E6F-4A56-B3BF-B625DEE9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A1DA-E6BF-4E14-9CEF-F618F4DB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DEB9-ADA9-4F66-890A-2AD957EB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FE912-ED26-4505-84AE-3F6D4944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1291-4D16-4BD6-AC6D-97118096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DE76-3D7E-45F2-8AF9-8383A9E7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CAF-E87F-4DF2-B8FB-F725057A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BC27-A144-44BB-ACBE-1FAD10AB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A49C-A853-47EF-B57A-739ED533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2CED-BF61-4DB0-B0EF-2E9C751E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D8240-C7DA-4353-9346-0D21ADEC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94856-4243-4755-A270-9CBE6E8D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A0F1-C984-4B8F-B42F-D5B6BB69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8F36-7FD1-4BF6-B5B6-0FC25A47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FE6-8F53-4FDD-930B-0CA1F61E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F10-25FF-4FB6-91E2-63A9299F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B3C-4F64-4BCD-A461-5C25B43C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551-B388-4214-926A-044430DA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354-4BBD-4D89-BF82-65814CFB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500-D632-452F-A7DD-6B09FE46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A4FD-2C4C-4EB3-B0E5-D0E8F1A74D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E1C9-09D2-422A-B46B-DC0C9421DA8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2E89-D872-4F1F-83FE-DA4DB47314D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LSE CRIME STATIS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LENT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Content Placeholder 3"/>
          <p:cNvGraphicFramePr/>
          <p:nvPr/>
        </p:nvGraphicFramePr>
        <p:xfrm>
          <a:off x="272880" y="312840"/>
          <a:ext cx="8598240" cy="617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312840"/>
                    <a:ext cx="8598240" cy="61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"/>
          <p:cNvPicPr/>
          <p:nvPr/>
        </p:nvPicPr>
        <p:blipFill>
          <a:blip r:embed="rId1"/>
          <a:stretch/>
        </p:blipFill>
        <p:spPr>
          <a:xfrm>
            <a:off x="272880" y="353880"/>
            <a:ext cx="859824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59824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59824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59824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59824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3" descr=""/>
          <p:cNvPicPr/>
          <p:nvPr/>
        </p:nvPicPr>
        <p:blipFill>
          <a:blip r:embed="rId1"/>
          <a:stretch/>
        </p:blipFill>
        <p:spPr>
          <a:xfrm>
            <a:off x="344520" y="209520"/>
            <a:ext cx="84549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344520" y="223920"/>
            <a:ext cx="85266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3:28:41Z</dcterms:created>
  <dc:creator>LSE</dc:creator>
  <dc:description/>
  <dc:language>en-US</dc:language>
  <cp:lastModifiedBy>Administrator</cp:lastModifiedBy>
  <dcterms:modified xsi:type="dcterms:W3CDTF">2016-04-29T10:28:42Z</dcterms:modified>
  <cp:revision>14</cp:revision>
  <dc:subject/>
  <dc:title>LSE CRIME STATISTICS</dc:title>
</cp:coreProperties>
</file>