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3B1-8CE7-46F9-91E4-40C72F24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173-7C38-4E2E-9B38-0976FCB5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92B-93F1-47D5-8776-21C964ED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630-18E2-4F6B-BE60-2447A864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2602-17D7-4347-87D9-DBB34D1C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CA00-D148-44F3-ADDE-D57C8E5A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0159-175C-4ECC-9D64-18AD2DFB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FE67-7820-4EB8-944A-47C5349D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EB68-1D66-4431-A35E-167960BC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6E2A-2C39-4675-B739-1C2DC4F3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87BE-9F43-4ADB-BA32-08D9D0A2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9EF-CC5B-43EB-A7C9-B5B4AE40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A710-7104-48A6-B619-BF440B6D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7718-8BEE-4301-B36B-66927472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F279-5FB7-4BD2-BF8F-34E6A265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7EB9-0FEB-44E3-8295-C945CF7E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4BE9-75FF-4549-969E-D25340DC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DB97F-5AF4-425A-9D28-1ED56528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54C15-7B47-40AB-AC91-D77D9210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64F09-AF95-41B6-A6D6-99C4EC9D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A46E-A267-44AE-87AE-FE2C0ADE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7664F-C3DB-4DF0-BFE3-17E2E6D6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51D-7D77-4A93-BCF9-7FD3AC2E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4AA63-5565-4353-BADB-8FAFEA4B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AE3B0-8E64-4CCA-A562-CE589A7E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369C5-12CA-4020-90EF-B2B646A5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28AA5-0C01-4038-8E8D-7DE994CD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2B75C-2E3D-4AA3-B39A-EA8662EC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BEE6-F08B-4F37-AE7C-823F1EFE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220BE-B396-46A6-A4D0-C2B19CC5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514-8444-44F6-BE87-CB64A40B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EDD-27A0-4C50-94E5-B4956361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D70E-FE09-4CA3-93E2-446732DB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0F0-BCDC-49FB-95EC-ACE0A82F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077-DAC9-4CA6-ABBB-46D5B2D8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106-10BC-4C80-90D6-6F56CDA6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01AC-D49A-4F72-99F7-30BBD27DBF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615B-CBD3-49E1-BEF7-4E788533641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5D38-A01C-4675-AEE0-67B9339DC2B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LSE CRIME STATISTIC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LENT T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Content Placeholder 3"/>
          <p:cNvGraphicFramePr/>
          <p:nvPr/>
        </p:nvGraphicFramePr>
        <p:xfrm>
          <a:off x="272880" y="312840"/>
          <a:ext cx="8598240" cy="617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312840"/>
                    <a:ext cx="8598240" cy="61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ntent Placeholder 3" descr=""/>
          <p:cNvPicPr/>
          <p:nvPr/>
        </p:nvPicPr>
        <p:blipFill>
          <a:blip r:embed="rId1"/>
          <a:stretch/>
        </p:blipFill>
        <p:spPr>
          <a:xfrm>
            <a:off x="272880" y="353880"/>
            <a:ext cx="859824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Content Placeholder 3" descr=""/>
          <p:cNvPicPr/>
          <p:nvPr/>
        </p:nvPicPr>
        <p:blipFill>
          <a:blip r:embed="rId1"/>
          <a:stretch/>
        </p:blipFill>
        <p:spPr>
          <a:xfrm>
            <a:off x="272880" y="223920"/>
            <a:ext cx="859824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Content Placeholder 3" descr=""/>
          <p:cNvPicPr/>
          <p:nvPr/>
        </p:nvPicPr>
        <p:blipFill>
          <a:blip r:embed="rId1"/>
          <a:stretch/>
        </p:blipFill>
        <p:spPr>
          <a:xfrm>
            <a:off x="272880" y="223920"/>
            <a:ext cx="859824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ontent Placeholder 3" descr=""/>
          <p:cNvPicPr/>
          <p:nvPr/>
        </p:nvPicPr>
        <p:blipFill>
          <a:blip r:embed="rId1"/>
          <a:stretch/>
        </p:blipFill>
        <p:spPr>
          <a:xfrm>
            <a:off x="272880" y="223920"/>
            <a:ext cx="859824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ontent Placeholder 3" descr=""/>
          <p:cNvPicPr/>
          <p:nvPr/>
        </p:nvPicPr>
        <p:blipFill>
          <a:blip r:embed="rId1"/>
          <a:stretch/>
        </p:blipFill>
        <p:spPr>
          <a:xfrm>
            <a:off x="272880" y="223920"/>
            <a:ext cx="859824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ontent Placeholder 3" descr=""/>
          <p:cNvPicPr/>
          <p:nvPr/>
        </p:nvPicPr>
        <p:blipFill>
          <a:blip r:embed="rId1"/>
          <a:stretch/>
        </p:blipFill>
        <p:spPr>
          <a:xfrm>
            <a:off x="344520" y="209520"/>
            <a:ext cx="84549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Content Placeholder 3" descr=""/>
          <p:cNvPicPr/>
          <p:nvPr/>
        </p:nvPicPr>
        <p:blipFill>
          <a:blip r:embed="rId1"/>
          <a:stretch/>
        </p:blipFill>
        <p:spPr>
          <a:xfrm>
            <a:off x="344520" y="223920"/>
            <a:ext cx="85266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3:28:41Z</dcterms:created>
  <dc:creator>LSE</dc:creator>
  <dc:description/>
  <dc:language>en-US</dc:language>
  <cp:lastModifiedBy>Administrator</cp:lastModifiedBy>
  <dcterms:modified xsi:type="dcterms:W3CDTF">2016-04-29T10:28:42Z</dcterms:modified>
  <cp:revision>14</cp:revision>
  <dc:subject/>
  <dc:title>LSE CRIME STATISTICS</dc:title>
</cp:coreProperties>
</file>