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D506-9472-4C81-A467-8D6CF10E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DA9-BE7C-48C5-B751-D264706E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78E3-4421-4607-AF58-8DCF096C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CF5-4EE5-4B28-98DB-7973E16E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70C9-D59F-44E7-90C5-ECA63E4A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7995-AE93-4650-A448-F6F9C2B0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CC85-65ED-4005-A1AB-3F2F98A5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89FC-B5C6-412E-A9D3-C6BACCF6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53B3-265D-481E-BF09-1A4914BF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E979-7240-459B-BA84-DB2C234B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1853-5539-4110-9453-965FD6F7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315-7E42-4E24-9660-C8F0CAC8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9CFE-F0F3-4140-82BF-37D991A5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6B99-DF03-475B-AB3D-4ECEE25F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B47B-3343-40E0-AA5B-3465C6A0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95FB-B0AA-4946-B593-3615549A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C3EA-7BA2-4912-969F-BFC6C809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6DCF2-38B8-4B47-871E-2F653CB3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EF5BB-A46D-4B94-B190-575C2E5F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A8DBC-38DD-48A3-BEF9-6650034E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18F76-55FA-4456-A30C-CDFF94F6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21478-60B1-41C5-B2CA-89EC16DD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B34-DB9B-494B-A1FF-38677549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1EB34-4CB7-4617-8CBC-2BB63B5F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886E7-EBB5-4146-811E-91FA32B2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D703A-745F-47DD-A61A-C04C6A72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ACD1F-B6E4-4773-BF5A-D7E83A43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0DE69-6A9F-49EA-B505-2F7848B5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5A886-32CC-4676-A209-0858C408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160BB-5BC0-4BBD-99ED-5D176247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CEC-9053-42B9-AA02-AF0DDE33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1141-7B29-4F02-BA57-5FEB5A0E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4E1-E2F8-47DE-8AD6-772BA5E0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7C3-FB5C-4661-B713-386CC047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F6E2-5715-4F93-B1A1-083D678F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3DCF-C0CF-416E-ABB6-67D7D4C2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7EBA-A031-4AFA-A077-F00D7A57A5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341C-65D4-4897-8BFC-5816B5C35CE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A5C5-9F33-4EA3-8724-CF77A311F77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LSE CRIME STATISTIC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LENT T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Content Placeholder 3" descr=""/>
          <p:cNvPicPr/>
          <p:nvPr/>
        </p:nvPicPr>
        <p:blipFill>
          <a:blip r:embed="rId1"/>
          <a:stretch/>
        </p:blipFill>
        <p:spPr>
          <a:xfrm>
            <a:off x="406440" y="223920"/>
            <a:ext cx="833112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Content Placeholder 3" descr=""/>
          <p:cNvPicPr/>
          <p:nvPr/>
        </p:nvPicPr>
        <p:blipFill>
          <a:blip r:embed="rId1"/>
          <a:stretch/>
        </p:blipFill>
        <p:spPr>
          <a:xfrm>
            <a:off x="406440" y="223920"/>
            <a:ext cx="833112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ontent Placeholder 3" descr=""/>
          <p:cNvPicPr/>
          <p:nvPr/>
        </p:nvPicPr>
        <p:blipFill>
          <a:blip r:embed="rId1"/>
          <a:stretch/>
        </p:blipFill>
        <p:spPr>
          <a:xfrm>
            <a:off x="344520" y="282600"/>
            <a:ext cx="83311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Content Placeholder 3" descr=""/>
          <p:cNvPicPr/>
          <p:nvPr/>
        </p:nvPicPr>
        <p:blipFill>
          <a:blip r:embed="rId1"/>
          <a:stretch/>
        </p:blipFill>
        <p:spPr>
          <a:xfrm>
            <a:off x="417600" y="282600"/>
            <a:ext cx="833112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Content Placeholder 3" descr=""/>
          <p:cNvPicPr/>
          <p:nvPr/>
        </p:nvPicPr>
        <p:blipFill>
          <a:blip r:embed="rId1"/>
          <a:stretch/>
        </p:blipFill>
        <p:spPr>
          <a:xfrm>
            <a:off x="406440" y="223920"/>
            <a:ext cx="833112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Content Placeholder 3" descr=""/>
          <p:cNvPicPr/>
          <p:nvPr/>
        </p:nvPicPr>
        <p:blipFill>
          <a:blip r:embed="rId1"/>
          <a:stretch/>
        </p:blipFill>
        <p:spPr>
          <a:xfrm>
            <a:off x="417600" y="209520"/>
            <a:ext cx="833112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Content Placeholder 3" descr=""/>
          <p:cNvPicPr/>
          <p:nvPr/>
        </p:nvPicPr>
        <p:blipFill>
          <a:blip r:embed="rId1"/>
          <a:stretch/>
        </p:blipFill>
        <p:spPr>
          <a:xfrm>
            <a:off x="406440" y="223920"/>
            <a:ext cx="833112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Content Placeholder 3" descr=""/>
          <p:cNvPicPr/>
          <p:nvPr/>
        </p:nvPicPr>
        <p:blipFill>
          <a:blip r:embed="rId1"/>
          <a:stretch/>
        </p:blipFill>
        <p:spPr>
          <a:xfrm>
            <a:off x="417600" y="138240"/>
            <a:ext cx="8331120" cy="62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3:28:41Z</dcterms:created>
  <dc:creator>LSE</dc:creator>
  <dc:description/>
  <dc:language>en-US</dc:language>
  <cp:lastModifiedBy>Administrator</cp:lastModifiedBy>
  <dcterms:modified xsi:type="dcterms:W3CDTF">2015-04-28T13:04:15Z</dcterms:modified>
  <cp:revision>7</cp:revision>
  <dc:subject/>
  <dc:title>LSE CRIME STATISTICS</dc:title>
</cp:coreProperties>
</file>