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ED5-6872-46C7-8E6B-2A42C7FB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682-637C-4144-BE9A-1577FD14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32C-4E1D-42CE-A15E-125D89B5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5C0-3E40-4EC6-A4AD-66EC4945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C5BB-8A19-4F42-9B2B-EFB55A81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D160-B090-44FB-8975-58247954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266C-9D4B-461A-9A6F-58DF324B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DAB3-1FCB-4A26-B9F5-2070880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8DC6-237B-4511-9E0E-5369CF1D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FC77-012E-4D2C-AE12-085320A6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3B0C-6A8F-4795-AE9F-B09804B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8FF-655D-483B-80D9-D80BD167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BE94-E50A-4402-B5D0-DFCDE3CA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65F3-3BA7-4071-B6CC-CBE5D00A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231C-FBF4-4935-8E3C-0494D8EA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97E9-36AF-404D-B640-64A10A10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E704-2388-48C8-B45D-1B19486F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F1BB-7B50-4C45-A47E-4FFF8C37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85CF-0738-41FA-928F-6B561A6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CECF-C01E-44BE-9287-A6F2E92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02BE-056A-439E-AC5B-1F83C9F9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9F51-9FD6-41CC-AAFF-347972EC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8B7-4838-4CC5-94A3-FB86398C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8D686-5D2A-4BB8-ACEF-9D437554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4A10-EE91-4EE8-BC52-7467FF6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0765-6375-468B-80FD-6453A09B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E74A-A502-4D6E-AE1A-5F8E12AB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D4D5-5FEB-444B-8417-195E1307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FFD9-058D-47C0-996A-72B6714C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951A-413D-445E-82F3-22AF7CEA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5FC-4920-4E44-95E1-ED38AAE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01F-F74B-4B49-BE78-A7DAB092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FE6-D94D-4FF1-87D1-01A529A5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835-A730-47EE-ABD1-E442D98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3E8-5AF5-4260-AC0F-65A3BFE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0B4-CC24-4D70-A075-2185BB5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AC1D-20D0-4D20-8E35-B2E1FCA8B7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9EB-1538-406D-82E9-6FCD36EE565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B37A-F029-48F5-890A-E616BDA6109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LSE CRIME STATIS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LENT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"/>
          <p:cNvPicPr/>
          <p:nvPr/>
        </p:nvPicPr>
        <p:blipFill>
          <a:blip r:embed="rId1"/>
          <a:stretch/>
        </p:blipFill>
        <p:spPr>
          <a:xfrm>
            <a:off x="344520" y="282600"/>
            <a:ext cx="8331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17600" y="282600"/>
            <a:ext cx="83311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417600" y="209520"/>
            <a:ext cx="833112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3" descr=""/>
          <p:cNvPicPr/>
          <p:nvPr/>
        </p:nvPicPr>
        <p:blipFill>
          <a:blip r:embed="rId1"/>
          <a:stretch/>
        </p:blipFill>
        <p:spPr>
          <a:xfrm>
            <a:off x="417600" y="138240"/>
            <a:ext cx="8331120" cy="62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3:28:41Z</dcterms:created>
  <dc:creator>LSE</dc:creator>
  <dc:description/>
  <dc:language>en-US</dc:language>
  <cp:lastModifiedBy>Administrator</cp:lastModifiedBy>
  <dcterms:modified xsi:type="dcterms:W3CDTF">2015-04-28T13:04:15Z</dcterms:modified>
  <cp:revision>7</cp:revision>
  <dc:subject/>
  <dc:title>LSE CRIME STATISTICS</dc:title>
</cp:coreProperties>
</file>