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DDC0-4B2F-43CE-A898-71BC38FF0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9AD-45B5-430E-BECB-FB3F74FDC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2F0-1125-4CE0-92B2-F4E33E43A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3F3-74A4-4078-9B00-38E123C2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9A7-7A8A-447D-AF1D-4E5CC7F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A6F-961D-46D5-8F52-A7B208F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83E-40DD-421A-AB00-69EBE3BE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53AC-6F96-4432-B0BC-1696ADEC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032-F699-4BA0-95C4-E7CC93E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44B-1692-4943-BF07-0F191D0A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59E-BD70-48BF-BB13-9B3DA93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9C84-950B-460C-98B7-9D20178D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16A0-E87E-4026-9E3A-C077D24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2A3-683B-469F-BBB5-0AB253EA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1D2-1D54-47F8-9CC9-FD64C88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D6D-98E6-4B12-B553-72DA3F5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9C76-761E-48A4-BB5F-BA06285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0AAC-20F6-4A3C-8E78-C01C83A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706C-4190-42EF-BB9A-A1841DF3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EE08-6467-47DE-A1BD-00303F1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5A4-52BD-483A-9744-873E4A9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806-A565-499B-8033-B64E9985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7CF-9C8D-49B4-81A9-91FA5C64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BF9-D308-49F7-B2CD-DD2675D3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165-193A-4BD6-8AE5-7D1D58D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CFB-27DE-4747-88CB-3E11EA3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903-1A7F-45BA-83FC-F56FB3E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C70-0B26-4554-B46A-05E4FD6B9A4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637-089B-4129-8804-9E556C4C2D4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415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skills and confid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Adam Sandel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\\Adminshared\pdrive\Teaching and Learning Office\Communications\Events, groups and projects\LSE Study Toolkit\Design\LSE Study Toolkit 4 icons with title.jpg"/>
          <p:cNvPicPr/>
          <p:nvPr/>
        </p:nvPicPr>
        <p:blipFill>
          <a:blip r:embed="rId1"/>
          <a:stretch/>
        </p:blipFill>
        <p:spPr>
          <a:xfrm>
            <a:off x="1547640" y="579600"/>
            <a:ext cx="623592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8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49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5" name="Picture 19" descr=""/>
          <p:cNvPicPr/>
          <p:nvPr/>
        </p:nvPicPr>
        <p:blipFill>
          <a:blip r:embed="rId1"/>
          <a:stretch/>
        </p:blipFill>
        <p:spPr>
          <a:xfrm>
            <a:off x="5003640" y="283356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‘for’ and ‘agains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495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2700360" y="346536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59640" y="346536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700360" y="335772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588000" y="335772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73200" y="49536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veloping positive self-tal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4-09-30T14:14:36Z</dcterms:modified>
  <cp:revision>73</cp:revision>
  <dc:subject/>
  <dc:title>Slide 1</dc:title>
</cp:coreProperties>
</file>