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414A-6CA9-4960-8605-4BACFD884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699-9A96-49B2-9690-BCC6D8952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951-4681-49C2-8B0F-EE8E4DD6A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E56-AC0D-4DA6-8D87-111FD8E8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E8F-47E5-4E9F-8CCE-CB1B8E1C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B88-1CE2-477B-840A-FA316AA6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1D2-4BD3-4373-BC6E-80FA9D5F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41D1-B6C6-4A9B-9704-DD8A20C4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4B1-A6C5-4FE3-A92D-2D07DE7C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F966-7CB7-49B7-BE38-46109909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F955-67A3-43B0-8F7D-689BA0F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8AE-C6C1-4664-BBCF-881AA87E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8B7D-D4E4-4ACF-AD24-844CFEB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F8CF-98CD-4AEF-BFAD-C2733AE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9C8-8B09-4226-887D-27C0DFDD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504A-A727-46A1-9011-3C18E83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19FC-02E3-41D9-945A-88F2461F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4C9-79AB-4774-A981-36CE861E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2FB7-AE7D-43F4-8097-B1B88D5B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697E-3EC3-4CD1-AFEF-ABE7D7A2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F7A-820D-41BD-B16E-8AD46226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E5C-FE5E-4939-AC3C-0E4D88D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C93-58D4-469D-A947-D670D7C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059-D063-4FD0-97AE-E351E8A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53A-2B7A-42F7-8722-66968E6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677-8306-4CA2-9404-93DA69E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3E0-5143-4E53-A839-8366E01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0FF0-D91C-43A8-9FFB-524A7EAF4D0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46F5-4484-407C-894B-550AEFEF174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415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skills and confid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Calibri"/>
              </a:rPr>
              <a:t>Adam Sandel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160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\\Adminshared\pdrive\Teaching and Learning Office\Communications\Events, groups and projects\LSE Study Toolkit\Design\LSE Study Toolkit 4 icons with title.jpg"/>
          <p:cNvPicPr/>
          <p:nvPr/>
        </p:nvPicPr>
        <p:blipFill>
          <a:blip r:embed="rId1"/>
          <a:stretch/>
        </p:blipFill>
        <p:spPr>
          <a:xfrm>
            <a:off x="1547640" y="579600"/>
            <a:ext cx="623592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od practice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 e.g. ‘good enough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y vocal style – 3 P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positive liste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xiety  =  high level of bodily 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gative self-defeating thou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tead, lear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hysical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i-paus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dynamic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8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49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th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talk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5" name="Picture 19" descr=""/>
          <p:cNvPicPr/>
          <p:nvPr/>
        </p:nvPicPr>
        <p:blipFill>
          <a:blip r:embed="rId1"/>
          <a:stretch/>
        </p:blipFill>
        <p:spPr>
          <a:xfrm>
            <a:off x="5003640" y="283356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Being a perfectioni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Family /historic context for being successfu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Keeping perfectionism in ch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is un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succes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id you accompli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you enjoy the tas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looking back – 2 hours/ 2 week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ine them being tested in Cour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my presentation will be terr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‘for’ and ‘against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ounting the positive/ tunnel 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eeing the negative side of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it happened in the past it will happen again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ok at confidence building measures to giving good 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come physical anx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age underlying fee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495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egative Cir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2700360" y="346536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659640" y="346536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ositive Circl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700360" y="335772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588000" y="335772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73200" y="49536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fidence for pres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ey Princi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nsible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ole Rehea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xation/ Stres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plan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ear simpl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mmar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you’re going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ll them what you’ve s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hearse it out lou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rst two minutes – repeat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veloping positive self-tal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/when am I already conf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es that confidence feel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it different from feeling 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I build that confid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ole rehear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ppens when I think about giving a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 desired ‘goal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out matching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e (in front of mirr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ke it till you mak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is our message receiv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744480" y="1936800"/>
          <a:ext cx="7485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36800"/>
                    <a:ext cx="7485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4-09-30T14:14:36Z</dcterms:modified>
  <cp:revision>73</cp:revision>
  <dc:subject/>
  <dc:title>Slide 1</dc:title>
</cp:coreProperties>
</file>