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38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007a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ftr" idx="39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 type="sldNum" idx="40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0EC8392-A99D-4054-AC0D-DF8B4A2E76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se are extrapolations from the learner and centre surveys data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17FFC24-F99C-491C-839E-2ADCCE4D7B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03797F-29A7-4B51-A312-A3AD1DCC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DBD044-8498-49EF-8AF3-A515DB72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B72C36-A650-48FA-88C3-680139BC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DE3B14-31A9-4E95-BA00-9FFBC79E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71CE8B-308A-415D-9168-FDD6761E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FA6A6A-08BA-4700-9296-B6907279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11F467-E8EB-4196-84BC-B74D107B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7EA9B9-3624-4A18-991B-FF85B60BE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0C18FC-2FC3-4DB2-A5A5-A41D6138D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EE1673-4115-4336-9576-096117E5A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D1973A-C5E7-40B4-AEE2-ECB1B4D5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682CF1-0EC3-49A2-B3BE-132E372A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05F431-ACE5-460C-BB5E-E4E10D10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3DFB1D-ADE7-4DED-8CA4-A45B6C2A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6C15B1-E46A-4435-AF2E-EB2D268C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86F507-64DA-4F34-98A1-72556ED0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0757D8-3DA6-4EF9-AF3D-C53749F3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E5BAE1-63CC-4D0E-9477-C84EF6ED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5DF645-AE93-4D43-B829-2DEC0959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4FB727-ABC6-437A-B5C5-A5F341B73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788AB6-F3B8-4CE2-8951-B68003C10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3BD228C-894D-4CEB-AA91-6BCFCE01F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F990CC2-7400-45AC-8E50-A213F5B8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48209D8-94D8-4FF3-8962-4F0FFEAF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B5971E7-9744-4C4C-BFF2-FE095E7D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063FCEC-E9F1-475D-9803-23041F2D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6A0BA42-475F-49F6-B861-901EFB1B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E735D18-AD92-4DF1-AB20-F87B11C8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4BAEE03-4EAF-43AD-ABDC-94C82466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105649A-D360-4672-9809-3403AEE7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65AD2-2B2B-4F2E-9CB4-DBB256E52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E98E100-BE7E-4A76-B371-944CDD70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34520BF-08C8-41FF-A177-B358684B9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9690510-541E-4E2F-938B-DB453B7D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62BFF4-0195-4FCD-9A08-4481FB0D2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BFB8FD-1EB2-4457-B7DE-B0EF460D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0F1BE5-B035-43B0-8F66-0376DC66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635137-45EB-4132-93D4-A1665ADE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9E0327-DCCF-4D8E-B6D1-DCDE918F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0CF11B-B517-4C4A-838F-070A57AE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BC11B6-82D4-4DC4-AA29-EEEB6B91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683CB-F0CB-4D2D-8975-90182A88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369354-568E-4FB3-846C-8A97D62E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6E575D-7947-4360-943D-B9233B7E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5F5BC1-7DA2-4A08-A64C-529EC07F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FC3638-C811-4D1C-944E-E20F9223E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66CE4C-664C-4AC3-B51E-56BC450F9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73B4912-1076-4B38-BF4F-5C8027FA8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E6CCCFA-CC2B-43E7-BA76-21A9DB68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FE4F12F-6773-4288-B9E7-6B079E83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EB3F092-7A56-41B0-8971-350CCE8B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867D169-C4AB-4A6F-A366-7091E1FB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EE76C6-1DB7-4829-AFE4-E0301AC4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B259970-76D0-4B0E-87F9-166FB67C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17CEDFB-A98F-4387-93BB-5ADDED68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2FDEFD2-8E07-470C-880E-9DA2F320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53309A3-DF8E-4BF3-B5C8-297ACFC1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89D754F-DF99-4B14-B428-E1E86093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909E296-DB04-4C01-9805-80640FAAB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2A22653-B344-4CD8-BE9E-4C5BAFCAD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ACCD0-CCEB-47B1-A1DF-72E60677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2181CC-4792-4F98-9426-73D9E55E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6638D2-427A-4AE7-9AD1-7198A079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3C2BC-BD2B-4308-8FFB-13AB73E0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8FFDF-530C-4D88-B7A8-66D8187B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EF6AD-A8B1-4D2D-A6D7-B25B2802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2CFDF2-9F95-41DE-9598-408CC0A0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0431C-66C5-44F6-A21B-E1940A66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5C895-6049-47CE-9F10-05BDEC22C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C3FE5D-AF9C-4706-AED2-00CB203DA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98572E-EE25-4CDD-AE9D-CC17BD59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84D14A-1303-40D3-B0DB-0B48C55F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70C190-342B-43C9-8CC9-6A4B9A33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EFC9F6-8D59-40FC-B66E-6D014BD8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F836B9-E5B4-46B9-A050-72AA90D3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F99C01-7C42-4DD4-8A87-E0BA3DE3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8B510E-5DD2-4F7A-9940-86B5D64A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5202B5-CB74-435A-ACAC-20CC5C9E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8EAF2F-26D1-4672-AACE-B03E18F1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347B99-B6F4-40BD-8558-88D34D086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787D00-A438-4AF8-ACA7-9FE9A2653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60462C-DE05-4DA1-B488-EC24EBB6C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0F7D12-3B70-4669-9CE5-7044B745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3BD934-2B93-42BE-A0E9-1E82083A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2EB4DF-B5A4-45F1-9816-18A70ACD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AF4E54-1B9C-4693-8C72-6C3AFD55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F3048A-84D0-4A31-8B56-F5A038F1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31C2B8-EFD6-4120-8A10-CED02366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027143-2759-4EF1-9959-1703D826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A5CCC3-EA19-4314-BC3E-D9783E01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7AFDF0-9414-4990-8979-D7EBFD42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6CE133-2186-41DB-9022-BD1ECBC95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2F0B09-6735-4FD6-A851-84233BA00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1D34B2-F7F5-4373-BEA6-1FC176542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8B85E6-F3A6-4CF7-8CBF-5A067EF3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C955F0-A786-43FC-8F60-E90955CC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2FD3F2-2FBF-448D-AA89-E533E771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A35C64-A25E-4DBB-A3C2-2B31190C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AC9E4D-6127-4286-81EA-3568ACD8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D42CC1-B682-4FDF-91D7-55F7EA81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CD3E73-2B29-47F2-8224-E664A726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9326D4-C521-4BD0-BAD3-150C78CB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814447-6BEF-425D-A119-F2585003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A44A68-40E1-4660-8EC6-81E500785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9E4446-1286-4C8B-B928-B588ABAF7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97E2C8-9E8C-435D-AA85-DC6C01D9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7FDE9F-17C4-43C9-90C7-41425221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25C40F-E1ED-4E85-84DC-C0BD6DCF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897EE3-64B7-407F-9F9C-274B7272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5598FA-42B3-43D5-A1EF-0D0DFF08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AEDD99-F2EF-4911-A38D-001D8EF3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D7F836-17EF-4F23-89A9-05C5A281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248379-EEF8-431E-9DF5-E14B8C8E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E5E42F-A8E7-42E5-9199-C9A9F365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240E55-D939-4D2E-85DB-11AC760C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FDE4CC-24D2-4CA9-B582-C0AC01CE5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51CC86-0F60-450D-A50E-37474E488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6FD575-833A-4566-88CB-71FD738E2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3ADC6F-09CB-4969-8A08-4B1375AB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6E25E9-27CC-44B7-845A-178EA01B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E502E8-7D6D-4196-8C8A-F587F917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D741D1-8B99-4A2F-AF2D-DE25A932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21B901-ECBE-4E4D-9302-B4E8ED27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CD4C60-0B42-45F1-BC62-EDD50438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875537-C3F1-4BB2-919E-14002ACB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F6CBE3-5395-4C75-8360-B498909E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5AC233-01D8-49A2-AB3E-86A1C45A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954977-3E6B-44D8-A8F7-600F107F7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5A499D-9F3F-4527-8622-D62C0DEB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3A44F7-5367-4AE3-A00F-681002A7F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0C2AD5-A9D8-49C5-8D0F-78211584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B0F1D5-0FF6-447B-B079-D643B984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8CFAEC-62E8-409B-B699-FDB676DA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87E797-441B-4A92-B110-A2CB4D22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4BFCF8-D2A1-446C-B705-BB9901B8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0496EB-DEF4-4058-8A2E-301B14C9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6D0C33-C2D6-4A46-8D18-695B1D48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D75F65-77B7-4112-B266-33DB98F3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79F79A-AA2C-47A2-8108-2E9A2CC6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760628-5C46-4996-9358-5105A75CB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A3BAA8-D19A-442C-9E1E-56C6E583A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F69403-DA90-4F02-AA98-C761DF2EB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74ACF6-C80E-4D7C-A760-3E9DD0D0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5CAFE5-7336-47B5-8965-3AC9A4C1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007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3c7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3c7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3c7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3c7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3c7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3c7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3c7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3c7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18040" y="6173640"/>
            <a:ext cx="1679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" descr=""/>
          <p:cNvPicPr/>
          <p:nvPr/>
        </p:nvPicPr>
        <p:blipFill>
          <a:blip r:embed="rId2"/>
          <a:srcRect l="3543" t="85551" r="55690" b="3986"/>
          <a:stretch/>
        </p:blipFill>
        <p:spPr>
          <a:xfrm>
            <a:off x="684360" y="6046920"/>
            <a:ext cx="309564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9D79-9671-405B-9A92-38C1ED861B8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7476-C93E-49BE-A531-ACD27F2B3E0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A9F7-0988-4244-B7BC-7366403C5D2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747B-930E-404C-8945-B78AC2F97F1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F7E2-C848-4AB8-A62E-D3ED37E1892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0995-94D3-4CB4-8C3E-9CBEF652C61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8DC6-5F4A-41B2-8070-6267B3FCDC1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4654-D007-497D-9569-316F0D7DC19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B2A2-F3F6-483B-B9C3-DD24A7D7CDC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ED0C-8340-4C4E-B3E4-F4A774A9633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43F1-2FD5-47D5-818B-93B8435A427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6564-FD08-40CF-AAAD-27CAC9CB93D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raceonline.org/research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kmclean@ufi.com" TargetMode="External"/><Relationship Id="rId2" Type="http://schemas.openxmlformats.org/officeDocument/2006/relationships/hyperlink" Target="http://www.twitter.com/helenmilner" TargetMode="External"/><Relationship Id="rId3" Type="http://schemas.openxmlformats.org/officeDocument/2006/relationships/hyperlink" Target="http://www.twitter.com/helenmilner" TargetMode="External"/><Relationship Id="rId4" Type="http://schemas.openxmlformats.org/officeDocument/2006/relationships/hyperlink" Target="mailto:kmclean@ufi.com" TargetMode="External"/><Relationship Id="rId5" Type="http://schemas.openxmlformats.org/officeDocument/2006/relationships/hyperlink" Target="http://www.go-on.co.uk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691560" y="685800"/>
            <a:ext cx="49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3c72"/>
                </a:solidFill>
                <a:latin typeface="Arial"/>
              </a:rPr>
              <a:t>Section Divider: Heading intro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3" descr=""/>
          <p:cNvPicPr/>
          <p:nvPr/>
        </p:nvPicPr>
        <p:blipFill>
          <a:blip r:embed="rId1"/>
          <a:stretch/>
        </p:blipFill>
        <p:spPr>
          <a:xfrm>
            <a:off x="0" y="-28440"/>
            <a:ext cx="9182160" cy="688644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4"/>
          <p:cNvSpPr/>
          <p:nvPr/>
        </p:nvSpPr>
        <p:spPr>
          <a:xfrm>
            <a:off x="230040" y="2701800"/>
            <a:ext cx="8740800" cy="24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Arial"/>
              </a:rPr>
              <a:t>Internet use in t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he</a:t>
            </a:r>
            <a:r>
              <a:rPr b="1" lang="en-GB" sz="3800" spc="-1" strike="noStrike">
                <a:solidFill>
                  <a:srgbClr val="ffffff"/>
                </a:solidFill>
                <a:latin typeface="Arial"/>
              </a:rPr>
              <a:t> UK: the evidenc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Arial"/>
              </a:rPr>
              <a:t>June 2011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Arial"/>
              </a:rPr>
              <a:t>Kevin McLea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3360" y="26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1007a"/>
                </a:solidFill>
                <a:latin typeface="Arial"/>
              </a:rPr>
              <a:t>Who doesn’t use the internet? (contd)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85800" y="1441440"/>
            <a:ext cx="77724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c3c72"/>
                </a:solidFill>
                <a:latin typeface="Arial"/>
              </a:rPr>
              <a:t>Ofcom shows age and socioeconomic group are significant:</a:t>
            </a:r>
            <a:endParaRPr b="0" lang="en-US" sz="26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c3c72"/>
                </a:solidFill>
                <a:latin typeface="Arial"/>
              </a:rPr>
              <a:t>20% drop in internet use from national average among those in social group DE</a:t>
            </a:r>
            <a:endParaRPr b="0" lang="en-US" sz="26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c3c72"/>
                </a:solidFill>
                <a:latin typeface="Arial"/>
              </a:rPr>
              <a:t>Close to half of non-users are aged 65 and over</a:t>
            </a:r>
            <a:endParaRPr b="0" lang="en-US" sz="26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c3c72"/>
                </a:solidFill>
                <a:latin typeface="Arial"/>
              </a:rPr>
              <a:t>Close to half of non-users are in socioeconomic group DE</a:t>
            </a:r>
            <a:endParaRPr b="0" lang="en-US" sz="26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63" name="TextBox 3"/>
          <p:cNvSpPr/>
          <p:nvPr/>
        </p:nvSpPr>
        <p:spPr>
          <a:xfrm>
            <a:off x="1774800" y="4946760"/>
            <a:ext cx="599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3c72"/>
                </a:solidFill>
                <a:latin typeface="Arial"/>
              </a:rPr>
              <a:t>Source: Ofcom </a:t>
            </a:r>
            <a:r>
              <a:rPr b="0" lang="en-US" sz="1800" spc="-1" strike="noStrike">
                <a:solidFill>
                  <a:srgbClr val="1c3c72"/>
                </a:solidFill>
                <a:latin typeface="Arial"/>
              </a:rPr>
              <a:t>UK Adults’ Media Literacy Report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1007a"/>
                </a:solidFill>
                <a:latin typeface="Arial"/>
              </a:rPr>
              <a:t>Four major factors to not using the internet are age, socio-economic group, disability, and gender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1007a"/>
                </a:solidFill>
                <a:latin typeface="Arial"/>
              </a:rPr>
              <a:t>Why don’t people use the internet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685800" y="1980720"/>
            <a:ext cx="7772400" cy="27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Two key barriers are: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Lack of interest (64% of those who don’t intend to get the internet at home gave this reason)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Cost (23%)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68" name="TextBox 3"/>
          <p:cNvSpPr/>
          <p:nvPr/>
        </p:nvSpPr>
        <p:spPr>
          <a:xfrm>
            <a:off x="1774800" y="4946760"/>
            <a:ext cx="599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3c72"/>
                </a:solidFill>
                <a:latin typeface="Arial"/>
              </a:rPr>
              <a:t>Source: Ofcom </a:t>
            </a:r>
            <a:r>
              <a:rPr b="0" lang="en-US" sz="1800" spc="-1" strike="noStrike">
                <a:solidFill>
                  <a:srgbClr val="1c3c72"/>
                </a:solidFill>
                <a:latin typeface="Arial"/>
              </a:rPr>
              <a:t>UK Adults’ Media Literacy Report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1007a"/>
                </a:solidFill>
                <a:latin typeface="Arial"/>
              </a:rPr>
              <a:t>Hooks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727200" y="1576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The three main ‘hooks’ for non-users in terms of activities are: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lvl="1" marL="399960">
              <a:spcBef>
                <a:spcPts val="700"/>
              </a:spcBef>
              <a:buClr>
                <a:srgbClr val="1c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Emailing (16%)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lvl="1" marL="399960">
              <a:spcBef>
                <a:spcPts val="700"/>
              </a:spcBef>
              <a:buClr>
                <a:srgbClr val="1c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Uploading photos (15%)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lvl="1" marL="399960">
              <a:spcBef>
                <a:spcPts val="700"/>
              </a:spcBef>
              <a:buClr>
                <a:srgbClr val="1c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Online shopping (13%)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71" name="TextBox 4"/>
          <p:cNvSpPr/>
          <p:nvPr/>
        </p:nvSpPr>
        <p:spPr>
          <a:xfrm>
            <a:off x="833400" y="5013360"/>
            <a:ext cx="599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3c72"/>
                </a:solidFill>
                <a:latin typeface="Arial"/>
              </a:rPr>
              <a:t>Source: Ofcom </a:t>
            </a:r>
            <a:r>
              <a:rPr b="0" lang="en-US" sz="1800" spc="-1" strike="noStrike">
                <a:solidFill>
                  <a:srgbClr val="1c3c72"/>
                </a:solidFill>
                <a:latin typeface="Arial"/>
              </a:rPr>
              <a:t>UK Adults’ Media Literacy Report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Chart 3" descr=""/>
          <p:cNvPicPr/>
          <p:nvPr/>
        </p:nvPicPr>
        <p:blipFill>
          <a:blip r:embed="rId1"/>
          <a:stretch/>
        </p:blipFill>
        <p:spPr>
          <a:xfrm>
            <a:off x="152280" y="274680"/>
            <a:ext cx="8839440" cy="5937120"/>
          </a:xfrm>
          <a:prstGeom prst="rect">
            <a:avLst/>
          </a:prstGeom>
          <a:ln w="0">
            <a:noFill/>
          </a:ln>
        </p:spPr>
      </p:pic>
      <p:sp>
        <p:nvSpPr>
          <p:cNvPr id="573" name="TextBox 5"/>
          <p:cNvSpPr/>
          <p:nvPr/>
        </p:nvSpPr>
        <p:spPr>
          <a:xfrm>
            <a:off x="1598760" y="1160640"/>
            <a:ext cx="599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3c72"/>
                </a:solidFill>
                <a:latin typeface="Arial"/>
              </a:rPr>
              <a:t>Source: Ofcom </a:t>
            </a:r>
            <a:r>
              <a:rPr b="0" lang="en-US" sz="1800" spc="-1" strike="noStrike">
                <a:solidFill>
                  <a:srgbClr val="1c3c72"/>
                </a:solidFill>
                <a:latin typeface="Arial"/>
              </a:rPr>
              <a:t>UK Adults’ Media Literacy Report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60520" y="301680"/>
            <a:ext cx="77724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1007a"/>
                </a:solidFill>
                <a:latin typeface="Arial"/>
              </a:rPr>
              <a:t>% of adult who have ever used the internet, by region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3998880" y="6119640"/>
            <a:ext cx="47610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Chart 6" descr=""/>
          <p:cNvPicPr/>
          <p:nvPr/>
        </p:nvPicPr>
        <p:blipFill>
          <a:blip r:embed="rId1"/>
          <a:stretch/>
        </p:blipFill>
        <p:spPr>
          <a:xfrm>
            <a:off x="328680" y="1231920"/>
            <a:ext cx="8821800" cy="54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631440" y="1333440"/>
            <a:ext cx="7975800" cy="32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1007a"/>
                </a:solidFill>
                <a:latin typeface="Arial"/>
              </a:rPr>
              <a:t>Only 2% of UK adults use only an alternative device to a PC or laptop to go online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1007a"/>
                </a:solidFill>
                <a:latin typeface="Arial"/>
              </a:rPr>
              <a:t>(Note: This is use of an alternative as their </a:t>
            </a:r>
            <a:r>
              <a:rPr b="1" lang="en-GB" sz="2400" spc="-1" strike="noStrike" u="sng">
                <a:solidFill>
                  <a:srgbClr val="e1007a"/>
                </a:solidFill>
                <a:uFillTx/>
                <a:latin typeface="Arial"/>
              </a:rPr>
              <a:t>only </a:t>
            </a:r>
            <a:r>
              <a:rPr b="0" lang="en-GB" sz="2400" spc="-1" strike="noStrike">
                <a:solidFill>
                  <a:srgbClr val="e1007a"/>
                </a:solidFill>
                <a:latin typeface="Arial"/>
              </a:rPr>
              <a:t>means of going online)</a:t>
            </a:r>
            <a:endParaRPr b="0" lang="en-US" sz="24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78" name="TextBox 3"/>
          <p:cNvSpPr/>
          <p:nvPr/>
        </p:nvSpPr>
        <p:spPr>
          <a:xfrm>
            <a:off x="1774800" y="4946760"/>
            <a:ext cx="599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3c72"/>
                </a:solidFill>
                <a:latin typeface="Arial"/>
              </a:rPr>
              <a:t>Source: Ofcom </a:t>
            </a:r>
            <a:r>
              <a:rPr b="0" lang="en-US" sz="1800" spc="-1" strike="noStrike">
                <a:solidFill>
                  <a:srgbClr val="1c3c72"/>
                </a:solidFill>
                <a:latin typeface="Arial"/>
              </a:rPr>
              <a:t>UK Adults’ Media Literacy Report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655560" y="1025280"/>
            <a:ext cx="7934400" cy="37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1007a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e1007a"/>
                </a:solidFill>
                <a:latin typeface="Arial"/>
              </a:rPr>
              <a:t>Internet users are more likely to have interaction with government or their local council offline (71%) than online (65%).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1007a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e1007a"/>
                </a:solidFill>
                <a:latin typeface="Arial"/>
              </a:rPr>
              <a:t>Only 54% of UK adults have ever used an online government service (eg website, email, app etc)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80" name="TextBox 3"/>
          <p:cNvSpPr/>
          <p:nvPr/>
        </p:nvSpPr>
        <p:spPr>
          <a:xfrm>
            <a:off x="1592280" y="4781520"/>
            <a:ext cx="599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3c72"/>
                </a:solidFill>
                <a:latin typeface="Arial"/>
              </a:rPr>
              <a:t>Source: Ofcom </a:t>
            </a:r>
            <a:r>
              <a:rPr b="0" lang="en-US" sz="1800" spc="-1" strike="noStrike">
                <a:solidFill>
                  <a:srgbClr val="1c3c72"/>
                </a:solidFill>
                <a:latin typeface="Arial"/>
              </a:rPr>
              <a:t>UK Adults’ Media Literacy Report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671040" y="873000"/>
            <a:ext cx="796284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1007a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e1007a"/>
                </a:solidFill>
                <a:latin typeface="Arial"/>
              </a:rPr>
              <a:t>82% of internet users say they have saved money in the last six months by using the internet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1007a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e1007a"/>
                </a:solidFill>
                <a:latin typeface="Arial"/>
              </a:rPr>
              <a:t>with 46% saying they’ve made significant savings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82" name="TextBox 3"/>
          <p:cNvSpPr/>
          <p:nvPr/>
        </p:nvSpPr>
        <p:spPr>
          <a:xfrm>
            <a:off x="1774800" y="4946760"/>
            <a:ext cx="599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3c72"/>
                </a:solidFill>
                <a:latin typeface="Arial"/>
              </a:rPr>
              <a:t>Source: Ofcom </a:t>
            </a:r>
            <a:r>
              <a:rPr b="0" lang="en-US" sz="1800" spc="-1" strike="noStrike">
                <a:solidFill>
                  <a:srgbClr val="1c3c72"/>
                </a:solidFill>
                <a:latin typeface="Arial"/>
              </a:rPr>
              <a:t>UK Adults’ Media Literacy Report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685800" y="1337760"/>
            <a:ext cx="777240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1007a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e1007a"/>
                </a:solidFill>
                <a:latin typeface="Arial"/>
              </a:rPr>
              <a:t>Around half of internet users have some concerns about providing personal information online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84" name="TextBox 3"/>
          <p:cNvSpPr/>
          <p:nvPr/>
        </p:nvSpPr>
        <p:spPr>
          <a:xfrm>
            <a:off x="1411200" y="4600440"/>
            <a:ext cx="599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3c72"/>
                </a:solidFill>
                <a:latin typeface="Arial"/>
              </a:rPr>
              <a:t>Source: Ofcom </a:t>
            </a:r>
            <a:r>
              <a:rPr b="0" lang="en-US" sz="1800" spc="-1" strike="noStrike">
                <a:solidFill>
                  <a:srgbClr val="1c3c72"/>
                </a:solidFill>
                <a:latin typeface="Arial"/>
              </a:rPr>
              <a:t>UK Adults’ Media Literacy Report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03440" y="617040"/>
            <a:ext cx="7772400" cy="304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007a"/>
                </a:solidFill>
                <a:latin typeface="Arial"/>
              </a:rPr>
              <a:t>If all UK digitally excluded adults got online and made one digital contact each month, this would save the Government £900 million per year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3c72"/>
                </a:solidFill>
                <a:latin typeface="Arial"/>
              </a:rPr>
              <a:t>PwC &amp; Martha Lane Fox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raceonline.org/research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3c72"/>
                </a:solidFill>
                <a:latin typeface="Arial"/>
              </a:rPr>
              <a:t>October 2009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85720" y="212400"/>
            <a:ext cx="77724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1007a"/>
                </a:solidFill>
                <a:latin typeface="Arial"/>
              </a:rPr>
              <a:t>UK online centres</a:t>
            </a:r>
            <a:endParaRPr b="1" lang="en-US" sz="36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86" name="Text Box 3"/>
          <p:cNvSpPr/>
          <p:nvPr/>
        </p:nvSpPr>
        <p:spPr>
          <a:xfrm>
            <a:off x="674640" y="1677960"/>
            <a:ext cx="719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4"/>
          <p:cNvSpPr/>
          <p:nvPr/>
        </p:nvSpPr>
        <p:spPr>
          <a:xfrm>
            <a:off x="620640" y="1784520"/>
            <a:ext cx="776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507960" y="968400"/>
            <a:ext cx="8450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4000 member centres, covering 84% of England’s most deprived areas. Locations includ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Community centres including in social hous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Schools, Surestart and Children’s cen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Sh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Old people’s homes and Sheltered Hou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Mosques, churches, religious buil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Fa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Pu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Homeless shelters and host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…. Lots of going out to people where they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63" descr=""/>
          <p:cNvPicPr/>
          <p:nvPr/>
        </p:nvPicPr>
        <p:blipFill>
          <a:blip r:embed="rId1"/>
          <a:stretch/>
        </p:blipFill>
        <p:spPr>
          <a:xfrm>
            <a:off x="1463760" y="1279440"/>
            <a:ext cx="7265880" cy="4267440"/>
          </a:xfrm>
          <a:prstGeom prst="rect">
            <a:avLst/>
          </a:prstGeom>
          <a:ln w="0">
            <a:noFill/>
          </a:ln>
        </p:spPr>
      </p:pic>
      <p:sp>
        <p:nvSpPr>
          <p:cNvPr id="590" name="TextBox 64"/>
          <p:cNvSpPr/>
          <p:nvPr/>
        </p:nvSpPr>
        <p:spPr>
          <a:xfrm>
            <a:off x="395280" y="58770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*There were over 4000 partner centres by Mar 201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Box 65"/>
          <p:cNvSpPr/>
          <p:nvPr/>
        </p:nvSpPr>
        <p:spPr>
          <a:xfrm>
            <a:off x="1476360" y="33336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lationship with Job centre P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Box 68"/>
          <p:cNvSpPr/>
          <p:nvPr/>
        </p:nvSpPr>
        <p:spPr>
          <a:xfrm>
            <a:off x="5219640" y="595008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ource: 2010-11 Centre satisfaction surv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85720" y="212400"/>
            <a:ext cx="77724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1007a"/>
                </a:solidFill>
                <a:latin typeface="Arial"/>
              </a:rPr>
              <a:t>So.....</a:t>
            </a:r>
            <a:endParaRPr b="1" lang="en-US" sz="36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94" name="Text Box 3"/>
          <p:cNvSpPr/>
          <p:nvPr/>
        </p:nvSpPr>
        <p:spPr>
          <a:xfrm>
            <a:off x="674640" y="1677960"/>
            <a:ext cx="719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4"/>
          <p:cNvSpPr/>
          <p:nvPr/>
        </p:nvSpPr>
        <p:spPr>
          <a:xfrm>
            <a:off x="620640" y="1784520"/>
            <a:ext cx="776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507960" y="968400"/>
            <a:ext cx="8450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Must be right to move social security on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But there is a significant challenge in moving people online, and then a further challenge in getting them comfortable enough to interact with Government on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It won’t happen by accident, but the good news is there are great examples to build 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54040" y="853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1007a"/>
                </a:solidFill>
                <a:latin typeface="Arial"/>
              </a:rPr>
              <a:t>Thank You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1371600" y="3377880"/>
            <a:ext cx="64008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mclean@ufi.com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itter: @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kevinamclean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go-on.co.uk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007a"/>
                </a:solidFill>
                <a:latin typeface="Arial"/>
              </a:rPr>
              <a:t>The divide between the online and the offline is deepening</a:t>
            </a:r>
            <a:endParaRPr b="1" lang="en-US" sz="3600" spc="-1" strike="noStrike">
              <a:solidFill>
                <a:srgbClr val="e1007a"/>
              </a:solidFill>
              <a:latin typeface="Arial"/>
            </a:endParaRPr>
          </a:p>
        </p:txBody>
      </p:sp>
      <p:pic>
        <p:nvPicPr>
          <p:cNvPr id="545" name="Content Placeholder 3" descr=""/>
          <p:cNvPicPr/>
          <p:nvPr/>
        </p:nvPicPr>
        <p:blipFill>
          <a:blip r:embed="rId1"/>
          <a:stretch/>
        </p:blipFill>
        <p:spPr>
          <a:xfrm>
            <a:off x="0" y="0"/>
            <a:ext cx="8332920" cy="5956200"/>
          </a:xfrm>
          <a:prstGeom prst="rect">
            <a:avLst/>
          </a:prstGeom>
          <a:ln w="0">
            <a:noFill/>
          </a:ln>
        </p:spPr>
      </p:pic>
      <p:sp>
        <p:nvSpPr>
          <p:cNvPr id="546" name="Rectangle 4"/>
          <p:cNvSpPr/>
          <p:nvPr/>
        </p:nvSpPr>
        <p:spPr>
          <a:xfrm>
            <a:off x="3803040" y="5913360"/>
            <a:ext cx="529524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c3c72"/>
                </a:solidFill>
                <a:latin typeface="Arial"/>
              </a:rPr>
              <a:t>Percentage population use of the inter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c3c72"/>
                </a:solidFill>
                <a:latin typeface="Arial"/>
              </a:rPr>
              <a:t>Source: ONS 20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7296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007a"/>
                </a:solidFill>
                <a:latin typeface="Arial"/>
              </a:rPr>
              <a:t>About the datasets referred to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88440" y="1305000"/>
            <a:ext cx="838692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3c72"/>
                </a:solidFill>
                <a:latin typeface="Arial"/>
              </a:rPr>
              <a:t>Internet Access Quarterly Update, ONS 2011 Q1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3c72"/>
                </a:solidFill>
                <a:latin typeface="Arial"/>
              </a:rPr>
              <a:t>A new series of quarterly releases: Internet use by adults aged 16+. </a:t>
            </a:r>
            <a:endParaRPr b="0" lang="en-US" sz="2400" spc="-1" strike="noStrike">
              <a:solidFill>
                <a:srgbClr val="1c3c7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3c72"/>
                </a:solidFill>
                <a:latin typeface="Arial"/>
              </a:rPr>
              <a:t>The source of the information is the Labour Force Survey. Sample size: 50,000 households, c. 110,000 people</a:t>
            </a:r>
            <a:endParaRPr b="0" lang="en-US" sz="2400" spc="-1" strike="noStrike">
              <a:solidFill>
                <a:srgbClr val="1c3c7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3c72"/>
                </a:solidFill>
                <a:latin typeface="Arial"/>
              </a:rPr>
              <a:t>ONS has begun publishing quarterly data on Internet users and non-users, enabling more timely information</a:t>
            </a:r>
            <a:endParaRPr b="0" lang="en-US" sz="24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3c72"/>
                </a:solidFill>
                <a:latin typeface="Arial"/>
              </a:rPr>
              <a:t>UK Adults’ Media Literacy Report, Ofcom 2011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3c72"/>
                </a:solidFill>
                <a:latin typeface="Arial"/>
              </a:rPr>
              <a:t>Bi-annual</a:t>
            </a:r>
            <a:endParaRPr b="0" lang="en-US" sz="2400" spc="-1" strike="noStrike">
              <a:solidFill>
                <a:srgbClr val="1c3c7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3c72"/>
                </a:solidFill>
                <a:latin typeface="Arial"/>
              </a:rPr>
              <a:t>Sample size of 2,117</a:t>
            </a:r>
            <a:endParaRPr b="0" lang="en-US" sz="2400" spc="-1" strike="noStrike">
              <a:solidFill>
                <a:srgbClr val="1c3c72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1007a"/>
                </a:solidFill>
                <a:latin typeface="Arial"/>
              </a:rPr>
              <a:t>8.7 million adults have never used the internet – 17.5% of the population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50" name="TextBox 4"/>
          <p:cNvSpPr/>
          <p:nvPr/>
        </p:nvSpPr>
        <p:spPr>
          <a:xfrm>
            <a:off x="1765440" y="4421160"/>
            <a:ext cx="51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3c72"/>
                </a:solidFill>
                <a:latin typeface="Arial"/>
              </a:rPr>
              <a:t>Internet Access Quarterly Update, ONS 2011 Q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144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1007a"/>
                </a:solidFill>
                <a:latin typeface="Arial"/>
              </a:rPr>
              <a:t>40.8 million adults used the internet every day – 82.2 per cent of the population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52" name="TextBox 6"/>
          <p:cNvSpPr/>
          <p:nvPr/>
        </p:nvSpPr>
        <p:spPr>
          <a:xfrm>
            <a:off x="1765440" y="4421160"/>
            <a:ext cx="51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3c72"/>
                </a:solidFill>
                <a:latin typeface="Arial"/>
              </a:rPr>
              <a:t>Internet Access Quarterly Update, ONS 2011 Q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1007a"/>
                </a:solidFill>
                <a:latin typeface="Arial"/>
              </a:rPr>
              <a:t>Who uses the internet?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95.3% + of people aged under 35-44 (and 99% of 16-24 year olds)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85% of men, compared with 80% of women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People in London &amp; the South of England (85.6%)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55" name="TextBox 5"/>
          <p:cNvSpPr/>
          <p:nvPr/>
        </p:nvSpPr>
        <p:spPr>
          <a:xfrm>
            <a:off x="1765440" y="4782960"/>
            <a:ext cx="51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3c72"/>
                </a:solidFill>
                <a:latin typeface="Arial"/>
              </a:rPr>
              <a:t>Internet Access Quarterly Update, ONS 2011 Q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Content Placeholder 4" descr=""/>
          <p:cNvPicPr/>
          <p:nvPr/>
        </p:nvPicPr>
        <p:blipFill>
          <a:blip r:embed="rId1"/>
          <a:stretch/>
        </p:blipFill>
        <p:spPr>
          <a:xfrm>
            <a:off x="208080" y="-6480"/>
            <a:ext cx="8624880" cy="6608880"/>
          </a:xfrm>
          <a:prstGeom prst="rect">
            <a:avLst/>
          </a:prstGeom>
          <a:ln w="0">
            <a:noFill/>
          </a:ln>
        </p:spPr>
      </p:pic>
      <p:sp>
        <p:nvSpPr>
          <p:cNvPr id="557" name="TextBox 6"/>
          <p:cNvSpPr/>
          <p:nvPr/>
        </p:nvSpPr>
        <p:spPr>
          <a:xfrm>
            <a:off x="3265560" y="495360"/>
            <a:ext cx="51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3c72"/>
                </a:solidFill>
                <a:latin typeface="Arial"/>
              </a:rPr>
              <a:t>Internet Access Quarterly Update, ONS 2011 Q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71600" y="245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1007a"/>
                </a:solidFill>
                <a:latin typeface="Arial"/>
              </a:rPr>
              <a:t>Who doesn’t use the internet?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685440" y="1441080"/>
            <a:ext cx="815508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5.1m women have never used the internet, compared with 3.6m men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Only 17% of women aged 75+ have used the internet, compared with 33% of men aged 75+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4.2m disabled adults – almost half of all those who have never used the internet, or 1 in 3 of disabled people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29.3% of people in Northern Ireland and 22.7% of people in NE England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60" name="TextBox 5"/>
          <p:cNvSpPr/>
          <p:nvPr/>
        </p:nvSpPr>
        <p:spPr>
          <a:xfrm>
            <a:off x="3693960" y="6135840"/>
            <a:ext cx="51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3c72"/>
                </a:solidFill>
                <a:latin typeface="Arial"/>
              </a:rPr>
              <a:t>Internet Access Quarterly Update, ONS 2011 Q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1T16:43:53Z</dcterms:created>
  <dc:creator>Matt Richmond</dc:creator>
  <dc:description/>
  <dc:language>en-US</dc:language>
  <cp:lastModifiedBy>IT Services</cp:lastModifiedBy>
  <dcterms:modified xsi:type="dcterms:W3CDTF">2011-07-06T11:31:36Z</dcterms:modified>
  <cp:revision>152</cp:revision>
  <dc:subject/>
  <dc:title>PowerPoint Presentation</dc:title>
</cp:coreProperties>
</file>