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38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007a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ftr" idx="39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 type="sldNum" idx="40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AEDCECB-C76D-4F9F-B046-1D8DDD824B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se are extrapolations from the learner and centre surveys data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1208661-F60E-43A8-AC26-A4F60CE939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9D0C29-684B-496E-8497-5B79B9F1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844783-427A-42BD-91BD-8CE2A154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2C486E-C94E-47BB-89C7-BAD02791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9C4D17-C770-4C4C-B4CE-61FC2226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D61336-3FB7-4F4A-BF5D-30230BD2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7556F1-7F59-45C0-BD03-F308A559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29D242-6B10-4030-AB21-422737BE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190A4F-AE72-435A-9535-45B52C2DB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845CCA-7406-4B4E-ACBD-FFD388C18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4B56B5-7026-40A8-9671-0CB33638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A2EFD0-894C-4D84-ADC5-CF94B4AC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762299-8FC2-4A73-ACC6-4475B861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56FF64-94BB-43C0-868C-1B6DE877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AEC56D-D300-4789-B38C-BCACBE3F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9E7376-44B0-46AF-8D0D-5E4E7911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5EC8DE-D9EE-4C9F-9420-4CA1032B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35D0F5-E0C3-409A-BE55-BCE81798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F9FB08-F511-4B23-B587-CA858202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1A159A-28FD-42F8-8F22-59884FF1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EBAF68-11AC-4CAC-8F7D-686DEA78C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91B174-D582-47D4-96D7-3E0E46BAC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AF9CDEA-8FC6-4212-A1AD-01BEB094D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EE5DCF7-C836-4789-A7C6-1D164485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A6CE7D9-17EC-4585-8E07-2C8DDC3F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D7A2BB-F6C4-44EE-ABCA-6EC0BA81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8B13F52-CBAD-42F8-8FCB-8576BCD8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B65EC90-E5B6-4623-A5A2-4AFE9BB9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7E30BBC-B7D6-4DE2-97EF-4CACAC16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FE0DB2D-5B37-4FCA-A9C5-1BB8BC59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BD39417-6364-49F8-9C3A-E0616356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D2330-A49B-4E4C-A7F6-7BBBB01F4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04516F0-94B5-404D-BA02-7E792147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422031D-CED7-4CCF-B5E6-45293C2FA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8584DED-886E-46A2-99D7-F52C8EC9E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C85D7E-D45C-4785-9035-8AC28A3C0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6EFD52-4FE5-4682-924F-475621DD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B8ECBE-9986-4079-A3ED-7C7D1878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B4564E-B596-40AF-BAF8-C2B47651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D92098-53CC-4D33-99CF-FA7BE62D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8376BB-B7A5-4CF3-9733-35BE2008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B792E6-4DBE-4AEE-BEFC-50EBEBC3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5A09F-1A08-4A0A-844C-C2138C30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1FE937-D107-45D7-AF4C-3C7C47FC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B5EC81-9E56-4C4C-945E-48E4A1EC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6A549B-DBEB-4052-B369-5E375898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9A14A3-913C-45D9-9BAA-B26DA70AA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680777-0C1A-472F-B50E-D5777540F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32AF042-8C8F-4832-B7EB-54121D413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71DA602-A659-49E7-9461-D4AD90EE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24F095D-0746-45ED-AC7E-0778E1ED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482F24E-2A9B-46E3-8389-9212B30D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F8B31D2-757F-4ED7-8D65-AA7992CB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378BF-A729-4FF4-A47D-748F4F20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353A8EF-CACD-4135-88AD-7B0491B2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4A06FF9-7CD5-48D4-AF6C-8277216E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880EE15-748B-4B47-9A5B-191B4F97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103F694-DEFE-4ED1-8A2A-EBF484A0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E11D661-32CC-42DD-8B07-05AC91E6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5448990-C9A3-48E6-A7E7-91504C394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67584DD-4C42-4508-8CFE-148C3645A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7B8AB-8F68-4B47-B06E-28D39418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34B03-7097-4496-912F-CBA2B5B8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BEA09-1720-45AD-AF70-F69FB02D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EB827-92DF-4AAC-B157-3AC65141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5E222-D81A-4761-87A0-C9EB99DA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A96BE-8989-46F7-A78A-87EE1A86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32D94-84AD-4273-831E-DE6059A7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2F762-6FE8-415A-B869-769510198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8605B-F878-4B47-8DEB-1D1E78F27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04476A-79D8-4C69-B0B8-8365759C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F4EF77-049A-429F-81E9-0725C978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50DC50-D077-42FD-92CE-A44DD947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AB3EBD-82DD-400E-ACCF-7C03426E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FD6F93-8AA7-4702-A7CF-4E95A387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EA2C47-9F4C-4B3C-B6DE-EFEE33A1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BD431D-23EB-49F5-A4EF-FE44FD18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C44F57-5DAE-4E45-A411-D127E8BA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E1303E-6BEC-4C50-A504-DAA20C13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625110-5D36-46EA-A203-F1A3C2AA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D0163A-90C2-437E-BE74-27370D8B3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F4D346-CB56-4A6D-9A83-A517F19A1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5448A2-942B-4E67-8DCB-247B2ED62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882482-50CF-49CA-82AA-F8DE4837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667F43-E008-41E8-8408-7A81F69A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24CEFE-34D7-4C84-9D3F-14850FC9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58A332-F8E0-4701-9127-24DA1D86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0793FD-B499-4B2A-A4E5-B5D8E7AB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041600-6CA6-4A7B-B925-FA183655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23FD7F-60C0-4304-8FDA-102FF322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C00D97-3D4B-4674-B78E-A43249C9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211E6C-45BC-4938-A233-258E4D0E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31A4C5-A453-4DFF-9212-3FB8849C7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F8FE22-924B-432D-85C2-FBF802E6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E216BD-9A1E-4B07-B78F-3FC1ABF8D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79E8D1-7FC5-4003-B3E0-5757B267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3579B4-C979-480B-B39B-BDD31452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5B9E7E-524B-4E94-A130-9EF6A305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D5A64E-4C84-4667-BE6B-3B9551BA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7005D1-B826-4344-BCB6-81E8A85B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30CB98-A6DC-431E-B546-9D2643B7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808860-C7F1-44D0-BC1B-571C1427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E0E2D1-00C5-4944-ABEA-02D4A761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60271B-ABC2-4282-B179-59CF63D3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7AAF05-84BB-47DF-9570-C57FA7F2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C7D1ED-EAFA-4C0D-8703-0312567EE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F86D65-20ED-494A-80C0-85836C299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4FF172-2EBC-4211-9AEE-B7A0A30D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026759-137D-4802-8859-B21FF4B0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995F7E-F660-460A-B230-0B63A19A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1577AA-BB43-42B4-9E23-77422E6A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BB86C3-6787-443D-86FD-6BFC01A5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A9AC0A-009A-416E-9BCE-4ACCA31B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8EB212-A797-41AE-8F04-4502ED9A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AFC84D-4DAA-4C8B-8E85-EBA5D48E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44C143-2F7F-4268-AC79-D50D46D9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806052-2D54-44C6-80D1-7C14E04B7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6D4522-4ABC-456F-A738-354811D4C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0372B5-B047-4538-B8AA-BBA421312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0B2BB2-B51D-4914-8897-2D7C57E4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8B0A30-0271-4C0A-B665-8254334C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3007A9-743E-400D-991F-6959B7EF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DA4357-10A3-4453-87B2-2B35DFF0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D8E822-C241-49B2-9AE6-EAAD998F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C65901-E6C5-4C36-BAB9-AC1A6560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8076BF-FCF7-4DAA-B8B0-0359587C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10223B-88C7-49DA-8FCE-8F2E0C08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3DDB2D-8D41-4A71-8D62-8753F9CF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7F7387-69D4-47CB-8EF0-C8E49D12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44D55F-2F0C-4DC5-B11A-695C2066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8AA797-E3AE-4304-AE3A-408E76DFC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673CB1-51FD-4769-89D9-A4418791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9EDD47-FDC6-4373-8DBE-874D98AA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8AC046-F12E-4309-9276-852E3612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8627DF-9F5E-46FD-BB97-8407F703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97F8EB-1209-424D-A002-D06961FD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A42964-0FD3-4635-9A50-0BD1E2C1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40618F-9C20-4368-8DA6-33999AFD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A31918-A42D-4EF2-ABAB-6EEBE6D6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1DCFC6-49B0-40D1-9EAB-DDA83F71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66E8B4-F53D-4409-9CA1-7F4E11021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C28F99-C51E-4D3F-8229-555534A84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B93BC0-8806-46D4-ABFC-5286D3CA9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187673-C535-4BFF-9BC4-C1598EC0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029370-3475-49FC-AC20-14F67E4A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007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3c7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3c7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3c7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3c7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3c7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3c7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3c7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3c7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18040" y="6173640"/>
            <a:ext cx="1679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" descr=""/>
          <p:cNvPicPr/>
          <p:nvPr/>
        </p:nvPicPr>
        <p:blipFill>
          <a:blip r:embed="rId2"/>
          <a:srcRect l="3543" t="85551" r="55690" b="3986"/>
          <a:stretch/>
        </p:blipFill>
        <p:spPr>
          <a:xfrm>
            <a:off x="684360" y="6046920"/>
            <a:ext cx="309564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D111-B760-4AD1-86E7-8A33A57C70A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B751-6B33-4827-9B8A-F9FCB272F91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4393-A55D-42E8-B33D-ADF5491FD93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1E51-4CA2-4D0B-8CC7-59D43DED32C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D7C2-FFED-4A9E-A6D0-77EDB2E5074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6F40-F40F-4C59-B920-FDC49886042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2613-0DEC-468A-BA1A-3EACAF687D1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DEDF-ECDA-4FDE-AB5E-99441475CCE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E5B3-B544-49FA-9E45-DEF7319E321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1583-3910-4EB6-8F1B-DC650F4DCB2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8519-E2A9-4351-9EBF-4E3D033C6E7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8BB5-1B9D-435A-9A06-1F1E77BDC7C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raceonline.org/research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kmclean@ufi.com" TargetMode="External"/><Relationship Id="rId2" Type="http://schemas.openxmlformats.org/officeDocument/2006/relationships/hyperlink" Target="http://www.twitter.com/helenmilner" TargetMode="External"/><Relationship Id="rId3" Type="http://schemas.openxmlformats.org/officeDocument/2006/relationships/hyperlink" Target="http://www.twitter.com/helenmilner" TargetMode="External"/><Relationship Id="rId4" Type="http://schemas.openxmlformats.org/officeDocument/2006/relationships/hyperlink" Target="mailto:kmclean@ufi.com" TargetMode="External"/><Relationship Id="rId5" Type="http://schemas.openxmlformats.org/officeDocument/2006/relationships/hyperlink" Target="http://www.go-on.co.uk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691560" y="685800"/>
            <a:ext cx="49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3c72"/>
                </a:solidFill>
                <a:latin typeface="Arial"/>
              </a:rPr>
              <a:t>Section Divider: Heading intro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3" descr=""/>
          <p:cNvPicPr/>
          <p:nvPr/>
        </p:nvPicPr>
        <p:blipFill>
          <a:blip r:embed="rId1"/>
          <a:stretch/>
        </p:blipFill>
        <p:spPr>
          <a:xfrm>
            <a:off x="0" y="-28440"/>
            <a:ext cx="9182160" cy="688644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4"/>
          <p:cNvSpPr/>
          <p:nvPr/>
        </p:nvSpPr>
        <p:spPr>
          <a:xfrm>
            <a:off x="230040" y="2701800"/>
            <a:ext cx="8740800" cy="24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Arial"/>
              </a:rPr>
              <a:t>Internet use in t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he</a:t>
            </a:r>
            <a:r>
              <a:rPr b="1" lang="en-GB" sz="3800" spc="-1" strike="noStrike">
                <a:solidFill>
                  <a:srgbClr val="ffffff"/>
                </a:solidFill>
                <a:latin typeface="Arial"/>
              </a:rPr>
              <a:t> UK: the evidenc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Arial"/>
              </a:rPr>
              <a:t>June 2011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Arial"/>
              </a:rPr>
              <a:t>Kevin McLea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3360" y="26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1007a"/>
                </a:solidFill>
                <a:latin typeface="Arial"/>
              </a:rPr>
              <a:t>Who doesn’t use the internet? (contd)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85800" y="1441440"/>
            <a:ext cx="77724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c3c72"/>
                </a:solidFill>
                <a:latin typeface="Arial"/>
              </a:rPr>
              <a:t>Ofcom shows age and socioeconomic group are significant:</a:t>
            </a:r>
            <a:endParaRPr b="0" lang="en-US" sz="26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c3c72"/>
                </a:solidFill>
                <a:latin typeface="Arial"/>
              </a:rPr>
              <a:t>20% drop in internet use from national average among those in social group DE</a:t>
            </a:r>
            <a:endParaRPr b="0" lang="en-US" sz="26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c3c72"/>
                </a:solidFill>
                <a:latin typeface="Arial"/>
              </a:rPr>
              <a:t>Close to half of non-users are aged 65 and over</a:t>
            </a:r>
            <a:endParaRPr b="0" lang="en-US" sz="26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c3c72"/>
                </a:solidFill>
                <a:latin typeface="Arial"/>
              </a:rPr>
              <a:t>Close to half of non-users are in socioeconomic group DE</a:t>
            </a:r>
            <a:endParaRPr b="0" lang="en-US" sz="26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63" name="TextBox 3"/>
          <p:cNvSpPr/>
          <p:nvPr/>
        </p:nvSpPr>
        <p:spPr>
          <a:xfrm>
            <a:off x="1774800" y="4946760"/>
            <a:ext cx="599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3c72"/>
                </a:solidFill>
                <a:latin typeface="Arial"/>
              </a:rPr>
              <a:t>Source: Ofcom </a:t>
            </a: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UK Adults’ Media Literacy Report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1007a"/>
                </a:solidFill>
                <a:latin typeface="Arial"/>
              </a:rPr>
              <a:t>Four major factors to not using the internet are age, socio-economic group, disability, and gender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1007a"/>
                </a:solidFill>
                <a:latin typeface="Arial"/>
              </a:rPr>
              <a:t>Why don’t people use the internet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685800" y="1980720"/>
            <a:ext cx="7772400" cy="27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Two key barriers are: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Lack of interest (64% of those who don’t intend to get the internet at home gave this reason)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Cost (23%)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68" name="TextBox 3"/>
          <p:cNvSpPr/>
          <p:nvPr/>
        </p:nvSpPr>
        <p:spPr>
          <a:xfrm>
            <a:off x="1774800" y="4946760"/>
            <a:ext cx="599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3c72"/>
                </a:solidFill>
                <a:latin typeface="Arial"/>
              </a:rPr>
              <a:t>Source: Ofcom </a:t>
            </a: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UK Adults’ Media Literacy Report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1007a"/>
                </a:solidFill>
                <a:latin typeface="Arial"/>
              </a:rPr>
              <a:t>Hooks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727200" y="1576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The three main ‘hooks’ for non-users in terms of activities are: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lvl="1" marL="399960">
              <a:spcBef>
                <a:spcPts val="700"/>
              </a:spcBef>
              <a:buClr>
                <a:srgbClr val="1c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Emailing (16%)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lvl="1" marL="399960">
              <a:spcBef>
                <a:spcPts val="700"/>
              </a:spcBef>
              <a:buClr>
                <a:srgbClr val="1c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Uploading photos (15%)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lvl="1" marL="399960">
              <a:spcBef>
                <a:spcPts val="700"/>
              </a:spcBef>
              <a:buClr>
                <a:srgbClr val="1c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Online shopping (13%)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71" name="TextBox 4"/>
          <p:cNvSpPr/>
          <p:nvPr/>
        </p:nvSpPr>
        <p:spPr>
          <a:xfrm>
            <a:off x="833400" y="5013360"/>
            <a:ext cx="599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3c72"/>
                </a:solidFill>
                <a:latin typeface="Arial"/>
              </a:rPr>
              <a:t>Source: Ofcom </a:t>
            </a: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UK Adults’ Media Literacy Report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Chart 3" descr=""/>
          <p:cNvPicPr/>
          <p:nvPr/>
        </p:nvPicPr>
        <p:blipFill>
          <a:blip r:embed="rId1"/>
          <a:stretch/>
        </p:blipFill>
        <p:spPr>
          <a:xfrm>
            <a:off x="152280" y="274680"/>
            <a:ext cx="8839440" cy="5937120"/>
          </a:xfrm>
          <a:prstGeom prst="rect">
            <a:avLst/>
          </a:prstGeom>
          <a:ln w="0">
            <a:noFill/>
          </a:ln>
        </p:spPr>
      </p:pic>
      <p:sp>
        <p:nvSpPr>
          <p:cNvPr id="573" name="TextBox 5"/>
          <p:cNvSpPr/>
          <p:nvPr/>
        </p:nvSpPr>
        <p:spPr>
          <a:xfrm>
            <a:off x="1598760" y="1160640"/>
            <a:ext cx="599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3c72"/>
                </a:solidFill>
                <a:latin typeface="Arial"/>
              </a:rPr>
              <a:t>Source: Ofcom </a:t>
            </a: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UK Adults’ Media Literacy Report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60520" y="301680"/>
            <a:ext cx="77724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1007a"/>
                </a:solidFill>
                <a:latin typeface="Arial"/>
              </a:rPr>
              <a:t>% of adult who have ever used the internet, by region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3998880" y="6119640"/>
            <a:ext cx="47610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Chart 6" descr=""/>
          <p:cNvPicPr/>
          <p:nvPr/>
        </p:nvPicPr>
        <p:blipFill>
          <a:blip r:embed="rId1"/>
          <a:stretch/>
        </p:blipFill>
        <p:spPr>
          <a:xfrm>
            <a:off x="328680" y="1231920"/>
            <a:ext cx="8821800" cy="54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631440" y="1333440"/>
            <a:ext cx="7975800" cy="32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1007a"/>
                </a:solidFill>
                <a:latin typeface="Arial"/>
              </a:rPr>
              <a:t>Only 2% of UK adults use only an alternative device to a PC or laptop to go online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1007a"/>
                </a:solidFill>
                <a:latin typeface="Arial"/>
              </a:rPr>
              <a:t>(Note: This is use of an alternative as their </a:t>
            </a:r>
            <a:r>
              <a:rPr b="1" lang="en-GB" sz="2400" spc="-1" strike="noStrike" u="sng">
                <a:solidFill>
                  <a:srgbClr val="e1007a"/>
                </a:solidFill>
                <a:uFillTx/>
                <a:latin typeface="Arial"/>
              </a:rPr>
              <a:t>only </a:t>
            </a:r>
            <a:r>
              <a:rPr b="0" lang="en-GB" sz="2400" spc="-1" strike="noStrike">
                <a:solidFill>
                  <a:srgbClr val="e1007a"/>
                </a:solidFill>
                <a:latin typeface="Arial"/>
              </a:rPr>
              <a:t>means of going online)</a:t>
            </a:r>
            <a:endParaRPr b="0" lang="en-US" sz="24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78" name="TextBox 3"/>
          <p:cNvSpPr/>
          <p:nvPr/>
        </p:nvSpPr>
        <p:spPr>
          <a:xfrm>
            <a:off x="1774800" y="4946760"/>
            <a:ext cx="599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3c72"/>
                </a:solidFill>
                <a:latin typeface="Arial"/>
              </a:rPr>
              <a:t>Source: Ofcom </a:t>
            </a: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UK Adults’ Media Literacy Report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655560" y="1025280"/>
            <a:ext cx="7934400" cy="37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1007a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e1007a"/>
                </a:solidFill>
                <a:latin typeface="Arial"/>
              </a:rPr>
              <a:t>Internet users are more likely to have interaction with government or their local council offline (71%) than online (65%).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1007a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e1007a"/>
                </a:solidFill>
                <a:latin typeface="Arial"/>
              </a:rPr>
              <a:t>Only 54% of UK adults have ever used an online government service (eg website, email, app etc)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80" name="TextBox 3"/>
          <p:cNvSpPr/>
          <p:nvPr/>
        </p:nvSpPr>
        <p:spPr>
          <a:xfrm>
            <a:off x="1592280" y="4781520"/>
            <a:ext cx="599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3c72"/>
                </a:solidFill>
                <a:latin typeface="Arial"/>
              </a:rPr>
              <a:t>Source: Ofcom </a:t>
            </a: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UK Adults’ Media Literacy Report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671040" y="873000"/>
            <a:ext cx="796284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1007a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e1007a"/>
                </a:solidFill>
                <a:latin typeface="Arial"/>
              </a:rPr>
              <a:t>82% of internet users say they have saved money in the last six months by using the internet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1007a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e1007a"/>
                </a:solidFill>
                <a:latin typeface="Arial"/>
              </a:rPr>
              <a:t>with 46% saying they’ve made significant savings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82" name="TextBox 3"/>
          <p:cNvSpPr/>
          <p:nvPr/>
        </p:nvSpPr>
        <p:spPr>
          <a:xfrm>
            <a:off x="1774800" y="4946760"/>
            <a:ext cx="599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3c72"/>
                </a:solidFill>
                <a:latin typeface="Arial"/>
              </a:rPr>
              <a:t>Source: Ofcom </a:t>
            </a: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UK Adults’ Media Literacy Report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685800" y="1337760"/>
            <a:ext cx="777240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1007a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e1007a"/>
                </a:solidFill>
                <a:latin typeface="Arial"/>
              </a:rPr>
              <a:t>Around half of internet users have some concerns about providing personal information online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84" name="TextBox 3"/>
          <p:cNvSpPr/>
          <p:nvPr/>
        </p:nvSpPr>
        <p:spPr>
          <a:xfrm>
            <a:off x="1411200" y="4600440"/>
            <a:ext cx="599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3c72"/>
                </a:solidFill>
                <a:latin typeface="Arial"/>
              </a:rPr>
              <a:t>Source: Ofcom </a:t>
            </a: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UK Adults’ Media Literacy Report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03440" y="617040"/>
            <a:ext cx="7772400" cy="304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007a"/>
                </a:solidFill>
                <a:latin typeface="Arial"/>
              </a:rPr>
              <a:t>If all UK digitally excluded adults got online and made one digital contact each month, this would save the Government £900 million per year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3c72"/>
                </a:solidFill>
                <a:latin typeface="Arial"/>
              </a:rPr>
              <a:t>PwC &amp; Martha Lane Fox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raceonline.org/research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3c72"/>
                </a:solidFill>
                <a:latin typeface="Arial"/>
              </a:rPr>
              <a:t>October 2009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85720" y="212400"/>
            <a:ext cx="77724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1007a"/>
                </a:solidFill>
                <a:latin typeface="Arial"/>
              </a:rPr>
              <a:t>UK online centres</a:t>
            </a:r>
            <a:endParaRPr b="1" lang="en-US" sz="36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86" name="Text Box 3"/>
          <p:cNvSpPr/>
          <p:nvPr/>
        </p:nvSpPr>
        <p:spPr>
          <a:xfrm>
            <a:off x="674640" y="1677960"/>
            <a:ext cx="719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4"/>
          <p:cNvSpPr/>
          <p:nvPr/>
        </p:nvSpPr>
        <p:spPr>
          <a:xfrm>
            <a:off x="620640" y="1784520"/>
            <a:ext cx="776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507960" y="968400"/>
            <a:ext cx="8450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4000 member centres, covering 84% of England’s most deprived areas. Locations includ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Community centres including in social hous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Schools, Surestart and Children’s cen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Sh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Old people’s homes and Sheltered Hou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Mosques, churches, religious buil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Fa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Pu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Homeless shelters and host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…. Lots of going out to people where they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63" descr=""/>
          <p:cNvPicPr/>
          <p:nvPr/>
        </p:nvPicPr>
        <p:blipFill>
          <a:blip r:embed="rId1"/>
          <a:stretch/>
        </p:blipFill>
        <p:spPr>
          <a:xfrm>
            <a:off x="1463760" y="1279440"/>
            <a:ext cx="7265880" cy="4267440"/>
          </a:xfrm>
          <a:prstGeom prst="rect">
            <a:avLst/>
          </a:prstGeom>
          <a:ln w="0">
            <a:noFill/>
          </a:ln>
        </p:spPr>
      </p:pic>
      <p:sp>
        <p:nvSpPr>
          <p:cNvPr id="590" name="TextBox 64"/>
          <p:cNvSpPr/>
          <p:nvPr/>
        </p:nvSpPr>
        <p:spPr>
          <a:xfrm>
            <a:off x="395280" y="58770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*There were over 4000 partner centres by Mar 201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Box 65"/>
          <p:cNvSpPr/>
          <p:nvPr/>
        </p:nvSpPr>
        <p:spPr>
          <a:xfrm>
            <a:off x="1476360" y="33336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lationship with Job centre P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Box 68"/>
          <p:cNvSpPr/>
          <p:nvPr/>
        </p:nvSpPr>
        <p:spPr>
          <a:xfrm>
            <a:off x="5219640" y="595008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ource: 2010-11 Centre satisfaction surv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85720" y="212400"/>
            <a:ext cx="77724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1007a"/>
                </a:solidFill>
                <a:latin typeface="Arial"/>
              </a:rPr>
              <a:t>So.....</a:t>
            </a:r>
            <a:endParaRPr b="1" lang="en-US" sz="36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94" name="Text Box 3"/>
          <p:cNvSpPr/>
          <p:nvPr/>
        </p:nvSpPr>
        <p:spPr>
          <a:xfrm>
            <a:off x="674640" y="1677960"/>
            <a:ext cx="719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4"/>
          <p:cNvSpPr/>
          <p:nvPr/>
        </p:nvSpPr>
        <p:spPr>
          <a:xfrm>
            <a:off x="620640" y="1784520"/>
            <a:ext cx="776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507960" y="968400"/>
            <a:ext cx="8450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Must be right to move social security on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But there is a significant challenge in moving people online, and then a further challenge in getting them comfortable enough to interact with Government on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It won’t happen by accident, but the good news is there are great examples to build 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54040" y="853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1007a"/>
                </a:solidFill>
                <a:latin typeface="Arial"/>
              </a:rPr>
              <a:t>Thank You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1371600" y="3377880"/>
            <a:ext cx="64008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mclean@ufi.com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itter: @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kevinamclean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go-on.co.uk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007a"/>
                </a:solidFill>
                <a:latin typeface="Arial"/>
              </a:rPr>
              <a:t>The divide between the online and the offline is deepening</a:t>
            </a:r>
            <a:endParaRPr b="1" lang="en-US" sz="3600" spc="-1" strike="noStrike">
              <a:solidFill>
                <a:srgbClr val="e1007a"/>
              </a:solidFill>
              <a:latin typeface="Arial"/>
            </a:endParaRPr>
          </a:p>
        </p:txBody>
      </p:sp>
      <p:pic>
        <p:nvPicPr>
          <p:cNvPr id="545" name="Content Placeholder 3" descr=""/>
          <p:cNvPicPr/>
          <p:nvPr/>
        </p:nvPicPr>
        <p:blipFill>
          <a:blip r:embed="rId1"/>
          <a:stretch/>
        </p:blipFill>
        <p:spPr>
          <a:xfrm>
            <a:off x="0" y="0"/>
            <a:ext cx="8332920" cy="5956200"/>
          </a:xfrm>
          <a:prstGeom prst="rect">
            <a:avLst/>
          </a:prstGeom>
          <a:ln w="0">
            <a:noFill/>
          </a:ln>
        </p:spPr>
      </p:pic>
      <p:sp>
        <p:nvSpPr>
          <p:cNvPr id="546" name="Rectangle 4"/>
          <p:cNvSpPr/>
          <p:nvPr/>
        </p:nvSpPr>
        <p:spPr>
          <a:xfrm>
            <a:off x="3803040" y="5913360"/>
            <a:ext cx="529524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c3c72"/>
                </a:solidFill>
                <a:latin typeface="Arial"/>
              </a:rPr>
              <a:t>Percentage population use of the inter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c3c72"/>
                </a:solidFill>
                <a:latin typeface="Arial"/>
              </a:rPr>
              <a:t>Source: ONS 20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7296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007a"/>
                </a:solidFill>
                <a:latin typeface="Arial"/>
              </a:rPr>
              <a:t>About the datasets referred to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88440" y="1305000"/>
            <a:ext cx="838692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3c72"/>
                </a:solidFill>
                <a:latin typeface="Arial"/>
              </a:rPr>
              <a:t>Internet Access Quarterly Update, ONS 2011 Q1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3c72"/>
                </a:solidFill>
                <a:latin typeface="Arial"/>
              </a:rPr>
              <a:t>A new series of quarterly releases: Internet use by adults aged 16+. </a:t>
            </a:r>
            <a:endParaRPr b="0" lang="en-US" sz="2400" spc="-1" strike="noStrike">
              <a:solidFill>
                <a:srgbClr val="1c3c7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3c72"/>
                </a:solidFill>
                <a:latin typeface="Arial"/>
              </a:rPr>
              <a:t>The source of the information is the Labour Force Survey. Sample size: 50,000 households, c. 110,000 people</a:t>
            </a:r>
            <a:endParaRPr b="0" lang="en-US" sz="2400" spc="-1" strike="noStrike">
              <a:solidFill>
                <a:srgbClr val="1c3c7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3c72"/>
                </a:solidFill>
                <a:latin typeface="Arial"/>
              </a:rPr>
              <a:t>ONS has begun publishing quarterly data on Internet users and non-users, enabling more timely information</a:t>
            </a:r>
            <a:endParaRPr b="0" lang="en-US" sz="24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3c72"/>
                </a:solidFill>
                <a:latin typeface="Arial"/>
              </a:rPr>
              <a:t>UK Adults’ Media Literacy Report, Ofcom 2011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3c72"/>
                </a:solidFill>
                <a:latin typeface="Arial"/>
              </a:rPr>
              <a:t>Bi-annual</a:t>
            </a:r>
            <a:endParaRPr b="0" lang="en-US" sz="2400" spc="-1" strike="noStrike">
              <a:solidFill>
                <a:srgbClr val="1c3c7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3c72"/>
                </a:solidFill>
                <a:latin typeface="Arial"/>
              </a:rPr>
              <a:t>Sample size of 2,117</a:t>
            </a:r>
            <a:endParaRPr b="0" lang="en-US" sz="2400" spc="-1" strike="noStrike">
              <a:solidFill>
                <a:srgbClr val="1c3c72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1007a"/>
                </a:solidFill>
                <a:latin typeface="Arial"/>
              </a:rPr>
              <a:t>8.7 million adults have never used the internet – 17.5% of the population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50" name="TextBox 4"/>
          <p:cNvSpPr/>
          <p:nvPr/>
        </p:nvSpPr>
        <p:spPr>
          <a:xfrm>
            <a:off x="1765440" y="4421160"/>
            <a:ext cx="51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Internet Access Quarterly Update, ONS 2011 Q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144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1007a"/>
                </a:solidFill>
                <a:latin typeface="Arial"/>
              </a:rPr>
              <a:t>40.8 million adults used the internet every day – 82.2 per cent of the population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52" name="TextBox 6"/>
          <p:cNvSpPr/>
          <p:nvPr/>
        </p:nvSpPr>
        <p:spPr>
          <a:xfrm>
            <a:off x="1765440" y="4421160"/>
            <a:ext cx="51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Internet Access Quarterly Update, ONS 2011 Q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1007a"/>
                </a:solidFill>
                <a:latin typeface="Arial"/>
              </a:rPr>
              <a:t>Who uses the internet?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95.3% + of people aged under 35-44 (and 99% of 16-24 year olds)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85% of men, compared with 80% of women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People in London &amp; the South of England (85.6%)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55" name="TextBox 5"/>
          <p:cNvSpPr/>
          <p:nvPr/>
        </p:nvSpPr>
        <p:spPr>
          <a:xfrm>
            <a:off x="1765440" y="4782960"/>
            <a:ext cx="51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Internet Access Quarterly Update, ONS 2011 Q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Content Placeholder 4" descr=""/>
          <p:cNvPicPr/>
          <p:nvPr/>
        </p:nvPicPr>
        <p:blipFill>
          <a:blip r:embed="rId1"/>
          <a:stretch/>
        </p:blipFill>
        <p:spPr>
          <a:xfrm>
            <a:off x="208080" y="-6480"/>
            <a:ext cx="8624880" cy="6608880"/>
          </a:xfrm>
          <a:prstGeom prst="rect">
            <a:avLst/>
          </a:prstGeom>
          <a:ln w="0">
            <a:noFill/>
          </a:ln>
        </p:spPr>
      </p:pic>
      <p:sp>
        <p:nvSpPr>
          <p:cNvPr id="557" name="TextBox 6"/>
          <p:cNvSpPr/>
          <p:nvPr/>
        </p:nvSpPr>
        <p:spPr>
          <a:xfrm>
            <a:off x="3265560" y="495360"/>
            <a:ext cx="51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Internet Access Quarterly Update, ONS 2011 Q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71600" y="245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1007a"/>
                </a:solidFill>
                <a:latin typeface="Arial"/>
              </a:rPr>
              <a:t>Who doesn’t use the internet?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685440" y="1441080"/>
            <a:ext cx="815508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5.1m women have never used the internet, compared with 3.6m men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Only 17% of women aged 75+ have used the internet, compared with 33% of men aged 75+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4.2m disabled adults – almost half of all those who have never used the internet, or 1 in 3 of disabled people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29.3% of people in Northern Ireland and 22.7% of people in NE England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60" name="TextBox 5"/>
          <p:cNvSpPr/>
          <p:nvPr/>
        </p:nvSpPr>
        <p:spPr>
          <a:xfrm>
            <a:off x="3693960" y="6135840"/>
            <a:ext cx="51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Internet Access Quarterly Update, ONS 2011 Q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1T16:43:53Z</dcterms:created>
  <dc:creator>Matt Richmond</dc:creator>
  <dc:description/>
  <dc:language>en-US</dc:language>
  <cp:lastModifiedBy>IT Services</cp:lastModifiedBy>
  <dcterms:modified xsi:type="dcterms:W3CDTF">2011-07-06T11:31:36Z</dcterms:modified>
  <cp:revision>152</cp:revision>
  <dc:subject/>
  <dc:title>PowerPoint Presentation</dc:title>
</cp:coreProperties>
</file>