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3.png" ContentType="image/png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7E57-1A07-490F-9EF4-4AB1BD59C0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D7AB-16D4-4430-B636-ED616D60CB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CAA-3514-4BDC-BA06-1766AACC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71D-1AE2-45A3-A5DD-C82F251E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459-2510-4E45-8798-AFF6AC41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2ED-158A-4D31-8F03-6AED5C0E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F00-1DC9-427D-B99C-54300493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DBA-76D6-4037-99B6-30A46B91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0DC-D74C-4D85-881C-893769A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647-9C50-4B70-8425-9DE847C3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5FB-729B-44B2-8A01-77AAC80F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2EA-4725-41CB-A8E2-5F62230C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212-19F7-4BB7-8173-8543C81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9F1-7809-4C68-9909-76B90A4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1077-1BD0-4B01-AD88-3963E9A1F6F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54A0-CB57-49F1-8117-11848AE958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slivers.info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hyperlink" Target="http://www.parliament.uk/documents/post/pn110.pdf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Designing online social security for the future</a:t>
            </a:r>
            <a:br>
              <a:rPr sz="4000"/>
            </a:br>
            <a:r>
              <a:rPr b="1" i="1" lang="en-GB" sz="2000" spc="-1" strike="noStrike">
                <a:solidFill>
                  <a:srgbClr val="7f7f7f"/>
                </a:solidFill>
                <a:latin typeface="Calibri"/>
              </a:rPr>
              <a:t>- Design Council / LSE - 29th June 2011 -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erry Fishe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Centre for Technology Policy Research (CT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ctpr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jerry\Documents\work folders\CTPR\stationery, images etc\Copy of ctpr_thumb_02.png"/>
          <p:cNvPicPr/>
          <p:nvPr/>
        </p:nvPicPr>
        <p:blipFill>
          <a:blip r:embed="rId1"/>
          <a:stretch/>
        </p:blipFill>
        <p:spPr>
          <a:xfrm>
            <a:off x="4211640" y="5354640"/>
            <a:ext cx="7318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403280" y="1916280"/>
            <a:ext cx="6697800" cy="40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Benefits Payment for June is: £87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rought to you this month from the taxes pai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working single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pens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lifetime benefits received to date total: £34,698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campaigns.dwp.gov.uk/campaigns/futurejobsfund/images/dwplogo.gif"/>
          <p:cNvPicPr/>
          <p:nvPr/>
        </p:nvPicPr>
        <p:blipFill>
          <a:blip r:embed="rId1"/>
          <a:srcRect l="0" t="18745" r="0" b="21161"/>
          <a:stretch/>
        </p:blipFill>
        <p:spPr>
          <a:xfrm>
            <a:off x="5724360" y="2073240"/>
            <a:ext cx="2190960" cy="55584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4560" y="189000"/>
            <a:ext cx="7953480" cy="5905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4573440" y="6053040"/>
            <a:ext cx="27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rce: Slivers-of-Time (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livers.info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king it ha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r, how about …. … talking to the users …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ign from the edge-i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-use existing commodity infrastructure and services wherever they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-use the agile approach that has worked in major private sector systems, and make smart use of specialist SMEs working with domain matter experts from the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op building new central Govt systems: build new “Egg”-style systems outside of the silos of the public sector and ensure they provide open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sure consistent, strong privacy, security, capacity, resilience by defaul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et al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signed in from day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nsure Ministerial/policy intent is carried thr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licy automation will enable dynamic modelling of, and changes to, taxation and welf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Designing online social security for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ubtitle 2"/>
          <p:cNvSpPr/>
          <p:nvPr/>
        </p:nvSpPr>
        <p:spPr>
          <a:xfrm>
            <a:off x="1405080" y="3951360"/>
            <a:ext cx="640080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erry Fish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Centre for Technology Policy Research (CT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Calibri"/>
              </a:rPr>
              <a:t>CTPR on twitter: @ctpr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Calibri"/>
              </a:rPr>
              <a:t>Jerry on twitter: @nto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jerry\Documents\work folders\CTPR\stationery, images etc\Copy of ctpr_thumb_02.png"/>
          <p:cNvPicPr/>
          <p:nvPr/>
        </p:nvPicPr>
        <p:blipFill>
          <a:blip r:embed="rId1"/>
          <a:stretch/>
        </p:blipFill>
        <p:spPr>
          <a:xfrm>
            <a:off x="4238640" y="5445000"/>
            <a:ext cx="7333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9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67160" cy="47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Line Callout 1 4"/>
          <p:cNvSpPr/>
          <p:nvPr/>
        </p:nvSpPr>
        <p:spPr>
          <a:xfrm>
            <a:off x="5052960" y="2133720"/>
            <a:ext cx="3743280" cy="2016000"/>
          </a:xfrm>
          <a:prstGeom prst="borderCallout1">
            <a:avLst>
              <a:gd name="adj1" fmla="val 18750"/>
              <a:gd name="adj2" fmla="val -8333"/>
              <a:gd name="adj3" fmla="val 55268"/>
              <a:gd name="adj4" fmla="val -2147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o provide better and more efficient services to businesses and to citizens; improve the efficiency and openness of government administration; and secure substantial cost savings for the taxp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ddressing the digital divide (c. 200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35280" y="1573200"/>
            <a:ext cx="5905440" cy="4424400"/>
          </a:xfrm>
          <a:prstGeom prst="rect">
            <a:avLst/>
          </a:prstGeom>
          <a:ln w="0">
            <a:noFill/>
          </a:ln>
        </p:spPr>
      </p:pic>
      <p:sp>
        <p:nvSpPr>
          <p:cNvPr id="57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56000" y="1252440"/>
            <a:ext cx="4282920" cy="47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-benefits are not n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evious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jerry\Documents\Visual Studio 2010\Sir Bonars Bollards Resources\SirBNK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0920" y="3500280"/>
            <a:ext cx="1993680" cy="2451240"/>
          </a:xfrm>
          <a:prstGeom prst="rect">
            <a:avLst/>
          </a:prstGeom>
          <a:ln w="0">
            <a:noFill/>
          </a:ln>
        </p:spPr>
      </p:pic>
      <p:sp>
        <p:nvSpPr>
          <p:cNvPr id="63" name="Oval Callout 3"/>
          <p:cNvSpPr/>
          <p:nvPr/>
        </p:nvSpPr>
        <p:spPr>
          <a:xfrm>
            <a:off x="3276720" y="1557360"/>
            <a:ext cx="2808000" cy="3313080"/>
          </a:xfrm>
          <a:prstGeom prst="wedgeEllipseCallout">
            <a:avLst>
              <a:gd name="adj1" fmla="val -92277"/>
              <a:gd name="adj2" fmla="val 5843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DARE you presume to tell me how to run our services!!!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’re not going to let some jumped-up local council deliver OUR services!!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6" descr=""/>
          <p:cNvPicPr/>
          <p:nvPr/>
        </p:nvPicPr>
        <p:blipFill>
          <a:blip r:embed="rId2"/>
          <a:stretch/>
        </p:blipFill>
        <p:spPr>
          <a:xfrm rot="554400">
            <a:off x="6411960" y="1828440"/>
            <a:ext cx="1938240" cy="424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5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5120" y="974880"/>
            <a:ext cx="8729640" cy="5790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32160" y="333360"/>
            <a:ext cx="77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WP CUSTOMER CONTACTS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ONLINE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ARE MI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6804000" y="4653000"/>
            <a:ext cx="0" cy="9367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059520" y="402444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50021"/>
                </a:solidFill>
                <a:latin typeface="Calibri"/>
              </a:rPr>
              <a:t>340,000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50021"/>
                </a:solidFill>
                <a:latin typeface="Calibri"/>
              </a:rPr>
              <a:t>145 milli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20520" y="6488280"/>
            <a:ext cx="903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ource: How Digital Era Governance (DEG), and now DEG 2.0, are changing public services. Patrick Dunleavy, London School of Economics, 200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4619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digita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divide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routes2reality.co.uk/fgsaccountancytestsite/images/stories/pile%20of%20paperwork%20image.jpg"/>
          <p:cNvPicPr/>
          <p:nvPr/>
        </p:nvPicPr>
        <p:blipFill>
          <a:blip r:embed="rId1"/>
          <a:stretch/>
        </p:blipFill>
        <p:spPr>
          <a:xfrm>
            <a:off x="250920" y="1700280"/>
            <a:ext cx="1533600" cy="179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routes2reality.co.uk/fgsaccountancytestsite/images/stories/pile%20of%20paperwork%20image.jpg"/>
          <p:cNvPicPr/>
          <p:nvPr/>
        </p:nvPicPr>
        <p:blipFill>
          <a:blip r:embed="rId2"/>
          <a:stretch/>
        </p:blipFill>
        <p:spPr>
          <a:xfrm>
            <a:off x="395280" y="4076640"/>
            <a:ext cx="1533600" cy="179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routes2reality.co.uk/fgsaccountancytestsite/images/stories/pile%20of%20paperwork%20image.jpg"/>
          <p:cNvPicPr/>
          <p:nvPr/>
        </p:nvPicPr>
        <p:blipFill>
          <a:blip r:embed="rId3"/>
          <a:stretch/>
        </p:blipFill>
        <p:spPr>
          <a:xfrm>
            <a:off x="2340000" y="2595600"/>
            <a:ext cx="1533600" cy="179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5241960" y="0"/>
            <a:ext cx="3619440" cy="5867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5076720" y="5986440"/>
            <a:ext cx="4067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ource: Electronic Government. Parliamentary Office of Science and Technology, Feb 1998. 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parliament.uk/documents/post/pn110.pd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63680" y="126828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</a:rPr>
              <a:t>… </a:t>
            </a:r>
            <a:r>
              <a:rPr b="0" lang="en-GB" sz="1800" spc="-1" strike="noStrike">
                <a:solidFill>
                  <a:srgbClr val="0000ff"/>
                </a:solidFill>
                <a:latin typeface="Calibri"/>
              </a:rPr>
              <a:t>51% of DWP customers were online with broadband access by mid 2008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371680" y="4508640"/>
            <a:ext cx="24987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Calibri"/>
              </a:rPr>
              <a:t>In 2008 online communications amounted to less than 1% of DWP customer contact – currently it takes each DWP civil servant 4 months to send 1 email to a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50920" y="6124680"/>
            <a:ext cx="308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ource: How Digital Era Governance (DEG), and now DEG 2.0, are changing public services. Patrick Dunleavy, London School of Economics, 200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258920" y="1700280"/>
          <a:ext cx="6912000" cy="2936880"/>
        </p:xfrm>
        <a:graphic>
          <a:graphicData uri="http://schemas.openxmlformats.org/drawingml/2006/table">
            <a:tbl>
              <a:tblPr/>
              <a:tblGrid>
                <a:gridCol w="3456000"/>
                <a:gridCol w="345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ext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-40 minutes decision on 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stant using policy auto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 minute phon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%+ online via website, mobile device. Remainder through improved face-to-face/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 hour face-to-face identity and circumstance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%+ automated check using new ID &amp; personal data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ace-to-face sign-on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nline (web, mobile) for trusted claim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0520" y="5589720"/>
            <a:ext cx="903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dapted from: How Digital Era Governance (DEG), and now DEG 2.0, are changing public services. Patrick Dunleavy, London School of Economics, 200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7150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50920" y="6095880"/>
            <a:ext cx="86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rce: “Achieving the Vision of E-Government”, John Sindelar, Deputy Director, GSA Office of Governmentwide Policy, November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770120" y="1484280"/>
            <a:ext cx="6000840" cy="424836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5:21:42Z</dcterms:created>
  <dc:creator>jerry</dc:creator>
  <dc:description/>
  <dc:language>en-US</dc:language>
  <cp:lastModifiedBy>IT Services</cp:lastModifiedBy>
  <dcterms:modified xsi:type="dcterms:W3CDTF">2011-07-01T11:28:14Z</dcterms:modified>
  <cp:revision>26</cp:revision>
  <dc:subject/>
  <dc:title>Designing online social security for the future</dc:title>
</cp:coreProperties>
</file>