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7DD4-4EF0-4C32-9D04-5B7B0E2F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502-05C3-4862-A928-6DCC1642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F84-6249-4EDC-A1C5-FB77B64B1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ADB-264D-4160-8079-D3D33BB6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0FD-D4C4-4822-B027-3CDE8E1F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D2EE-62B8-404F-984F-5AA1E1B0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9C1-9E10-40C2-BC8C-4A28FA3E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B91-5382-4475-B26C-8A91E8C2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9631-AD46-48F7-B729-0E3C89B0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F9D-2A72-41A9-90D8-CCA3BFA1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99E-55CA-4F6E-A163-514B141F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82E-3B73-4F20-B876-1A125BA7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A7A-62BC-443F-80C6-33592812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3442-46BC-4299-8EA5-D4740532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E7C4-C98C-43AB-8E0B-247B6827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0596-22DD-4BB5-B623-236AF84D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7D6E-8EE0-4BA1-86F0-1740697F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F0D-0F23-482D-B478-CA56D6955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Jmartin.ferguson@socitm.gov.u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justgiving.com/Martin-J-Ferguso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SOCITM-MAIN-tagline-(RGB)"/>
          <p:cNvPicPr/>
          <p:nvPr/>
        </p:nvPicPr>
        <p:blipFill>
          <a:blip r:embed="rId1"/>
          <a:stretch/>
        </p:blipFill>
        <p:spPr>
          <a:xfrm>
            <a:off x="468360" y="260280"/>
            <a:ext cx="27432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Socitm-Block-(RGB)"/>
          <p:cNvPicPr/>
          <p:nvPr/>
        </p:nvPicPr>
        <p:blipFill>
          <a:blip r:embed="rId2"/>
          <a:stretch/>
        </p:blipFill>
        <p:spPr>
          <a:xfrm>
            <a:off x="1979640" y="65246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124000" y="6453360"/>
            <a:ext cx="28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55736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Designing online social security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– </a:t>
            </a: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into the ‘wild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alibri"/>
              </a:rPr>
              <a:t>LSE - moving social security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alibri"/>
              </a:rPr>
              <a:t>29</a:t>
            </a:r>
            <a:r>
              <a:rPr b="1" lang="en-GB" sz="2800" spc="-1" strike="noStrike" baseline="30000">
                <a:solidFill>
                  <a:srgbClr val="cc0000"/>
                </a:solidFill>
                <a:latin typeface="Calibri"/>
              </a:rPr>
              <a:t>th</a:t>
            </a:r>
            <a:r>
              <a:rPr b="1" lang="en-GB" sz="2800" spc="-1" strike="noStrike">
                <a:solidFill>
                  <a:srgbClr val="cc0000"/>
                </a:solidFill>
                <a:latin typeface="Calibri"/>
              </a:rPr>
              <a:t> June 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tin Ferguson, Policy Director - Soc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martin.ferguson@socitm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Re-design -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ility in the policy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thodology/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 value, outcomes focused, approach, with ‘citizen at the centr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nnels – access, inclusion and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Martin Ferguson\Local Settings\Temporary Internet Files\Content.IE5\4VXEOJD1\MC900078812[1].wmf"/>
          <p:cNvPicPr/>
          <p:nvPr/>
        </p:nvPicPr>
        <p:blipFill>
          <a:blip r:embed="rId3"/>
          <a:stretch/>
        </p:blipFill>
        <p:spPr>
          <a:xfrm>
            <a:off x="0" y="981000"/>
            <a:ext cx="1042920" cy="124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Race Online 2012"/>
          <p:cNvPicPr/>
          <p:nvPr/>
        </p:nvPicPr>
        <p:blipFill>
          <a:blip r:embed="rId4"/>
          <a:stretch/>
        </p:blipFill>
        <p:spPr>
          <a:xfrm>
            <a:off x="7236000" y="4005360"/>
            <a:ext cx="160020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Re-design -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ill deliver the front and back-office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WP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sing costs/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ncil Tax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LAs and Third Sector be able to act as contractors for the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itioning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t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anc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Martin Ferguson\Local Settings\Temporary Internet Files\Content.IE5\4VXEOJD1\MC900078812[1].wmf"/>
          <p:cNvPicPr/>
          <p:nvPr/>
        </p:nvPicPr>
        <p:blipFill>
          <a:blip r:embed="rId3"/>
          <a:stretch/>
        </p:blipFill>
        <p:spPr>
          <a:xfrm>
            <a:off x="0" y="981000"/>
            <a:ext cx="1042920" cy="12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Re-design -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403280" y="1916280"/>
            <a:ext cx="7201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r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ty management and othe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protocols between DWP and LAs re. accredita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will validate private sector tenancy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ill be the payment vehi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itioning wrt other online information/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itioning legacy information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Martin Ferguson\Local Settings\Temporary Internet Files\Content.IE5\4VXEOJD1\MC900078812[1].wmf"/>
          <p:cNvPicPr/>
          <p:nvPr/>
        </p:nvPicPr>
        <p:blipFill>
          <a:blip r:embed="rId3"/>
          <a:stretch/>
        </p:blipFill>
        <p:spPr>
          <a:xfrm>
            <a:off x="0" y="981000"/>
            <a:ext cx="1042920" cy="12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novation -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licy develop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stakeholder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itizen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ages policy – deliv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lfare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calism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g Societ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t3.gstatic.com/images?q=tbn:ANd9GcQfdO1CL62vV3-coTRjs8q5esJJRCS1F3xawGHdSzFVk0_98tM0rQ"/>
          <p:cNvPicPr/>
          <p:nvPr/>
        </p:nvPicPr>
        <p:blipFill>
          <a:blip r:embed="rId3"/>
          <a:stretch/>
        </p:blipFill>
        <p:spPr>
          <a:xfrm>
            <a:off x="0" y="105264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novation -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ck of transpar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portunities for co-production and co-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electronic marketplace for social and health care – citizens as ‘data controllers’ – linked to Univers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t3.gstatic.com/images?q=tbn:ANd9GcQfdO1CL62vV3-coTRjs8q5esJJRCS1F3xawGHdSzFVk0_98tM0rQ"/>
          <p:cNvPicPr/>
          <p:nvPr/>
        </p:nvPicPr>
        <p:blipFill>
          <a:blip r:embed="rId3"/>
          <a:stretch/>
        </p:blipFill>
        <p:spPr>
          <a:xfrm>
            <a:off x="0" y="105264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novation -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 to enable perso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e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t3.gstatic.com/images?q=tbn:ANd9GcQfdO1CL62vV3-coTRjs8q5esJJRCS1F3xawGHdSzFVk0_98tM0rQ"/>
          <p:cNvPicPr/>
          <p:nvPr/>
        </p:nvPicPr>
        <p:blipFill>
          <a:blip r:embed="rId3"/>
          <a:stretch/>
        </p:blipFill>
        <p:spPr>
          <a:xfrm>
            <a:off x="0" y="105264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 central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il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itation to the wild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ACE ..... Socitm, CIPFA, IR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ntlin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towcestertearooms.co.uk/images/mont_blanc_photo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2987640" y="5084640"/>
            <a:ext cx="6156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justgiving.com/Martin-J-Fergu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52527"/>
                </a:solidFill>
                <a:latin typeface="Calibri"/>
              </a:rPr>
              <a:t>martin.ferguson@socitm.gov.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Grove House"/>
          <p:cNvPicPr/>
          <p:nvPr/>
        </p:nvPicPr>
        <p:blipFill>
          <a:blip r:embed="rId3"/>
          <a:stretch/>
        </p:blipFill>
        <p:spPr>
          <a:xfrm>
            <a:off x="755640" y="530064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to the ‘wil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must have chaos in your soul to give birth to a dancing star” Nietzsche quo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rcRect l="4704" t="38203" r="83009" b="31072"/>
          <a:stretch/>
        </p:blipFill>
        <p:spPr>
          <a:xfrm>
            <a:off x="3564000" y="3284640"/>
            <a:ext cx="2303280" cy="31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49804" t="20375" r="19368" b="5094"/>
          <a:stretch/>
        </p:blipFill>
        <p:spPr>
          <a:xfrm>
            <a:off x="2220840" y="17640"/>
            <a:ext cx="5210280" cy="684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826920" y="1700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403280" y="1413000"/>
            <a:ext cx="6934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Three core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428840" y="3000240"/>
            <a:ext cx="7500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1403280" y="2133720"/>
            <a:ext cx="750096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d52527"/>
                </a:solidFill>
                <a:latin typeface="Calibri"/>
              </a:rPr>
              <a:t>Innov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d5252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52527"/>
                </a:solidFill>
                <a:latin typeface="Calibri"/>
                <a:ea typeface="ＭＳ Ｐゴシック"/>
              </a:rPr>
              <a:t>Re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d52527"/>
                </a:solidFill>
                <a:latin typeface="Calibri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4284720" y="4437000"/>
            <a:ext cx="1485720" cy="14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Martin Ferguson\Local Settings\Temporary Internet Files\Content.IE5\4VXEOJD1\MC900078812[1].wmf"/>
          <p:cNvPicPr/>
          <p:nvPr/>
        </p:nvPicPr>
        <p:blipFill>
          <a:blip r:embed="rId4"/>
          <a:stretch/>
        </p:blipFill>
        <p:spPr>
          <a:xfrm>
            <a:off x="6156360" y="3068640"/>
            <a:ext cx="1407960" cy="167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ttp://t3.gstatic.com/images?q=tbn:ANd9GcQfdO1CL62vV3-coTRjs8q5esJJRCS1F3xawGHdSzFVk0_98tM0rQ"/>
          <p:cNvPicPr/>
          <p:nvPr/>
        </p:nvPicPr>
        <p:blipFill>
          <a:blip r:embed="rId5"/>
          <a:stretch/>
        </p:blipFill>
        <p:spPr>
          <a:xfrm>
            <a:off x="7451640" y="177336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What I want to c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boration, re-design, innovatio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ing online social security for the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lic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Tomorrow’s Public Services (Socitm </a:t>
            </a:r>
            <a:r>
              <a:rPr b="0" i="1" lang="en-US" sz="2800" spc="-1" strike="noStrike">
                <a:solidFill>
                  <a:srgbClr val="d52527"/>
                </a:solidFill>
                <a:latin typeface="Calibri"/>
              </a:rPr>
              <a:t>Insight</a:t>
            </a: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403280" y="2133720"/>
            <a:ext cx="7272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services, including share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exible working as the norm rather than the exce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ing on mobile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 re-designed as end-to-end process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ising human intervention and physical ‘hand-off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available, accessible and rel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delivery vehicles, such as cooper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ed responses to a single issue by multi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llaboration –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are the outcomes being sou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using 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uncil Tax benef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over respective roles of DWP, HMRC, CLG, LAs, 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0" y="981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llaboration –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otic’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gaging key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gaging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nefits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ipatetic nurses – LG and 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workers – LG and 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0" y="981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llaboration –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ile – business model and/or ICT system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G practit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G ICT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0" y="981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5:01:53Z</dcterms:created>
  <dc:creator>x</dc:creator>
  <dc:description/>
  <dc:language>en-US</dc:language>
  <cp:lastModifiedBy>IT Services</cp:lastModifiedBy>
  <dcterms:modified xsi:type="dcterms:W3CDTF">2011-07-01T11:28:29Z</dcterms:modified>
  <cp:revision>289</cp:revision>
  <dc:subject/>
  <dc:title>PowerPoint Presentation</dc:title>
</cp:coreProperties>
</file>