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d5252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5618-F957-441A-A946-92563BC5A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DCB8-2390-4A23-BC53-F51804C55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59AE-B0DB-493C-812D-587414E86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5876-15D1-4902-80C3-5E8F646E4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F631-DACF-4625-A3B2-D0FA938FA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5E31-3FB3-441D-A06F-5D822BA7C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3FC7-E805-40B2-A93B-652D43835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10A1-105A-4EE9-8ABB-3DDE3E21A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B02A-8EC4-4491-8F10-49D3FF44C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1082-73D7-450A-8C22-E10C950A5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B2EF-57D4-40FC-9E73-546D4D505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8E73-E469-4469-8839-16B936150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8587-186E-4326-9E64-6661D4664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E40B-7808-4929-AA5D-E8F9F8424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3C58-7996-4E41-BBD9-E997BBDD7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35D4-0626-41AB-8002-2D6E4CD82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8196-1DF4-4FA7-B3D5-42CBD563E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B6E0-C043-447A-8160-3B1EB35AD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252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252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252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252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2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252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252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252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252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252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mailto:Jmartin.ferguson@socitm.gov.uk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justgiving.com/Martin-J-Ferguson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SOCITM-MAIN-tagline-(RGB)"/>
          <p:cNvPicPr/>
          <p:nvPr/>
        </p:nvPicPr>
        <p:blipFill>
          <a:blip r:embed="rId1"/>
          <a:stretch/>
        </p:blipFill>
        <p:spPr>
          <a:xfrm>
            <a:off x="468360" y="260280"/>
            <a:ext cx="274320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Socitm-Block-(RGB)"/>
          <p:cNvPicPr/>
          <p:nvPr/>
        </p:nvPicPr>
        <p:blipFill>
          <a:blip r:embed="rId2"/>
          <a:stretch/>
        </p:blipFill>
        <p:spPr>
          <a:xfrm>
            <a:off x="1979640" y="65246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"/>
          <p:cNvSpPr/>
          <p:nvPr/>
        </p:nvSpPr>
        <p:spPr>
          <a:xfrm>
            <a:off x="2124000" y="6453360"/>
            <a:ext cx="28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557360"/>
            <a:ext cx="9144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alibri"/>
              </a:rPr>
              <a:t>Designing online social security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alibri"/>
              </a:rPr>
              <a:t>– </a:t>
            </a:r>
            <a:r>
              <a:rPr b="1" i="1" lang="en-US" sz="3600" spc="-1" strike="noStrike">
                <a:solidFill>
                  <a:srgbClr val="cc0000"/>
                </a:solidFill>
                <a:latin typeface="Calibri"/>
              </a:rPr>
              <a:t>into the ‘wild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alibri"/>
              </a:rPr>
              <a:t>LSE - moving social security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alibri"/>
              </a:rPr>
              <a:t>29</a:t>
            </a:r>
            <a:r>
              <a:rPr b="1" lang="en-GB" sz="2800" spc="-1" strike="noStrike" baseline="30000">
                <a:solidFill>
                  <a:srgbClr val="cc0000"/>
                </a:solidFill>
                <a:latin typeface="Calibri"/>
              </a:rPr>
              <a:t>th</a:t>
            </a:r>
            <a:r>
              <a:rPr b="1" lang="en-GB" sz="2800" spc="-1" strike="noStrike">
                <a:solidFill>
                  <a:srgbClr val="cc0000"/>
                </a:solidFill>
                <a:latin typeface="Calibri"/>
              </a:rPr>
              <a:t> June 20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tin Ferguson, Policy Director - Soci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martin.ferguson@socitm.gov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Re-design -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403280" y="2276640"/>
            <a:ext cx="61214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lexibility in the policy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thodology/mind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g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siness value, outcomes focused, approach, with ‘citizen at the centr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annels – access, inclusion and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liver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Documents and Settings\Martin Ferguson\Local Settings\Temporary Internet Files\Content.IE5\4VXEOJD1\MC900078812[1].wmf"/>
          <p:cNvPicPr/>
          <p:nvPr/>
        </p:nvPicPr>
        <p:blipFill>
          <a:blip r:embed="rId3"/>
          <a:stretch/>
        </p:blipFill>
        <p:spPr>
          <a:xfrm>
            <a:off x="0" y="981000"/>
            <a:ext cx="1042920" cy="1241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Race Online 2012"/>
          <p:cNvPicPr/>
          <p:nvPr/>
        </p:nvPicPr>
        <p:blipFill>
          <a:blip r:embed="rId4"/>
          <a:stretch/>
        </p:blipFill>
        <p:spPr>
          <a:xfrm>
            <a:off x="7236000" y="4005360"/>
            <a:ext cx="1600200" cy="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Re-design -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403280" y="2276640"/>
            <a:ext cx="61214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will deliver the front and back-office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WP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using costs/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uncil Tax 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ll LAs and Third Sector be able to act as contractors for the serv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nsitioning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diate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rformance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Documents and Settings\Martin Ferguson\Local Settings\Temporary Internet Files\Content.IE5\4VXEOJD1\MC900078812[1].wmf"/>
          <p:cNvPicPr/>
          <p:nvPr/>
        </p:nvPicPr>
        <p:blipFill>
          <a:blip r:embed="rId3"/>
          <a:stretch/>
        </p:blipFill>
        <p:spPr>
          <a:xfrm>
            <a:off x="0" y="981000"/>
            <a:ext cx="1042920" cy="12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Re-design -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403280" y="1916280"/>
            <a:ext cx="72010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r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nk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entity management and other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protocols between DWP and LAs re. accreditation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o will validate private sector tenancy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will be the payment vehi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sitioning wrt other online information/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ci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nsitioning legacy information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ocuments and Settings\Martin Ferguson\Local Settings\Temporary Internet Files\Content.IE5\4VXEOJD1\MC900078812[1].wmf"/>
          <p:cNvPicPr/>
          <p:nvPr/>
        </p:nvPicPr>
        <p:blipFill>
          <a:blip r:embed="rId3"/>
          <a:stretch/>
        </p:blipFill>
        <p:spPr>
          <a:xfrm>
            <a:off x="0" y="981000"/>
            <a:ext cx="1042920" cy="12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Innovation -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403280" y="2276640"/>
            <a:ext cx="61214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licy develop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ey stakeholder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itizen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nkages policy – delive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lfare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calism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g Society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ttp://t3.gstatic.com/images?q=tbn:ANd9GcQfdO1CL62vV3-coTRjs8q5esJJRCS1F3xawGHdSzFVk0_98tM0rQ"/>
          <p:cNvPicPr/>
          <p:nvPr/>
        </p:nvPicPr>
        <p:blipFill>
          <a:blip r:embed="rId3"/>
          <a:stretch/>
        </p:blipFill>
        <p:spPr>
          <a:xfrm>
            <a:off x="0" y="1052640"/>
            <a:ext cx="147636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Innovation -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403280" y="2276640"/>
            <a:ext cx="61214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ack of transpar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siness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jec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pportunities for co-production and co-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.g. electronic marketplace for social and health care – citizens as ‘data controllers’ – linked to Universal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http://t3.gstatic.com/images?q=tbn:ANd9GcQfdO1CL62vV3-coTRjs8q5esJJRCS1F3xawGHdSzFVk0_98tM0rQ"/>
          <p:cNvPicPr/>
          <p:nvPr/>
        </p:nvPicPr>
        <p:blipFill>
          <a:blip r:embed="rId3"/>
          <a:stretch/>
        </p:blipFill>
        <p:spPr>
          <a:xfrm>
            <a:off x="0" y="1052640"/>
            <a:ext cx="147636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Innovation -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403280" y="2276640"/>
            <a:ext cx="61214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CT to enable person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veloper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http://t3.gstatic.com/images?q=tbn:ANd9GcQfdO1CL62vV3-coTRjs8q5esJJRCS1F3xawGHdSzFVk0_98tM0rQ"/>
          <p:cNvPicPr/>
          <p:nvPr/>
        </p:nvPicPr>
        <p:blipFill>
          <a:blip r:embed="rId3"/>
          <a:stretch/>
        </p:blipFill>
        <p:spPr>
          <a:xfrm>
            <a:off x="0" y="1052640"/>
            <a:ext cx="147636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403280" y="2276640"/>
            <a:ext cx="61214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rong central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gil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itation to the wild pla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LACE ..... Socitm, CIPFA, IR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ontline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nov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www.towcestertearooms.co.uk/images/mont_blanc_photo.jpg"/>
          <p:cNvPicPr/>
          <p:nvPr/>
        </p:nvPicPr>
        <p:blipFill>
          <a:blip r:embed="rId1"/>
          <a:stretch/>
        </p:blipFill>
        <p:spPr>
          <a:xfrm>
            <a:off x="0" y="0"/>
            <a:ext cx="7620120" cy="5076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2987640" y="5084640"/>
            <a:ext cx="61563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justgiving.com/Martin-J-Fergu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52527"/>
                </a:solidFill>
                <a:latin typeface="Calibri"/>
              </a:rPr>
              <a:t>martin.ferguson@socitm.gov.u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Grove House"/>
          <p:cNvPicPr/>
          <p:nvPr/>
        </p:nvPicPr>
        <p:blipFill>
          <a:blip r:embed="rId3"/>
          <a:stretch/>
        </p:blipFill>
        <p:spPr>
          <a:xfrm>
            <a:off x="755640" y="5300640"/>
            <a:ext cx="1143000" cy="11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Into the ‘wild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403280" y="2276640"/>
            <a:ext cx="61214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must have chaos in your soul to give birth to a dancing star” Nietzsche quoted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rcRect l="4704" t="38203" r="83009" b="31072"/>
          <a:stretch/>
        </p:blipFill>
        <p:spPr>
          <a:xfrm>
            <a:off x="3564000" y="3284640"/>
            <a:ext cx="2303280" cy="31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49804" t="20375" r="19368" b="5094"/>
          <a:stretch/>
        </p:blipFill>
        <p:spPr>
          <a:xfrm>
            <a:off x="2220840" y="17640"/>
            <a:ext cx="5210280" cy="6840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826920" y="1700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403280" y="1413000"/>
            <a:ext cx="69343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Three core princi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428840" y="3000240"/>
            <a:ext cx="750096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1403280" y="2133720"/>
            <a:ext cx="750096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52527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d52527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d52527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d52527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d52527"/>
                </a:solidFill>
                <a:latin typeface="Calibri"/>
              </a:rPr>
              <a:t>	</a:t>
            </a:r>
            <a:r>
              <a:rPr b="1" i="1" lang="en-US" sz="4000" spc="-1" strike="noStrike">
                <a:solidFill>
                  <a:srgbClr val="d52527"/>
                </a:solidFill>
                <a:latin typeface="Calibri"/>
              </a:rPr>
              <a:t>Innov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d5252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52527"/>
                </a:solidFill>
                <a:latin typeface="Calibri"/>
                <a:ea typeface="ＭＳ Ｐゴシック"/>
              </a:rPr>
              <a:t>Re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d52527"/>
                </a:solidFill>
                <a:latin typeface="Calibri"/>
              </a:rPr>
              <a:t>Collabo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Martin Ferguson\Local Settings\Temporary Internet Files\Content.IE5\4VXEOJD1\MP910220975[1].jpg"/>
          <p:cNvPicPr/>
          <p:nvPr/>
        </p:nvPicPr>
        <p:blipFill>
          <a:blip r:embed="rId3"/>
          <a:stretch/>
        </p:blipFill>
        <p:spPr>
          <a:xfrm>
            <a:off x="4284720" y="4437000"/>
            <a:ext cx="1485720" cy="1484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Martin Ferguson\Local Settings\Temporary Internet Files\Content.IE5\4VXEOJD1\MC900078812[1].wmf"/>
          <p:cNvPicPr/>
          <p:nvPr/>
        </p:nvPicPr>
        <p:blipFill>
          <a:blip r:embed="rId4"/>
          <a:stretch/>
        </p:blipFill>
        <p:spPr>
          <a:xfrm>
            <a:off x="6156360" y="3068640"/>
            <a:ext cx="1407960" cy="167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http://t3.gstatic.com/images?q=tbn:ANd9GcQfdO1CL62vV3-coTRjs8q5esJJRCS1F3xawGHdSzFVk0_98tM0rQ"/>
          <p:cNvPicPr/>
          <p:nvPr/>
        </p:nvPicPr>
        <p:blipFill>
          <a:blip r:embed="rId5"/>
          <a:stretch/>
        </p:blipFill>
        <p:spPr>
          <a:xfrm>
            <a:off x="7451640" y="1773360"/>
            <a:ext cx="147636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What I want to co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1403280" y="2276640"/>
            <a:ext cx="61214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llaboration, re-design, innovation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igning online social security for the fu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lic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liver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C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Tomorrow’s Public Services (Socitm </a:t>
            </a:r>
            <a:r>
              <a:rPr b="0" i="1" lang="en-US" sz="2800" spc="-1" strike="noStrike">
                <a:solidFill>
                  <a:srgbClr val="d52527"/>
                </a:solidFill>
                <a:latin typeface="Calibri"/>
              </a:rPr>
              <a:t>Insight</a:t>
            </a: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403280" y="2133720"/>
            <a:ext cx="7272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d services, including shared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exible working as the norm rather than the exce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ising on mobile de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es re-designed as end-to-end processe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imising human intervention and physical ‘hand-offs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available, accessible and reli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delivery vehicles, such as cooper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ordinated responses to a single issue by multi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Collaboration –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403280" y="2276640"/>
            <a:ext cx="61214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are the outcomes being sou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using co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uncil Tax benef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larity over respective roles of DWP, HMRC, CLG, LAs, Third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isk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Documents and Settings\Martin Ferguson\Local Settings\Temporary Internet Files\Content.IE5\4VXEOJD1\MP910220975[1].jpg"/>
          <p:cNvPicPr/>
          <p:nvPr/>
        </p:nvPicPr>
        <p:blipFill>
          <a:blip r:embed="rId3"/>
          <a:stretch/>
        </p:blipFill>
        <p:spPr>
          <a:xfrm>
            <a:off x="0" y="981000"/>
            <a:ext cx="1225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Collaboration –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1403280" y="2276640"/>
            <a:ext cx="61214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aotic’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gaging key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gaging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nefits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ripatetic nurses – LG and third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cial workers – LG and third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tc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Documents and Settings\Martin Ferguson\Local Settings\Temporary Internet Files\Content.IE5\4VXEOJD1\MP910220975[1].jpg"/>
          <p:cNvPicPr/>
          <p:nvPr/>
        </p:nvPicPr>
        <p:blipFill>
          <a:blip r:embed="rId3"/>
          <a:stretch/>
        </p:blipFill>
        <p:spPr>
          <a:xfrm>
            <a:off x="0" y="981000"/>
            <a:ext cx="1225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1447920" y="1295280"/>
            <a:ext cx="6933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2527"/>
                </a:solidFill>
                <a:latin typeface="Calibri"/>
              </a:rPr>
              <a:t>Collaboration –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403280" y="2276640"/>
            <a:ext cx="61214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gile – business model and/or ICT system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G practitio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G ICT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rd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Socitm-Block-(RGB)"/>
          <p:cNvPicPr/>
          <p:nvPr/>
        </p:nvPicPr>
        <p:blipFill>
          <a:blip r:embed="rId1"/>
          <a:stretch/>
        </p:blipFill>
        <p:spPr>
          <a:xfrm>
            <a:off x="1555920" y="629604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1676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52527"/>
                </a:solidFill>
                <a:latin typeface="Calibri"/>
              </a:rPr>
              <a:t>www.socit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SOCITM-MAIN-(RGB)"/>
          <p:cNvPicPr/>
          <p:nvPr/>
        </p:nvPicPr>
        <p:blipFill>
          <a:blip r:embed="rId2"/>
          <a:stretch/>
        </p:blipFill>
        <p:spPr>
          <a:xfrm>
            <a:off x="736560" y="38088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Martin Ferguson\Local Settings\Temporary Internet Files\Content.IE5\4VXEOJD1\MP910220975[1].jpg"/>
          <p:cNvPicPr/>
          <p:nvPr/>
        </p:nvPicPr>
        <p:blipFill>
          <a:blip r:embed="rId3"/>
          <a:stretch/>
        </p:blipFill>
        <p:spPr>
          <a:xfrm>
            <a:off x="0" y="981000"/>
            <a:ext cx="1225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3T15:01:53Z</dcterms:created>
  <dc:creator>x</dc:creator>
  <dc:description/>
  <dc:language>en-US</dc:language>
  <cp:lastModifiedBy>IT Services</cp:lastModifiedBy>
  <dcterms:modified xsi:type="dcterms:W3CDTF">2011-07-01T11:28:29Z</dcterms:modified>
  <cp:revision>289</cp:revision>
  <dc:subject/>
  <dc:title>PowerPoint Presentation</dc:title>
</cp:coreProperties>
</file>