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AC0-41EB-4655-AB68-3ECEB2E3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5AC-5D94-4849-A2FF-D42360FF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7A0-03DF-4C62-9366-DB8A1251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01B-D247-487A-98E5-37D841A0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4C3-5D3F-429A-8744-93954768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75C-B359-4B66-B172-3132839F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BB6-DC39-4AB8-862B-C5ED0088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503-FCEA-4660-B8A5-26FFD2B8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0A7-6F84-4768-990F-312E6236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50A-D8B9-4108-AABF-6346D6BF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229-24F5-48F9-A6F1-E45F8808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F8B-4828-4087-9ACF-0B1F3995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2C5E-39BD-4287-9A67-3E3A16C5A2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i-interactive.com/zoom.aspx?src=http://www.bi-interactive.com/Figures/RBTC0145/035_vnbhvfnnzyoyfha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Multitasking"/>
          <p:cNvPicPr/>
          <p:nvPr/>
        </p:nvPicPr>
        <p:blipFill>
          <a:blip r:embed="rId1"/>
          <a:stretch/>
        </p:blipFill>
        <p:spPr>
          <a:xfrm>
            <a:off x="871560" y="1500120"/>
            <a:ext cx="3371760" cy="4324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2371680" y="3929040"/>
            <a:ext cx="1714680" cy="357120"/>
          </a:xfrm>
          <a:prstGeom prst="rect">
            <a:avLst/>
          </a:prstGeom>
          <a:gradFill rotWithShape="0">
            <a:gsLst>
              <a:gs pos="0">
                <a:srgbClr val="ffff89"/>
              </a:gs>
              <a:gs pos="100000">
                <a:srgbClr val="ffffdc"/>
              </a:gs>
            </a:gsLst>
            <a:lin ang="16200000"/>
          </a:gradFill>
          <a:ln w="9360">
            <a:solidFill>
              <a:srgbClr val="f0d5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6"/>
          <p:cNvGrpSpPr/>
          <p:nvPr/>
        </p:nvGrpSpPr>
        <p:grpSpPr>
          <a:xfrm>
            <a:off x="2371680" y="4286160"/>
            <a:ext cx="1714680" cy="357120"/>
            <a:chOff x="2371680" y="4286160"/>
            <a:chExt cx="1714680" cy="357120"/>
          </a:xfrm>
        </p:grpSpPr>
        <p:sp>
          <p:nvSpPr>
            <p:cNvPr id="44" name="Rectangle 8"/>
            <p:cNvSpPr/>
            <p:nvPr/>
          </p:nvSpPr>
          <p:spPr>
            <a:xfrm>
              <a:off x="2371680" y="4286160"/>
              <a:ext cx="1714680" cy="35712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C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9"/>
            <p:cNvSpPr/>
            <p:nvPr/>
          </p:nvSpPr>
          <p:spPr>
            <a:xfrm>
              <a:off x="2371680" y="4286160"/>
              <a:ext cx="12081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471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50"/>
          <p:cNvGrpSpPr/>
          <p:nvPr/>
        </p:nvGrpSpPr>
        <p:grpSpPr>
          <a:xfrm>
            <a:off x="-612720" y="3554280"/>
            <a:ext cx="2841480" cy="1035360"/>
            <a:chOff x="-612720" y="3554280"/>
            <a:chExt cx="2841480" cy="1035360"/>
          </a:xfrm>
        </p:grpSpPr>
        <p:sp>
          <p:nvSpPr>
            <p:cNvPr id="47" name="Rectangle 11"/>
            <p:cNvSpPr/>
            <p:nvPr/>
          </p:nvSpPr>
          <p:spPr>
            <a:xfrm>
              <a:off x="1014480" y="4214880"/>
              <a:ext cx="1214280" cy="374760"/>
            </a:xfrm>
            <a:prstGeom prst="rect">
              <a:avLst/>
            </a:prstGeom>
            <a:gradFill rotWithShape="0">
              <a:gsLst>
                <a:gs pos="0">
                  <a:srgbClr val="f5ff8c"/>
                </a:gs>
                <a:gs pos="100000">
                  <a:srgbClr val="fcffde"/>
                </a:gs>
              </a:gsLst>
              <a:lin ang="16200000"/>
            </a:gradFill>
            <a:ln w="9360">
              <a:solidFill>
                <a:srgbClr val="c1ea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2"/>
            <p:cNvSpPr/>
            <p:nvPr/>
          </p:nvSpPr>
          <p:spPr>
            <a:xfrm>
              <a:off x="-612720" y="3554280"/>
              <a:ext cx="1260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522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3"/>
          <p:cNvSpPr/>
          <p:nvPr/>
        </p:nvSpPr>
        <p:spPr>
          <a:xfrm>
            <a:off x="1014480" y="3836880"/>
            <a:ext cx="1214280" cy="37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y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286000" y="5694480"/>
            <a:ext cx="126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6240" rIns="52200" tIns="0" bIns="0" anchor="ctr">
            <a:noAutofit/>
          </a:bodyPr>
          <a:p>
            <a:pPr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1822320"/>
                <a:tab algn="l" pos="3645000"/>
                <a:tab algn="l" pos="5467320"/>
                <a:tab algn="l" pos="7289640"/>
                <a:tab algn="l" pos="911232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5"/>
          <p:cNvGrpSpPr/>
          <p:nvPr/>
        </p:nvGrpSpPr>
        <p:grpSpPr>
          <a:xfrm>
            <a:off x="1014480" y="3459240"/>
            <a:ext cx="1214280" cy="377640"/>
            <a:chOff x="1014480" y="3459240"/>
            <a:chExt cx="1214280" cy="377640"/>
          </a:xfrm>
        </p:grpSpPr>
        <p:sp>
          <p:nvSpPr>
            <p:cNvPr id="52" name="Rectangle 16"/>
            <p:cNvSpPr/>
            <p:nvPr/>
          </p:nvSpPr>
          <p:spPr>
            <a:xfrm>
              <a:off x="1014480" y="3459240"/>
              <a:ext cx="1214280" cy="377640"/>
            </a:xfrm>
            <a:prstGeom prst="rect">
              <a:avLst/>
            </a:prstGeom>
            <a:gradFill rotWithShape="0">
              <a:gsLst>
                <a:gs pos="0">
                  <a:srgbClr val="b3ff8f"/>
                </a:gs>
                <a:gs pos="100000">
                  <a:srgbClr val="e8ffdf"/>
                </a:gs>
              </a:gsLst>
              <a:lin ang="16200000"/>
            </a:gradFill>
            <a:ln w="9360">
              <a:solidFill>
                <a:srgbClr val="7ce3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T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7"/>
            <p:cNvSpPr/>
            <p:nvPr/>
          </p:nvSpPr>
          <p:spPr>
            <a:xfrm>
              <a:off x="1014480" y="3459240"/>
              <a:ext cx="85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522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41"/>
          <p:cNvGrpSpPr/>
          <p:nvPr/>
        </p:nvGrpSpPr>
        <p:grpSpPr>
          <a:xfrm>
            <a:off x="1014480" y="3071880"/>
            <a:ext cx="1214280" cy="377640"/>
            <a:chOff x="1014480" y="3071880"/>
            <a:chExt cx="1214280" cy="377640"/>
          </a:xfrm>
        </p:grpSpPr>
        <p:sp>
          <p:nvSpPr>
            <p:cNvPr id="55" name="Rectangle 19"/>
            <p:cNvSpPr/>
            <p:nvPr/>
          </p:nvSpPr>
          <p:spPr>
            <a:xfrm>
              <a:off x="1014480" y="3071880"/>
              <a:ext cx="1214280" cy="377640"/>
            </a:xfrm>
            <a:prstGeom prst="rect">
              <a:avLst/>
            </a:prstGeom>
            <a:gradFill rotWithShape="0">
              <a:gsLst>
                <a:gs pos="0">
                  <a:srgbClr val="96ffbd"/>
                </a:gs>
                <a:gs pos="100000">
                  <a:srgbClr val="e1ffec"/>
                </a:gs>
              </a:gsLst>
              <a:lin ang="16200000"/>
            </a:gradFill>
            <a:ln w="9360">
              <a:solidFill>
                <a:srgbClr val="42d48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Mon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014480" y="3071880"/>
              <a:ext cx="85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522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ound Same Side Corner Rectangle 21"/>
          <p:cNvSpPr/>
          <p:nvPr/>
        </p:nvSpPr>
        <p:spPr>
          <a:xfrm>
            <a:off x="1014480" y="2071800"/>
            <a:ext cx="1214280" cy="10000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42d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urrent  £1,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S Vis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£   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g Visa 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£  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vings  £1,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ving Social Security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680400" y="598320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vid Dinsdale – ddinsdale2000@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4716360" y="1989000"/>
            <a:ext cx="424836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Ke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are w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future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should government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e are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102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futur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3073320" y="357336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s by Business 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bi-interactive.com/Figures/RBTC0145/009_mbdxgwgallanojnjuq.gif"/>
          <p:cNvPicPr/>
          <p:nvPr/>
        </p:nvPicPr>
        <p:blipFill>
          <a:blip r:embed="rId1"/>
          <a:stretch/>
        </p:blipFill>
        <p:spPr>
          <a:xfrm>
            <a:off x="1047600" y="1143000"/>
            <a:ext cx="6343920" cy="372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500040" y="4572000"/>
          <a:ext cx="8143920" cy="1465200"/>
        </p:xfrm>
        <a:graphic>
          <a:graphicData uri="http://schemas.openxmlformats.org/drawingml/2006/table">
            <a:tbl>
              <a:tblPr/>
              <a:tblGrid>
                <a:gridCol w="1163520"/>
                <a:gridCol w="908280"/>
                <a:gridCol w="1143000"/>
                <a:gridCol w="1071360"/>
                <a:gridCol w="1071720"/>
                <a:gridCol w="1143000"/>
                <a:gridCol w="1643040"/>
              </a:tblGrid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Shipments (m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AG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Smartphon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5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84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6.0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Notebook PC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3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6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2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6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9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Desktop PC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3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4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3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5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Netboo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8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0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2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1.5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Tablet PC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6.5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cess device shipments (units, m), 2010-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sumer cloud services revenues by market category ($bn), 2010-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bi-interactive.com/Figures/RBTC0145/033_vqtcbxqjbvxykqludjiq.gif"/>
          <p:cNvPicPr/>
          <p:nvPr/>
        </p:nvPicPr>
        <p:blipFill>
          <a:blip r:embed="rId1"/>
          <a:stretch/>
        </p:blipFill>
        <p:spPr>
          <a:xfrm>
            <a:off x="1571760" y="714240"/>
            <a:ext cx="5786280" cy="381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2920" y="4286160"/>
          <a:ext cx="8643960" cy="2346480"/>
        </p:xfrm>
        <a:graphic>
          <a:graphicData uri="http://schemas.openxmlformats.org/drawingml/2006/table">
            <a:tbl>
              <a:tblPr/>
              <a:tblGrid>
                <a:gridCol w="1235160"/>
                <a:gridCol w="1407960"/>
                <a:gridCol w="1071720"/>
                <a:gridCol w="1000080"/>
                <a:gridCol w="1071360"/>
                <a:gridCol w="1071720"/>
                <a:gridCol w="1785960"/>
              </a:tblGrid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Revenues ($b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AG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Mobile applicat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.1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2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9.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9.2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2.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9.8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8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Online gaming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6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.2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.7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2.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9.4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4.9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VoIP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0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.2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4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.5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8.7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7.4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Paid music cont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9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7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.9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5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.5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3.4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38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Online SN (excl. game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9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3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8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6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.4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5.6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Storage / backup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2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4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5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9.3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Emai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.1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9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6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8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7.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71.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4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sumer cloud mobile application revenues by major geographical market ($bn), 2010-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www.bi-interactive.com/Figures/RBTC0145/035_vnbhvfnnzyoyfha_web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09720" y="1214280"/>
            <a:ext cx="4762440" cy="30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2120" y="4071960"/>
          <a:ext cx="7167600" cy="1954080"/>
        </p:xfrm>
        <a:graphic>
          <a:graphicData uri="http://schemas.openxmlformats.org/drawingml/2006/table">
            <a:tbl>
              <a:tblPr/>
              <a:tblGrid>
                <a:gridCol w="1433520"/>
                <a:gridCol w="947520"/>
                <a:gridCol w="1428840"/>
                <a:gridCol w="1428840"/>
                <a:gridCol w="1928880"/>
              </a:tblGrid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Revenues ($b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AG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U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7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.4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3.2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2.2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U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6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2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.1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9.2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Other Western Europ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2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7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.6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7.1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Japa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2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2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.6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7.0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hin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0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2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7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4.9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Kore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2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8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4.8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anad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0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5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6.8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tal cloud services revenues by major geographical market ($bn), 2010-20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bi-interactive.com/Figures/RBTC0145/015_uwbekbouibveytkfa.gif"/>
          <p:cNvPicPr/>
          <p:nvPr/>
        </p:nvPicPr>
        <p:blipFill>
          <a:blip r:embed="rId1"/>
          <a:stretch/>
        </p:blipFill>
        <p:spPr>
          <a:xfrm>
            <a:off x="2071800" y="857160"/>
            <a:ext cx="5214960" cy="335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14240" y="4000680"/>
          <a:ext cx="7382160" cy="2441520"/>
        </p:xfrm>
        <a:graphic>
          <a:graphicData uri="http://schemas.openxmlformats.org/drawingml/2006/table">
            <a:tbl>
              <a:tblPr/>
              <a:tblGrid>
                <a:gridCol w="1476360"/>
                <a:gridCol w="1381320"/>
                <a:gridCol w="1571760"/>
                <a:gridCol w="1500120"/>
                <a:gridCol w="1452600"/>
              </a:tblGrid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Revenues ($bn)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AG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U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9.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74.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38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4.8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U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1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8.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6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7.0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Japa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7.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7.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2.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8.4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8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Western Europ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5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7.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8.5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anad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5.8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hin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2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7.7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Kore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.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.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3.6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RoW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3.8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8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48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01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7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 from future tr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in the UK will be using a lot of online and cloud ser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will be many more devices which will be ever cheap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experiences are becoming shorter, faster and less verb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should government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x identity manage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liver services in a way that people will be consuming them – build a government app platform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ild concise services that help people overcome problems (rather than navigate the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Multitasking"/>
          <p:cNvPicPr/>
          <p:nvPr/>
        </p:nvPicPr>
        <p:blipFill>
          <a:blip r:embed="rId1"/>
          <a:stretch/>
        </p:blipFill>
        <p:spPr>
          <a:xfrm>
            <a:off x="871560" y="1500120"/>
            <a:ext cx="3371760" cy="4324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6"/>
          <p:cNvSpPr/>
          <p:nvPr/>
        </p:nvSpPr>
        <p:spPr>
          <a:xfrm>
            <a:off x="2371680" y="3929040"/>
            <a:ext cx="1714680" cy="357120"/>
          </a:xfrm>
          <a:prstGeom prst="rect">
            <a:avLst/>
          </a:prstGeom>
          <a:gradFill rotWithShape="0">
            <a:gsLst>
              <a:gs pos="0">
                <a:srgbClr val="ffff89"/>
              </a:gs>
              <a:gs pos="100000">
                <a:srgbClr val="ffffdc"/>
              </a:gs>
            </a:gsLst>
            <a:lin ang="16200000"/>
          </a:gradFill>
          <a:ln w="9360">
            <a:solidFill>
              <a:srgbClr val="f0d5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6"/>
          <p:cNvGrpSpPr/>
          <p:nvPr/>
        </p:nvGrpSpPr>
        <p:grpSpPr>
          <a:xfrm>
            <a:off x="2371680" y="4286160"/>
            <a:ext cx="1714680" cy="357120"/>
            <a:chOff x="2371680" y="4286160"/>
            <a:chExt cx="1714680" cy="357120"/>
          </a:xfrm>
        </p:grpSpPr>
        <p:sp>
          <p:nvSpPr>
            <p:cNvPr id="85" name="Rectangle 18"/>
            <p:cNvSpPr/>
            <p:nvPr/>
          </p:nvSpPr>
          <p:spPr>
            <a:xfrm>
              <a:off x="2371680" y="4286160"/>
              <a:ext cx="1714680" cy="35712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C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2371680" y="4286160"/>
              <a:ext cx="12081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471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0"/>
          <p:cNvGrpSpPr/>
          <p:nvPr/>
        </p:nvGrpSpPr>
        <p:grpSpPr>
          <a:xfrm>
            <a:off x="-612720" y="3554280"/>
            <a:ext cx="2841480" cy="1035360"/>
            <a:chOff x="-612720" y="3554280"/>
            <a:chExt cx="2841480" cy="1035360"/>
          </a:xfrm>
        </p:grpSpPr>
        <p:sp>
          <p:nvSpPr>
            <p:cNvPr id="88" name="Rectangle 21"/>
            <p:cNvSpPr/>
            <p:nvPr/>
          </p:nvSpPr>
          <p:spPr>
            <a:xfrm>
              <a:off x="1014480" y="4214880"/>
              <a:ext cx="1214280" cy="374760"/>
            </a:xfrm>
            <a:prstGeom prst="rect">
              <a:avLst/>
            </a:prstGeom>
            <a:gradFill rotWithShape="0">
              <a:gsLst>
                <a:gs pos="0">
                  <a:srgbClr val="f5ff8c"/>
                </a:gs>
                <a:gs pos="100000">
                  <a:srgbClr val="fcffde"/>
                </a:gs>
              </a:gsLst>
              <a:lin ang="16200000"/>
            </a:gradFill>
            <a:ln w="9360">
              <a:solidFill>
                <a:srgbClr val="c1ea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2"/>
            <p:cNvSpPr/>
            <p:nvPr/>
          </p:nvSpPr>
          <p:spPr>
            <a:xfrm>
              <a:off x="-612720" y="3554280"/>
              <a:ext cx="1260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522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23"/>
          <p:cNvSpPr/>
          <p:nvPr/>
        </p:nvSpPr>
        <p:spPr>
          <a:xfrm>
            <a:off x="1014480" y="3836880"/>
            <a:ext cx="1214280" cy="37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y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2286000" y="5694480"/>
            <a:ext cx="126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6240" rIns="52200" tIns="0" bIns="0" anchor="ctr">
            <a:noAutofit/>
          </a:bodyPr>
          <a:p>
            <a:pPr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1822320"/>
                <a:tab algn="l" pos="3645000"/>
                <a:tab algn="l" pos="5467320"/>
                <a:tab algn="l" pos="7289640"/>
                <a:tab algn="l" pos="911232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5"/>
          <p:cNvGrpSpPr/>
          <p:nvPr/>
        </p:nvGrpSpPr>
        <p:grpSpPr>
          <a:xfrm>
            <a:off x="1014480" y="3459240"/>
            <a:ext cx="1214280" cy="377640"/>
            <a:chOff x="1014480" y="3459240"/>
            <a:chExt cx="1214280" cy="377640"/>
          </a:xfrm>
        </p:grpSpPr>
        <p:sp>
          <p:nvSpPr>
            <p:cNvPr id="93" name="Rectangle 26"/>
            <p:cNvSpPr/>
            <p:nvPr/>
          </p:nvSpPr>
          <p:spPr>
            <a:xfrm>
              <a:off x="1014480" y="3459240"/>
              <a:ext cx="1214280" cy="377640"/>
            </a:xfrm>
            <a:prstGeom prst="rect">
              <a:avLst/>
            </a:prstGeom>
            <a:gradFill rotWithShape="0">
              <a:gsLst>
                <a:gs pos="0">
                  <a:srgbClr val="b3ff8f"/>
                </a:gs>
                <a:gs pos="100000">
                  <a:srgbClr val="e8ffdf"/>
                </a:gs>
              </a:gsLst>
              <a:lin ang="16200000"/>
            </a:gradFill>
            <a:ln w="9360">
              <a:solidFill>
                <a:srgbClr val="7ce3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T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7"/>
            <p:cNvSpPr/>
            <p:nvPr/>
          </p:nvSpPr>
          <p:spPr>
            <a:xfrm>
              <a:off x="1014480" y="3459240"/>
              <a:ext cx="85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522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41"/>
          <p:cNvGrpSpPr/>
          <p:nvPr/>
        </p:nvGrpSpPr>
        <p:grpSpPr>
          <a:xfrm>
            <a:off x="1014480" y="3071880"/>
            <a:ext cx="1214280" cy="377640"/>
            <a:chOff x="1014480" y="3071880"/>
            <a:chExt cx="1214280" cy="377640"/>
          </a:xfrm>
        </p:grpSpPr>
        <p:sp>
          <p:nvSpPr>
            <p:cNvPr id="96" name="Rectangle 29"/>
            <p:cNvSpPr/>
            <p:nvPr/>
          </p:nvSpPr>
          <p:spPr>
            <a:xfrm>
              <a:off x="1014480" y="3071880"/>
              <a:ext cx="1214280" cy="377640"/>
            </a:xfrm>
            <a:prstGeom prst="rect">
              <a:avLst/>
            </a:prstGeom>
            <a:gradFill rotWithShape="0">
              <a:gsLst>
                <a:gs pos="0">
                  <a:srgbClr val="96ffbd"/>
                </a:gs>
                <a:gs pos="100000">
                  <a:srgbClr val="e1ffec"/>
                </a:gs>
              </a:gsLst>
              <a:lin ang="16200000"/>
            </a:gradFill>
            <a:ln w="9360">
              <a:solidFill>
                <a:srgbClr val="42d48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Mon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1014480" y="3071880"/>
              <a:ext cx="85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522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 Same Side Corner Rectangle 31"/>
          <p:cNvSpPr/>
          <p:nvPr/>
        </p:nvSpPr>
        <p:spPr>
          <a:xfrm>
            <a:off x="1014480" y="2071800"/>
            <a:ext cx="1214280" cy="10000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42d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urrent  £1,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S Vis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£   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g Visa 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£  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vings  £1,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2"/>
          <p:cNvSpPr/>
          <p:nvPr/>
        </p:nvSpPr>
        <p:spPr>
          <a:xfrm>
            <a:off x="680400" y="598320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vid Dinsdale – ddinsdale2000@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8:01:58Z</dcterms:created>
  <dc:creator>ddinsdale</dc:creator>
  <dc:description/>
  <dc:language>en-US</dc:language>
  <cp:lastModifiedBy>IT Services</cp:lastModifiedBy>
  <dcterms:modified xsi:type="dcterms:W3CDTF">2011-07-01T11:28:02Z</dcterms:modified>
  <cp:revision>59</cp:revision>
  <dc:subject/>
  <dc:title>Slide 1</dc:title>
</cp:coreProperties>
</file>