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496800"/>
            <a:ext cx="822960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96800"/>
            <a:ext cx="822960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1318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5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51318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spcBef>
                <a:spcPts val="45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2080" indent="-228600">
              <a:spcBef>
                <a:spcPts val="451"/>
              </a:spcBef>
              <a:buClr>
                <a:srgbClr val="51318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28600">
              <a:spcBef>
                <a:spcPts val="451"/>
              </a:spcBef>
              <a:buClr>
                <a:srgbClr val="51318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6"/>
          <p:cNvSpPr/>
          <p:nvPr/>
        </p:nvSpPr>
        <p:spPr>
          <a:xfrm>
            <a:off x="539640" y="6141960"/>
            <a:ext cx="8066160" cy="1800"/>
          </a:xfrm>
          <a:prstGeom prst="line">
            <a:avLst/>
          </a:prstGeom>
          <a:ln w="12600">
            <a:solidFill>
              <a:srgbClr val="5131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traight Connector 7"/>
          <p:cNvSpPr/>
          <p:nvPr/>
        </p:nvSpPr>
        <p:spPr>
          <a:xfrm>
            <a:off x="539640" y="360360"/>
            <a:ext cx="8066160" cy="1440"/>
          </a:xfrm>
          <a:prstGeom prst="line">
            <a:avLst/>
          </a:prstGeom>
          <a:ln w="12600">
            <a:solidFill>
              <a:srgbClr val="5131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1440000"/>
            <a:ext cx="270000" cy="4679640"/>
          </a:xfrm>
          <a:prstGeom prst="rect">
            <a:avLst/>
          </a:prstGeom>
          <a:solidFill>
            <a:srgbClr val="513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lide Number Placeholder 5"/>
          <p:cNvSpPr/>
          <p:nvPr/>
        </p:nvSpPr>
        <p:spPr>
          <a:xfrm>
            <a:off x="539640" y="6381720"/>
            <a:ext cx="507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8705-6B33-4254-95D2-DDDD8A731DDC}" type="slidenum">
              <a:rPr b="0" lang="en-GB" sz="1200" spc="-1" strike="noStrike">
                <a:solidFill>
                  <a:srgbClr val="51318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56320" y="6197760"/>
            <a:ext cx="348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891040" y="6197760"/>
            <a:ext cx="30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l Us Once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Us Once – because your tim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1440000"/>
            <a:ext cx="270000" cy="4679640"/>
          </a:xfrm>
          <a:prstGeom prst="rect">
            <a:avLst/>
          </a:prstGeom>
          <a:solidFill>
            <a:srgbClr val="513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1318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5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51318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spcBef>
                <a:spcPts val="45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2080" indent="-228600">
              <a:spcBef>
                <a:spcPts val="451"/>
              </a:spcBef>
              <a:buClr>
                <a:srgbClr val="51318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28600">
              <a:spcBef>
                <a:spcPts val="451"/>
              </a:spcBef>
              <a:buClr>
                <a:srgbClr val="51318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59520" y="6084720"/>
            <a:ext cx="308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l Us Once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Us Once – because your tim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00" y="-20520"/>
            <a:ext cx="276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0" descr="HMGovt-logo_small-version-jpeg.gif"/>
          <p:cNvPicPr/>
          <p:nvPr/>
        </p:nvPicPr>
        <p:blipFill>
          <a:blip r:embed="rId2"/>
          <a:stretch/>
        </p:blipFill>
        <p:spPr>
          <a:xfrm>
            <a:off x="0" y="0"/>
            <a:ext cx="322596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3680" y="2784600"/>
            <a:ext cx="64008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 Briggs - Programme Manager, Tell Us Once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 Jun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2160" y="1146240"/>
            <a:ext cx="7429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513184"/>
                </a:solidFill>
                <a:latin typeface="Arial"/>
              </a:rPr>
              <a:t>Is moving social security online the right question?</a:t>
            </a:r>
            <a:endParaRPr b="0" lang="en-US" sz="4800" spc="-1" strike="noStrike">
              <a:solidFill>
                <a:srgbClr val="513184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01960" y="3730680"/>
            <a:ext cx="21528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779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t’s just about putting products online, the answer is “mayb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oples lives are complex and don’t always fit convenien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ig question is can social justice be delivered on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The BIG question</a:t>
            </a: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4014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ople deal with multiple services in multiple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ost efficiency is achieved when the customer has to access the service only ONCE regardless of th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15 online transactions are needed the customer will become frustrated with that channel and look for a more convenient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olution is to look at the WHOLE customer journey not just focussing on parts that suit government or 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The Tell Us Once Experience</a:t>
            </a: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75120" y="3846600"/>
            <a:ext cx="32097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2520" y="1397160"/>
            <a:ext cx="78105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13184"/>
                </a:solidFill>
                <a:latin typeface="Arial"/>
              </a:rPr>
              <a:t>Tell Us Once bereavement customer </a:t>
            </a: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I went to register my Grand Uncle’s death I didn't realise this service existed and had been trying to sort out all this paperwork and funeral arrangements on my own without any support. I really didn't know where to even start with all his paperwork and it was a massive relief to receive this service.”</a:t>
            </a:r>
            <a:br>
              <a:rPr sz="2400"/>
            </a:b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2520" y="1397160"/>
            <a:ext cx="78105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13184"/>
                </a:solidFill>
                <a:latin typeface="Arial"/>
              </a:rPr>
              <a:t>Tell Us Once birth customer </a:t>
            </a: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“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is reassuring to only have to give information once as you are tired, emotional and stressed with a new baby and making this process quick, efficient and less time consuming is great. The extra support really made a difference. Before I had to wait 6 months for my Tax Credit to go through and about 4 months for Child Benefit…This time (with Tell Us Once) it took only a few weeks and everything was done.  This really helped financially.” </a:t>
            </a: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4014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we join up our services so that they can be put onl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uld we look at digital by default from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ustomer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p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13184"/>
                </a:solidFill>
                <a:latin typeface="Arial"/>
              </a:rPr>
              <a:t>So the real question should be…..</a:t>
            </a:r>
            <a:endParaRPr b="0" lang="en-US" sz="28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2:28:38Z</dcterms:created>
  <dc:creator>IT Systems</dc:creator>
  <dc:description/>
  <dc:language>en-US</dc:language>
  <cp:lastModifiedBy>IT Services</cp:lastModifiedBy>
  <cp:lastPrinted>2010-03-30T08:00:32Z</cp:lastPrinted>
  <dcterms:modified xsi:type="dcterms:W3CDTF">2011-06-28T10:04:45Z</dcterms:modified>
  <cp:revision>94</cp:revision>
  <dc:subject/>
  <dc:title>Presentation heading goes here  Sub heading goes here  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16914251</vt:r8>
  </property>
  <property fmtid="{D5CDD505-2E9C-101B-9397-08002B2CF9AE}" pid="3" name="_AuthorEmail">
    <vt:lpwstr>JONATHAN.STAMPTON@DWP.GSI.GOV.UK</vt:lpwstr>
  </property>
  <property fmtid="{D5CDD505-2E9C-101B-9397-08002B2CF9AE}" pid="4" name="_AuthorEmailDisplayName">
    <vt:lpwstr>Stampton Jonathan DWP TELL US ONCE COMMUNICATIONS TEAM</vt:lpwstr>
  </property>
  <property fmtid="{D5CDD505-2E9C-101B-9397-08002B2CF9AE}" pid="5" name="_EmailSubject">
    <vt:lpwstr>Matt Briggs's presentation</vt:lpwstr>
  </property>
  <property fmtid="{D5CDD505-2E9C-101B-9397-08002B2CF9AE}" pid="6" name="_ReviewingToolsShownOnce">
    <vt:lpwstr/>
  </property>
</Properties>
</file>