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8A5BDB-7586-4D9A-BD8F-5FA191A26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extrapolations from the learner and centre surveys dat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5F90DE-DD5F-4ED7-A622-7A9D02FBC4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94306-022E-40FD-A505-50FE16A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F4205-0A3C-4F1C-ADDE-95AA2203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9AB8-1383-413C-979A-75FE536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E29F6-C2B2-4620-B01B-BE08AA8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CD184-2DAD-484C-99AF-A1693B6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C2FAF-0FD3-4FC0-8B1E-681267B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DF26B-9935-4E52-94BE-AB344695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AD0DE-F848-4C7A-94F2-8EEAFAD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CF4D5-E8D8-41A0-9E7E-C5704E7D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F42EE-2CE9-400F-BF36-1662F52C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4434F-235E-49ED-BED2-E12890F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DC61-6C99-42EB-AA53-B374D3E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30351-F458-4D1C-BBD7-D3B41E1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7031F-E05B-48CF-8E35-010E3B6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FE53F-6A6F-4985-80E5-0AA7D7D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9E61A-0492-40B8-8C47-BFBEA46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B59AA-9AB7-48F0-A47E-C82BA09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AB835-3DCB-4091-BF92-BB99087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BAEF4-0C6D-4677-9661-C919C365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855D6-DE6C-4F7C-96B2-2A719AF0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6F65D-F49C-458E-9943-261629D4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D39CD2-9BE0-4196-9CA9-40F09840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9AEE93-DC94-41C0-A2D1-9C3126A6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66CE3C-59DD-4154-8467-9F5917D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B8B08-E218-48B6-B9A8-FBBC806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7AF8A8-4EB4-48C4-A636-7EAEB3F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DD9EFB-F6BB-4FCA-BE2D-F0F0E8D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497895-5B0B-4A03-A40F-B08314B9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446F4B-F0F0-4696-BBA5-B626C51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F72A7F-24C0-418B-89C8-5FC3C1A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360AB-E581-4529-86DA-CFA1F668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136F2A-A4C0-423F-9305-614705C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45852F-C65D-45AA-94A6-A8310CAF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341CA4-E074-4001-8649-1956CEEB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5F2B9-3BCE-4FD7-8CF0-33CE74F3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747EF-2DA6-43F7-8BDF-2E5AA223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C1012-53B1-45B4-85DE-3950C85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C0864-7211-41FA-952D-1790DDEB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C3721-AACC-4892-8FEF-4D891D0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FABFD-1F0B-4C9E-9765-D3715CB9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F03A0-DC93-4F05-AC85-78D8D0B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51D4F-4E2E-456A-98E7-6D5DC21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49842-78FD-48CC-A4E9-E6C22F2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9B0BC-AD64-4C32-8234-B5D0CD6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311DF-0DF2-4270-891A-3184EEC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A05EE-1DDF-40DB-8CEE-08193C84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D016E-88E3-4663-8808-D2949EA7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A5C434-BA4B-4BA1-8FD0-C47CF0E2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41801F-E19C-4D8D-90F9-D7D2C79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AF858D-C3C2-47E5-9B3D-79DEA01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32AE3D-FFB5-4401-95AE-C3E68CA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2B2570-30AB-47F2-9DA7-16CCA399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28B1-01B6-4768-A767-DDA46A3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351E41-C2C5-4013-BD63-27DE04E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0B54CC-2DD3-471F-809C-79A2B0D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E391FD-6649-4283-967A-C6501C9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004BD7-7F53-427D-BE79-B5EC4B7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8B2732-173F-4BF2-9FD2-F35A7872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F67B16-D611-43D4-83DC-ECBD2E4E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0859A8-CC92-4FF3-94DD-EAE6612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D10DD-FA8E-417C-907D-400D5BA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F274F-D82F-4BAF-B073-45BACF45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6443-2B89-4A8A-90FA-48DC826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DE0DE-E0B2-4087-87DA-26EEB97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A07D-0E67-4A5B-93DE-E0D0B20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84E6-141C-4B24-97E2-CF0DBEC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A6D3F-948B-4521-BC49-317F415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1FB94-F515-4935-9A1D-647A874C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5165A-630B-4276-8C49-079DAC55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58AA4-CFEE-45E9-90C1-C7F4F9F1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86688-0776-47C4-A3F2-49525951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B1100-7D8E-4BDC-BA84-A287607E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41C6A-E3DF-460E-9443-E098405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08012-1116-425E-84E3-21A1404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D5F9C-8ABB-44C7-9DB9-2866EF6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490C8-A11A-42CA-8F5C-7893688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9206C-D420-42B9-98B1-397A566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7D940-8AA4-4344-81F2-15D7870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75298-08BE-4D8B-A1D0-69C8519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26A9C-3C09-42BD-838B-A7082C05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2F8C5-DB4F-4B94-8EF3-6CFF1CA7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50B5A-2D95-45B8-B311-3282F8F6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2E3BB-7657-4543-AA92-BF89522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DDD8E-1E78-4BBF-AF15-E1E497C6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FCDFD-15D4-4E35-9D1D-909A9D64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CA5E5-BBCF-4595-8632-0164B3F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66984-8B50-4D11-A244-8309E08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73A26-7AFD-4560-B599-CB06A3E5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E0C04-9BEB-4A7D-A750-BF5F9C7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F09E3-D130-4B9B-9DE5-7EE8742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CB2E6-271D-44BE-B9AC-8A56716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7207B-7501-423E-B193-A6911043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72EA9-D826-4E63-96E3-E12D70DD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29226-06C5-436C-A819-FF18DEEC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93FFC-1BCB-4FF1-B304-58460B4A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DF572E-3DAC-43CA-B063-ACF9E2A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8ED80-39EC-4248-A905-5334859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236E82-B3BF-4972-B260-08B7580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22AF4-4CD0-49DF-9C49-DBC5E806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CC8CEB-C7C5-4966-8149-B7E9AF7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5DF2A-9F57-491B-B19C-BF55C87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19C0F-5DB1-4875-9BC7-C97A67A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D9963-57A8-4716-A3AD-552D9A4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69B48-629A-4457-86CC-D5CCA658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B1167-EA51-451D-9A0D-6952F39C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1AB27-0F8C-4F57-8992-18A7014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04D3F-77C2-450C-903A-E748997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60C44-B95C-43D9-B7C8-035DDA1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0D851-7196-4684-8DC1-ED118DB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E2CFC-E52A-4566-867E-C3CAD89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661E4-2CBB-4BFF-8318-503963B4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6DF0C-F78A-4BF9-A353-C8F76151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3A260-6569-4AF4-A8E2-7C9CA45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64A57-25D6-4EB9-A421-A291236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A392A4-0E61-4E33-9003-51AA2F4F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7C373-98E7-4CA7-805A-F6529432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46DAA-1BD1-4A22-805C-013ACDA5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6B258-F720-4C8C-B888-59CE4AB8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5AC2AF-236C-41C5-9283-06292B86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4A0381-7BC7-4847-8588-A5F0966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F17464-C889-4597-A823-DA84E779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2F551-E377-448F-AC5F-EE7AEA2B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2D5343-D437-458F-8EF0-5D907556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8BC2C5-41CB-4504-B029-7CAD9C9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56117-2764-43EF-8E01-21D1755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ACAD9-88D3-4EF3-BA41-2E4B74D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BE4C1-CEE8-4343-A296-234B0D9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4DDEE-05AE-47E4-B98F-EB088B74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EF57F0-FC00-4F64-AF89-F5A79B6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4172B-B5A6-422A-88B6-AABA8E42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81A83-CD7A-41F2-9AB7-66C36F7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0A78D-FD4E-4B32-9465-A60FE83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AB3D06-9A03-4708-A660-B9D6184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4471A-6E72-454C-8776-C5EB493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46C73-0630-4CEC-AB2B-4B14B66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C08E7A-AE6D-400F-9E88-7F51C73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CAE306-83F8-4795-8395-A304F11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4BE684-C8B7-4AA7-A056-278DC0B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A20ED4-AEDD-4ED7-8285-5DE38B2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A45075-1292-4A66-8287-072BE693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9C5CD-1251-4DB5-B7D9-18468BD8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283D0-F28E-49EE-BC51-B33CFC35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9CD6B-F9B9-4DE1-A653-CABB148A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74D9E-EE15-43D2-BAB8-BE2F063B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3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8040" y="6173640"/>
            <a:ext cx="167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3543" t="85551" r="55690" b="3986"/>
          <a:stretch/>
        </p:blipFill>
        <p:spPr>
          <a:xfrm>
            <a:off x="684360" y="6046920"/>
            <a:ext cx="30956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2A7-0485-4547-96BF-EEF96353ED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3C2D-83EA-4ED6-8C3B-2C0C004090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F760-439F-4944-933F-6C7C866A2B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6A76-3D3F-4AAD-B4D4-FAA21F2660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192F-D3FA-4DB7-8DA9-D838373CBF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BB5-BF5E-4183-95E7-C6FE98EE28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FD3-98E7-40CD-940B-5E31E33B54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0943-E230-4EF1-B5B1-D033A831E1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DFD2-94B3-4C56-9F41-3390B21BD3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9DF3-90FA-4E1F-AE94-AF0280E01D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96E-C3D8-4530-990B-6B7F4E302B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13B-0A3E-44C8-822D-81C0E8FF41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ceonline.org/research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mclean@ufi.com" TargetMode="External"/><Relationship Id="rId2" Type="http://schemas.openxmlformats.org/officeDocument/2006/relationships/hyperlink" Target="http://www.twitter.com/helenmilner" TargetMode="External"/><Relationship Id="rId3" Type="http://schemas.openxmlformats.org/officeDocument/2006/relationships/hyperlink" Target="http://www.twitter.com/helenmilner" TargetMode="External"/><Relationship Id="rId4" Type="http://schemas.openxmlformats.org/officeDocument/2006/relationships/hyperlink" Target="mailto:kmclean@ufi.com" TargetMode="External"/><Relationship Id="rId5" Type="http://schemas.openxmlformats.org/officeDocument/2006/relationships/hyperlink" Target="http://www.go-on.co.uk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91560" y="6858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ection Divider: Heading intro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30040" y="2701800"/>
            <a:ext cx="87408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Internet use in t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 UK: the ev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June 201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Kevin McLe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33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 (contd)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4414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Ofcom shows age and socioeconomic group are significant: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20% drop in internet use from national average among those in social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aged 65 and over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in socioeconomic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Four major factors to not using the internet are age, socio-economic group, disability, and gende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y don’t people use the interne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07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wo key barrier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Lack of interest (64% of those who don’t intend to get the internet at home gave this reason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Cost (2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Hooks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272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he three main ‘hooks’ for non-users in terms of activitie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Emailing (1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Uploading photos (15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ine shopping (1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833400" y="50133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Chart 3" descr=""/>
          <p:cNvPicPr/>
          <p:nvPr/>
        </p:nvPicPr>
        <p:blipFill>
          <a:blip r:embed="rId1"/>
          <a:stretch/>
        </p:blipFill>
        <p:spPr>
          <a:xfrm>
            <a:off x="152280" y="274680"/>
            <a:ext cx="8839440" cy="5937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/>
          <p:cNvSpPr/>
          <p:nvPr/>
        </p:nvSpPr>
        <p:spPr>
          <a:xfrm>
            <a:off x="1598760" y="11606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60520" y="3016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% of adult who have ever used the internet, by reg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3998880" y="6119640"/>
            <a:ext cx="47610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6" descr=""/>
          <p:cNvPicPr/>
          <p:nvPr/>
        </p:nvPicPr>
        <p:blipFill>
          <a:blip r:embed="rId1"/>
          <a:stretch/>
        </p:blipFill>
        <p:spPr>
          <a:xfrm>
            <a:off x="328680" y="1231920"/>
            <a:ext cx="88218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31440" y="1333440"/>
            <a:ext cx="79758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2% of UK adults use only an alternative device to a PC or laptop to go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(Note: This is use of an alternative as their </a:t>
            </a:r>
            <a:r>
              <a:rPr b="1" lang="en-GB" sz="2400" spc="-1" strike="noStrike" u="sng">
                <a:solidFill>
                  <a:srgbClr val="e1007a"/>
                </a:solidFill>
                <a:uFillTx/>
                <a:latin typeface="Arial"/>
              </a:rPr>
              <a:t>only </a:t>
            </a: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means of going online)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655560" y="1025280"/>
            <a:ext cx="7934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Internet users are more likely to have interaction with government or their local council offline (71%) than online (65%).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54% of UK adults have ever used an online government service (eg website, email, app etc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592280" y="478152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71040" y="873000"/>
            <a:ext cx="79628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82% of internet users say they have saved money in the last six months by using the interne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with 46% saying they’ve made significant savings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13377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Around half of internet users have some concerns about providing personal information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411200" y="46004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3440" y="617040"/>
            <a:ext cx="7772400" cy="30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If all UK digitally excluded adults got online and made one digital contact each month, this would save the Government £900 million per yea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PwC &amp; Martha Lane Fox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aceonline.org/research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October 2009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UK online centres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960" y="968400"/>
            <a:ext cx="845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4000 member centres, covering 84% of England’s most deprived areas. Location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ommunity centres including in social ho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chools, Surestart and Children’s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Old people’s homes and Sheltered 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Mosques, churches, religious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P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Homeless shelters and hos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…. Lots of going out to people where they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63" descr=""/>
          <p:cNvPicPr/>
          <p:nvPr/>
        </p:nvPicPr>
        <p:blipFill>
          <a:blip r:embed="rId1"/>
          <a:stretch/>
        </p:blipFill>
        <p:spPr>
          <a:xfrm>
            <a:off x="1463760" y="1279440"/>
            <a:ext cx="7265880" cy="42674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4"/>
          <p:cNvSpPr/>
          <p:nvPr/>
        </p:nvSpPr>
        <p:spPr>
          <a:xfrm>
            <a:off x="39528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*There were over 4000 partner centres by Ma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5"/>
          <p:cNvSpPr/>
          <p:nvPr/>
        </p:nvSpPr>
        <p:spPr>
          <a:xfrm>
            <a:off x="147636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ationship with Job centre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68"/>
          <p:cNvSpPr/>
          <p:nvPr/>
        </p:nvSpPr>
        <p:spPr>
          <a:xfrm>
            <a:off x="5219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2010-11 Centre satisfaction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So.....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07960" y="968400"/>
            <a:ext cx="845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ust be right to move social security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ut there is a significant challenge in moving people online, and then a further challenge in getting them comfortable enough to interact with Government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It won’t happen by accident, but the good news is there are great examples to build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54040" y="853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377880"/>
            <a:ext cx="6400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mclean@ufi.com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tter: 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evinamclea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-on.co.uk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007a"/>
                </a:solidFill>
                <a:latin typeface="Arial"/>
              </a:rPr>
              <a:t>The divide between the online and the offline is deepening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pic>
        <p:nvPicPr>
          <p:cNvPr id="5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332920" cy="59562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3803040" y="5913360"/>
            <a:ext cx="5295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Percentage population use of 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Source: ONS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729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About the datasets referred to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" y="1305000"/>
            <a:ext cx="838692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A new series of quarterly releases: Internet use by adults aged 16+. 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The source of the information is the Labour Force Survey. Sample size: 50,000 households, c. 110,000 people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ONS has begun publishing quarterly data on Internet users and non-users, enabling more timely information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UK Adults’ Media Literacy Report, Ofcom 201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ample size of 2,117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8.7 million adults have never used the internet – 17.5%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40.8 million adults used the internet every day – 82.2 per cent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uses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95.3% + of people aged under 35-44 (and 99% of 16-24 year olds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85% of men, compared with 80% of wo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People in London &amp; the South of England (85.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765440" y="47829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24880" cy="6608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"/>
          <p:cNvSpPr/>
          <p:nvPr/>
        </p:nvSpPr>
        <p:spPr>
          <a:xfrm>
            <a:off x="3265560" y="4953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441080"/>
            <a:ext cx="8155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5.1m women have never used the internet, compared with 3.6m 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y 17% of women aged 75+ have used the internet, compared with 33% of men aged 75+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4.2m disabled adults – almost half of all those who have never used the internet, or 1 in 3 of disabled peopl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29.3% of people in Northern Ireland and 22.7% of people in NE England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693960" y="613584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6:43:53Z</dcterms:created>
  <dc:creator>Matt Richmond</dc:creator>
  <dc:description/>
  <dc:language>en-US</dc:language>
  <cp:lastModifiedBy>IT Services</cp:lastModifiedBy>
  <dcterms:modified xsi:type="dcterms:W3CDTF">2011-07-06T11:31:36Z</dcterms:modified>
  <cp:revision>152</cp:revision>
  <dc:subject/>
  <dc:title>PowerPoint Presentation</dc:title>
</cp:coreProperties>
</file>