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007a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AF4C9A-1EDC-437B-A52A-A7B945E92A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are extrapolations from the learner and centre surveys dat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35B438-CF9B-4828-BA46-D1BF698A72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41291-F5D7-426F-B5F6-881760D5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C0D47-EFB9-404F-92E3-3FDCABDF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35475-F9C3-43E0-9F59-E9F046B6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9F5B5-26A8-4164-832D-70FB2FF6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C39FA-2B0C-4350-84C4-057685C3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BE58F-342F-4630-B418-E19BD8F6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AF044-3E82-4957-BB1B-6799EC88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E03FE-26E2-4E84-95C7-0A412995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6CE14-B912-4F1B-9227-2A83F3A9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2C5717-0EA0-4C1D-8A40-2B9A4EB6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6DB3C-E0CE-4C50-89AB-1CDC5739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B0E8B-DE3B-415C-B513-908418E9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5D25E7-E560-494C-B276-A28F6712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A8459-8548-4CB7-84E4-4265B12D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36B20-AA2A-485D-8ADD-605E3FD9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22E5B-05E5-4AA2-970F-AB56FAC8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65CE2-04F3-4D61-9AE5-53BA2E85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A29E21-01E8-4E5A-8B63-72EE0318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BC552-279A-475E-A3D3-CF83ACB1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37FBC-4474-46AC-BE83-7960D09E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EE825-9EA7-4E34-96F9-B3459036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18BA7A-D8FF-482E-934E-A677C7FA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115573-7A7F-410E-940D-17B36412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6A1DDB-7A22-49B8-B30C-B6E329DE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02C911-6746-4D1B-ADBD-863A3455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A31D07-7C96-4FA9-8457-81275C43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BD1CB1-D599-490A-96CF-8E58C07D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76121C-6583-49AF-AB67-EFCAD608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129D0C-1674-4B2E-819A-7EE0E0D0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ADB5B4-3E17-474F-8227-7849C3D2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29749-F015-4BC3-AB90-32F8B400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957C7C-DE6F-44CB-B993-B2C8743E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59A945-A63C-48DB-8110-D4880AEB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21CDEA-2CB2-4A1F-9C5E-BE5D7969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D22DC-E934-40B7-AB9A-C4C2D7D4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24969E-2BD8-4B05-BF88-9E15425E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742BB-8A03-4034-865C-C790C3A9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CC074-977C-4408-BCE7-62A57485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6958E-0098-406D-8AC1-9C0C8314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68B15-5464-4DD6-96B4-46B6898B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60CB9-C531-4BCA-A43E-F0D9A19B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068C6-FDC6-4C62-B3BA-55DEE557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DE3ED-BECE-400B-8A1D-3FDDA638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0F4EF-0382-446E-9C91-7237937B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5C930-1A1F-40D0-82E6-F86D1CE6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2EBB05-2038-4CDF-9407-8904FD98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4E17F-C223-4FB6-A09D-D704512A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E93E27-6BDB-4E93-957B-F8B69765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FCA2F2-85CC-4509-B050-F7CB5F4D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5BD128-1B3B-44AC-AAEB-98885D0C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A5D87D-474E-4B63-96C8-FB032B8B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5CF9E08-F9DA-407B-83E5-5AAF789C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D724B-6F45-4DAF-A600-BC1F3F6E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872A5C-2E5C-46D5-AE7A-FC2B6758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24BEBC-D46A-4D7A-A8A2-774D5439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96E69C-B7FC-4D5F-8FC9-7C33F563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53F4CC-1306-4FB8-8848-5004BB13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437564-2E2E-4648-B9F3-2972B798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2DB24E-8885-43E7-AA34-8C06C3BC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74B264-790D-4B92-BEF3-BE11F71D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691FA-BFA8-43DB-90BD-DA4649C5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69583-BAC9-4446-B661-A3E7E2CE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CA6A8-3785-41DC-A1FA-36EE2F53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931DF-D323-4327-A608-9F3D03F7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C914F-4D7A-4300-B40F-FDD875BE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CC5EB-01B2-4579-8FDE-09223900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AD1EE-F2D4-42BE-90E1-4D530748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5DE56-CE10-4C15-9FB9-31D78930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14FE4-83E0-4C7F-B0E6-AB4CF361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FC45DD-7229-4C8A-A8BA-6758F3EA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BD435D-C3EC-442C-9537-CEDECE01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BCBFF0-6197-4F85-82A9-6F699057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7E233-F835-418D-AE05-438B3055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525094-DDC6-4B78-9222-DB4DEFE8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3114BF-4AF3-40C2-8439-4B51F3DF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B8A0EB-98FD-4E55-ACF3-2F8449D1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71EA0-692F-4923-9D30-98EFCFCA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D338C7-1178-4108-9850-2148F46A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15F3DC-9719-445D-BD06-9DE51E6C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C95EF0-E93F-4E0E-9B7F-47629A5C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EC637A-F93A-4BB9-A785-2147A29A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61D353-C44F-4106-9DB4-D4B79F13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349949-6A62-4B8A-8002-F34EFDE4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FB53C8-F1E9-4A90-9D0A-60B7D9E6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C006C9-B89E-4630-BB9D-1774937A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6D7C0-4A1B-4E0E-9658-398017C7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732F80-EC3D-4EFA-9F78-6CD30745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5BECB6-A6B8-4AC8-9D51-5F9B9507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DA34D-35B7-4221-85C8-6FB2D3B2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EE7708-5422-4100-BAF0-2A45381C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FEAF96-1886-45EA-9BD1-4BB06B7E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CBBCDD-0EBB-4743-B35C-95BE4D5D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E7A78-4BDF-45E0-8F41-44D94248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18D8F1-D10B-46BB-B6AC-E494C3BC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3C43BF-2E9B-47B9-B54E-28C2C4AB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3079F3-34E2-4C5C-A843-A630A0C1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750902-4DE2-47EC-9CB2-5C66EEFC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881B42-8F3E-43B0-9F25-7969D181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17BB0B-5C52-436F-8075-6ADF4AB8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2E0B90-4C57-4BBC-8EBA-B063933B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02FB65-184A-48C1-B47E-8D8DF011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33799B-454B-4696-A1CE-51050F8B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1815B7-7B0D-4C3E-8206-95CEFE65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C61E09-04BC-4222-89E8-615AB8ED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A4B41D-D2AF-4101-B00B-981509D7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91B56C-ACFB-4B12-9735-6F6541F7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D567C0-7A10-4A79-8CCF-82FD45FB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EACD75-D514-4A87-956B-08D83001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D24B64-A6B2-463C-9694-E752BDC4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D72E20-D7F8-40F7-9E9E-995E644E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5FBFC6-352C-4B9A-A1F7-AD5D01B1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9FE602-8275-4F0A-B9EC-872E925B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7AD066-C133-4786-99F9-7881AFB4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DB1A01-BC4F-4601-9ED3-4F5FDA79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2E1A8C-6C14-452A-8431-F3C52E36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1F27C9-6237-4BCA-85EA-723BB282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21B724-7DAC-4F91-8871-30AD721C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FB7578-C126-4A9E-B72A-5E6275A6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953D5B-3D23-40A4-8DAA-2F0B04C2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14007F-C673-40B9-A9CF-36EF19E6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A730AF-5E51-42F6-B6C3-F2CBD2B0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123BE1-967C-4A55-96A3-28C74264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21B956-B5D7-49CF-A4A3-031965C9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5CF982-15F7-463D-9000-FC99E33C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AE2DCE-4852-4896-94E7-2F918592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3D04E8-31D6-4DB5-BBD8-490BDF9C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B521E9-841C-491F-BF70-195653C1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713BF8-33AE-486F-A9E4-2BF630AA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1A5649-19E1-405B-9821-C3193F67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17E0B4-6F2F-4C64-A681-DBCB9BF1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3C968C-2C56-48BD-8E92-30A7CEBD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7CC8C0-BDCF-40C8-B6C6-1C7E571C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4E2EC0-258D-4CEA-AFA8-092B3A5C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E337E1-4C97-43EB-9BF0-0CED7908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9ADC8C-0D73-4A3E-B82E-16355E4C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F7CA02-B292-497E-A12A-32E18B1E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EC0092-27CC-4239-9C6E-5AE9A824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383B4A-93E3-40D8-80FF-4A10DBEE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952AB9-605B-4EC2-A271-0F1AB46B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6BDFAF-E7FC-4DF8-A2CD-2ABB967F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946A1A-F3D8-4D34-B194-FB468F2C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9A3EB-0B65-4D28-A5C8-050ADEA6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2BDF5-A446-4FDC-9ADB-4C56EBF7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D5337-780A-4E74-B334-13F7EBEF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007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3c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18040" y="6173640"/>
            <a:ext cx="167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rcRect l="3543" t="85551" r="55690" b="3986"/>
          <a:stretch/>
        </p:blipFill>
        <p:spPr>
          <a:xfrm>
            <a:off x="684360" y="6046920"/>
            <a:ext cx="30956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7534-42C1-436B-BB87-15B682F1C01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F06D-E2FD-45D7-A181-790B1073437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3E8F-F0D2-4002-8E27-4614BB7DBB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9A97-4358-42B3-813F-096AAC5A71E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D900-0627-43B8-AAA3-71B7408B09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31EA-E573-43CF-A13F-C81CCC561CC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4F48-8F05-4B0B-984C-00E88437BC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C60E-143D-45BC-844C-823B64F74C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4F53-3C97-421E-8D7E-FE84DAD7CD8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6B34-1333-4E28-AB6B-2872DA4E82E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AE31-DE69-4989-AC12-717082FA0D2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715E-5ABB-4B1D-B75B-06F5F693A7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ceonline.org/research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mclean@ufi.com" TargetMode="External"/><Relationship Id="rId2" Type="http://schemas.openxmlformats.org/officeDocument/2006/relationships/hyperlink" Target="http://www.twitter.com/helenmilner" TargetMode="External"/><Relationship Id="rId3" Type="http://schemas.openxmlformats.org/officeDocument/2006/relationships/hyperlink" Target="http://www.twitter.com/helenmilner" TargetMode="External"/><Relationship Id="rId4" Type="http://schemas.openxmlformats.org/officeDocument/2006/relationships/hyperlink" Target="mailto:kmclean@ufi.com" TargetMode="External"/><Relationship Id="rId5" Type="http://schemas.openxmlformats.org/officeDocument/2006/relationships/hyperlink" Target="http://www.go-on.co.uk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691560" y="685800"/>
            <a:ext cx="49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Section Divider: Heading intro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0" y="-2844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230040" y="2701800"/>
            <a:ext cx="874080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Internet use in t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he</a:t>
            </a: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 UK: the evid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June 201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Kevin McLea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336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Who doesn’t use the internet? (contd)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44144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c3c72"/>
                </a:solidFill>
                <a:latin typeface="Arial"/>
              </a:rPr>
              <a:t>Ofcom shows age and socioeconomic group are significant:</a:t>
            </a: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c3c72"/>
                </a:solidFill>
                <a:latin typeface="Arial"/>
              </a:rPr>
              <a:t>20% drop in internet use from national average among those in social group DE</a:t>
            </a: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c3c72"/>
                </a:solidFill>
                <a:latin typeface="Arial"/>
              </a:rPr>
              <a:t>Close to half of non-users are aged 65 and over</a:t>
            </a: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c3c72"/>
                </a:solidFill>
                <a:latin typeface="Arial"/>
              </a:rPr>
              <a:t>Close to half of non-users are in socioeconomic group DE</a:t>
            </a: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63" name="TextBox 3"/>
          <p:cNvSpPr/>
          <p:nvPr/>
        </p:nvSpPr>
        <p:spPr>
          <a:xfrm>
            <a:off x="1774800" y="49467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Four major factors to not using the internet are age, socio-economic group, disability, and gender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Why don’t people use the internet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1980720"/>
            <a:ext cx="777240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Two key barriers are: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Lack of interest (64% of those who don’t intend to get the internet at home gave this reason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Cost (23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68" name="TextBox 3"/>
          <p:cNvSpPr/>
          <p:nvPr/>
        </p:nvSpPr>
        <p:spPr>
          <a:xfrm>
            <a:off x="1774800" y="49467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Hooks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727200" y="1576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The three main ‘hooks’ for non-users in terms of activities are: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buClr>
                <a:srgbClr val="1c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Emailing (16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buClr>
                <a:srgbClr val="1c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Uploading photos (15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buClr>
                <a:srgbClr val="1c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Online shopping (13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71" name="TextBox 4"/>
          <p:cNvSpPr/>
          <p:nvPr/>
        </p:nvSpPr>
        <p:spPr>
          <a:xfrm>
            <a:off x="833400" y="50133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Chart 3" descr=""/>
          <p:cNvPicPr/>
          <p:nvPr/>
        </p:nvPicPr>
        <p:blipFill>
          <a:blip r:embed="rId1"/>
          <a:stretch/>
        </p:blipFill>
        <p:spPr>
          <a:xfrm>
            <a:off x="152280" y="274680"/>
            <a:ext cx="8839440" cy="5937120"/>
          </a:xfrm>
          <a:prstGeom prst="rect">
            <a:avLst/>
          </a:prstGeom>
          <a:ln w="0">
            <a:noFill/>
          </a:ln>
        </p:spPr>
      </p:pic>
      <p:sp>
        <p:nvSpPr>
          <p:cNvPr id="573" name="TextBox 5"/>
          <p:cNvSpPr/>
          <p:nvPr/>
        </p:nvSpPr>
        <p:spPr>
          <a:xfrm>
            <a:off x="1598760" y="116064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60520" y="301680"/>
            <a:ext cx="77724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% of adult who have ever used the internet, by region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3998880" y="6119640"/>
            <a:ext cx="47610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Chart 6" descr=""/>
          <p:cNvPicPr/>
          <p:nvPr/>
        </p:nvPicPr>
        <p:blipFill>
          <a:blip r:embed="rId1"/>
          <a:stretch/>
        </p:blipFill>
        <p:spPr>
          <a:xfrm>
            <a:off x="328680" y="1231920"/>
            <a:ext cx="8821800" cy="54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631440" y="1333440"/>
            <a:ext cx="79758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Only 2% of UK adults use only an alternative device to a PC or laptop to go online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1007a"/>
                </a:solidFill>
                <a:latin typeface="Arial"/>
              </a:rPr>
              <a:t>(Note: This is use of an alternative as their </a:t>
            </a:r>
            <a:r>
              <a:rPr b="1" lang="en-GB" sz="2400" spc="-1" strike="noStrike" u="sng">
                <a:solidFill>
                  <a:srgbClr val="e1007a"/>
                </a:solidFill>
                <a:uFillTx/>
                <a:latin typeface="Arial"/>
              </a:rPr>
              <a:t>only </a:t>
            </a:r>
            <a:r>
              <a:rPr b="0" lang="en-GB" sz="2400" spc="-1" strike="noStrike">
                <a:solidFill>
                  <a:srgbClr val="e1007a"/>
                </a:solidFill>
                <a:latin typeface="Arial"/>
              </a:rPr>
              <a:t>means of going online)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1774800" y="49467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655560" y="1025280"/>
            <a:ext cx="793440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Internet users are more likely to have interaction with government or their local council offline (71%) than online (65%).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Only 54% of UK adults have ever used an online government service (eg website, email, app etc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1592280" y="478152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671040" y="873000"/>
            <a:ext cx="79628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82% of internet users say they have saved money in the last six months by using the internet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with 46% saying they’ve made significant savings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1774800" y="494676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685800" y="1337760"/>
            <a:ext cx="77724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e1007a"/>
                </a:solidFill>
                <a:latin typeface="Arial"/>
              </a:rPr>
              <a:t>Around half of internet users have some concerns about providing personal information online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1411200" y="4600440"/>
            <a:ext cx="599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3c72"/>
                </a:solidFill>
                <a:latin typeface="Arial"/>
              </a:rPr>
              <a:t>Source: Ofcom </a:t>
            </a: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UK Adults’ Media Literacy Report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03440" y="617040"/>
            <a:ext cx="7772400" cy="30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007a"/>
                </a:solidFill>
                <a:latin typeface="Arial"/>
              </a:rPr>
              <a:t>If all UK digitally excluded adults got online and made one digital contact each month, this would save the Government £900 million per year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PwC &amp; Martha Lane Fox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raceonline.org/research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October 2009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85720" y="21240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1007a"/>
                </a:solidFill>
                <a:latin typeface="Arial"/>
              </a:rPr>
              <a:t>UK online centres</a:t>
            </a:r>
            <a:endParaRPr b="1" lang="en-US" sz="36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674640" y="1677960"/>
            <a:ext cx="71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620640" y="1784520"/>
            <a:ext cx="776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507960" y="968400"/>
            <a:ext cx="8450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4000 member centres, covering 84% of England’s most deprived areas. Locations inclu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Community centres including in social hou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Schools, Surestart and Children’s cen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S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Old people’s homes and Sheltered 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Mosques, churches, religious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Fa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P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Homeless shelters and host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…. Lots of going out to people where they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63" descr=""/>
          <p:cNvPicPr/>
          <p:nvPr/>
        </p:nvPicPr>
        <p:blipFill>
          <a:blip r:embed="rId1"/>
          <a:stretch/>
        </p:blipFill>
        <p:spPr>
          <a:xfrm>
            <a:off x="1463760" y="1279440"/>
            <a:ext cx="7265880" cy="42674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64"/>
          <p:cNvSpPr/>
          <p:nvPr/>
        </p:nvSpPr>
        <p:spPr>
          <a:xfrm>
            <a:off x="395280" y="587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*There were over 4000 partner centres by Mar 20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65"/>
          <p:cNvSpPr/>
          <p:nvPr/>
        </p:nvSpPr>
        <p:spPr>
          <a:xfrm>
            <a:off x="1476360" y="333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lationship with Job centre 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Box 68"/>
          <p:cNvSpPr/>
          <p:nvPr/>
        </p:nvSpPr>
        <p:spPr>
          <a:xfrm>
            <a:off x="5219640" y="59500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urce: 2010-11 Centre satisfaction 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85720" y="21240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1007a"/>
                </a:solidFill>
                <a:latin typeface="Arial"/>
              </a:rPr>
              <a:t>So.....</a:t>
            </a:r>
            <a:endParaRPr b="1" lang="en-US" sz="36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674640" y="1677960"/>
            <a:ext cx="71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620640" y="1784520"/>
            <a:ext cx="776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507960" y="968400"/>
            <a:ext cx="845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Must be right to move social security on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But there is a significant challenge in moving people online, and then a further challenge in getting them comfortable enough to interact with Government on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It won’t happen by accident, but the good news is there are great examples to build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54040" y="853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Thank You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3377880"/>
            <a:ext cx="64008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mclean@ufi.com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tter: @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kevinamclean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go-on.co.uk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007a"/>
                </a:solidFill>
                <a:latin typeface="Arial"/>
              </a:rPr>
              <a:t>The divide between the online and the offline is deepening</a:t>
            </a:r>
            <a:endParaRPr b="1" lang="en-US" sz="3600" spc="-1" strike="noStrike">
              <a:solidFill>
                <a:srgbClr val="e1007a"/>
              </a:solidFill>
              <a:latin typeface="Arial"/>
            </a:endParaRPr>
          </a:p>
        </p:txBody>
      </p:sp>
      <p:pic>
        <p:nvPicPr>
          <p:cNvPr id="545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8332920" cy="595620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4"/>
          <p:cNvSpPr/>
          <p:nvPr/>
        </p:nvSpPr>
        <p:spPr>
          <a:xfrm>
            <a:off x="3803040" y="5913360"/>
            <a:ext cx="52952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c3c72"/>
                </a:solidFill>
                <a:latin typeface="Arial"/>
              </a:rPr>
              <a:t>Percentage population use of th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c3c72"/>
                </a:solidFill>
                <a:latin typeface="Arial"/>
              </a:rPr>
              <a:t>Source: ONS 20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7296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007a"/>
                </a:solidFill>
                <a:latin typeface="Arial"/>
              </a:rPr>
              <a:t>About the datasets referred to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440" y="1305000"/>
            <a:ext cx="838692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A new series of quarterly releases: Internet use by adults aged 16+. 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The source of the information is the Labour Force Survey. Sample size: 50,000 households, c. 110,000 people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ONS has begun publishing quarterly data on Internet users and non-users, enabling more timely information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c72"/>
                </a:solidFill>
                <a:latin typeface="Arial"/>
              </a:rPr>
              <a:t>UK Adults’ Media Literacy Report, Ofcom 2011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Bi-annual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c72"/>
                </a:solidFill>
                <a:latin typeface="Arial"/>
              </a:rPr>
              <a:t>Sample size of 2,117</a:t>
            </a:r>
            <a:endParaRPr b="0" lang="en-US" sz="2400" spc="-1" strike="noStrike">
              <a:solidFill>
                <a:srgbClr val="1c3c72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8.7 million adults have never used the internet – 17.5% of the population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0" name="TextBox 4"/>
          <p:cNvSpPr/>
          <p:nvPr/>
        </p:nvSpPr>
        <p:spPr>
          <a:xfrm>
            <a:off x="1765440" y="442116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144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40.8 million adults used the internet every day – 82.2 per cent of the population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1765440" y="442116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Who uses the internet?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95.3% + of people aged under 35-44 (and 99% of 16-24 year olds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85% of men, compared with 80% of women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People in London &amp; the South of England (85.6%)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1765440" y="478296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Content Placeholder 4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624880" cy="6608880"/>
          </a:xfrm>
          <a:prstGeom prst="rect">
            <a:avLst/>
          </a:prstGeom>
          <a:ln w="0">
            <a:noFill/>
          </a:ln>
        </p:spPr>
      </p:pic>
      <p:sp>
        <p:nvSpPr>
          <p:cNvPr id="557" name="TextBox 6"/>
          <p:cNvSpPr/>
          <p:nvPr/>
        </p:nvSpPr>
        <p:spPr>
          <a:xfrm>
            <a:off x="3265560" y="49536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71600" y="24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1007a"/>
                </a:solidFill>
                <a:latin typeface="Arial"/>
              </a:rPr>
              <a:t>Who doesn’t use the internet?</a:t>
            </a:r>
            <a:endParaRPr b="1" lang="en-US" sz="3200" spc="-1" strike="noStrike">
              <a:solidFill>
                <a:srgbClr val="e1007a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440" y="1441080"/>
            <a:ext cx="81550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5.1m women have never used the internet, compared with 3.6m men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Only 17% of women aged 75+ have used the internet, compared with 33% of men aged 75+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4.2m disabled adults – almost half of all those who have never used the internet, or 1 in 3 of disabled people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3c72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3c72"/>
                </a:solidFill>
                <a:latin typeface="Arial"/>
              </a:rPr>
              <a:t>29.3% of people in Northern Ireland and 22.7% of people in NE England</a:t>
            </a: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3c72"/>
              </a:solidFill>
              <a:latin typeface="Arial"/>
            </a:endParaRPr>
          </a:p>
        </p:txBody>
      </p:sp>
      <p:sp>
        <p:nvSpPr>
          <p:cNvPr id="560" name="TextBox 5"/>
          <p:cNvSpPr/>
          <p:nvPr/>
        </p:nvSpPr>
        <p:spPr>
          <a:xfrm>
            <a:off x="3693960" y="6135840"/>
            <a:ext cx="51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c72"/>
                </a:solidFill>
                <a:latin typeface="Arial"/>
              </a:rPr>
              <a:t>Internet Access Quarterly Update, ONS 2011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6:43:53Z</dcterms:created>
  <dc:creator>Matt Richmond</dc:creator>
  <dc:description/>
  <dc:language>en-US</dc:language>
  <cp:lastModifiedBy>IT Services</cp:lastModifiedBy>
  <dcterms:modified xsi:type="dcterms:W3CDTF">2011-07-06T11:31:36Z</dcterms:modified>
  <cp:revision>152</cp:revision>
  <dc:subject/>
  <dc:title>PowerPoint Presentation</dc:title>
</cp:coreProperties>
</file>