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C01-3E10-46C0-900D-B78BFCE697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8B76-88F1-4715-A6AA-B03CBB316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7344-7458-4D96-AE19-C9041E81A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ming research effectively and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ir expertise in conjunction with campaigning organisations to achieve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er and more transparent commissioning from Char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 wins vs. longer academic research. What do we want the housing system to look like – taking the time to ask the bigger ques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itutional repositories – free open access to improve ci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ertising conferences and making papers avail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98D-0A4B-4CE3-9F49-820C84144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08C-02F3-4125-A6A0-DE82C7B04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BAB-344C-48A6-ACEB-C6557074A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overview of our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ervices in supporting our research and campaig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case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evaluation – what works, emerging trend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F5CB-C1BA-4C4B-8BEF-40CFFE420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roles of the various teams. Research and policy development (inc. developing relationsh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o dissemination – and the different audiences re: Campaigns, Media, and Public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ace our own challenges re: longer term research vs. more immediate analysis to respond to media and political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CC1-0E72-41AB-ADFC-FC364DCF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ever – the requirement for robust research underpins all of our messaging – particularly important in the current environment re: making the case for housing and associated support services. We expect to be challenged and it is critical that we can stand by our public announc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iculty in finding evidence to counter Government Impact Assessments – particularly where assumptions appear to be spu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overnment cuts to data monitoring and reporting plus the end of many statutory obligations of LAs are likely to make this even more challeng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4AC-0DE1-4AA3-92E0-73D271F20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range of outputs we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etailed policy and research reports to single issues for press releases and simple campaigning as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YouGov surveys to Longitudinal studies – Big Lottery Funded 3 yr project on the experiences of people in the private rente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e for Shelter to pro-actively engage and develop relationships – important for the broader context surrounding our work and being aware of emerging developments. Our Chair is a housing academic from Sheffie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and third bullets provide robustness to our work – but set within the context of what our ongoing work and current priorities (e.g. Housing Investment parts 1 &amp; 2, Cambridge Uni Assessment of HB Cuts, current work looking at issues re: housing problems and advice seeking behavi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challenge relates to the final point – which I’ll come o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FDD6-6492-4378-951D-0F01E874C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562-F5D4-4C6B-B5DF-31AE5F244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examples include an international comparator study of different approaches to social housing undertaken by Herriot Watt – providing some strong examples to inform our policy development around security of ten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E821-445A-4B26-9C7E-ABB0EB071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581-0975-4AB0-9F6A-323B19DE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775-F8C3-49B4-B1C7-29B04D7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31-9FC7-4262-8627-5C9848B6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30C-05B2-4683-AA9C-8EE2F01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96A-14D5-41C1-989A-E2522A9F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FCD-A696-4A25-BEA4-352481C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21B-7105-4FC6-8C09-ACD390F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EAC-2D6C-493A-BC78-EF76D8D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2DD-A7BA-4C44-BE0F-EA767B5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E01-1B82-4E5F-B3A8-B6C42F0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441-0B87-4659-9888-D917C02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308-3041-4E3F-BCC8-D5298FC1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C108-13E2-4F52-ACAF-48B37D6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E91-BC13-4100-A0EA-BE34C9C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DD79-A362-4509-BB08-0E3C04B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0B26-6739-4641-9235-F8C10294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3FE-D1F6-44C6-9FDA-E275DFB9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6E8-0DA7-451F-B53F-61014C7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B46A-EADD-4ECE-8CD8-6375C56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0D06-EE9B-45CC-AACF-791EFD2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677A-0E7A-4E84-96B2-2E0A5AA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59D-0CC2-426C-8845-E5128D2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B43-78B0-4039-8BA9-8323FE19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FDC7-65C5-4A30-942A-6CA24177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B000-E8C3-4EFF-9C01-6AA4B4FD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DDDC-1242-48CE-B932-7237474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6C91-E71E-4F0D-AC0C-AB91931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C4ED-54B5-4911-8822-6A09CC96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C721-E054-40A1-9877-BF48088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A19F-6A0C-470A-ADA2-FA89157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A359-88D2-41F3-831C-076D282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C97D-87A6-4742-8D79-DEE5B4D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2AA5-17B6-4E4B-81CE-BB7AE40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9C30-C90C-424B-8DB7-8AB6BC87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2152-1EC1-4E88-B012-8E21C0B9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C6FE-FED7-4714-9BFB-EA7318EA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1F9A-E1BD-41C7-8E00-B7D7B353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567F-65F6-4322-AC16-D8C61B9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AC2F-1B16-4D1F-B5DE-8D42C3E9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ABB3-665A-4101-8B2C-4C377449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2959-8918-492F-AA49-2F134698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1B09-C397-4FBA-BF1E-444AF7E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BAB4-4650-4A2E-B9D0-8097636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D5F3-E56A-4DC6-A139-7AC4E74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A1BC-6018-44B1-B45B-BB68617C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74828-684C-4CAA-99C2-0D08B14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2FCD-8575-4DE1-A434-766DC46B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BB29-E260-43BD-9FEB-7E3DAE3D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23F8-92DC-4B1B-ACDA-DC185E8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0FD4-7C2C-4EC9-8BB1-6AE48A65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762F-DA79-405D-BC54-5B9C1600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227F-2C16-4A09-A626-456CD781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4300-A061-4ACC-A2D5-9186F0A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5683-9BA1-4E14-BBAC-7CA6444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77A1-CC81-42F3-A167-05E0A7C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15F9-2AB4-4761-899A-FD557DA7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CC5F-F4EB-4DB3-AC22-375E743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671D1-C70B-4744-824F-65769AF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CD74-16EE-4A60-A3CB-D7806440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7D4A-E493-47CE-96E3-26A5A120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153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586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374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939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80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374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939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86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825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1" descr="Shelter_white"/>
          <p:cNvPicPr/>
          <p:nvPr/>
        </p:nvPicPr>
        <p:blipFill>
          <a:blip r:embed="rId3"/>
          <a:stretch/>
        </p:blipFill>
        <p:spPr>
          <a:xfrm>
            <a:off x="7391520" y="152280"/>
            <a:ext cx="160956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8FEA-9DF6-4F4E-A22D-028C3CC11A3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514-1473-4241-B2F5-14BC401FA6B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104-47AD-477F-97A7-0A78046A375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A300-9A87-421B-9EC1-30E7A3B7BE2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3D6-04B1-4F2F-8794-D89DA07E366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Shelter_white"/>
          <p:cNvPicPr/>
          <p:nvPr/>
        </p:nvPicPr>
        <p:blipFill>
          <a:blip r:embed="rId3"/>
          <a:stretch/>
        </p:blipFill>
        <p:spPr>
          <a:xfrm>
            <a:off x="7391520" y="152280"/>
            <a:ext cx="1609560" cy="420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825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3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 June 201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aniel Lindsa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Impacts and Social Ac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Shelter_WEB"/>
          <p:cNvPicPr/>
          <p:nvPr/>
        </p:nvPicPr>
        <p:blipFill>
          <a:blip r:embed="rId1"/>
          <a:stretch/>
        </p:blipFill>
        <p:spPr>
          <a:xfrm>
            <a:off x="3962520" y="5273640"/>
            <a:ext cx="48765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Academic awareness of the policy environ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ur awareness of research program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stilling research findings into clear messag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larity on (potential) broader implic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Widening access to academic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hink pieces to test ide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Knowledge exchan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learer and more transparent commissioning from Charitie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Everyone should have a hom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Shelter_WEB"/>
          <p:cNvPicPr/>
          <p:nvPr/>
        </p:nvPicPr>
        <p:blipFill>
          <a:blip r:embed="rId1"/>
          <a:stretch/>
        </p:blipFill>
        <p:spPr>
          <a:xfrm>
            <a:off x="3962520" y="5273640"/>
            <a:ext cx="48765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ision and Aim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helter believes everyone should have a home. We help people find and keep a home. We campaign for decent housing for 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Make sure that people in housing need can access and keep a hom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Drive up the supply of affordable homes in places where people can thr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Servic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10/11, 89,300 clients received advice and/or support from Shelter’s services in Eng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national network of over 40 advice and support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elter's free housing advice help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CLG-funded National Homelessness Advice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cialist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elter's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Campaig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353880" y="1957320"/>
            <a:ext cx="8199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Getting our case hear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he importance of robust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hallenge Government decisions not based on robust evid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Highlight the impact on househol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ovide a voice for those affect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Tactics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Diagram 6" descr=""/>
          <p:cNvPicPr/>
          <p:nvPr/>
        </p:nvPicPr>
        <p:blipFill>
          <a:blip r:embed="rId1"/>
          <a:stretch/>
        </p:blipFill>
        <p:spPr>
          <a:xfrm>
            <a:off x="884160" y="1695600"/>
            <a:ext cx="70279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ngaging with housing expert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oject Advisory Bo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issioned independent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Academic papers and outpu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: Examp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0520" y="2205000"/>
            <a:ext cx="400068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act of Housing Benefits c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dependent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gnificant press cove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ely research and pub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http://static.guim.co.uk/sys-images/Guardian/Pix/pictures/2010/11/8/1289211093574/Housing-benefit-changes-i-007.jpg"/>
          <p:cNvPicPr/>
          <p:nvPr/>
        </p:nvPicPr>
        <p:blipFill>
          <a:blip r:embed="rId1"/>
          <a:srcRect l="10558" t="0" r="10249" b="0"/>
          <a:stretch/>
        </p:blipFill>
        <p:spPr>
          <a:xfrm>
            <a:off x="4557600" y="1676520"/>
            <a:ext cx="39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Shelter and Academia: Taking Stock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19840" cy="3567240"/>
          </a:xfrm>
          <a:prstGeom prst="rect">
            <a:avLst/>
          </a:prstGeom>
          <a:ln w="0">
            <a:noFill/>
          </a:ln>
        </p:spPr>
      </p:pic>
      <p:sp>
        <p:nvSpPr>
          <p:cNvPr id="312" name="Content Placeholder 6"/>
          <p:cNvSpPr/>
          <p:nvPr/>
        </p:nvSpPr>
        <p:spPr>
          <a:xfrm>
            <a:off x="380880" y="5421240"/>
            <a:ext cx="8151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ngevity of research findings to inform futur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32:10Z</dcterms:created>
  <dc:creator>daniel_lindsay</dc:creator>
  <dc:description/>
  <dc:language>en-US</dc:language>
  <cp:lastModifiedBy>IT Services</cp:lastModifiedBy>
  <cp:lastPrinted>2004-06-20T20:54:26Z</cp:lastPrinted>
  <dcterms:modified xsi:type="dcterms:W3CDTF">2011-06-15T15:11:31Z</dcterms:modified>
  <cp:revision>41</cp:revision>
  <dc:subject/>
  <dc:title>Everyone should have a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lourisation">
    <vt:lpwstr>Alison Blanchard (volunteer)</vt:lpwstr>
  </property>
  <property fmtid="{D5CDD505-2E9C-101B-9397-08002B2CF9AE}" pid="3" name="Original design">
    <vt:lpwstr>Gavin Micklethwaite</vt:lpwstr>
  </property>
  <property fmtid="{D5CDD505-2E9C-101B-9397-08002B2CF9AE}" pid="4" name="Owner">
    <vt:lpwstr>Richard Swingler</vt:lpwstr>
  </property>
  <property fmtid="{D5CDD505-2E9C-101B-9397-08002B2CF9AE}" pid="5" name="Shelter">
    <vt:lpwstr>Shelter</vt:lpwstr>
  </property>
  <property fmtid="{D5CDD505-2E9C-101B-9397-08002B2CF9AE}" pid="6" name="Template">
    <vt:lpwstr>Martin Wiesner (contractor)</vt:lpwstr>
  </property>
</Properties>
</file>