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C3CF-4D6D-4355-BF32-191B8DD078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5683-AAA1-4163-9DCB-B81AB830A9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0011-3153-499B-B9BD-AF61A4DF45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aming research effectively and m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their expertise in conjunction with campaigning organisations to achieve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earer and more transparent commissioning from Chari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rt wins vs. longer academic research. What do we want the housing system to look like – taking the time to ask the bigger ques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itutional repositories – free open access to improve cit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ertising conferences and making papers avail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BE39-0846-42C9-A2D6-FDFF56004D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A2C6-63D1-4AC8-B67A-51FE7E78B5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DE5D-0784-40C9-AD99-FFA4A83B81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overview of our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ervices in supporting our research and campaig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s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case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evaluation – what works, emerging trends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1FEF-A8C3-412A-945E-0B0E5A7FF2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roles of the various teams. Research and policy development (inc. developing relationshi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 to dissemination – and the different audiences re: Campaigns, Media, and Public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ace our own challenges re: longer term research vs. more immediate analysis to respond to media and political co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A88F-7E5B-4997-945C-68A56409C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owever – the requirement for robust research underpins all of our messaging – particularly important in the current environment re: making the case for housing and associated support services. We expect to be challenged and it is critical that we can stand by our public announc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fficulty in finding evidence to counter Government Impact Assessments – particularly where assumptions appear to be spur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vernment cuts to data monitoring and reporting plus the end of many statutory obligations of LAs are likely to make this even more challeng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E668-2461-4DBD-8D15-94E2553683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 range of outputs we 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etailed policy and research reports to single issues for press releases and simple campaigning as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YouGov surveys to Longitudinal studies – Big Lottery Funded 3 yr project on the experiences of people in the private rented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le for Shelter to pro-actively engage and develop relationships – important for the broader context surrounding our work and being aware of emerging developments. Our Chair is a housing academic from Sheffie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ond and third bullets provide robustness to our work – but set within the context of what our ongoing work and current priorities (e.g. Housing Investment parts 1 &amp; 2, Cambridge Uni Assessment of HB Cuts, current work looking at issues re: housing problems and advice seeking behavio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challenge relates to the final point – which I’ll come ont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E4E4-D186-4270-A286-4B725C7651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AB87-1179-45ED-B122-FD2D7B3ABF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examples include an international comparator study of different approaches to social housing undertaken by Herriot Watt – providing some strong examples to inform our policy development around security of ten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7713-D188-45C5-BB41-5EE9682AB7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3740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39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3740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39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2510-68FF-4724-8DB3-364ED3AA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FD7-6C3B-42D7-96EE-65F1E081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2335-6532-4892-BEC1-26519B7B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2D4-F0DD-47A4-9143-94F24273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BE8-B755-41D2-8BCD-303213CB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1536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044-5ED5-4977-AED2-791F9F34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2D6-8A91-484D-9D72-BED3361D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8F48-2115-430B-93CE-C1271463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42DF-229C-484B-9B2F-774B5DA6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8AC-7005-4217-92F2-3FAFC62B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BCDA-F40A-43FA-9239-9D117185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40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939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5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40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939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F7B-478A-4376-8935-39ED711D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35D1-5B6D-4EEC-9FE3-45FD7370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F4E2-506A-4B89-9E20-34660F5F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64A1-D634-42F6-B5FC-F604D79C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7FFD-26E1-47F7-AB91-9415F234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86AE-DC3D-481F-8E05-A6248743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1536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9045-260B-4145-B2EF-AB873EC8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196E-892A-4F75-8633-98F7DE10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6326-B666-4C8E-9D72-623DFEF0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2EE5-608B-4E51-A5C4-37F6BBE2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C40E-35D1-4CE6-83D4-A3E30BDD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4682-3085-4A30-B893-9BE99674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3740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939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805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3740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8939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7C16-3F69-4FE0-94EE-E0F4A702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C188E-F711-46F8-9ECB-71BB8299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7DAD4-240C-4BFB-894F-2E61098F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F0B49-9D97-4AF2-9B50-BDDB3C2E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3CC67-A693-4936-B329-825D7438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05187-FFD9-4F37-9224-BD286564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1536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93A0A-6BF0-4403-9819-40CAF74A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D9E41-4669-4F65-96E9-4FA11FAD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5C0B6-F2E2-4B49-B20C-CB055505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83989-2E53-4FA2-895D-FD2CB59B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3BF98-2936-4027-BD31-94DE86EF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AF8AD-C2E5-4D48-8D49-CC4BB535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3740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8939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805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3740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8939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29F53-7DDD-46AE-A42C-A4EA78E7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22B63-C34F-4C79-90F1-72842C68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1712C-ADD7-48BD-B323-028765F8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93202-F5D6-47D7-9F10-6EAA8CEC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6EF18-C885-4767-884A-50AACCDB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22CEC-DB6A-4621-BBD9-67AE5B51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1536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E05C7-9FD2-4293-8615-2030CF24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8456B-741E-41A4-9D33-6D7A61B6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91B05-7B72-4933-B737-2C6F8276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C24AB-9CCF-474B-A477-39213FC7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6466E-2E96-488D-991D-1794691F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508F2-7E90-400D-B146-7DD512C0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1536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3740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939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805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3740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8939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11254-01EA-4A99-9DD6-132AD1C2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8A959-1512-48B1-932F-71FA40C1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A07B3-D67E-4D89-9F0A-B4B9A07C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8ACCD-0F78-47B4-AF04-B289FB84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15D43-F2A0-4637-B991-DE96B720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6016B-B060-4AFC-8FF9-DB62443E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1536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6B7E0-7759-4B54-BF43-205B71EA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63059-91A2-49DE-8F04-CCFFB9C5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9D26C-ED46-4D96-A4DD-E3F68169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860E5-CD6F-4168-A972-68FF9232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814B1-351F-435B-8291-E3FCEE41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35E3C-1A82-4218-800B-C9372856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3740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8939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805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3740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8939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EAC7A-5E3C-4F74-BFD6-5A6F29F6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1536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3740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8939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805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13740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8939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825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1" descr="Shelter_white"/>
          <p:cNvPicPr/>
          <p:nvPr/>
        </p:nvPicPr>
        <p:blipFill>
          <a:blip r:embed="rId3"/>
          <a:stretch/>
        </p:blipFill>
        <p:spPr>
          <a:xfrm>
            <a:off x="7391520" y="152280"/>
            <a:ext cx="160956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CC3F-2129-47F8-BD7D-4AE98013B06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CB30-866E-41A3-A326-8EFCABC64AB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219D-02DD-4915-8A38-DBDA7C180D4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AE21-1D9C-488C-B92E-17A595256E7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010D-DA83-42AE-B67E-AA9110E9209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Shelter_white"/>
          <p:cNvPicPr/>
          <p:nvPr/>
        </p:nvPicPr>
        <p:blipFill>
          <a:blip r:embed="rId3"/>
          <a:stretch/>
        </p:blipFill>
        <p:spPr>
          <a:xfrm>
            <a:off x="7391520" y="152280"/>
            <a:ext cx="1609560" cy="4208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825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GB" sz="33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June 201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Daniel Lindsa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</a:rPr>
              <a:t>Impacts and Social Actio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6" descr="Shelter_WEB"/>
          <p:cNvPicPr/>
          <p:nvPr/>
        </p:nvPicPr>
        <p:blipFill>
          <a:blip r:embed="rId1"/>
          <a:stretch/>
        </p:blipFill>
        <p:spPr>
          <a:xfrm>
            <a:off x="3962520" y="5273640"/>
            <a:ext cx="487656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Academic awareness of the policy environ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Our awareness of research programm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Distilling research findings into clear messag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Clarity on (potential) broader implica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Widening access to academic researc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Think pieces to test idea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Knowledge exchang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Clearer and more transparent commissioning from Charities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</a:rPr>
              <a:t>Everyone should have a hom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9" descr="Shelter_WEB"/>
          <p:cNvPicPr/>
          <p:nvPr/>
        </p:nvPicPr>
        <p:blipFill>
          <a:blip r:embed="rId1"/>
          <a:stretch/>
        </p:blipFill>
        <p:spPr>
          <a:xfrm>
            <a:off x="3962520" y="5273640"/>
            <a:ext cx="487656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Vision and Aim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helter believes everyone should have a home. We help people find and keep a home. We campaign for decent housing for al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Make sure that people in housing need can access and keep a hom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Drive up the supply of affordable homes in places where people can thriv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Shelter Servic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2010/11, 89,300 clients received advice and/or support from Shelter’s services in Engla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national network of over 40 advice and support servi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helter's free housing advice help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CLG-funded National Homelessness Advice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pecialist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helter's webs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Shelter Campaig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Content Placeholder 3" descr=""/>
          <p:cNvPicPr/>
          <p:nvPr/>
        </p:nvPicPr>
        <p:blipFill>
          <a:blip r:embed="rId1"/>
          <a:stretch/>
        </p:blipFill>
        <p:spPr>
          <a:xfrm>
            <a:off x="353880" y="1957320"/>
            <a:ext cx="81997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Getting our case hear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The importance of robust researc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Challenge Government decisions not based on robust evidenc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Highlight the impact on household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Provide a voice for those affecte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Shelter Tactics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Diagram 6" descr=""/>
          <p:cNvPicPr/>
          <p:nvPr/>
        </p:nvPicPr>
        <p:blipFill>
          <a:blip r:embed="rId1"/>
          <a:stretch/>
        </p:blipFill>
        <p:spPr>
          <a:xfrm>
            <a:off x="884160" y="1695600"/>
            <a:ext cx="702792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Shelter and Academi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ngaging with housing expert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Project Advisory Board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Commissioned independent researc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Academic papers and outpu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Shelter and Academia: Exampl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0520" y="2205000"/>
            <a:ext cx="400068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pact of Housing Benefits cu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 independent 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ignificant press cover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mely research and pub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http://static.guim.co.uk/sys-images/Guardian/Pix/pictures/2010/11/8/1289211093574/Housing-benefit-changes-i-007.jpg"/>
          <p:cNvPicPr/>
          <p:nvPr/>
        </p:nvPicPr>
        <p:blipFill>
          <a:blip r:embed="rId1"/>
          <a:srcRect l="10558" t="0" r="10249" b="0"/>
          <a:stretch/>
        </p:blipFill>
        <p:spPr>
          <a:xfrm>
            <a:off x="4557600" y="1676520"/>
            <a:ext cx="3953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Shelter and Academia: Taking Stock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19840" cy="3567240"/>
          </a:xfrm>
          <a:prstGeom prst="rect">
            <a:avLst/>
          </a:prstGeom>
          <a:ln w="0">
            <a:noFill/>
          </a:ln>
        </p:spPr>
      </p:pic>
      <p:sp>
        <p:nvSpPr>
          <p:cNvPr id="312" name="Content Placeholder 6"/>
          <p:cNvSpPr/>
          <p:nvPr/>
        </p:nvSpPr>
        <p:spPr>
          <a:xfrm>
            <a:off x="380880" y="5421240"/>
            <a:ext cx="8151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ongevity of research findings to inform future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3:32:10Z</dcterms:created>
  <dc:creator>daniel_lindsay</dc:creator>
  <dc:description/>
  <dc:language>en-US</dc:language>
  <cp:lastModifiedBy>IT Services</cp:lastModifiedBy>
  <cp:lastPrinted>2004-06-20T20:54:26Z</cp:lastPrinted>
  <dcterms:modified xsi:type="dcterms:W3CDTF">2011-06-15T15:11:31Z</dcterms:modified>
  <cp:revision>41</cp:revision>
  <dc:subject/>
  <dc:title>Everyone should have a h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lourisation">
    <vt:lpwstr>Alison Blanchard (volunteer)</vt:lpwstr>
  </property>
  <property fmtid="{D5CDD505-2E9C-101B-9397-08002B2CF9AE}" pid="3" name="Original design">
    <vt:lpwstr>Gavin Micklethwaite</vt:lpwstr>
  </property>
  <property fmtid="{D5CDD505-2E9C-101B-9397-08002B2CF9AE}" pid="4" name="Owner">
    <vt:lpwstr>Richard Swingler</vt:lpwstr>
  </property>
  <property fmtid="{D5CDD505-2E9C-101B-9397-08002B2CF9AE}" pid="5" name="Shelter">
    <vt:lpwstr>Shelter</vt:lpwstr>
  </property>
  <property fmtid="{D5CDD505-2E9C-101B-9397-08002B2CF9AE}" pid="6" name="Template">
    <vt:lpwstr>Martin Wiesner (contractor)</vt:lpwstr>
  </property>
</Properties>
</file>