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8744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0560" y="153684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36468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8744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0560" y="3946680"/>
            <a:ext cx="2688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38040" y="399600"/>
            <a:ext cx="837576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42920" y="394668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2920" y="1536840"/>
            <a:ext cx="40741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4680" y="3946680"/>
            <a:ext cx="83487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8040" y="420840"/>
            <a:ext cx="83757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363600" y="6465960"/>
            <a:ext cx="38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6BF2-3ECA-4F5F-9833-3C4346871FF0}" type="slidenum">
              <a:rPr b="0" lang="en-US" sz="700" spc="-1" strike="noStrike">
                <a:solidFill>
                  <a:srgbClr val="7f7f7f"/>
                </a:solidFill>
                <a:latin typeface="Futura Bk"/>
              </a:rPr>
              <a:t>&lt;number&gt;</a:t>
            </a:fld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03360" y="6469200"/>
            <a:ext cx="50893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63600" y="6465960"/>
            <a:ext cx="38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1473-1CDB-4D81-9141-517AB54F2C01}" type="slidenum">
              <a:rPr b="0" lang="en-US" sz="700" spc="-1" strike="noStrike">
                <a:solidFill>
                  <a:srgbClr val="7f7f7f"/>
                </a:solidFill>
                <a:latin typeface="Futura Bk"/>
              </a:rPr>
              <a:t>&lt;number&gt;</a:t>
            </a:fld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9568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1144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28880" indent="-1749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8759880" y="6465960"/>
            <a:ext cx="330120" cy="33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603360" y="6469200"/>
            <a:ext cx="50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Futura Bk"/>
              </a:rPr>
              <a:t>©2011 Hewlett-Packard Development Company, L.P. The information contained herein is subject to change without notice</a:t>
            </a:r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63600" y="6465960"/>
            <a:ext cx="38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423-E5B8-4F73-BE7E-87275FC68818}" type="slidenum">
              <a:rPr b="0" lang="en-US" sz="700" spc="-1" strike="noStrike">
                <a:solidFill>
                  <a:srgbClr val="7f7f7f"/>
                </a:solidFill>
                <a:latin typeface="Futura Bk"/>
              </a:rPr>
              <a:t>&lt;number&gt;</a:t>
            </a:fld>
            <a:endParaRPr b="0" lang="en-US" sz="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7994520" y="1938240"/>
            <a:ext cx="1149480" cy="491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57120" y="50655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James Joh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Director of Strategy, Civil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utura Bk"/>
              </a:rPr>
              <a:t>HP Enterprise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6080" y="1146240"/>
            <a:ext cx="88279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5cfe9"/>
                </a:solidFill>
                <a:latin typeface="Futura Hv"/>
              </a:rPr>
              <a:t>Academic Impact</a:t>
            </a:r>
            <a:br>
              <a:rPr sz="4800"/>
            </a:br>
            <a:r>
              <a:rPr b="0" lang="en-US" sz="4800" spc="-1" strike="noStrike">
                <a:solidFill>
                  <a:srgbClr val="65cfe9"/>
                </a:solidFill>
                <a:latin typeface="Futura Hv"/>
              </a:rPr>
              <a:t>A business persp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Hewlett-Packard…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4680" y="1047240"/>
            <a:ext cx="834876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The world’s largest technology company by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Ships 1million printers per week, 48million PC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Operates in more than 170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Employs 300,000 people, more than 16,000 in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Supports 20,000 additional jobs in the UK through its distribution cha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Has more than $100bn annual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Is the largest supplier of IT services to the UK Public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Spends $3.5bn pa on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Has one of its five global research laboratories in Bris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11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Works in partnership with many UK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Our work helps a range of public sector organisations to develop &amp; implement policy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557280" y="2165400"/>
            <a:ext cx="7993080" cy="3490920"/>
            <a:chOff x="557280" y="2165400"/>
            <a:chExt cx="7993080" cy="3490920"/>
          </a:xfrm>
        </p:grpSpPr>
        <p:grpSp>
          <p:nvGrpSpPr>
            <p:cNvPr id="161" name="Group 18"/>
            <p:cNvGrpSpPr/>
            <p:nvPr/>
          </p:nvGrpSpPr>
          <p:grpSpPr>
            <a:xfrm>
              <a:off x="557280" y="3478320"/>
              <a:ext cx="7394400" cy="676080"/>
              <a:chOff x="557280" y="3478320"/>
              <a:chExt cx="7394400" cy="676080"/>
            </a:xfrm>
          </p:grpSpPr>
          <p:pic>
            <p:nvPicPr>
              <p:cNvPr id="162" name="Picture 14" descr="bwmodlogo"/>
              <p:cNvPicPr/>
              <p:nvPr/>
            </p:nvPicPr>
            <p:blipFill>
              <a:blip r:embed="rId1"/>
              <a:stretch/>
            </p:blipFill>
            <p:spPr>
              <a:xfrm>
                <a:off x="557280" y="3595680"/>
                <a:ext cx="259380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8" descr="nhslogo"/>
              <p:cNvPicPr/>
              <p:nvPr/>
            </p:nvPicPr>
            <p:blipFill>
              <a:blip r:embed="rId2"/>
              <a:stretch/>
            </p:blipFill>
            <p:spPr>
              <a:xfrm>
                <a:off x="6559560" y="3544920"/>
                <a:ext cx="139212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2" descr="mojlogo2"/>
              <p:cNvPicPr/>
              <p:nvPr/>
            </p:nvPicPr>
            <p:blipFill>
              <a:blip r:embed="rId3"/>
              <a:stretch/>
            </p:blipFill>
            <p:spPr>
              <a:xfrm>
                <a:off x="3652920" y="3478320"/>
                <a:ext cx="1801800" cy="67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Group 17"/>
            <p:cNvGrpSpPr/>
            <p:nvPr/>
          </p:nvGrpSpPr>
          <p:grpSpPr>
            <a:xfrm>
              <a:off x="666720" y="2165400"/>
              <a:ext cx="7488360" cy="657360"/>
              <a:chOff x="666720" y="2165400"/>
              <a:chExt cx="7488360" cy="657360"/>
            </a:xfrm>
          </p:grpSpPr>
          <p:pic>
            <p:nvPicPr>
              <p:cNvPr id="166" name="Picture 13" descr="bwfco"/>
              <p:cNvPicPr/>
              <p:nvPr/>
            </p:nvPicPr>
            <p:blipFill>
              <a:blip r:embed="rId4"/>
              <a:stretch/>
            </p:blipFill>
            <p:spPr>
              <a:xfrm>
                <a:off x="666720" y="2165400"/>
                <a:ext cx="2376360" cy="65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5" descr="bwhomelogo"/>
              <p:cNvPicPr/>
              <p:nvPr/>
            </p:nvPicPr>
            <p:blipFill>
              <a:blip r:embed="rId5"/>
              <a:stretch/>
            </p:blipFill>
            <p:spPr>
              <a:xfrm>
                <a:off x="6354720" y="2183040"/>
                <a:ext cx="1800360" cy="62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16" descr="bwdwplogo"/>
              <p:cNvPicPr/>
              <p:nvPr/>
            </p:nvPicPr>
            <p:blipFill>
              <a:blip r:embed="rId6"/>
              <a:stretch/>
            </p:blipFill>
            <p:spPr>
              <a:xfrm>
                <a:off x="3294000" y="2227320"/>
                <a:ext cx="252108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19"/>
            <p:cNvGrpSpPr/>
            <p:nvPr/>
          </p:nvGrpSpPr>
          <p:grpSpPr>
            <a:xfrm>
              <a:off x="954000" y="4811760"/>
              <a:ext cx="7596360" cy="844560"/>
              <a:chOff x="954000" y="4811760"/>
              <a:chExt cx="7596360" cy="844560"/>
            </a:xfrm>
          </p:grpSpPr>
          <p:pic>
            <p:nvPicPr>
              <p:cNvPr id="170" name="Picture 17" descr="bwniologo"/>
              <p:cNvPicPr/>
              <p:nvPr/>
            </p:nvPicPr>
            <p:blipFill>
              <a:blip r:embed="rId7"/>
              <a:stretch/>
            </p:blipFill>
            <p:spPr>
              <a:xfrm>
                <a:off x="954000" y="4811760"/>
                <a:ext cx="1800360" cy="84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9" descr="tfllogo"/>
              <p:cNvPicPr/>
              <p:nvPr/>
            </p:nvPicPr>
            <p:blipFill>
              <a:blip r:embed="rId8"/>
              <a:stretch/>
            </p:blipFill>
            <p:spPr>
              <a:xfrm>
                <a:off x="5959440" y="4832640"/>
                <a:ext cx="2590920" cy="80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6" descr="Post Office ®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>
                <a:off x="4060800" y="4861080"/>
                <a:ext cx="986040" cy="746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There are many reasons why academic relationships are important to us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38040" y="1585800"/>
            <a:ext cx="277488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Add</a:t>
            </a:r>
            <a:br>
              <a:rPr sz="3000"/>
            </a:b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Capability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7760" y="3232080"/>
            <a:ext cx="276516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Enable</a:t>
            </a:r>
            <a:br>
              <a:rPr sz="3000"/>
            </a:b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Collaboration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38040" y="4924440"/>
            <a:ext cx="277488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Enhance</a:t>
            </a:r>
            <a:br>
              <a:rPr sz="3000"/>
            </a:br>
            <a:r>
              <a:rPr b="0" lang="en-GB" sz="3000" spc="-1" strike="noStrike">
                <a:solidFill>
                  <a:srgbClr val="29568f"/>
                </a:solidFill>
                <a:latin typeface="Futura Bk"/>
              </a:rPr>
              <a:t>Credibility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05120" y="1585800"/>
            <a:ext cx="618336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Access to expertise we couldn’t hope to replicate in-hous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In support of our own research effort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“</a:t>
            </a: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Because they will use it for something we haven’t thought of, and it will break.”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Influencing what’s taught and how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805120" y="3232080"/>
            <a:ext cx="618336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o provide peer groups for our own researchers and subject matter expert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o allow us to work as part of the wider research communit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hrough our own Innovation Research Programm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805120" y="4924440"/>
            <a:ext cx="6183360" cy="14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Through academic independence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Facilitating contact with individuals and organisations who might otherwise prove hard to reach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37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568f"/>
                </a:solidFill>
                <a:latin typeface="Futura Bk"/>
              </a:rPr>
              <a:t>Underlining our status as an innovative company and a good corporate citize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47760" y="3160800"/>
            <a:ext cx="8640720" cy="0"/>
          </a:xfrm>
          <a:prstGeom prst="line">
            <a:avLst/>
          </a:prstGeom>
          <a:ln w="936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347760" y="4888080"/>
            <a:ext cx="8640720" cy="0"/>
          </a:xfrm>
          <a:prstGeom prst="line">
            <a:avLst/>
          </a:prstGeom>
          <a:ln w="936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Some examples of our current and recent academic partnerships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38040" y="1469880"/>
            <a:ext cx="836640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38040" y="2784600"/>
            <a:ext cx="836640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47760" y="4097160"/>
            <a:ext cx="836604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38040" y="5411880"/>
            <a:ext cx="8366400" cy="12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956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7" name="Picture 9" descr="lse2"/>
          <p:cNvPicPr/>
          <p:nvPr/>
        </p:nvPicPr>
        <p:blipFill>
          <a:blip r:embed="rId1"/>
          <a:stretch/>
        </p:blipFill>
        <p:spPr>
          <a:xfrm>
            <a:off x="473040" y="1704960"/>
            <a:ext cx="2038320" cy="717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2584440" y="1623960"/>
            <a:ext cx="5997600" cy="9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Five-year research-based partnership from 2005 to 201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Centred on 5 themes, including public policy &amp; productivity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Seminar programme to disseminate &amp; discuss finding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9" name="Picture 12" descr="qm"/>
          <p:cNvPicPr/>
          <p:nvPr/>
        </p:nvPicPr>
        <p:blipFill>
          <a:blip r:embed="rId2"/>
          <a:stretch/>
        </p:blipFill>
        <p:spPr>
          <a:xfrm>
            <a:off x="482760" y="5748480"/>
            <a:ext cx="2022480" cy="560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cranfield"/>
          <p:cNvPicPr/>
          <p:nvPr/>
        </p:nvPicPr>
        <p:blipFill>
          <a:blip r:embed="rId3"/>
          <a:stretch/>
        </p:blipFill>
        <p:spPr>
          <a:xfrm>
            <a:off x="455760" y="3122640"/>
            <a:ext cx="2074680" cy="527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uwe"/>
          <p:cNvPicPr/>
          <p:nvPr/>
        </p:nvPicPr>
        <p:blipFill>
          <a:blip r:embed="rId4"/>
          <a:stretch/>
        </p:blipFill>
        <p:spPr>
          <a:xfrm>
            <a:off x="484200" y="4336920"/>
            <a:ext cx="2017800" cy="7812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9"/>
          <p:cNvSpPr/>
          <p:nvPr/>
        </p:nvSpPr>
        <p:spPr>
          <a:xfrm>
            <a:off x="2575080" y="2911320"/>
            <a:ext cx="6183000" cy="11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HP-funded, full-time research centre in the School of Managemen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Aimed at developing expertise in Programme and Project Managemen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536920" y="4197240"/>
            <a:ext cx="6183360" cy="134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Long-standing relationship, exact nature has varied over the year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Current focus is a teaching partnership  - HP-branded degree in Enterprise Computing combining internships, professional qualification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2536920" y="5464080"/>
            <a:ext cx="6183360" cy="11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577b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Unique (?) example of a technology company sponsoring contemporary history departmen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300"/>
              </a:spcBef>
              <a:buClr>
                <a:srgbClr val="29568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9568f"/>
                </a:solidFill>
                <a:latin typeface="Futura Bk"/>
              </a:rPr>
              <a:t>Rolling sponsorship programme combining MA bursaries, academic funding and a high-profile seminar programm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What makes a successful partnership from our perspective?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“</a:t>
            </a: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Bottom-up” rather than “Top-dow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Good quality, relevant and practical research and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Mutually beneficial (not necessarily symmet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Focussed on competitive differentiation and add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Trusting, strong personal 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568f"/>
                </a:solidFill>
                <a:latin typeface="Futura Bk"/>
              </a:rPr>
              <a:t>Academic Independence is not the elephant in the room (but we’re all grown-ups, aren’t w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5739505381_94564a79ee_b"/>
          <p:cNvPicPr/>
          <p:nvPr/>
        </p:nvPicPr>
        <p:blipFill>
          <a:blip r:embed="rId1"/>
          <a:stretch/>
        </p:blipFill>
        <p:spPr>
          <a:xfrm>
            <a:off x="155520" y="1085760"/>
            <a:ext cx="8832960" cy="5045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Impact?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8040" y="399600"/>
            <a:ext cx="837576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29568f"/>
                </a:solidFill>
                <a:latin typeface="Arial"/>
              </a:rPr>
              <a:t>Further Information</a:t>
            </a:r>
            <a:endParaRPr b="0" lang="en-US" sz="3300" spc="-1" strike="noStrike">
              <a:solidFill>
                <a:srgbClr val="29568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4680" y="1536840"/>
            <a:ext cx="834876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utura Bk"/>
              </a:rPr>
              <a:t>Contac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James Joh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james.johns@h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07790 493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utura Bk"/>
              </a:rPr>
              <a:t>Web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LSE innovation research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</a:t>
            </a:r>
            <a:r>
              <a:rPr b="0" lang="en-GB" sz="1200" spc="-1" strike="noStrike">
                <a:solidFill>
                  <a:srgbClr val="000000"/>
                </a:solidFill>
                <a:latin typeface="Futura Bk"/>
              </a:rPr>
              <a:t>www2.lse.ac.uk/researchAndExpertise/units/innovationResearch/Hom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Cranfield International Centre for Programm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www.som.cranfield.ac.uk/som/p13518/Research/Research-Centres/ICPM-Home/About-IC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University of the West of England Teaching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info.uwe.ac.uk/news/uwenews/news.aspx?id=1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Bk"/>
              </a:rPr>
              <a:t>Queen Mary Mile En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lnSpc>
                <a:spcPct val="11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Futura Bk"/>
              </a:rPr>
              <a:t>http://www.meg.qmul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21:02:47Z</dcterms:created>
  <dc:creator/>
  <dc:description/>
  <dc:language>en-US</dc:language>
  <cp:lastModifiedBy>John Callaghan</cp:lastModifiedBy>
  <dcterms:modified xsi:type="dcterms:W3CDTF">2011-06-12T05:21:33Z</dcterms:modified>
  <cp:revision>1106</cp:revision>
  <dc:subject/>
  <dc:title>UK Public Sector Growth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