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4680" y="394668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4292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8744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1056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468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18744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1056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38040" y="399600"/>
            <a:ext cx="837576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4292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680" y="394668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4292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18744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1056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6468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18744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1056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38040" y="399600"/>
            <a:ext cx="837576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4292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4680" y="394668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4292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18744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1056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6468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18744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1056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38040" y="399600"/>
            <a:ext cx="837576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4292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64680" y="394668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4292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18744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1056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36468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18744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1056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38040" y="399600"/>
            <a:ext cx="837576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4292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38040" y="420840"/>
            <a:ext cx="83757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749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1144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28880" indent="-1749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28880" indent="-1749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28880" indent="-1749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6"/>
          <p:cNvSpPr/>
          <p:nvPr/>
        </p:nvSpPr>
        <p:spPr>
          <a:xfrm>
            <a:off x="363600" y="6465960"/>
            <a:ext cx="384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BA86-17B2-4D6B-BD9A-175C1593A78D}" type="slidenum">
              <a:rPr b="0" lang="en-US" sz="700" spc="-1" strike="noStrike">
                <a:solidFill>
                  <a:srgbClr val="7f7f7f"/>
                </a:solidFill>
                <a:latin typeface="Futura Bk"/>
              </a:rPr>
              <a:t>&lt;number&gt;</a:t>
            </a:fld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603360" y="6469200"/>
            <a:ext cx="50893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363600" y="6465960"/>
            <a:ext cx="384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89C5-B656-4A7B-A432-49A8232907E5}" type="slidenum">
              <a:rPr b="0" lang="en-US" sz="700" spc="-1" strike="noStrike">
                <a:solidFill>
                  <a:srgbClr val="7f7f7f"/>
                </a:solidFill>
                <a:latin typeface="Futura Bk"/>
              </a:rPr>
              <a:t>&lt;number&gt;</a:t>
            </a:fld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9568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749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1144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28880" indent="-1749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28880" indent="-1749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28880" indent="-1749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2"/>
          <a:stretch/>
        </p:blipFill>
        <p:spPr>
          <a:xfrm>
            <a:off x="8759880" y="6465960"/>
            <a:ext cx="330120" cy="33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603360" y="6469200"/>
            <a:ext cx="50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Futura Bk"/>
              </a:rPr>
              <a:t>©2011 Hewlett-Packard Development Company, L.P. The information contained herein is subject to change without notice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63600" y="6465960"/>
            <a:ext cx="384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79BB-D1B3-4E49-BE21-14CF218EFA66}" type="slidenum">
              <a:rPr b="0" lang="en-US" sz="700" spc="-1" strike="noStrike">
                <a:solidFill>
                  <a:srgbClr val="7f7f7f"/>
                </a:solidFill>
                <a:latin typeface="Futura Bk"/>
              </a:rPr>
              <a:t>&lt;number&gt;</a:t>
            </a:fld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3"/>
          <a:stretch/>
        </p:blipFill>
        <p:spPr>
          <a:xfrm>
            <a:off x="7994520" y="1938240"/>
            <a:ext cx="1149480" cy="491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57120" y="5065560"/>
            <a:ext cx="64008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Futura Bk"/>
              </a:rPr>
              <a:t>James Joh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Futura Bk"/>
              </a:rPr>
              <a:t>Director of Strategy, Civil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Futura Bk"/>
              </a:rPr>
              <a:t>HP Enterprise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16080" y="1146240"/>
            <a:ext cx="882792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5cfe9"/>
                </a:solidFill>
                <a:latin typeface="Futura Hv"/>
              </a:rPr>
              <a:t>Academic Impact</a:t>
            </a:r>
            <a:br>
              <a:rPr sz="4800"/>
            </a:br>
            <a:r>
              <a:rPr b="0" lang="en-US" sz="4800" spc="-1" strike="noStrike">
                <a:solidFill>
                  <a:srgbClr val="65cfe9"/>
                </a:solidFill>
                <a:latin typeface="Futura Hv"/>
              </a:rPr>
              <a:t>A business perspec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29568f"/>
                </a:solidFill>
                <a:latin typeface="Arial"/>
              </a:rPr>
              <a:t>Hewlett-Packard…</a:t>
            </a: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4680" y="1047240"/>
            <a:ext cx="8348760" cy="46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89000" indent="-189000">
              <a:lnSpc>
                <a:spcPct val="11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The world’s largest technology company by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11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Ships 1million printers per week, 48million PCs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11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Operates in more than 170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11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Employs 300,000 people, more than 16,000 in the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11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Supports 20,000 additional jobs in the UK through its distribution chann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11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Has more than $100bn annual reve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11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Is the largest supplier of IT services to the UK Public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11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Spends $3.5bn pa on 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11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Has one of its five global research laboratories in Brist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11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Works in partnership with many UK univer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29568f"/>
                </a:solidFill>
                <a:latin typeface="Arial"/>
              </a:rPr>
              <a:t>Our work helps a range of public sector organisations to develop &amp; implement policy</a:t>
            </a: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557280" y="2165400"/>
            <a:ext cx="7993080" cy="3490920"/>
            <a:chOff x="557280" y="2165400"/>
            <a:chExt cx="7993080" cy="3490920"/>
          </a:xfrm>
        </p:grpSpPr>
        <p:grpSp>
          <p:nvGrpSpPr>
            <p:cNvPr id="161" name="Group 18"/>
            <p:cNvGrpSpPr/>
            <p:nvPr/>
          </p:nvGrpSpPr>
          <p:grpSpPr>
            <a:xfrm>
              <a:off x="557280" y="3478320"/>
              <a:ext cx="7394400" cy="676080"/>
              <a:chOff x="557280" y="3478320"/>
              <a:chExt cx="7394400" cy="676080"/>
            </a:xfrm>
          </p:grpSpPr>
          <p:pic>
            <p:nvPicPr>
              <p:cNvPr id="162" name="Picture 14" descr="bwmodlogo"/>
              <p:cNvPicPr/>
              <p:nvPr/>
            </p:nvPicPr>
            <p:blipFill>
              <a:blip r:embed="rId1"/>
              <a:stretch/>
            </p:blipFill>
            <p:spPr>
              <a:xfrm>
                <a:off x="557280" y="3595680"/>
                <a:ext cx="259380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Picture 18" descr="nhslogo"/>
              <p:cNvPicPr/>
              <p:nvPr/>
            </p:nvPicPr>
            <p:blipFill>
              <a:blip r:embed="rId2"/>
              <a:stretch/>
            </p:blipFill>
            <p:spPr>
              <a:xfrm>
                <a:off x="6559560" y="3544920"/>
                <a:ext cx="1392120" cy="54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12" descr="mojlogo2"/>
              <p:cNvPicPr/>
              <p:nvPr/>
            </p:nvPicPr>
            <p:blipFill>
              <a:blip r:embed="rId3"/>
              <a:stretch/>
            </p:blipFill>
            <p:spPr>
              <a:xfrm>
                <a:off x="3652920" y="3478320"/>
                <a:ext cx="1801800" cy="676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5" name="Group 17"/>
            <p:cNvGrpSpPr/>
            <p:nvPr/>
          </p:nvGrpSpPr>
          <p:grpSpPr>
            <a:xfrm>
              <a:off x="666720" y="2165400"/>
              <a:ext cx="7488360" cy="657360"/>
              <a:chOff x="666720" y="2165400"/>
              <a:chExt cx="7488360" cy="657360"/>
            </a:xfrm>
          </p:grpSpPr>
          <p:pic>
            <p:nvPicPr>
              <p:cNvPr id="166" name="Picture 13" descr="bwfco"/>
              <p:cNvPicPr/>
              <p:nvPr/>
            </p:nvPicPr>
            <p:blipFill>
              <a:blip r:embed="rId4"/>
              <a:stretch/>
            </p:blipFill>
            <p:spPr>
              <a:xfrm>
                <a:off x="666720" y="2165400"/>
                <a:ext cx="2376360" cy="65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Picture 15" descr="bwhomelogo"/>
              <p:cNvPicPr/>
              <p:nvPr/>
            </p:nvPicPr>
            <p:blipFill>
              <a:blip r:embed="rId5"/>
              <a:stretch/>
            </p:blipFill>
            <p:spPr>
              <a:xfrm>
                <a:off x="6354720" y="2183040"/>
                <a:ext cx="1800360" cy="62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Picture 16" descr="bwdwplogo"/>
              <p:cNvPicPr/>
              <p:nvPr/>
            </p:nvPicPr>
            <p:blipFill>
              <a:blip r:embed="rId6"/>
              <a:stretch/>
            </p:blipFill>
            <p:spPr>
              <a:xfrm>
                <a:off x="3294000" y="2227320"/>
                <a:ext cx="2521080" cy="531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" name="Group 19"/>
            <p:cNvGrpSpPr/>
            <p:nvPr/>
          </p:nvGrpSpPr>
          <p:grpSpPr>
            <a:xfrm>
              <a:off x="954000" y="4811760"/>
              <a:ext cx="7596360" cy="844560"/>
              <a:chOff x="954000" y="4811760"/>
              <a:chExt cx="7596360" cy="844560"/>
            </a:xfrm>
          </p:grpSpPr>
          <p:pic>
            <p:nvPicPr>
              <p:cNvPr id="170" name="Picture 17" descr="bwniologo"/>
              <p:cNvPicPr/>
              <p:nvPr/>
            </p:nvPicPr>
            <p:blipFill>
              <a:blip r:embed="rId7"/>
              <a:stretch/>
            </p:blipFill>
            <p:spPr>
              <a:xfrm>
                <a:off x="954000" y="4811760"/>
                <a:ext cx="1800360" cy="84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Picture 19" descr="tfllogo"/>
              <p:cNvPicPr/>
              <p:nvPr/>
            </p:nvPicPr>
            <p:blipFill>
              <a:blip r:embed="rId8"/>
              <a:stretch/>
            </p:blipFill>
            <p:spPr>
              <a:xfrm>
                <a:off x="5959440" y="4832640"/>
                <a:ext cx="2590920" cy="80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16" descr="Post Office ®"/>
              <p:cNvPicPr/>
              <p:nvPr/>
            </p:nvPicPr>
            <p:blipFill>
              <a:blip r:embed="rId9">
                <a:grayscl/>
              </a:blip>
              <a:stretch/>
            </p:blipFill>
            <p:spPr>
              <a:xfrm>
                <a:off x="4060800" y="4861080"/>
                <a:ext cx="986040" cy="746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29568f"/>
                </a:solidFill>
                <a:latin typeface="Arial"/>
              </a:rPr>
              <a:t>There are many reasons why academic relationships are important to us</a:t>
            </a: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38040" y="1585800"/>
            <a:ext cx="2774880" cy="14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577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9568f"/>
                </a:solidFill>
                <a:latin typeface="Futura Bk"/>
              </a:rPr>
              <a:t>Add</a:t>
            </a:r>
            <a:br>
              <a:rPr sz="3000"/>
            </a:br>
            <a:r>
              <a:rPr b="0" lang="en-GB" sz="3000" spc="-1" strike="noStrike">
                <a:solidFill>
                  <a:srgbClr val="29568f"/>
                </a:solidFill>
                <a:latin typeface="Futura Bk"/>
              </a:rPr>
              <a:t>Capability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7760" y="3232080"/>
            <a:ext cx="2765160" cy="14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577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9568f"/>
                </a:solidFill>
                <a:latin typeface="Futura Bk"/>
              </a:rPr>
              <a:t>Enable</a:t>
            </a:r>
            <a:br>
              <a:rPr sz="3000"/>
            </a:br>
            <a:r>
              <a:rPr b="0" lang="en-GB" sz="3000" spc="-1" strike="noStrike">
                <a:solidFill>
                  <a:srgbClr val="29568f"/>
                </a:solidFill>
                <a:latin typeface="Futura Bk"/>
              </a:rPr>
              <a:t>Collaboration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38040" y="4924440"/>
            <a:ext cx="2774880" cy="14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577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9568f"/>
                </a:solidFill>
                <a:latin typeface="Futura Bk"/>
              </a:rPr>
              <a:t>Enhance</a:t>
            </a:r>
            <a:br>
              <a:rPr sz="3000"/>
            </a:br>
            <a:r>
              <a:rPr b="0" lang="en-GB" sz="3000" spc="-1" strike="noStrike">
                <a:solidFill>
                  <a:srgbClr val="29568f"/>
                </a:solidFill>
                <a:latin typeface="Futura Bk"/>
              </a:rPr>
              <a:t>Credibility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2805120" y="1585800"/>
            <a:ext cx="6183360" cy="14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577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100000"/>
              </a:lnSpc>
              <a:spcBef>
                <a:spcPts val="337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568f"/>
                </a:solidFill>
                <a:latin typeface="Futura Bk"/>
              </a:rPr>
              <a:t>Access to expertise we couldn’t hope to replicate in-hous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37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568f"/>
                </a:solidFill>
                <a:latin typeface="Futura Bk"/>
              </a:rPr>
              <a:t>In support of our own research efforts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37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568f"/>
                </a:solidFill>
                <a:latin typeface="Futura Bk"/>
              </a:rPr>
              <a:t>“</a:t>
            </a:r>
            <a:r>
              <a:rPr b="0" lang="en-GB" sz="1800" spc="-1" strike="noStrike">
                <a:solidFill>
                  <a:srgbClr val="29568f"/>
                </a:solidFill>
                <a:latin typeface="Futura Bk"/>
              </a:rPr>
              <a:t>Because they will use it for something we haven’t thought of, and it will break.”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37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568f"/>
                </a:solidFill>
                <a:latin typeface="Futura Bk"/>
              </a:rPr>
              <a:t>Influencing what’s taught and how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2805120" y="3232080"/>
            <a:ext cx="6183360" cy="14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577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100000"/>
              </a:lnSpc>
              <a:spcBef>
                <a:spcPts val="337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568f"/>
                </a:solidFill>
                <a:latin typeface="Futura Bk"/>
              </a:rPr>
              <a:t>To provide peer groups for our own researchers and subject matter experts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37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568f"/>
                </a:solidFill>
                <a:latin typeface="Futura Bk"/>
              </a:rPr>
              <a:t>To allow us to work as part of the wider research community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37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568f"/>
                </a:solidFill>
                <a:latin typeface="Futura Bk"/>
              </a:rPr>
              <a:t>Through our own Innovation Research Programm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2805120" y="4924440"/>
            <a:ext cx="6183360" cy="14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577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100000"/>
              </a:lnSpc>
              <a:spcBef>
                <a:spcPts val="337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568f"/>
                </a:solidFill>
                <a:latin typeface="Futura Bk"/>
              </a:rPr>
              <a:t>Through academic independence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37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568f"/>
                </a:solidFill>
                <a:latin typeface="Futura Bk"/>
              </a:rPr>
              <a:t>Facilitating contact with individuals and organisations who might otherwise prove hard to reach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37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568f"/>
                </a:solidFill>
                <a:latin typeface="Futura Bk"/>
              </a:rPr>
              <a:t>Underlining our status as an innovative company and a good corporate citize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>
            <a:off x="347760" y="3160800"/>
            <a:ext cx="8640720" cy="0"/>
          </a:xfrm>
          <a:prstGeom prst="line">
            <a:avLst/>
          </a:prstGeom>
          <a:ln w="9360">
            <a:solidFill>
              <a:srgbClr val="2956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Line 13"/>
          <p:cNvSpPr/>
          <p:nvPr/>
        </p:nvSpPr>
        <p:spPr>
          <a:xfrm>
            <a:off x="347760" y="4888080"/>
            <a:ext cx="8640720" cy="0"/>
          </a:xfrm>
          <a:prstGeom prst="line">
            <a:avLst/>
          </a:prstGeom>
          <a:ln w="9360">
            <a:solidFill>
              <a:srgbClr val="2956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29568f"/>
                </a:solidFill>
                <a:latin typeface="Arial"/>
              </a:rPr>
              <a:t>Some examples of our current and recent academic partnerships</a:t>
            </a: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38040" y="1469880"/>
            <a:ext cx="8366400" cy="120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956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38040" y="2784600"/>
            <a:ext cx="8366400" cy="120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956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347760" y="4097160"/>
            <a:ext cx="8366040" cy="120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956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38040" y="5411880"/>
            <a:ext cx="8366400" cy="120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956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7" name="Picture 9" descr="lse2"/>
          <p:cNvPicPr/>
          <p:nvPr/>
        </p:nvPicPr>
        <p:blipFill>
          <a:blip r:embed="rId1"/>
          <a:stretch/>
        </p:blipFill>
        <p:spPr>
          <a:xfrm>
            <a:off x="473040" y="1704960"/>
            <a:ext cx="2038320" cy="7174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1"/>
          <p:cNvSpPr/>
          <p:nvPr/>
        </p:nvSpPr>
        <p:spPr>
          <a:xfrm>
            <a:off x="2584440" y="1623960"/>
            <a:ext cx="5997600" cy="9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577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300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568f"/>
                </a:solidFill>
                <a:latin typeface="Futura Bk"/>
              </a:rPr>
              <a:t>Five-year research-based partnership from 2005 to 2010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00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568f"/>
                </a:solidFill>
                <a:latin typeface="Futura Bk"/>
              </a:rPr>
              <a:t>Centred on 5 themes, including public policy &amp; productivity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00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568f"/>
                </a:solidFill>
                <a:latin typeface="Futura Bk"/>
              </a:rPr>
              <a:t>Seminar programme to disseminate &amp; discuss findings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9" name="Picture 12" descr="qm"/>
          <p:cNvPicPr/>
          <p:nvPr/>
        </p:nvPicPr>
        <p:blipFill>
          <a:blip r:embed="rId2"/>
          <a:stretch/>
        </p:blipFill>
        <p:spPr>
          <a:xfrm>
            <a:off x="482760" y="5748480"/>
            <a:ext cx="2022480" cy="560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cranfield"/>
          <p:cNvPicPr/>
          <p:nvPr/>
        </p:nvPicPr>
        <p:blipFill>
          <a:blip r:embed="rId3"/>
          <a:stretch/>
        </p:blipFill>
        <p:spPr>
          <a:xfrm>
            <a:off x="455760" y="3122640"/>
            <a:ext cx="2074680" cy="527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4" descr="uwe"/>
          <p:cNvPicPr/>
          <p:nvPr/>
        </p:nvPicPr>
        <p:blipFill>
          <a:blip r:embed="rId4"/>
          <a:stretch/>
        </p:blipFill>
        <p:spPr>
          <a:xfrm>
            <a:off x="484200" y="4336920"/>
            <a:ext cx="2017800" cy="7812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9"/>
          <p:cNvSpPr/>
          <p:nvPr/>
        </p:nvSpPr>
        <p:spPr>
          <a:xfrm>
            <a:off x="2575080" y="2911320"/>
            <a:ext cx="6183000" cy="110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577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300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568f"/>
                </a:solidFill>
                <a:latin typeface="Futura Bk"/>
              </a:rPr>
              <a:t>HP-funded, full-time research centre in the School of Managemen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00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568f"/>
                </a:solidFill>
                <a:latin typeface="Futura Bk"/>
              </a:rPr>
              <a:t>Aimed at developing expertise in Programme and Project Managemen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2536920" y="4197240"/>
            <a:ext cx="6183360" cy="134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577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300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568f"/>
                </a:solidFill>
                <a:latin typeface="Futura Bk"/>
              </a:rPr>
              <a:t>Long-standing relationship, exact nature has varied over the years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00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568f"/>
                </a:solidFill>
                <a:latin typeface="Futura Bk"/>
              </a:rPr>
              <a:t>Current focus is a teaching partnership  - HP-branded degree in Enterprise Computing combining internships, professional qualifications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2536920" y="5464080"/>
            <a:ext cx="6183360" cy="110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577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300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568f"/>
                </a:solidFill>
                <a:latin typeface="Futura Bk"/>
              </a:rPr>
              <a:t>Unique (?) example of a technology company sponsoring contemporary history departmen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00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568f"/>
                </a:solidFill>
                <a:latin typeface="Futura Bk"/>
              </a:rPr>
              <a:t>Rolling sponsorship programme combining MA bursaries, academic funding and a high-profile seminar programme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29568f"/>
                </a:solidFill>
                <a:latin typeface="Arial"/>
              </a:rPr>
              <a:t>What makes a successful partnership from our perspective?</a:t>
            </a: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“</a:t>
            </a: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Bottom-up” rather than “Top-dow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Good quality, relevant and practical research and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Mutually beneficial (not necessarily symmetr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Focussed on competitive differentiation and adding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Trusting, strong personal relationsh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Academic Independence is not the elephant in the room (but we’re all grown-ups, aren’t w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5739505381_94564a79ee_b"/>
          <p:cNvPicPr/>
          <p:nvPr/>
        </p:nvPicPr>
        <p:blipFill>
          <a:blip r:embed="rId1"/>
          <a:stretch/>
        </p:blipFill>
        <p:spPr>
          <a:xfrm>
            <a:off x="155520" y="1085760"/>
            <a:ext cx="8832960" cy="5045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29568f"/>
                </a:solidFill>
                <a:latin typeface="Arial"/>
              </a:rPr>
              <a:t>Impact?</a:t>
            </a: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29568f"/>
                </a:solidFill>
                <a:latin typeface="Arial"/>
              </a:rPr>
              <a:t>Further Information</a:t>
            </a: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18520" indent="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utura Bk"/>
              </a:rPr>
              <a:t>Contact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Bk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Futura Bk"/>
              </a:rPr>
              <a:t>James John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Futura Bk"/>
              </a:rPr>
              <a:t>james.johns@hp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Bk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Futura Bk"/>
              </a:rPr>
              <a:t>07790 493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utura Bk"/>
              </a:rPr>
              <a:t>Web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Bk"/>
              </a:rPr>
              <a:t>LSE innovation research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lnSpc>
                <a:spcPct val="11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Futura Bk"/>
              </a:rPr>
              <a:t>http://</a:t>
            </a:r>
            <a:r>
              <a:rPr b="0" lang="en-GB" sz="1200" spc="-1" strike="noStrike">
                <a:solidFill>
                  <a:srgbClr val="000000"/>
                </a:solidFill>
                <a:latin typeface="Futura Bk"/>
              </a:rPr>
              <a:t>www2.lse.ac.uk/researchAndExpertise/units/innovationResearch/Home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Bk"/>
              </a:rPr>
              <a:t>Cranfield International Centre for Programm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lnSpc>
                <a:spcPct val="11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Futura Bk"/>
              </a:rPr>
              <a:t>http://www.som.cranfield.ac.uk/som/p13518/Research/Research-Centres/ICPM-Home/About-IC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Bk"/>
              </a:rPr>
              <a:t>University of the West of England Teaching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lnSpc>
                <a:spcPct val="11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Futura Bk"/>
              </a:rPr>
              <a:t>http://info.uwe.ac.uk/news/uwenews/news.aspx?id=18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Bk"/>
              </a:rPr>
              <a:t>Queen Mary Mile End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lnSpc>
                <a:spcPct val="11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Futura Bk"/>
              </a:rPr>
              <a:t>http://www.meg.qmul.ac.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21:02:47Z</dcterms:created>
  <dc:creator/>
  <dc:description/>
  <dc:language>en-US</dc:language>
  <cp:lastModifiedBy>John Callaghan</cp:lastModifiedBy>
  <dcterms:modified xsi:type="dcterms:W3CDTF">2011-06-12T05:21:33Z</dcterms:modified>
  <cp:revision>1106</cp:revision>
  <dc:subject/>
  <dc:title>UK Public Sector Growth Strate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