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6475-D869-43D7-B46A-D26B22D27D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4D68-94E0-48FA-B576-01F87C84AF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DD5A-4738-450F-A45A-D655ABE65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5FBD-1846-42A9-AA65-68F16F023B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C57C-1BAA-4854-9A15-04150E3B30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6479-2114-4496-9EE0-9404C81540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FA74-DA29-4875-B3CC-6F6F137B58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ADF5-0740-4FBC-B67F-F7267C8B3A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8FBF-A811-4679-9F48-5400819207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931A-B3D1-4ADC-BD6E-5F16CBA633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847F-C24D-4D4A-AC84-4B3C34CD42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9B17-93AF-400E-9628-4717AC3D90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A2D9-2E7A-45D7-B58E-0920A2CE4A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6494-BBCF-4431-9F34-BD67C74BF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22BF-2760-4E14-9722-5FE39EE548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BB4E-5DC8-43AD-A37B-46B5980EA1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208C-C078-4A6B-98B0-D31E40DEDB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5A82-A0BF-4BCF-9167-E62A53C66A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5070-949E-4AB8-A2D1-C778C20455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9880-B8C3-432D-9D0D-B9EBE2DA29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A3F2-5631-4F2A-B74D-F412C29F49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7AF3-10D3-4394-ABCB-6C0D1353EE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3690-C0A8-4857-987C-97556F8541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3EFE-8015-436E-ABCA-3AE4FCF604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43B5-F4DA-4658-A906-2D59655049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E09D-6EC0-491C-9079-186ABB41E7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13C1-704A-4C34-B425-FDD283CECC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B766-E472-412E-BD30-7046488380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C6C4-8A9D-4B55-80A7-35955BD831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245E-3DEC-4BC5-8939-26F2322195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F16C-4BE6-4AA8-BE00-AFD40861C8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CE13-9440-4ECE-B014-E1E054184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4A82-A474-4F45-8634-2FC5F3A63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6BD3-0D5E-469F-9664-876331289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00EB-0312-401C-845D-0D5F02045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6895-F6C0-4043-88AB-322892A12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2D1D4-67D5-4F90-B9D6-5F1CE3F7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287D6-228D-4B94-AEE6-814B34BC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BC24F-11C9-4488-A157-4E9889AB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2D751-F0E5-46E5-9A6B-130639EE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06C5B-765E-414C-A852-7D960556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CC1E6-2360-437D-A016-B8BFBAFE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07C37-938C-4A91-8975-467CF358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5B21-E48A-4D2B-B513-A9E1A0FE1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7D146-FB28-4442-BD1A-F381A050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77DF4-A8A5-489B-95C4-18D42336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2FBC1-65F5-4D87-96AA-B1194EC6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E1F11-6D21-49BD-9D18-7F7E9A13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10176-22E1-4B4B-B7AC-6B0C8B51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0FC401-044E-45F4-8AA6-2BD2BA80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BF95E2-8CC7-4BEC-9788-2DD2528B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B04D1F-A2EA-4BF8-A60B-8C3F5565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148E68-3354-430A-96A2-029482D0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258387-4269-4744-B48E-D537C189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61D9-F3D3-4093-B5B0-573670B03F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46B50A-D684-44B6-A8F2-DA74FB68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65F519-AD18-4537-A846-B3D54642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DD8B1-8DC2-4837-B310-AB7209BD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5418E4-AF2C-42C8-BBA8-64FDE428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A9145D-5648-41D2-B35C-2FF3B418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0BFD47-6D54-40AF-AB61-3B7AC0A3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C0FD2C-C375-448B-8369-0153ECC1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B169B-5AEC-41CA-A5A9-FE6BACA3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3B3EF7-9995-45CE-BF1E-E1BC9532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EE8491-CD99-4180-A48B-52A0AD86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CD98-CD47-4AFF-B0BD-ECD6C44B6A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259953-9344-4516-AA04-FCF5DCA5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A7FF89-292A-426A-AD58-D5A138BE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0BCCA2-6F3C-4CD0-B0A7-51EFE50F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CBE433-D3BF-4D94-8D2A-53915F15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17EA05-DEC7-4954-8741-37F6414E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A013B3-22B3-4DA8-9C73-D61F7F08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9E8428-76A1-4F73-9FB1-8E7AD35E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B03237-175C-49D6-B67C-760224C3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733ADF-13D3-4D12-BEFE-A977C0A3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10ACDD-0BEF-40D8-9886-86BA23DA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5155-582C-43C1-AC75-D60399214A7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530CD1-05B9-4EB1-BF28-7A5106D8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3BFD4B-8B75-4945-A32B-627879EE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8E25B3-B0AC-4E1C-ABCB-25B6ADF8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AE0668-6671-4130-B5CE-BB15FF97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72016E-F325-43DF-9EB8-D7ABA1E7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499094-1BC2-46D3-B476-2C243926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D6C4BE-91DB-4561-9744-51B5C2BE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0C9F0F-861A-401E-9F43-9062DBE0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AFFF0E-A19A-49B8-97A6-B8934936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E1DFB2-57B9-459D-9D89-550BBA66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0593-D6B5-4B5E-BF94-B97007326B3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B6CC5B-A235-42EA-B5F8-63BA0982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F674D5-D52C-482D-8256-B8810451209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F72F0-3B48-422B-B892-291F1F4975E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392E2-6CC5-458C-AE39-9C49708EBA8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53AC3-18A8-4644-9395-8CE2B888364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1DDB6-3687-409B-BA8F-E483020A6D0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41CC53-C0BF-44E5-8273-40F34E85AD5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88C250-E8AD-4DCA-8F2E-ECC277B2765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4150E-8AC1-4A7C-90EE-EAE6FC2CD59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9C5A32-2CC7-4B7C-BC94-F80ECF49A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0FF4-1649-4AB0-861E-A285D92FF0E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8CC53-84D0-4297-AD2E-9A79A7BDAE5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6EDEC-ED19-42E7-A962-C9A582E4B2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1B145-0848-4B71-B287-DB675FC5E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D744-0E95-4B98-A116-2A5567505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C821-5AC0-4E65-8461-D0BD5DE64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9D18-CFA5-487A-924A-0FCF981535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1" descr=""/>
          <p:cNvPicPr/>
          <p:nvPr/>
        </p:nvPicPr>
        <p:blipFill>
          <a:blip r:embed="rId2"/>
          <a:stretch/>
        </p:blipFill>
        <p:spPr>
          <a:xfrm>
            <a:off x="71280" y="5950080"/>
            <a:ext cx="1476360" cy="8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441D-37A9-46BF-B2A8-42A6037079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8008-B5E7-4C19-B52E-8C1DD8E17F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EA1F-68F5-4052-8C67-DFB930ED40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50EF-20C8-4A51-B8DE-A8F379CA28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09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2" name="Picture 11" descr=""/>
          <p:cNvPicPr/>
          <p:nvPr/>
        </p:nvPicPr>
        <p:blipFill>
          <a:blip r:embed="rId2"/>
          <a:stretch/>
        </p:blipFill>
        <p:spPr>
          <a:xfrm>
            <a:off x="54000" y="5445000"/>
            <a:ext cx="2286000" cy="13906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4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C907-CEEB-4A97-930B-E2A8B354C1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alibri"/>
              </a:rPr>
              <a:t>Improving Academic Communication</a:t>
            </a:r>
            <a:endParaRPr b="0" lang="en-US" sz="40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mbria"/>
              </a:rPr>
              <a:t>Patrick Dunleavy and Chris Gils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mbria"/>
              </a:rPr>
              <a:t>LSE Public Policy Grou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mbria"/>
              </a:rPr>
              <a:t>Investigating Academic Impacts confere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mbria"/>
              </a:rPr>
              <a:t>13 June 201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1355760" y="274680"/>
            <a:ext cx="64310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892080" y="274680"/>
            <a:ext cx="73580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Single author blog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Have grown massively in popularity (with their authors) in recent years; e.g. Warwick lists over 7,000 on their portal with over 140,000 entri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But, without frequent updates, these often wither – 75%+ of blogs worldwide are dead or dormant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ith increasing pressure on academics and university staff – who has the time to blog?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68680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1547640" y="301680"/>
            <a:ext cx="6662880" cy="5900760"/>
          </a:xfrm>
          <a:prstGeom prst="rect">
            <a:avLst/>
          </a:prstGeom>
          <a:ln w="0">
            <a:noFill/>
          </a:ln>
        </p:spPr>
      </p:pic>
      <p:sp>
        <p:nvSpPr>
          <p:cNvPr id="280" name="Oval 6"/>
          <p:cNvSpPr/>
          <p:nvPr/>
        </p:nvSpPr>
        <p:spPr>
          <a:xfrm>
            <a:off x="1116000" y="4941720"/>
            <a:ext cx="5256360" cy="11512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Single author blog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Content is king, and ‘vanity’ projects with infrequent posts are counter-productive and won’t survi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Some SABs are successful in the political arena (</a:t>
            </a:r>
            <a:r>
              <a:rPr b="0" i="1" lang="en-GB" sz="2500" spc="-1" strike="noStrike">
                <a:solidFill>
                  <a:srgbClr val="000000"/>
                </a:solidFill>
                <a:latin typeface="Calibri"/>
              </a:rPr>
              <a:t>Guido Fawkes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But most SABs are now either shutting down or joining with other (more corporate) bloggers – even in political commentary (</a:t>
            </a:r>
            <a:r>
              <a:rPr b="0" i="1" lang="en-GB" sz="2500" spc="-1" strike="noStrike">
                <a:solidFill>
                  <a:srgbClr val="000000"/>
                </a:solidFill>
                <a:latin typeface="Calibri"/>
              </a:rPr>
              <a:t>Iain Dal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Appetite for personal commentary/ glimpses of life has now shifted to Twitte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alibri"/>
              </a:rPr>
              <a:t>Multi-author academic blogs </a:t>
            </a:r>
            <a:br>
              <a:rPr sz="4000"/>
            </a:br>
            <a:r>
              <a:rPr b="0" lang="en-GB" sz="4000" spc="-1" strike="noStrike">
                <a:solidFill>
                  <a:srgbClr val="006666"/>
                </a:solidFill>
                <a:latin typeface="Calibri"/>
              </a:rPr>
              <a:t>(MAABs)</a:t>
            </a:r>
            <a:endParaRPr b="0" lang="en-US" sz="4000" spc="-1" strike="noStrike">
              <a:solidFill>
                <a:srgbClr val="0066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Multi-author academic blog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ltiple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vering many topics or su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sting regularly and reliably, so that readers know when to re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lexible formats – from ‘Top-level’ blogs with hundreds of authors and posting every day (e.g. LSE’s 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British Politics and Policy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lo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rough to smaller MAABs for single departments or networks, posting weekly or bi-week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ments and social media can help build a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asy to track readership with Google Analy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7" descr=""/>
          <p:cNvPicPr/>
          <p:nvPr/>
        </p:nvPicPr>
        <p:blipFill>
          <a:blip r:embed="rId1"/>
          <a:stretch/>
        </p:blipFill>
        <p:spPr>
          <a:xfrm>
            <a:off x="1312920" y="274680"/>
            <a:ext cx="65181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Multi-author blogs and social media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itter/Faceb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the blog and can greatly extend its reach and vi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interactive elements to build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urage discussion, rapid correction and clarif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Academic communication as it is now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Academic blogging, and the advent of Multi-author academic blogs (MAABs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Using social medi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Multi-author blogs at the LSE and beyon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1227240" y="274680"/>
            <a:ext cx="66880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1122480" y="274680"/>
            <a:ext cx="68990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Multi-author blogs – style tip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short paragraphs, simple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nt load’ the narrative – get the key points at the begi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ways u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arrative titl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written by the blog team, not the author) will help content to ‘go viral’ – can you retweet the title as it stand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lude good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ntroductory paragraph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also written by the blog team) give the gist of the argument and key take-away mess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leave out simple, clear, charts and dia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ive methods information where it is needed – help expand public understanding of academic su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Creative Commons license helps content to spr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Multi-author (themed) blog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well linked to a journal (e.g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cial Euro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generate many Twitter followers (e.g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ritish Politics and Poli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LSE has 4,200 in a yea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cial Euro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10,000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make good use of podcasts, video and other rich media elements (e.g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cial Euro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ed orientations e.g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Convers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newspap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ustralian Policy 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index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618948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3137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5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601164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Smaller multi-author (themed) blog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becoming more and more prevalent worldwide – a few we’ve noticed in our are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at LSE – Media, International Affairs,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xford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olitics in S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tingham -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allots and Bul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1285920" y="274680"/>
            <a:ext cx="65707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Multi-author blog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internet is not a zero-sum game, and if many universities pitch in to better communicate academic knowledge to wider audiences the result should be beneficial for al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Academic Communication as it is now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urnal articles, conference proceedings (very high-price) books, book re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urnal articles and books are read by few, and rarely picked up by the med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ext of books and closed-web articles is completely inaccessible to those without journal/library access, far too long, and often impenetrably writt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lecting a one-way (experts only) communications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Structural issues for MAAB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tting institutional buy-in is tric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ping with academics who don’t “get it” and want to “stay long” – offer to rewrite stuff for them, giving them final editorial control (of main tex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aling with Press Office/ Communications/ External Relations and other vested interests, who often are very slow to change and feel threat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Y options – single departments/groups can run less ambitious MAABs. But what will make folk come back to yo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culty and university-wide MAABs will probably work b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llaborations between institutions and networking can both help in assembling a critical mass of aut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Conclusion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 standards of communication are changing in every walk-of-life and every academic discipl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towards getting shorter – “Less is mor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ong exceptions too though, like 24 hours news long interviews, to fill the space; many webcasts and podcast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 research outputs need different versions, targeted more to segmented audiences (e.g. closed-web experts and open-web audienc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even these distinctions may lapse – e.g. free-to-read professional journals are opening up full details to everyone online (who’s expert enoug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with 50% of each UK generation becoming  graduates, and universities needing alumni support, communicating expertly to graduates is set to be more v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Academic Communication cont’d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scientists are observers who need to communicate their observations to the world (in a timely fash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much of social scientists’ knowledge and input goes unapplied because of very long time-lines for outputs, and lack of adaptation or trans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how can we change or complement the ‘traditional’ mod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Calibri"/>
              </a:rPr>
              <a:t>Academic blogging and the advent of Multi-Author Academic Blogs (MAABs)</a:t>
            </a:r>
            <a:endParaRPr b="0" lang="en-US" sz="3200" spc="-1" strike="noStrike">
              <a:solidFill>
                <a:srgbClr val="0066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Academic Blogging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ademics going online is not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ic journals began in disk/BBS format in 1980s and the first ‘Internet’ journals in the mid 1990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ademic blogging is differ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rter articles: 300 – 1,200 wo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y to share by email, social networ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archable on the open web – could be a teaching to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ole person style – where content may be personal as well as academ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tant comments and feed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Academic Blogging, contd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0328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yone can do it – exceptionally easy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dp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log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f-ho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stitu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sted in mainstream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semination is immediate – seconds as compared to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pectrum of offerings from stars (like Paul Krugman) to more ordinary academic fo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1365120" y="274680"/>
            <a:ext cx="64119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389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1:26:37Z</dcterms:created>
  <dc:creator>hallas</dc:creator>
  <dc:description/>
  <dc:language>en-US</dc:language>
  <cp:lastModifiedBy>John Callaghan</cp:lastModifiedBy>
  <dcterms:modified xsi:type="dcterms:W3CDTF">2011-06-12T16:34:55Z</dcterms:modified>
  <cp:revision>23</cp:revision>
  <dc:subject/>
  <dc:title>Slide 1</dc:title>
</cp:coreProperties>
</file>