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38BD-5707-49DD-A850-C8764E1840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0AA7-84BE-4465-85C6-1386D1C36F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495E-9475-4677-8958-7E86FADE70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45CF-3ED5-44BC-B760-65DF617F72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FF8A-CE9F-4005-9EAE-0CB3F3D226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648F-78A0-41E1-8225-21A8B3B1B1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3466-8C6B-4F0C-9E9C-D602E5EBD4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CDEC-1113-4209-8FE0-39F3B60E6C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BFB0-A232-4BE3-82A6-B158402CC7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CD27-D974-4B8B-9396-02FC219A06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32FF-43CB-4BC7-AA39-0D655421D8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8770-B8EB-487F-908D-4DB2305619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11AB-3F47-418A-9383-D344C82673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BB7B-EE8B-4944-84F2-B02173E319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7434-EA75-4A61-9E8A-08EDF202DE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2668-97B4-4B15-AF6F-2866B3E098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DEC8-ABA5-4AA5-AF5B-85AE496F67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0932-4AB6-4FC5-B5CA-DA340E9280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EAB8-1E8C-4BB1-B245-BACDDDC343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70E8-F084-4F12-ADB2-A96CA1FF26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67DE-E946-471D-949D-B7A8F515F8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43E7-EDF1-4AAB-A2DD-610F4A34F9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DFE4-7857-466B-9265-4F34FD9F4C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4D4C-1F9B-4C94-9536-62DB9A9487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BE05-9BD5-475F-AE52-AFB1BEA1F5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FC43-858B-407A-B9CE-304D9D6D46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A228-BF3E-452C-A0D8-5BBA769ED4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DEBD-D9C1-47C0-9870-6B88272625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DB2A-3A83-4E7C-9A6F-38B4D5DB38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5F2F-6764-4128-8DC9-9CA07BDD75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E6A8-0353-4631-844C-F7EEEFBA2A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1559-5C2A-421A-BC21-946D3839C1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9399-D01D-47E2-8843-4C6D3D405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D96E-8640-4466-9355-A31699E65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94A1-A61A-4456-A0F5-B079C26F6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AD40B-C73C-4A47-8A3C-D4E9471DB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2B088-23D7-4C68-909D-A9FAEF1C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A026D-29C7-4C8C-A20C-74AFC01F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F2181-6711-4BA2-A05D-9E218628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FB630-CE43-4D94-A843-864302F0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1AB8C-2D17-4DFB-8178-71AF8FFB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08977-50CB-46F9-B7C9-EC988F2F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D85D5-B23A-4E63-956B-B4920A2A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4F46-C9E3-49AF-BCC7-09FC84B48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C16B5-C959-4206-A7C1-8509F7EF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10573-7A6D-4EA3-8BEE-4FC8487A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37C02-43D9-4A30-A9FC-D84E4F5D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4D11F-1CB5-4B97-9F1B-E18DA72B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3097B-6FB5-46A9-9ED5-6FB6A94C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BFB8DE-2DB7-47D6-8806-F1E51DDA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B68CFA-E716-45B4-A287-F7C05908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6BF56C-D857-42C5-AE7B-779BB7C7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50FDB4-B034-4984-BB76-ECD123EA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437BD2-BBDE-4656-A0A7-46BE8943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580E-298E-413A-A93B-06DD6C133E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DA4699-D799-40A1-BA50-7A8F4E36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F61487-F564-42AC-9328-1478DD90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D8B356-3224-4D07-8471-244ABF7B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22F3B2-9364-48BF-AD09-A942BF37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DABFD4-1D36-4651-B3FF-50565F1E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C51442-7148-40E2-B9E5-6992529B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EC8D1D-340A-4A9D-82AB-9977F7D9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6D40A2-4970-42F0-AA2E-717D2AB9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500B8D-242D-498D-843C-FEE61A08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9C001A-107A-4385-B0B9-7BB3B67D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21DC-2BB2-48CF-BC72-4041C78B51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686D45-4853-44FE-BC9A-46F3DA5C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87E854-FC36-4A96-93F8-F5E15521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461687-AA50-46A2-A127-4800E367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27E19C-7727-417A-AE1C-DBA0D072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8CEA0C-9060-4CBF-B53B-24344CAD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A21C24-D6FF-4EFE-8B5A-53174B2B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23B65A-F598-4112-99E8-3430C930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79F48B-0F1D-4661-ABE5-E21275AE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C9F601-5607-419A-9127-1421AD88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AFBB9B-E9DC-4991-9721-39797CF4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081C-66DA-464B-9BC5-063C4CF8DC4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EEC6FB-B13B-47B2-91CB-0DE5E1E5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2C4F23-ECCA-4501-982B-0B9C2C83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CA7A8C-FDD7-4A74-AC9D-1344CBEE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080E0D-2EE0-438B-B584-82B4F212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19A2BA-618A-4CFA-844C-479D2191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D7B5BB-1D95-4DCD-97DF-C263BE54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FE4142-F62F-4729-B8EC-DE31AD09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185C80-D690-4FB0-BD49-51B7472D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E13A5B-A1A8-42C4-B16A-11B4B8E3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434F7C-301B-4CC6-81B2-5D1C230D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1FA2-CD9B-40FE-BCB3-F4FA9A136AF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B79DBC-EC54-438C-907A-8274B3A2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690EDF-16C8-40CF-8309-7CEE1F82D82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5800F1-6710-43BA-8DD1-3B71824C0E1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03F179-3AA0-4C19-9F29-771FFF175DB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91AE41-6857-4F6D-9D10-BD767AD2456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13F91-1EDA-4791-9C67-BCE7F345C99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8B1E2-2990-4A87-8AC8-8B676815114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D90869-47FA-48D0-A062-273AD8D75F9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7C5B26-3D4A-4235-B83F-C5C1CC3FD47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832AA3-8E8D-4BFF-80BA-CC09DF977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0433-2DBF-4FE1-96D7-1863E5B9160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95CB80-8280-4B61-A79A-285D2190EF0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7CD21E-66EB-45DB-A814-7F6FC1D142D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3026BC-6F55-492C-B0D3-C1E8F19D2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FD68-C9AE-46E9-94D7-146CB9B35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5C2E-DCCA-4A2C-AEF1-E484FBC29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AF6A-1AEF-4BEA-AF97-DAE1D4A425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1" descr=""/>
          <p:cNvPicPr/>
          <p:nvPr/>
        </p:nvPicPr>
        <p:blipFill>
          <a:blip r:embed="rId2"/>
          <a:stretch/>
        </p:blipFill>
        <p:spPr>
          <a:xfrm>
            <a:off x="71280" y="5950080"/>
            <a:ext cx="1476360" cy="89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3DDB-8CCD-4434-8273-4817B56A36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98F1-06F9-4E1D-A86B-C3A0A91753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BAEA-EEE7-4800-8A26-65832F2D8D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FF99-4371-40E4-9812-936B200A2B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09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12" name="Picture 11" descr=""/>
          <p:cNvPicPr/>
          <p:nvPr/>
        </p:nvPicPr>
        <p:blipFill>
          <a:blip r:embed="rId2"/>
          <a:stretch/>
        </p:blipFill>
        <p:spPr>
          <a:xfrm>
            <a:off x="54000" y="5445000"/>
            <a:ext cx="2286000" cy="13906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4"/>
          </p:nvPr>
        </p:nvSpPr>
        <p:spPr>
          <a:xfrm>
            <a:off x="7009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C3E5-4E57-4A4F-B8D1-086F07C719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alibri"/>
              </a:rPr>
              <a:t>Improving Academic Communication</a:t>
            </a:r>
            <a:endParaRPr b="0" lang="en-US" sz="40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mbria"/>
              </a:rPr>
              <a:t>Patrick Dunleavy and Chris Gils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mbria"/>
              </a:rPr>
              <a:t>LSE Public Policy Grou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mbria"/>
              </a:rPr>
              <a:t>Investigating Academic Impacts confere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mbria"/>
              </a:rPr>
              <a:t>13 June 201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1355760" y="274680"/>
            <a:ext cx="64310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892080" y="274680"/>
            <a:ext cx="73580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Single author blogs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Have grown massively in popularity (with their authors) in recent years; e.g. Warwick lists over 7,000 on their portal with over 140,000 entri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But, without frequent updates, these often wither – 75%+ of blogs worldwide are dead or dormant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ith increasing pressure on academics and university staff – who has the time to blog?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68680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1547640" y="301680"/>
            <a:ext cx="6662880" cy="5900760"/>
          </a:xfrm>
          <a:prstGeom prst="rect">
            <a:avLst/>
          </a:prstGeom>
          <a:ln w="0">
            <a:noFill/>
          </a:ln>
        </p:spPr>
      </p:pic>
      <p:sp>
        <p:nvSpPr>
          <p:cNvPr id="280" name="Oval 6"/>
          <p:cNvSpPr/>
          <p:nvPr/>
        </p:nvSpPr>
        <p:spPr>
          <a:xfrm>
            <a:off x="1116000" y="4941720"/>
            <a:ext cx="5256360" cy="11512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Single author blogs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Content is king, and ‘vanity’ projects with infrequent posts are counter-productive and won’t surviv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Some SABs are successful in the political arena (</a:t>
            </a:r>
            <a:r>
              <a:rPr b="0" i="1" lang="en-GB" sz="2500" spc="-1" strike="noStrike">
                <a:solidFill>
                  <a:srgbClr val="000000"/>
                </a:solidFill>
                <a:latin typeface="Calibri"/>
              </a:rPr>
              <a:t>Guido Fawkes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But most SABs are now either shutting down or joining with other (more corporate) bloggers – even in political commentary (</a:t>
            </a:r>
            <a:r>
              <a:rPr b="0" i="1" lang="en-GB" sz="2500" spc="-1" strike="noStrike">
                <a:solidFill>
                  <a:srgbClr val="000000"/>
                </a:solidFill>
                <a:latin typeface="Calibri"/>
              </a:rPr>
              <a:t>Iain Dal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Appetite for personal commentary/ glimpses of life has now shifted to Twitter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Calibri"/>
              </a:rPr>
              <a:t>Multi-author academic blogs </a:t>
            </a:r>
            <a:br>
              <a:rPr sz="4000"/>
            </a:br>
            <a:r>
              <a:rPr b="0" lang="en-GB" sz="4000" spc="-1" strike="noStrike">
                <a:solidFill>
                  <a:srgbClr val="006666"/>
                </a:solidFill>
                <a:latin typeface="Calibri"/>
              </a:rPr>
              <a:t>(MAABs)</a:t>
            </a:r>
            <a:endParaRPr b="0" lang="en-US" sz="4000" spc="-1" strike="noStrike">
              <a:solidFill>
                <a:srgbClr val="0066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Multi-author academic blogs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ultiple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vering many topics or su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sting regularly and reliably, so that readers know when to re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lexible formats – from ‘Top-level’ blogs with hundreds of authors and posting every day (e.g. LSE’s </a:t>
            </a: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British Politics and Policy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lo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rough to smaller MAABs for single departments or networks, posting weekly or bi-week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ments and social media can help build a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asy to track readership with Google Analy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7" descr=""/>
          <p:cNvPicPr/>
          <p:nvPr/>
        </p:nvPicPr>
        <p:blipFill>
          <a:blip r:embed="rId1"/>
          <a:stretch/>
        </p:blipFill>
        <p:spPr>
          <a:xfrm>
            <a:off x="1312920" y="274680"/>
            <a:ext cx="65181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Multi-author blogs and social media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itter/Facebo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the blog and can greatly extend its reach and vi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interactive elements to build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ourage discussion, rapid correction and clarif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Outline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Academic communication as it is now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Academic blogging, and the advent of Multi-author academic blogs (MAABs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Using social medi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Multi-author blogs at the LSE and beyon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1227240" y="274680"/>
            <a:ext cx="66880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"/>
          <p:cNvPicPr/>
          <p:nvPr/>
        </p:nvPicPr>
        <p:blipFill>
          <a:blip r:embed="rId1"/>
          <a:stretch/>
        </p:blipFill>
        <p:spPr>
          <a:xfrm>
            <a:off x="1122480" y="274680"/>
            <a:ext cx="68990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Multi-author blogs – style tips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short paragraphs, simple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ont load’ the narrative – get the key points at the begi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ways u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arrative title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written by the blog team, not the author) will help content to ‘go viral’ – can you retweet the title as it stand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clude good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ntroductory paragraph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also written by the blog team) give the gist of the argument and key take-away mess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leave out simple, clear, charts and dia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ive methods information where it is needed – help expand public understanding of academic sub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Creative Commons license helps content to spr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Multi-author (themed) blogs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well linked to a journal (e.g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cial Euro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generate many Twitter followers (e.g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ritish Politics and Polic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LSE has 4,200 in a yea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cial Euro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s 10,000+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make good use of podcasts, video and other rich media elements (e.g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cial Euro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ed orientations e.g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Convers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newspap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ustralian Policy On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index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618948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5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3137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5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601164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Smaller multi-author (themed) blogs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becoming more and more prevalent worldwide – a few we’ve noticed in our are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at LSE – Media, International Affairs,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xford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olitics in S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tingham -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allots and Bul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1285920" y="274680"/>
            <a:ext cx="65707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Multi-author blogs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internet is not a zero-sum game, and if many universities pitch in to better communicate academic knowledge to wider audiences the result should be beneficial for al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Academic Communication as it is now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urnal articles, conference proceedings (very high-price) books, book re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urnal articles and books are read by few, and rarely picked up by the med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ext of books and closed-web articles is completely inaccessible to those without journal/library access, far too long, and often impenetrably writt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lecting a one-way (experts only) communications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Structural issues for MAABs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tting institutional buy-in is tric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ping with academics who don’t “get it” and want to “stay long” – offer to rewrite stuff for them, giving them final editorial control (of main tex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aling with Press Office/ Communications/ External Relations and other vested interests, who often are very slow to change and feel threat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Y options – single departments/groups can run less ambitious MAABs. But what will make folk come back to you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aculty and university-wide MAABs will probably work b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llaborations between institutions and networking can both help in assembling a critical mass of aut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Conclusions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fessional standards of communication are changing in every walk-of-life and every academic discipl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ually towards getting shorter – “Less is mor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ong exceptions too though, like 24 hours news long interviews, to fill the space; many webcasts and podcast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 research outputs need different versions, targeted more to segmented audiences (e.g. closed-web experts and open-web audienc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even these distinctions may lapse – e.g. free-to-read professional journals are opening up full details to everyone online (who’s expert enoug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with 50% of each UK generation becoming  graduates, and universities needing alumni support, communicating expertly to graduates is set to be more v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Academic Communication cont’d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scientists are observers who need to communicate their observations to the world (in a timely fash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much of social scientists’ knowledge and input goes unapplied because of very long time-lines for outputs, and lack of adaptation or trans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how can we change or complement the ‘traditional’ mod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Calibri"/>
              </a:rPr>
              <a:t>Academic blogging and the advent of Multi-Author Academic Blogs (MAABs)</a:t>
            </a:r>
            <a:endParaRPr b="0" lang="en-US" sz="3200" spc="-1" strike="noStrike">
              <a:solidFill>
                <a:srgbClr val="0066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Academic Blogging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ademics going online is not n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ctronic journals began in disk/BBS format in 1980s and the first ‘Internet’ journals in the mid 1990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ademic blogging is differ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rter articles: 300 – 1,200 wor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y to share by email, social networ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archable on the open web – could be a teaching to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ole person style – where content may be personal as well as academ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stant comments and feedb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Calibri"/>
              </a:rPr>
              <a:t>Academic Blogging, contd</a:t>
            </a:r>
            <a:endParaRPr b="0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03280" y="1700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yone can do it – exceptionally easy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dp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log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lf-ho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stitu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sted in mainstream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ssemination is immediate – seconds as compared to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pectrum of offerings from stars (like Paul Krugman) to more ordinary academic fol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"/>
          <p:cNvPicPr/>
          <p:nvPr/>
        </p:nvPicPr>
        <p:blipFill>
          <a:blip r:embed="rId1"/>
          <a:stretch/>
        </p:blipFill>
        <p:spPr>
          <a:xfrm>
            <a:off x="1365120" y="274680"/>
            <a:ext cx="64119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389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1:26:37Z</dcterms:created>
  <dc:creator>hallas</dc:creator>
  <dc:description/>
  <dc:language>en-US</dc:language>
  <cp:lastModifiedBy>John Callaghan</cp:lastModifiedBy>
  <dcterms:modified xsi:type="dcterms:W3CDTF">2011-06-12T16:34:55Z</dcterms:modified>
  <cp:revision>23</cp:revision>
  <dc:subject/>
  <dc:title>Slide 1</dc:title>
</cp:coreProperties>
</file>