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5B4-3DD7-4AD5-A9FC-F6D1ED54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795-F8E5-4706-9F8C-95ECB2E4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96F-ECF4-4AEB-B0E9-E32642A6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23A-1E49-40EC-AA4B-D9C5583D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FD0-A197-4640-BC67-A866CE0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F3F-2E37-411B-A5AC-4D0E4BAC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44D-E9B6-425D-8AF6-F9D1174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758-C959-4120-9DCA-EFFC691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4E8-1216-4071-B885-4CC9CFC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80F-5D1F-432F-84F1-7EDB0BD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DE4-549B-4841-994B-9F4D658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ABB-3B6A-4EB3-96AE-A9DCF022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0C79-E290-4D49-A499-F8B8C7B212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work of the Public Administration Select Committee (PAS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rnard Jenkin 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adership of change: new arrangements for the roles of the Head of the Civil Service and the Cabinet Secretar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hanges “could lead to weaker leadership and disperse power at a critical time of change in government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oth attend Cabinet on equal te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oth must have access to the Prime Minister and the authority “to speak truth unto power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overnment and IT- "A Recipe For Rip-Offs": Time For A New Approa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-reliant on an oligopoly of large contr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ck of in-house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Result: A recipe for rip-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Big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5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overnment use of statistics and the UK Statistics Autho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304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work of the Parliamentary and Health Service Ombudsm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4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work of the Commissioner for Public Appointments and First Civil Service Commissioner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4" descr=""/>
          <p:cNvPicPr/>
          <p:nvPr/>
        </p:nvPicPr>
        <p:blipFill>
          <a:blip r:embed="rId1"/>
          <a:stretch/>
        </p:blipFill>
        <p:spPr>
          <a:xfrm>
            <a:off x="390600" y="2189160"/>
            <a:ext cx="82407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Administrative Justice and Tribunals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5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work of the Business Appointment Rules and the Advisory Committee on Business Appoint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A ‘revolving door’ between business and Whiteh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rn about the movement of personnel between the private sector and the civil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owing demand for civil servants with external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ivil service job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diversity of providers for public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Future Work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5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x Principles of Good 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par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mpower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very short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stablished in 19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bined the remits of two commit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mmittee on the Ombuds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mmittee on public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ir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odri Morgan (1997-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ny Wright (1999-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rnard Jenkin (2010 to d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work of the Public Administration Select Committee (PAS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rnard Jenkin 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SC’s re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o examine the reports of the Parliamentary Commissioner for Administration and the Health Service Commissioner for England” (i.e. the ‘Ombudsman’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d matters in connection therewith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o consider matters relating to the quality and standards of administration provided by civil service department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d other matters relating to the civil service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House of Commons Standing Order No. 14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rough map of PASC’s re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8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278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does UK National Strate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7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trategic Thinking in Gover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llow up to the National Strategy inqui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strategy is linked to policy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ssons from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ole of social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maller Government: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hrinking the Quango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issed opportun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pelessly unclea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shed and poorly handle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t should have used this as an opportunity to transfer function to charities and mut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g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maller Government: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minister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hange in Government: The Agenda for Lead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23:01Z</dcterms:created>
  <dc:creator>Alexandra Meakin</dc:creator>
  <dc:description/>
  <dc:language>en-US</dc:language>
  <cp:lastModifiedBy>Peter Cannon</cp:lastModifiedBy>
  <dcterms:modified xsi:type="dcterms:W3CDTF">2012-01-31T15:20:44Z</dcterms:modified>
  <cp:revision>25</cp:revision>
  <dc:subject/>
  <dc:title>A very short history</dc:title>
</cp:coreProperties>
</file>