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A69B-C329-408C-86BB-C56E8289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5E80-E581-4D6D-A942-48EAAD42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8BA2-4BB3-4410-A844-5F8208E4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5A48-8E34-4D34-B8D6-EF973C6D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F344-176F-4BD1-9310-1D62C1B2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8930-6C9F-49E1-B4DE-A7B218A3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70A7-97AB-4B7A-AB4A-D13C4BB1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A4C7-F9E4-4D59-884D-6797DDC6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FFD3-DA26-4DB7-9B9F-5D218B6D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28C8-E233-4749-A339-C4C56D26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151F-9BCB-445D-B9D7-2EA571DC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BAFC-7DA3-4331-A95F-C7EABF19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7C3E-DE59-49FC-89E3-6F5C5426832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he work of the Public Administration Select Committee (PASC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ernard Jenkin 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eadership of change: new arrangements for the roles of the Head of the Civil Service and the Cabinet Secretary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hanges “could lead to weaker leadership and disperse power at a critical time of change in government”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oth attend Cabinet on equal ter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oth must have access to the Prime Minister and the authority “to speak truth unto power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overnment and IT- "A Recipe For Rip-Offs": Time For A New Approac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ver-reliant on an oligopoly of large contr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ck of in-house 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Result: A recipe for rip-off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he Big 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5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overnment use of statistics and the UK Statistics Author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3" descr=""/>
          <p:cNvPicPr/>
          <p:nvPr/>
        </p:nvPicPr>
        <p:blipFill>
          <a:blip r:embed="rId1"/>
          <a:stretch/>
        </p:blipFill>
        <p:spPr>
          <a:xfrm>
            <a:off x="438120" y="1596960"/>
            <a:ext cx="83041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he work of the Parliamentary and Health Service Ombudsma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4" descr=""/>
          <p:cNvPicPr/>
          <p:nvPr/>
        </p:nvPicPr>
        <p:blipFill>
          <a:blip r:embed="rId1"/>
          <a:stretch/>
        </p:blipFill>
        <p:spPr>
          <a:xfrm>
            <a:off x="438120" y="1596960"/>
            <a:ext cx="82677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he work of the Commissioner for Public Appointments and First Civil Service Commissioner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Content Placeholder 4" descr=""/>
          <p:cNvPicPr/>
          <p:nvPr/>
        </p:nvPicPr>
        <p:blipFill>
          <a:blip r:embed="rId1"/>
          <a:stretch/>
        </p:blipFill>
        <p:spPr>
          <a:xfrm>
            <a:off x="390600" y="2189160"/>
            <a:ext cx="82407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he Administrative Justice and Tribunals Counc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5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he work of the Business Appointment Rules and the Advisory Committee on Business Appointmen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A ‘revolving door’ between business and Whitehal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cern about the movement of personnel between the private sector and the civil ser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owing demand for civil servants with external expert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ivil service job lo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eater diversity of providers for public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Future Work Pr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5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ix Principles of Good Govern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ransparen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ng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mpower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 very short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stablished in 199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mbined the remits of two committ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committee on the Ombuds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committee on public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aired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hodri Morgan (1997-199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ny Wright (1999-20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ernard Jenkin (2010 to d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he work of the Public Administration Select Committee (PASC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ernard Jenkin 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ASC’s rem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o examine the reports of the Parliamentary Commissioner for Administration and the Health Service Commissioner for England” (i.e. the ‘Ombudsman’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nd matters in connection therewith”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o consider matters relating to the quality and standards of administration provided by civil service departments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nd other matters relating to the civil service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House of Commons Standing Order No. 14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 rough map of PASC’s rem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8" descr=""/>
          <p:cNvPicPr/>
          <p:nvPr/>
        </p:nvPicPr>
        <p:blipFill>
          <a:blip r:embed="rId1"/>
          <a:stretch/>
        </p:blipFill>
        <p:spPr>
          <a:xfrm>
            <a:off x="420840" y="1596960"/>
            <a:ext cx="8278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o does UK National Strateg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7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trategic Thinking in Gover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llow up to the National Strategy inqui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 strategy is linked to policy-m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national 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ssons from bu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ole of social me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maller Government: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hrinking the Quango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missed opportunit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pelessly unclear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ushed and poorly handle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vt should have used this as an opportunity to transfer function to charities and mutu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g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maller Government: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at do ministers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"/>
          <p:cNvPicPr/>
          <p:nvPr/>
        </p:nvPicPr>
        <p:blipFill>
          <a:blip r:embed="rId1"/>
          <a:stretch/>
        </p:blipFill>
        <p:spPr>
          <a:xfrm>
            <a:off x="438120" y="1584360"/>
            <a:ext cx="82677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hange in Government: The Agenda for Leade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4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7:23:01Z</dcterms:created>
  <dc:creator>Alexandra Meakin</dc:creator>
  <dc:description/>
  <dc:language>en-US</dc:language>
  <cp:lastModifiedBy>Peter Cannon</cp:lastModifiedBy>
  <dcterms:modified xsi:type="dcterms:W3CDTF">2012-01-31T15:20:44Z</dcterms:modified>
  <cp:revision>25</cp:revision>
  <dc:subject/>
  <dc:title>A very short history</dc:title>
</cp:coreProperties>
</file>