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4103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razil-EU Sectoral Dialogue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Housing Finance and Subsidies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Reflections on Brazil</a:t>
            </a:r>
            <a:br>
              <a:rPr sz="3600"/>
            </a:b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7160" y="2205000"/>
            <a:ext cx="803592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hristine Whiteh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London School of Economic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Lucida Sans"/>
              </a:rPr>
              <a:t>London,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Lucida Sans"/>
              </a:rPr>
              <a:t>September 25th, 201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European Social Housing: the Challeng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716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ower subsidies mean providers must use more of their own resources to undertake investment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roblems because standards of post war estates no longer adequate, while the location and types of employment have also changed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assive problems, especially in Eastern Europe where rapid privatisation, in terms of maintenance, improvement and energy effici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creasing proportions of older and more vulnerable households who need continuing support if they are to access and pay for adequate hous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European Social Housing: more general challeng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Declining population in some regions/countrie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Worsening income distribution in most countries 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Increasing problems of residualisation – tenure and/or spatial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Increasing pressure to cut public budget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Need to find other sources of subsidy – especially from landowner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Increasing issues of affordability among lower income employed household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Increasing emphasis on private renting 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Unicode MS"/>
              </a:rPr>
              <a:t>BUT social rented housing remains a good and sustainable model in many countrie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he scale of the problem – not seen in the 1950s in Europe when we also had massive government funded investment programm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he scale of the country -  8.5 bn sq km compared to USA 9.8 and Europe 10.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credible spatial inequality  with the concentration of much of the economic activity in major cities  in the South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Yet a strong national government developing nation wide policie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716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ubsidy system based on absolute incomes so, given spatial inequalities may potentially help 80% of households in some regions and fewer than 10% in oth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t with three income bands  assistance is progressive within a region and seeks to help poorest the m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uch more sophisticated system than Europe could manage mainly because of high quality data on households and their circumstan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1640" y="177300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overnment sponsored investment dominating the development market in many  parts of the country  - but hardly touching some high priced/cost areas – notably Sao Paulo and Ri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velopers have market power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ften depends on local authorities facilitating development and providing land  - a major source of frustration as in many European coun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or surprisingly the built form is fairly basic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attempt to provide community  services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aixa 2 and 3 have good external landscaping etc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rvice charges can be as much as interest charge for Faixa 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ormally on periphery – issues around quality and cost of transport and access to employment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1628640"/>
            <a:ext cx="777240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tal concentration on owner-occupation  - only possible option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or Faixa 1 free after 10 ye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urther up scale households have better choice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t issues around long term management and maintenance of properties and environ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tential for co-operatives especially in urban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reas?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ly all government sponsored fin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o capacity to recycle subsid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o income stream so difficult to bring in private financ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ly no demand side subsidie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o long term is the policy sustainable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flections on Brazil: A Basis for Dialogue?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mazing levels of commitment, enthusiasm and mone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learly benefiting those who choose to bu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ny of the reflections themeselves reflect concerns about how the European system has opera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ooking to the longer term – in Europe and Brazil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hank you for the chance to see it working on the grou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Approaches to Social Housing in Northern Europe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tate subsidies from late nineteenth century associated with the introduction of higher standards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st-1945 mass, state provided, rental housing across Northern and Eastern Europe to meet numerical shortfalls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itially aimed at lower income working households rather than the poorest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wo main models evolved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ocial housing for all in eg Sweden, Denmark, the Netherlands, France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ocial housing concentrated on helping  poorer households in eg UK, Ireland, Germany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Over time have become more similar as all move towards housing more vulnerable household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Financing Social Housing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ost war model mainly state finance and subsidy usually through interest rate reductions. Often some local contribution and often on state owned land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y 1970s and 1980s numerical shortfalls mainly overcome and macro economic problems (including rapid inflation and EU pressure) led to increasing emphasis on reducing public expenditure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troduction of income related subsidies and financial market deregulation, together with increasingly valuable unencumbered capital assets, opened up opportunities for new methods of financing  social housing through the private sector.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Private Finance for Social Housing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112536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ivate finance initially came mainly from retail banks.  Conditions necessary included strong asset base; a predictable rental stream; and powers to raise rents/sell assets to cover unexpected costs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sually involved continued subsidy (often in the form of an upfront capital grant) to maintain rents at affordable levels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form of continuing guarantee of income stream to lender – (eg direct financial guarantees; certainty of continued housing allowances)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Current Approaches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560" y="1052280"/>
            <a:ext cx="7885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irect supply side subsidies down;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hifts towards other sources of subsidy eg public land and guarantees;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igher rents, wider range of products (including low cost home ownership) and more targeted income related subsidie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generation includes densification/mixed use redevelopments to cross subsidise social housing;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trong capital base allows borrowing at relatively low interest rate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se of bonds, complex financial instruments, sales to tenants, other suppliers and private equit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urrent Situa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16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ize of the social rented sector declining in some European countries – but not as fast as had been predicted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hanging attributes of social tenants – more vulnerable, more ethnic minorities, more migrants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creasing emphasis on regeneration of post-war estates which are now of poor quality and expensive to maintain and improve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inuing shift from supply side to income related subsidie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Lucida Sans"/>
              </a:rPr>
              <a:t>Income-related housing subsidi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5610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Private tenant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 12 coun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Social tenant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 countries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cep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eland (where rents set in relation to household incomes) and Spai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Owner-occupier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(some): most coun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Eligibility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usehold income, household size, housing size and r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Amount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me countries cover up to full rent; others require households to make a minimum payment or pay only a propor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Rent ceiling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ually app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Tenure of dwelling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19280" y="1125360"/>
          <a:ext cx="6769080" cy="5029200"/>
        </p:xfrm>
        <a:graphic>
          <a:graphicData uri="http://schemas.openxmlformats.org/drawingml/2006/table">
            <a:tbl>
              <a:tblPr/>
              <a:tblGrid>
                <a:gridCol w="2305080"/>
                <a:gridCol w="2663640"/>
                <a:gridCol w="1800360"/>
              </a:tblGrid>
              <a:tr h="6426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ocial rented housing as % of housing sto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ange in last dec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ther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ust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fb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zech Re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ung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Demographic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125360"/>
            <a:ext cx="716112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Hollowing-out’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young (and children) and the old (pensioner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unemployed or non participa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ngle par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w incomes—median incomes of social tenants 50-70% of national median incom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igrants and ethnic minorities often overrepresen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ed for shallow subsidy housing for those somewhat further up the sca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Emma Sagor</cp:lastModifiedBy>
  <cp:lastPrinted>2013-05-17T14:25:52Z</cp:lastPrinted>
  <dcterms:modified xsi:type="dcterms:W3CDTF">2014-09-26T07:21:03Z</dcterms:modified>
  <cp:revision>235</cp:revision>
  <dc:subject/>
  <dc:title>Impacts of Recent International Migration on a Destination City  some observations from London</dc:title>
</cp:coreProperties>
</file>