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>
            <a:alphaModFix amt="85000"/>
          </a:blip>
          <a:srcRect l="0" t="0" r="0" b="11155"/>
          <a:stretch/>
        </p:blipFill>
        <p:spPr>
          <a:xfrm>
            <a:off x="0" y="-144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576360" y="4008600"/>
            <a:ext cx="183960" cy="396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22880"/>
            <a:ext cx="9144000" cy="406440"/>
          </a:xfrm>
          <a:prstGeom prst="rect">
            <a:avLst/>
          </a:prstGeom>
          <a:solidFill>
            <a:srgbClr val="ffcc66"/>
          </a:solidFill>
          <a:ln w="9360">
            <a:solidFill>
              <a:srgbClr val="ff6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5724360" y="6127920"/>
            <a:ext cx="443160" cy="396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45800" b="0"/>
          <a:stretch/>
        </p:blipFill>
        <p:spPr>
          <a:xfrm>
            <a:off x="6300720" y="6093000"/>
            <a:ext cx="2087640" cy="45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008000" y="836640"/>
            <a:ext cx="7524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925"/>
              </a:spcBef>
              <a:spcAft>
                <a:spcPts val="7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he struct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ousing finance and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ubsidies policy in Brazil</a:t>
            </a:r>
            <a:r>
              <a:rPr b="0" lang="pt-BR" sz="2800" spc="-1" strike="noStrike">
                <a:solidFill>
                  <a:srgbClr val="80808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25"/>
              </a:spcBef>
              <a:spcAft>
                <a:spcPts val="7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rebuchet MS"/>
              </a:rPr>
              <a:t>PRELIMINARY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tângulo 4"/>
          <p:cNvSpPr/>
          <p:nvPr/>
        </p:nvSpPr>
        <p:spPr>
          <a:xfrm>
            <a:off x="1042920" y="3716280"/>
            <a:ext cx="74534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Fernando Gar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Secretaria Nacional de Habi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Ministério das C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São Paulo, September 24th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4" descr="ASSINATURA_SNH_MCIDADES"/>
          <p:cNvPicPr/>
          <p:nvPr/>
        </p:nvPicPr>
        <p:blipFill>
          <a:blip r:embed="rId1"/>
          <a:srcRect l="0" t="30365" r="43537" b="23703"/>
          <a:stretch/>
        </p:blipFill>
        <p:spPr>
          <a:xfrm>
            <a:off x="4967280" y="6093000"/>
            <a:ext cx="3448080" cy="469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planalto_presidencia_simbolosnacionais_brasao"/>
          <p:cNvPicPr/>
          <p:nvPr/>
        </p:nvPicPr>
        <p:blipFill>
          <a:blip r:embed="rId2"/>
          <a:stretch/>
        </p:blipFill>
        <p:spPr>
          <a:xfrm>
            <a:off x="8388360" y="5950080"/>
            <a:ext cx="755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ixaDeTexto 2"/>
          <p:cNvSpPr/>
          <p:nvPr/>
        </p:nvSpPr>
        <p:spPr>
          <a:xfrm>
            <a:off x="45720" y="6165720"/>
            <a:ext cx="57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IBGE,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m 5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192880" cy="5168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468360" y="260280"/>
            <a:ext cx="822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uency of contracts by family monthly earnings, PMCMV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nings bracket between R$ 1,600.01 and  R$ 3,27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upo 6"/>
          <p:cNvGrpSpPr/>
          <p:nvPr/>
        </p:nvGrpSpPr>
        <p:grpSpPr>
          <a:xfrm>
            <a:off x="5688000" y="1120680"/>
            <a:ext cx="1361880" cy="799200"/>
            <a:chOff x="5688000" y="1120680"/>
            <a:chExt cx="1361880" cy="799200"/>
          </a:xfrm>
        </p:grpSpPr>
        <p:sp>
          <p:nvSpPr>
            <p:cNvPr id="82" name="Retângulo 7"/>
            <p:cNvSpPr/>
            <p:nvPr/>
          </p:nvSpPr>
          <p:spPr>
            <a:xfrm>
              <a:off x="5688000" y="1196280"/>
              <a:ext cx="216000" cy="216000"/>
            </a:xfrm>
            <a:prstGeom prst="rect">
              <a:avLst/>
            </a:prstGeom>
            <a:solidFill>
              <a:srgbClr val="6432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tângulo 8"/>
            <p:cNvSpPr/>
            <p:nvPr/>
          </p:nvSpPr>
          <p:spPr>
            <a:xfrm>
              <a:off x="5691240" y="1628280"/>
              <a:ext cx="216000" cy="216000"/>
            </a:xfrm>
            <a:prstGeom prst="rect">
              <a:avLst/>
            </a:prstGeom>
            <a:solidFill>
              <a:srgbClr val="dbb7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CaixaDeTexto 9"/>
            <p:cNvSpPr/>
            <p:nvPr/>
          </p:nvSpPr>
          <p:spPr>
            <a:xfrm>
              <a:off x="5983560" y="11206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CaixaDeTexto 10"/>
            <p:cNvSpPr/>
            <p:nvPr/>
          </p:nvSpPr>
          <p:spPr>
            <a:xfrm>
              <a:off x="6018840" y="1551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MCM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2"/>
          <p:cNvSpPr/>
          <p:nvPr/>
        </p:nvSpPr>
        <p:spPr>
          <a:xfrm>
            <a:off x="45720" y="6165720"/>
            <a:ext cx="57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IBGE,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4000" y="879480"/>
            <a:ext cx="8475480" cy="52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uency of contracts by family monthly earnings, PMCMV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nings bracket up to R$ 3,2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upo 6" descr=""/>
          <p:cNvPicPr/>
          <p:nvPr/>
        </p:nvPicPr>
        <p:blipFill>
          <a:blip r:embed="rId2"/>
          <a:stretch/>
        </p:blipFill>
        <p:spPr>
          <a:xfrm>
            <a:off x="5162400" y="1914480"/>
            <a:ext cx="3232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e transfers for PMCMV beneficiaries, in R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2"/>
          <p:cNvSpPr/>
          <p:nvPr/>
        </p:nvSpPr>
        <p:spPr>
          <a:xfrm>
            <a:off x="46080" y="6165720"/>
            <a:ext cx="56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: IBGE,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Imagem 4" descr=""/>
          <p:cNvPicPr/>
          <p:nvPr/>
        </p:nvPicPr>
        <p:blipFill>
          <a:blip r:embed="rId1"/>
          <a:srcRect l="0" t="0" r="30931" b="0"/>
          <a:stretch/>
        </p:blipFill>
        <p:spPr>
          <a:xfrm>
            <a:off x="66600" y="907920"/>
            <a:ext cx="562608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012000" y="1197000"/>
            <a:ext cx="288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e transfers for beneficiaries with earnings of up to R$ 1,600.00 are 1.9 times the average transf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eneficiaries with earnings between R$ 1,600.01 and  R$ 3,275.00, and 10 times the transfers made for families with earnings higher than 3,275.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2"/>
          <p:cNvSpPr/>
          <p:nvPr/>
        </p:nvSpPr>
        <p:spPr>
          <a:xfrm>
            <a:off x="45720" y="6165720"/>
            <a:ext cx="57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IBGE,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magem 5" descr=""/>
          <p:cNvPicPr/>
          <p:nvPr/>
        </p:nvPicPr>
        <p:blipFill>
          <a:blip r:embed="rId1"/>
          <a:srcRect l="0" t="0" r="31874" b="0"/>
          <a:stretch/>
        </p:blipFill>
        <p:spPr>
          <a:xfrm>
            <a:off x="34920" y="620640"/>
            <a:ext cx="5835600" cy="529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e transfers for PMCMV beneficiaries, in months of average earn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12000" y="1197000"/>
            <a:ext cx="288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erms of months of earnings, the average transfers for beneficiaries with earnings of up to R$ 1,600.00 are 6 times the average transf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eneficiaries with earnings between R$ 1,600.01 and  R$ 3,275.00, and 32 times the transfers made for families with earnings higher than 3,275.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OURCES FOR HOUSING SUBSI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8088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structure of housing subsidies in Brazil involves resources from four sour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on budget (OG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idential Leasing Fund (FA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Compensation Fund (FGTS) that allocates non-costly funds to housing financing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donated by states and municipal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s of subsidies are used individually or in a combined manner in diffe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government housing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GRAMS OF HOUSING SUBSI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st ten years, the structure of housing subsidies in Brazil had involved programs that transfer grants for financing 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, municipalities and states, the Federal District and public companies (Pro-housing and Residential Lease Progra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grouped in unions, cooperatives, associations, COHAB or private entities focused on the production of housing (Associative Letter of Credit and Solidarity Credit Program)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(Individual Letter of Credit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spcBef>
                <a:spcPts val="700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s of subsidies were used for both acquisition or leasing of social housing. PMCMV is responsible for more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grants in the last 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75640" cy="536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housing units financ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ubsidies from some feder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4"/>
          <p:cNvSpPr/>
          <p:nvPr/>
        </p:nvSpPr>
        <p:spPr>
          <a:xfrm>
            <a:off x="250920" y="62024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Arial"/>
              </a:rPr>
              <a:t>Source: Caixa Econômica Federal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and subsidies from the MCMV Prog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family earning bracket, for 2009 to 2013, in R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4"/>
          <p:cNvSpPr/>
          <p:nvPr/>
        </p:nvSpPr>
        <p:spPr>
          <a:xfrm>
            <a:off x="179280" y="5302080"/>
            <a:ext cx="831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Source: Caixa Econômica Federal. (*) for beneficiaries in the earnings bracket of  up to R$ 1,600.00, the amount of credit corresponds to the 120 payments of 5% of average earning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aixaDeTexto 2"/>
          <p:cNvSpPr/>
          <p:nvPr/>
        </p:nvSpPr>
        <p:spPr>
          <a:xfrm>
            <a:off x="45000" y="616572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557360"/>
          <a:ext cx="8435880" cy="3600360"/>
        </p:xfrm>
        <a:graphic>
          <a:graphicData uri="http://schemas.openxmlformats.org/drawingml/2006/table">
            <a:tbl>
              <a:tblPr/>
              <a:tblGrid>
                <a:gridCol w="2055600"/>
                <a:gridCol w="1595520"/>
                <a:gridCol w="1595520"/>
                <a:gridCol w="1593720"/>
                <a:gridCol w="1595520"/>
              </a:tblGrid>
              <a:tr h="584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brack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of  up to R$ 1,600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between R$ 1,600.01  and R$ 3,275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between R$ 3,275,01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$ 5,000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27,3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94,9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7,3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39,6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764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* amou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97,128,800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675,298,088.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371,647,964.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044,074,853.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bsid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04,222,509.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779,633,728.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30,073,132.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,913,929,370.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8000">
                <a:tc>
                  <a:txBody>
                    <a:bodyPr lIns="9576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subsidy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96,202,719.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710,642,775.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,874,459.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55,719,953.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576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 Budget subsid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068,990,952.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81,198,673.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50,189,626.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8000">
                <a:tc>
                  <a:txBody>
                    <a:bodyPr lIns="9576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 subsid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108,019,790.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108,019,790.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 saving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50,493,217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53,986,040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904,479,257.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76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he Investm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,401,351,309.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,005,425,033.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455,707,137.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5,862,483,480.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0" r="34036" b="0"/>
          <a:stretch/>
        </p:blipFill>
        <p:spPr>
          <a:xfrm>
            <a:off x="157320" y="1436760"/>
            <a:ext cx="4775040" cy="451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988560"/>
            <a:ext cx="42483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%) subsidies / house prices,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om 2009 to June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2"/>
          <p:cNvSpPr/>
          <p:nvPr/>
        </p:nvSpPr>
        <p:spPr>
          <a:xfrm>
            <a:off x="38160" y="6165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rcRect l="0" t="0" r="8073" b="11577"/>
          <a:stretch/>
        </p:blipFill>
        <p:spPr>
          <a:xfrm>
            <a:off x="2986200" y="1125360"/>
            <a:ext cx="6157800" cy="369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716360" y="738360"/>
            <a:ext cx="4246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ribution of the subsidie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y income bracket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aixaDeTexto 2"/>
          <p:cNvSpPr/>
          <p:nvPr/>
        </p:nvSpPr>
        <p:spPr>
          <a:xfrm>
            <a:off x="45000" y="616572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ixaDeTexto 2"/>
          <p:cNvSpPr/>
          <p:nvPr/>
        </p:nvSpPr>
        <p:spPr>
          <a:xfrm>
            <a:off x="67680" y="616572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: PNAD 2012, IB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 of potential families entitled to the MCMV Program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Brackets and Regions, Septem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557360"/>
          <a:ext cx="8435880" cy="3456000"/>
        </p:xfrm>
        <a:graphic>
          <a:graphicData uri="http://schemas.openxmlformats.org/drawingml/2006/table">
            <a:tbl>
              <a:tblPr/>
              <a:tblGrid>
                <a:gridCol w="2055600"/>
                <a:gridCol w="1595520"/>
                <a:gridCol w="1595520"/>
                <a:gridCol w="1593720"/>
                <a:gridCol w="1595520"/>
              </a:tblGrid>
              <a:tr h="1065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brack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of  up to R$ 1,60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between R$ 1,600.01  and R$ 3,275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bracket between R$ 3,275,01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$ 5,00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ings higher 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 R$ 5,00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52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16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-W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5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42840" y="6165720"/>
            <a:ext cx="34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: CEF and Ministério das Cida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 of the demand attended by MCMV Program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ggest cities, 2010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690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822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uency of contracts by family monthly earnings, PMCMV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nings bracket of  up to R$ 1,6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"/>
          <p:cNvSpPr/>
          <p:nvPr/>
        </p:nvSpPr>
        <p:spPr>
          <a:xfrm>
            <a:off x="45720" y="6165720"/>
            <a:ext cx="57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urce : IBGE, Ministério das Cidades and Caixa Econômica Fede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5" descr=""/>
          <p:cNvPicPr/>
          <p:nvPr/>
        </p:nvPicPr>
        <p:blipFill>
          <a:blip r:embed="rId1"/>
          <a:stretch/>
        </p:blipFill>
        <p:spPr>
          <a:xfrm>
            <a:off x="395280" y="844560"/>
            <a:ext cx="8193240" cy="5067360"/>
          </a:xfrm>
          <a:prstGeom prst="rect">
            <a:avLst/>
          </a:prstGeom>
          <a:ln w="0">
            <a:noFill/>
          </a:ln>
        </p:spPr>
      </p:pic>
      <p:grpSp>
        <p:nvGrpSpPr>
          <p:cNvPr id="73" name="Grupo 3"/>
          <p:cNvGrpSpPr/>
          <p:nvPr/>
        </p:nvGrpSpPr>
        <p:grpSpPr>
          <a:xfrm>
            <a:off x="5003640" y="1120680"/>
            <a:ext cx="1361880" cy="799200"/>
            <a:chOff x="5003640" y="1120680"/>
            <a:chExt cx="1361880" cy="799200"/>
          </a:xfrm>
        </p:grpSpPr>
        <p:sp>
          <p:nvSpPr>
            <p:cNvPr id="74" name="Retângulo 1"/>
            <p:cNvSpPr/>
            <p:nvPr/>
          </p:nvSpPr>
          <p:spPr>
            <a:xfrm>
              <a:off x="5003640" y="1196280"/>
              <a:ext cx="216000" cy="216000"/>
            </a:xfrm>
            <a:prstGeom prst="rect">
              <a:avLst/>
            </a:prstGeom>
            <a:solidFill>
              <a:srgbClr val="6432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tângulo 5"/>
            <p:cNvSpPr/>
            <p:nvPr/>
          </p:nvSpPr>
          <p:spPr>
            <a:xfrm>
              <a:off x="5006880" y="1628280"/>
              <a:ext cx="216000" cy="216000"/>
            </a:xfrm>
            <a:prstGeom prst="rect">
              <a:avLst/>
            </a:prstGeom>
            <a:solidFill>
              <a:srgbClr val="dbb7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CaixaDeTexto 2"/>
            <p:cNvSpPr/>
            <p:nvPr/>
          </p:nvSpPr>
          <p:spPr>
            <a:xfrm>
              <a:off x="5299200" y="11206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CaixaDeTexto 7"/>
            <p:cNvSpPr/>
            <p:nvPr/>
          </p:nvSpPr>
          <p:spPr>
            <a:xfrm>
              <a:off x="5334480" y="1551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MCM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20:43:39Z</dcterms:created>
  <dc:creator>cid.junior</dc:creator>
  <dc:description/>
  <dc:language>en-US</dc:language>
  <cp:lastModifiedBy>amanda olalquiaga</cp:lastModifiedBy>
  <cp:lastPrinted>2014-09-17T22:46:22Z</cp:lastPrinted>
  <dcterms:modified xsi:type="dcterms:W3CDTF">2014-09-25T11:09:23Z</dcterms:modified>
  <cp:revision>816</cp:revision>
  <dc:subject/>
  <dc:title>Slide 1</dc:title>
</cp:coreProperties>
</file>