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73FF9-5E15-40F7-95F2-72C95B6977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B05BB8-DE3C-4FA1-B3B7-74A9FF19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440" y="204840"/>
            <a:ext cx="59770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5127E3-92D8-4F38-ACA3-6FB1416ED3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7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99A3FA-1370-4AD9-B5E2-9B590D813F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44560" y="74124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79480" y="4732200"/>
            <a:ext cx="4911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8EFF60-A37C-42D9-BD36-5E7678733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7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BCD1-E6F7-400D-9C7C-3A78036E8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DAFA-1429-4884-83B5-DCC859C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4984-06F2-4333-8FEA-3F4B610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BFDC-8725-410B-933A-A1F63F2E5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4FDB-1E3B-4E20-8835-E072327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0F0D-6C30-4619-8F5B-DF65FA4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EE42-4C08-425D-BCA8-ED7C729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C7FA-0ADF-4960-958E-95DE8D7E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CBA1-F9DB-4029-8474-D959F496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9773-28BD-469E-B4FB-BD08DA7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00FF-DCB4-414D-977B-A2D2A99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CB50-D159-4C70-8048-80E7B2E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3643A-9A28-4EDD-B1D7-C74A43C5C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47880" y="1320120"/>
            <a:ext cx="789120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852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ment to social housing in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P Scha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1073-81EF-4330-A6CF-78ADB609FE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ick and mortar aid (equivalent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ed VAT (5,5%)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4 1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ate subsid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3 000 €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 authority subsid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7 0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cal Tax rebates #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8 8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Offmarket loan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12 500 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cal authority guaranty #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1 8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-  Financing a social rental d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67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7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Where are the social rental dwellings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% of principal h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 - Target 20% of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341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es above 3500 inhabitants (1500 in Ile de France- Paris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91 communes (56% of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1 do not fulfill this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years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e of € 150/missing d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 control by State Authority and debate about local housing policy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77A0-D5E3-4A82-BCA5-C1BF1F4B89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 Where are the social housing dwelling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341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00 communes  60% o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0% of the HLM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5% of homes are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3000 communes 28%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% of HLM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7% of homes are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1300 communes 12%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% H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CD12-753E-47B7-B4AD-63C196FE134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 A large-scale housing construction</a:t>
            </a: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85080" cy="562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7246-42D5-49A7-AF97-31B5D8BE05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-  Structure of ten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685800"/>
            <a:ext cx="7345440" cy="610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0480-5F62-4E39-B85B-25530FEB0E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-  Housing benefit, brick  and mortar aid, tax reb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f-market loans  € 3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477800"/>
            <a:ext cx="395928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to consumer € 15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nant or owner occupier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ebates € 1.3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 benefit  € 14.5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60520"/>
            <a:ext cx="45003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to producer € 14.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ccupier, investor (social or 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ebates € 7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market loans  € 2.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ck and mortar aid (received) €1.4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rick and mortar aid € 2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 VAT for HLM et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805360"/>
            <a:ext cx="2871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aid € 14.7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8240" y="5843520"/>
            <a:ext cx="2381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 € 5.1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38560" y="4140360"/>
            <a:ext cx="36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38560" y="4140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172360" y="414972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8360" y="465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317080" y="5229360"/>
            <a:ext cx="4363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140360"/>
            <a:ext cx="1440" cy="19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4076640"/>
            <a:ext cx="1440" cy="19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6021360"/>
            <a:ext cx="71892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0" y="6119640"/>
            <a:ext cx="5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00360"/>
            <a:ext cx="1800" cy="251928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1619280"/>
            <a:ext cx="1440" cy="37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78000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31964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9280" y="3780000"/>
            <a:ext cx="21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9280" y="4319640"/>
            <a:ext cx="21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4859280"/>
            <a:ext cx="270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9280" y="5400720"/>
            <a:ext cx="395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4859280"/>
            <a:ext cx="10796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fe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0E11-20FB-4C46-83E6-26EEE6E118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– Housing benefit  is now half of the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8320" y="1413000"/>
            <a:ext cx="783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s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benefit 3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rebates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s 2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benefit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rebates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nd 200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ing fiscal rebates (tax deduction for home buy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3AB2-3A05-4778-BD7C-9F05DAF145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 Where does the money 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dget 2009    34 Md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7840" y="162864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u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7120" y="1619280"/>
            <a:ext cx="106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4320" y="3490920"/>
            <a:ext cx="6246360" cy="100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k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%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240" y="4581360"/>
            <a:ext cx="7651440" cy="703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89480" y="1628640"/>
            <a:ext cx="152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mplo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680" y="2340000"/>
            <a:ext cx="6104520" cy="100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00000" y="5661000"/>
            <a:ext cx="6840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ocal authorities aid  (land, guarantee, directs ) subsidies) are not included in this  financial outloo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143F-0943-4893-984F-DBD6F65888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-  Structure of housing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32720" cy="566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68D6-D791-4886-9610-8230D96B49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 -  Social housing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EDE6-76AF-4CB9-A8E0-B2BADF8B7D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5596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-  Financing a social rental d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193032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7200" y="2297160"/>
            <a:ext cx="2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7360" y="486576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1055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981080"/>
          <a:ext cx="7770960" cy="3676680"/>
        </p:xfrm>
        <a:graphic>
          <a:graphicData uri="http://schemas.openxmlformats.org/drawingml/2006/table">
            <a:tbl>
              <a:tblPr/>
              <a:tblGrid>
                <a:gridCol w="4892760"/>
                <a:gridCol w="2878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/housing (VAT 5,5 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 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subsid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Authority subsid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market loan (CD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loa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.TAFFIN</dc:creator>
  <dc:description/>
  <dc:language>en-US</dc:language>
  <cp:lastModifiedBy>schaefer</cp:lastModifiedBy>
  <dcterms:modified xsi:type="dcterms:W3CDTF">2008-12-03T16:25:24Z</dcterms:modified>
  <cp:revision>9</cp:revision>
  <dc:subject/>
  <dc:title>Présentation PowerPoint</dc:title>
</cp:coreProperties>
</file>