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8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14CD41-B42E-490E-9F58-CB2C364276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3191E4-3037-439C-BB8F-4501C5FA2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5440" y="204840"/>
            <a:ext cx="597708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358606-80E6-4860-984D-563BC01DF3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73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CD9056-2810-462C-AC80-D19EDA03B8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44560" y="74124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79480" y="4732200"/>
            <a:ext cx="4911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0763C6-2A0A-4C03-881D-C60557453E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73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9653B-2F30-4B31-9588-A406FA9C07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C03BC-CC24-4139-98EB-65656E6C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F252D-9B0F-4971-BAC2-D0C4CDCA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B1F66-4244-4668-9669-CD758E5BC0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EC36B-E07A-4C22-AD7C-DAA93770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5D7A0-3B26-47D7-B37C-3006DD28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CFA50-1E8D-4DBA-8648-2D06E468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A14B0-DFFD-4F8C-8672-49FF0B9F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22CD0-8595-42B6-9491-92E1D6B5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D6E6E-D13D-421F-83E3-FF5BC6CE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33112-2CB5-46C9-BE9E-08A5243C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016AA-A2C1-49C2-B647-2DB884A1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087B2E-7B6B-4270-8BBF-2BC63AC62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47880" y="1320120"/>
            <a:ext cx="7891200" cy="41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852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itment to social housing in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ember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P Schae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8D5AD-68E4-43DB-9838-09B5EF05C64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90720" y="17524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rick and mortar aid (equivalent)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duced VAT (5,5%)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4 100 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tate subsidy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3 000 €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cal authority subsidy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7 000 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Local Tax rebates #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 8 800 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Offmarket loan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12 500 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Local authority guaranty #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 1 800 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-  Financing a social rental dwe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5674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74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- Where are the social rental dwellings?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% of principal hom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 - Target 20% of H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1341360"/>
            <a:ext cx="734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es above 3500 inhabitants (1500 in Ile de France- Paris reg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91 communes (56% of popu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1 do not fulfill this requi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years to impr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ne of € 150/missing dw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fter control by State Authority and debate about local housing policy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0B039-A8B3-4078-BDD6-C1B5946B99F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 Where are the social housing dwelling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1341360"/>
            <a:ext cx="734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000 communes  60% on th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90% of the HLM 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5% of homes are H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3000 communes 28% of th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0% of HLM 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7% of homes are H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1300 communes 12% of th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0% HL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6540D-4222-4E6E-93B3-28C33B084CCC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- A large-scale housing construction</a:t>
            </a: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6985080" cy="562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4BAF1-F04B-4830-A5D0-6A1B8ED3770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 -  Structure of ten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685800"/>
            <a:ext cx="7345440" cy="610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24986-6068-4B14-9B47-AAA55F694DF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 -  Housing benefit, brick  and mortar aid, tax reb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ff-market loans  € 30 b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477800"/>
            <a:ext cx="3959280" cy="33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d to consumer € 15.8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nant or owner occupier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 rebates € 1.3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ing benefit  € 14.5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1460520"/>
            <a:ext cx="450036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 to producer € 14.2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er occupier, investor (social or priv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 rebates € 7.8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 market loans  € 2.2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ck and mortar aid (received) €1.4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brick and mortar aid € 2.8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ow VAT for HLM etc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5805360"/>
            <a:ext cx="2871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aid € 14.7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78240" y="5843520"/>
            <a:ext cx="23814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ck and mortar aid € 5.1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238560" y="4140360"/>
            <a:ext cx="363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238560" y="4140360"/>
            <a:ext cx="542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8172360" y="4149720"/>
            <a:ext cx="542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8388360" y="4653000"/>
            <a:ext cx="32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8317080" y="5229360"/>
            <a:ext cx="436320" cy="1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4140360"/>
            <a:ext cx="1440" cy="19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748720" y="4076640"/>
            <a:ext cx="1440" cy="19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01080" y="6021360"/>
            <a:ext cx="71892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0" y="6119640"/>
            <a:ext cx="54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800360"/>
            <a:ext cx="1800" cy="251928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9280" y="1619280"/>
            <a:ext cx="1440" cy="37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3780000"/>
            <a:ext cx="1979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4319640"/>
            <a:ext cx="2880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9280" y="3780000"/>
            <a:ext cx="21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9280" y="4319640"/>
            <a:ext cx="21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9280" y="4859280"/>
            <a:ext cx="2700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9280" y="5400720"/>
            <a:ext cx="3959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00360" y="4859280"/>
            <a:ext cx="10796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ment fe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59388-5B1B-4CD4-A011-45425AF8AE2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 – Housing benefit  is now half of the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8320" y="1413000"/>
            <a:ext cx="7839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ck and mortar aids 5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 benefit 3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cal rebates 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ck and mortar aids 2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 benefit 5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cal rebates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end 2009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creasing fiscal rebates (tax deduction for home buy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EB5FB-8F63-4D18-BEF2-215C34B2928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  Where does the money come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udget 2009    34 Md 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17840" y="1628640"/>
            <a:ext cx="162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ous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7120" y="1619280"/>
            <a:ext cx="106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4320" y="3490920"/>
            <a:ext cx="6246360" cy="100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ck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tar 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%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240" y="4581360"/>
            <a:ext cx="7651440" cy="703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b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33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89480" y="1628640"/>
            <a:ext cx="152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mploy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4680" y="2340000"/>
            <a:ext cx="6104520" cy="100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00000" y="5661000"/>
            <a:ext cx="68407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ocal authorities aid  (land, guarantee, directs ) subsidies) are not included in this  financial outloo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CEE4D-11D9-47EB-9444-C283C472A53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 -  Structure of housing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632720" cy="566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458B8-6F4A-49B6-874C-F4D2C5AE2A1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 -  Social housing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369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6F736-FF1A-4A73-AB89-F6403D9EACA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55964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 -  Financing a social rental dwe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00720" y="193032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57200" y="2297160"/>
            <a:ext cx="237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17360" y="486576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51055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1981080"/>
          <a:ext cx="7770960" cy="3676680"/>
        </p:xfrm>
        <a:graphic>
          <a:graphicData uri="http://schemas.openxmlformats.org/drawingml/2006/table">
            <a:tbl>
              <a:tblPr/>
              <a:tblGrid>
                <a:gridCol w="4892760"/>
                <a:gridCol w="28782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/housing (VAT 5,5 %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000 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subsid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Authority subsid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 market loan (CDC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loa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.TAFFIN</dc:creator>
  <dc:description/>
  <dc:language>en-US</dc:language>
  <cp:lastModifiedBy>schaefer</cp:lastModifiedBy>
  <dcterms:modified xsi:type="dcterms:W3CDTF">2008-12-03T16:25:24Z</dcterms:modified>
  <cp:revision>9</cp:revision>
  <dc:subject/>
  <dc:title>Présentation PowerPoint</dc:title>
</cp:coreProperties>
</file>