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AE8-15B0-4BAD-AEB6-DA5AAB7B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48C-14FD-4B3E-AE53-0FB813B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DDC-0EB8-40CB-B861-8B998559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FF1-3EF1-4C25-8907-3E82CB6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E99-C88E-49FF-9BF4-E10A33B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E4D-E3CF-44FA-966A-2FD1C9A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750-08E6-4BB9-94FE-9ABE7D6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6C8-9B94-48C5-824E-46F0EB9C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751-6CC7-4DF3-B270-A3693816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7BF-3C57-4488-A8FE-0876D009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346-0AD2-4E34-B120-D20D68D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F61-8198-475A-96E7-D793386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F22-2125-4ECD-A220-0C948C2F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merging themes across Europ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revival in social hous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Kath Scanlon, 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ondon, 4 December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ndon School of Economics and Political 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00000" y="5661000"/>
          <a:ext cx="841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661000"/>
                    <a:ext cx="841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Location (location, loc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ncentration in certain cities and areas—not necessarily where deman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rge single-tenure areas make social mix hard to ach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unicipal housing cultures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uld we study differences between nations or between c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lasg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elsingb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irm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reeping influ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f the 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바탕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바탕"/>
              </a:rPr>
              <a:t>2005: ‘housing for disadvantaged citizens or socially less advantaged groups’ who for financial reasons could not get market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its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vernments can subsidise housing for the poor and elderly (e.g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ut not housing open to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end of the universalist trad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now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the number of poor and vulnerable households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house price falls lead to changes in tenure preferen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Will it be easier or harder to create social mi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w will impacts vary by country and cit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one-minute expert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Size: from 4% in Hungary to 35% in the Netherlands (London 26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Eligibility: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&lt;20% to </a:t>
            </a: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Demographics: young, old, single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ell, maybe two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Incomes: low – but doesn’t always house the very po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Ethnicity: often high concentrations of ethnic min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immig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demographic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European 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financial constra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increased aspi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바탕"/>
              </a:rPr>
              <a:t>rise of owner-occup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lies behind our 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istor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using for all (Scandinavia) or for the deserving working class (most other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address market failure or to ‘lead’ the private rented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Lucida Sans"/>
              </a:rPr>
              <a:t>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duties vs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command vs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solidarity vs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rban regeneration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rs involved in al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al housing as target of regeneration (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viders as stakeholders and decision-makers (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viders as funders (Netherla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social mix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Within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Using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iva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placement with mixed-tenure buildings and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sertion of social housing into areas that had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x on what sc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 soci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cial housing providers addressing problem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sufficient language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nel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ck of social coh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9:01:30Z</dcterms:created>
  <dc:creator>Kathleen Scanlon</dc:creator>
  <dc:description/>
  <dc:language>en-US</dc:language>
  <cp:lastModifiedBy>hallas</cp:lastModifiedBy>
  <dcterms:modified xsi:type="dcterms:W3CDTF">2008-12-04T10:39:52Z</dcterms:modified>
  <cp:revision>11</cp:revision>
  <dc:subject/>
  <dc:title>Social housing in Europe: Themes and findings </dc:title>
</cp:coreProperties>
</file>