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A8D-E2EB-43D8-A487-363008BC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883-2A60-4B52-91EC-DD3D579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8D3-6E4F-4621-AC1F-75A2032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849-B270-4EFD-8232-F30FA0DF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D79-3425-4565-9027-AA9FDD2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66E-86EB-40F3-A775-9F459A6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2F7-2484-4A26-BC10-88FDF9C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8DC-9BEA-473B-B5B1-3715B714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025-F592-43B7-B4CF-4260320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D59-BCDC-423D-AC42-2508B10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71B-3A90-41A3-8374-5ECE7B4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BAB-46C9-4AB5-B862-C6E9230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FF8-E16B-4098-B5B9-C52611FCE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merging themes across Europ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revival in social hous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Kath Scanlon, 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ondon, 4 December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ndon School of Economics and Political 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00000" y="5661000"/>
          <a:ext cx="8413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661000"/>
                    <a:ext cx="8413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Location (location, loc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ncentration in certain cities and areas—not necessarily where deman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rge single-tenure areas make social mix hard to ach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unicipal housing cultures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hould we study differences between nations or between c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lasg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elsingb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irm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reeping influ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f the 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바탕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바탕"/>
              </a:rPr>
              <a:t>2005: ‘housing for disadvantaged citizens or socially less advantaged groups’ who for financial reasons could not get market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its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vernments can subsidise housing for the poor and elderly (e.g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ut not housing open to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 end of the universalist trad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now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Will the number of poor and vulnerable households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Will house price falls lead to changes in tenure preferen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Will it be easier or harder to create social mi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ow will impacts vary by country and cit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one-minute expert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Size: from 4% in Hungary to 35% in the Netherlands (London 26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Eligibility: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&lt;20% to </a:t>
            </a: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Demographics: young, old, single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ell, maybe two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Incomes: low – but doesn’t always house the very po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Ethnicity: often high concentrations of ethnic min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es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immig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demographic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European 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financial constra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increased aspi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rise of owner-occup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lies behind our 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istor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using for all (Scandinavia) or for the deserving working class (most other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address market failure or to ‘lead’ the private rented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Lucida Sans"/>
              </a:rPr>
              <a:t>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duties vs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command vs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solidarity vs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rban regeneration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rs involved in al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al housing as target of regeneration (ever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viders as stakeholders and decision-makers (ever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viders as funders (Netherla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social mix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Within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cial housing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Using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cial ho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iva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placement with mixed-tenure buildings and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sertion of social housing into areas that had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x on what sca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socia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cial housing providers addressing problems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sufficient language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nel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ck of social coh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9:01:30Z</dcterms:created>
  <dc:creator>Kathleen Scanlon</dc:creator>
  <dc:description/>
  <dc:language>en-US</dc:language>
  <cp:lastModifiedBy>hallas</cp:lastModifiedBy>
  <dcterms:modified xsi:type="dcterms:W3CDTF">2008-12-04T10:39:52Z</dcterms:modified>
  <cp:revision>11</cp:revision>
  <dc:subject/>
  <dc:title>Social housing in Europe: Themes and findings </dc:title>
</cp:coreProperties>
</file>