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0E7253-CE75-4662-B38C-9137BAE23D7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48D3-E209-4C92-B1FE-8753FF7A4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8B8E-F8FD-458C-81C9-993472423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C68C-A497-458A-AE40-89B03B274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7A08-0252-4E2C-BD3D-4F157F18E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40B4-4F35-4B76-BEBA-D5396506C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678D-AC13-408F-8B9B-2EF706B34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587E-6404-42FE-8856-E69D8FFDE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0E69-C456-48B1-A400-595C89755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47C6-FFCA-4AFE-BA1D-DA1FE2E95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590C-343D-4D23-8B78-FB33FE188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C3B6-40B7-4EBD-A5CE-1AA216BE1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0C84-8BF5-4A96-AD3D-CCD9F1120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360" y="6165360"/>
            <a:ext cx="5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BC3-AA03-482B-912B-DE26C1542F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187280" y="6858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1331" r="0" b="0"/>
          <a:stretch/>
        </p:blipFill>
        <p:spPr>
          <a:xfrm>
            <a:off x="179280" y="2133720"/>
            <a:ext cx="5610240" cy="435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4672080"/>
            <a:ext cx="6804000" cy="23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at is social housing in Ger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tate subsidised building (private, institutional, other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ownership rent fi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„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virtual social housing“: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ousing benefit (low income, Hartz 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6381720"/>
            <a:ext cx="2398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24400" y="177336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2398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-36360" y="2276640"/>
            <a:ext cx="5256000" cy="3722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24400" y="184320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840" y="5589720"/>
            <a:ext cx="878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Berlin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60720" y="2637000"/>
          <a:ext cx="5219640" cy="4032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0720" y="2637000"/>
                    <a:ext cx="52196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202440" y="6261120"/>
            <a:ext cx="1493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subsidised dwell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new 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91480" y="6261120"/>
            <a:ext cx="16430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subsidised dwell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housing 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6261120"/>
            <a:ext cx="1466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subsidised dw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950080"/>
            <a:ext cx="144360" cy="72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093000"/>
            <a:ext cx="144360" cy="72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623736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6524640"/>
            <a:ext cx="14436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381720"/>
            <a:ext cx="144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717228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0720" y="5880240"/>
            <a:ext cx="1294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ipal 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ipal rent fix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ther municip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ouisng coperatives 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ousing cooperatives r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6019920"/>
            <a:ext cx="144720" cy="7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6162840"/>
            <a:ext cx="144720" cy="7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717228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70520" y="5937120"/>
            <a:ext cx="11912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ousing cooperativ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rivate 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rivate rent fix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6307200"/>
            <a:ext cx="144720" cy="7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6451560"/>
            <a:ext cx="14472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276640"/>
            <a:ext cx="896472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ere do which social housing residen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target groups: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ocially deprived + low income (but educated) to lower middl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income + old people and migrants     gender/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stock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ttractive: low to middle income groups,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unattractive: very social groups to low incom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lf- organised: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ow to middle income groups, young fami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s the German structure best for the vulnerable?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Yes!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security of tenure,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lative socio-spatial integration)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but ...</a:t>
            </a:r>
            <a:r>
              <a:rPr b="0" lang="de-DE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6381720"/>
            <a:ext cx="2398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24400" y="184320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3357720"/>
            <a:ext cx="142560" cy="14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05000"/>
            <a:ext cx="9144000" cy="4919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…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market differences  + polarising society request inno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odels of self – organisation?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„building groups“, housing cooperat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unicipal housing policies?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München-Modell, re-distribution of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nt-fixed stock in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wnership for the poor?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social integration +qualific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= supported home-ste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  …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hallenges :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geing society: poverty,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hat to do about gentrif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6165720"/>
            <a:ext cx="2398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Christiane Droste, LS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9640" y="260280"/>
            <a:ext cx="8124840" cy="1346040"/>
            <a:chOff x="539640" y="260280"/>
            <a:chExt cx="8124840" cy="13460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197160" y="260280"/>
              <a:ext cx="27813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93388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539640" y="260280"/>
              <a:ext cx="2730600" cy="134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093080" y="260280"/>
            <a:ext cx="1584360" cy="60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134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cial housing futures    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24400" y="1843200"/>
            <a:ext cx="327240" cy="217440"/>
          </a:xfrm>
          <a:prstGeom prst="rightArrow">
            <a:avLst>
              <a:gd name="adj1" fmla="val 50000"/>
              <a:gd name="adj2" fmla="val 3762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788000" y="3825720"/>
            <a:ext cx="4356000" cy="30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22:12:59Z</dcterms:created>
  <dc:creator>Christiane Droste</dc:creator>
  <dc:description/>
  <dc:language>en-US</dc:language>
  <cp:lastModifiedBy>hallas</cp:lastModifiedBy>
  <dcterms:modified xsi:type="dcterms:W3CDTF">2008-12-04T11:56:51Z</dcterms:modified>
  <cp:revision>20</cp:revision>
  <dc:subject/>
  <dc:title>Folie 1</dc:title>
</cp:coreProperties>
</file>