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8E1D2C-B430-4A3D-A3EB-86E65F54533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8F6B-B015-4F99-8B27-18041B706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2ABF-3903-4738-A4C3-472D757A7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54F1-2D23-4B6F-B945-1D193D37E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71A8-15F8-4F5A-922F-EE51FB82F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8A46-E4ED-4D23-A0C7-E26A837AAB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2DF0-AC01-4BB9-854B-C115BD63A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56D3-CDD8-456A-B6A9-ED7328238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D772-4004-4F2F-B3C9-2B552043C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E9CB-C39F-48EE-A904-B0762FB26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3C50-DC6A-40DD-9C43-985985F24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4BEF-C698-4F9D-916F-7DE9C89FA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2F73-AB05-4544-AD23-2FC70D541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68360" y="6165360"/>
            <a:ext cx="5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1E7B-99B7-4A6A-9D36-7CC0D8DBE9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187280" y="685800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1331" r="0" b="0"/>
          <a:stretch/>
        </p:blipFill>
        <p:spPr>
          <a:xfrm>
            <a:off x="179280" y="2133720"/>
            <a:ext cx="5610240" cy="4351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40000" y="4672080"/>
            <a:ext cx="6804000" cy="23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hat is social housing in Germa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tate subsidised building (private, institutional, other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ownership rent fix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 „</a:t>
            </a: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virtual social housing“: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ousing benefit (low income, Hartz 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cial housing futures    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6381720"/>
            <a:ext cx="2398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Christiane Droste, LS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9640" y="260280"/>
            <a:ext cx="8124840" cy="1346040"/>
            <a:chOff x="539640" y="260280"/>
            <a:chExt cx="8124840" cy="134604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3197160" y="260280"/>
              <a:ext cx="278136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593388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53964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093080" y="260280"/>
            <a:ext cx="1584360" cy="60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24400" y="1773360"/>
            <a:ext cx="327240" cy="217440"/>
          </a:xfrm>
          <a:prstGeom prst="rightArrow">
            <a:avLst>
              <a:gd name="adj1" fmla="val 50000"/>
              <a:gd name="adj2" fmla="val 37624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cial housing futures    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165720"/>
            <a:ext cx="2398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Christiane Droste, LS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9640" y="260280"/>
            <a:ext cx="8124840" cy="1346040"/>
            <a:chOff x="539640" y="260280"/>
            <a:chExt cx="8124840" cy="13460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3197160" y="260280"/>
              <a:ext cx="278136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93388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3964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-36360" y="2276640"/>
            <a:ext cx="5256000" cy="3722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093080" y="260280"/>
            <a:ext cx="158436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24400" y="1843200"/>
            <a:ext cx="327240" cy="217440"/>
          </a:xfrm>
          <a:prstGeom prst="rightArrow">
            <a:avLst>
              <a:gd name="adj1" fmla="val 50000"/>
              <a:gd name="adj2" fmla="val 37624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4840" y="5589720"/>
            <a:ext cx="878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Berlin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60720" y="2637000"/>
          <a:ext cx="5219640" cy="4032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0720" y="2637000"/>
                    <a:ext cx="521964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202440" y="6261120"/>
            <a:ext cx="1493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subsidised dwell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new buil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91480" y="6261120"/>
            <a:ext cx="16430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subsidised dwell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housing st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6261120"/>
            <a:ext cx="1466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subsidised dwell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950080"/>
            <a:ext cx="144360" cy="727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093000"/>
            <a:ext cx="144360" cy="72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6237360"/>
            <a:ext cx="144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6524640"/>
            <a:ext cx="144360" cy="73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381720"/>
            <a:ext cx="14436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7172280"/>
            <a:ext cx="144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0720" y="5880240"/>
            <a:ext cx="1294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unicipal 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unicipal rent fix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ther municip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ouisng coperatives 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ousing cooperatives r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6019920"/>
            <a:ext cx="144720" cy="7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6162840"/>
            <a:ext cx="144720" cy="7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7172280"/>
            <a:ext cx="144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70520" y="5937120"/>
            <a:ext cx="11912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ousing cooperativ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rivate 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rivate rent fix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6307200"/>
            <a:ext cx="144720" cy="73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6451560"/>
            <a:ext cx="14472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276640"/>
            <a:ext cx="896472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here do which social housing residen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target groups: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ocially deprived + low income (but educated) to lower middl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income + old people and migrants     gender/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stock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ttractive: low to middle income groups, fami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unattractive: very social groups to low incom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elf- organised:</a:t>
            </a: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low to middle income groups, young famil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s the German structure best for the vulnerable?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Yes!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security of tenure,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lative socio-spatial integration)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but ...</a:t>
            </a: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cial housing futures    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6381720"/>
            <a:ext cx="2398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Christiane Droste, LS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9640" y="260280"/>
            <a:ext cx="8124840" cy="1346040"/>
            <a:chOff x="539640" y="260280"/>
            <a:chExt cx="8124840" cy="13460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3197160" y="260280"/>
              <a:ext cx="278136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593388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3964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093080" y="260280"/>
            <a:ext cx="1584360" cy="60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24400" y="1843200"/>
            <a:ext cx="327240" cy="217440"/>
          </a:xfrm>
          <a:prstGeom prst="rightArrow">
            <a:avLst>
              <a:gd name="adj1" fmla="val 50000"/>
              <a:gd name="adj2" fmla="val 37624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3357720"/>
            <a:ext cx="142560" cy="14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05000"/>
            <a:ext cx="9144000" cy="4919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…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market differences  + polarising society request inno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odels of self – organisation?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„building groups“, housing cooperat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unicipal housing policies?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München-Modell, re-distribution of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nt-fixed stock in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Ownership for the poor?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social integration +qualific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= supported home-stea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  …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hallenges :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geing society: poverty,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What to do about gentrifi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6165720"/>
            <a:ext cx="2398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Christiane Droste, LS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9640" y="260280"/>
            <a:ext cx="8124840" cy="1346040"/>
            <a:chOff x="539640" y="260280"/>
            <a:chExt cx="8124840" cy="13460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3197160" y="260280"/>
              <a:ext cx="278136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593388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53964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093080" y="260280"/>
            <a:ext cx="1584360" cy="60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" y="134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cial housing futures    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24400" y="1843200"/>
            <a:ext cx="327240" cy="217440"/>
          </a:xfrm>
          <a:prstGeom prst="rightArrow">
            <a:avLst>
              <a:gd name="adj1" fmla="val 50000"/>
              <a:gd name="adj2" fmla="val 37624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788000" y="3825720"/>
            <a:ext cx="4356000" cy="30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22:12:59Z</dcterms:created>
  <dc:creator>Christiane Droste</dc:creator>
  <dc:description/>
  <dc:language>en-US</dc:language>
  <cp:lastModifiedBy>hallas</cp:lastModifiedBy>
  <dcterms:modified xsi:type="dcterms:W3CDTF">2008-12-04T11:56:51Z</dcterms:modified>
  <cp:revision>20</cp:revision>
  <dc:subject/>
  <dc:title>Folie 1</dc:title>
</cp:coreProperties>
</file>