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38D-4CA6-4AAF-85A4-69E71345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D14-262B-4FEE-9ED1-4CEB630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D75-6EDD-4369-8475-D18CADC0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349-D5E2-42EF-B021-A3696ED5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D57-0AD9-4E2D-9B8A-BA02EAE3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DFA-1C40-44DB-8538-8E2022A7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9E6-B290-4B17-A378-D3E92703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5B7-343B-4DEA-B970-6FCE282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E43-B5A3-41DA-A7B3-2F3D5819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4F9-125F-4ADB-A586-789D05A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094-FF72-471F-A1DD-0DFAD69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3F8-1538-4FB3-AC71-78A526F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2916-951F-46F9-8BE2-0621B67D4F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1/Lyon_Autoroutes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cial Housing Innovation in Ly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ane 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Shef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University Crest"/>
          <p:cNvPicPr/>
          <p:nvPr/>
        </p:nvPicPr>
        <p:blipFill>
          <a:blip r:embed="rId1"/>
          <a:stretch/>
        </p:blipFill>
        <p:spPr>
          <a:xfrm>
            <a:off x="0" y="428760"/>
            <a:ext cx="25192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cial Instituti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Communaut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é of le Grand Ly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5 commune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d established sinc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96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 housing duties but a major housing 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vides shortfall in construction fi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motes dynamic co-ordinated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llows </a:t>
            </a:r>
            <a:r>
              <a:rPr b="0" lang="fr-FR" sz="3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Moving social tenants across the city for urban rehabili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auses in construction to allow access for the disadvantag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onstantly leans on communes to facilitate other poli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cial Institutions Helping the Disadvantaged into Social Hous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568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 SI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a dynamic prefectoral stream for the disadvant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 CIO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special inter-agency unit for moving families of the behaviourly challenged across town and re-housing victims of lead 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bservator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arrondiss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working with commissions to decide priority applic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 single reception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social housing applicants (normally fragmen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presentation starts from the assumption that, generally, the disadvantaged are poorly catered for in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pite local dynamism a majority of communes can still exclude non-loc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yon always investigates and innovates and French housing policy often fol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t this means they can also be the first to make new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 Selective Histor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Lyon Catholics oppressed by Rom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A banking, printing and religious centre in mediaeval times (but religious war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A centre for the silk industry from end of 16th centur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: chemicals, pharmaceuticals, biotech, software, financial services, touris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Early construction of tower blocks of social housing by Tony Garnier in the </a:t>
            </a:r>
            <a:r>
              <a:rPr b="0" i="1" lang="en-GB" sz="3100" spc="-1" strike="noStrike">
                <a:solidFill>
                  <a:srgbClr val="000000"/>
                </a:solidFill>
                <a:latin typeface="Calibri"/>
              </a:rPr>
              <a:t>Quartier des Etats unis – </a:t>
            </a: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193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Lyon – Enthusiastic about social hou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57160" y="1380960"/>
            <a:ext cx="7161480" cy="5477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429240" y="1357200"/>
            <a:ext cx="1928880" cy="857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ore than 20%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 16-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 12-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ss than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5000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72040" y="4143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port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Image:Lyon Autoroute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1957320"/>
            <a:ext cx="47149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yon – Lots of People to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opulation around 1.2 million in 2004 -  a growing and comparatively young pop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history of housing labour, often immigrant labour , and receiving refugees from the Algerian war in 195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nthusiastic construction in the 1960s and 70s means a large problem of repair 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120,000 students to ho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124,782 social homes in 200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tremely large concentration of social housing in particular are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ion: Haussm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Jane\Pictures\My Pictures\Jan2006\IMG_0038.jpg"/>
          <p:cNvPicPr/>
          <p:nvPr/>
        </p:nvPicPr>
        <p:blipFill>
          <a:blip r:embed="rId1"/>
          <a:stretch/>
        </p:blipFill>
        <p:spPr>
          <a:xfrm>
            <a:off x="1055520" y="1600200"/>
            <a:ext cx="68742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0s and 70s: Concr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Jane\Pictures\My Pictures\Jan2006\IMG_0039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pparently Unpromis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level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litical control in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g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  -  -  -  -  -   -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partement-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 -  -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mmunau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-  -  - -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mun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 -  -  -  - Va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rrondiss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 - -Varied but predominantly (in Lyon city)               of the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 Grand Lyon in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arte des ZUS du Grand Lyon"/>
          <p:cNvPicPr/>
          <p:nvPr/>
        </p:nvPicPr>
        <p:blipFill>
          <a:blip r:embed="rId1"/>
          <a:stretch/>
        </p:blipFill>
        <p:spPr>
          <a:xfrm>
            <a:off x="2286000" y="1000080"/>
            <a:ext cx="4929120" cy="5857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85840" y="42861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ing the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he subu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9:29:40Z</dcterms:created>
  <dc:creator>Windows User</dc:creator>
  <dc:description/>
  <dc:language>en-US</dc:language>
  <cp:lastModifiedBy>Windows User</cp:lastModifiedBy>
  <dcterms:modified xsi:type="dcterms:W3CDTF">2008-12-09T11:58:06Z</dcterms:modified>
  <cp:revision>23</cp:revision>
  <dc:subject/>
  <dc:title>Slide 1</dc:title>
</cp:coreProperties>
</file>