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56E1-B931-4440-9962-E5FBF83BA5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F6F-C1A7-4D48-944D-75E96D2169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DDF-CB9D-4559-A8CD-C9E2E58FCE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7F2-061A-43B6-88A3-62CB1B0155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274-6FB1-4985-9E6E-B12FE1A896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A9C2-4508-4E82-A43E-8EA1D7B3D5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6FE-62E6-4DE3-BF75-DCE7D6AE16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876-8313-484B-AB5F-A85A991CDB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718-F7A7-4B25-B7C1-88DA028C82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241-39C0-4008-A4E1-C107756DAD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355A-C8E2-4883-BB99-2E642913AC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CCF-9A59-42D2-B0DF-6DA5106E55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6F0-A3FD-4ED5-B756-767F689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63B-5FBB-459A-B9C3-DC29416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4AA-D85A-453D-97ED-CBBDE59F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E23-5A96-4BD0-8DD3-BFEB0197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98B-4421-4A33-A12E-46FF2F8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4C1-70D0-4E6A-BD78-C592936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2CE-FB0E-4B7F-8006-DAF07F4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2CA-75CB-43F5-90AC-08DC827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914-4C7F-4954-AE34-48DB461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A32-982A-4D34-9818-EEF174C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650-C3EE-4799-A897-FC954EC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F3E-11AD-4717-9566-4E60D4B8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8C7-F173-497B-BAE5-CC5E73B9F0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80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Background paper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ooking Back, Looking Forward: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inance for Social Housing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om Guarantee to Guarantee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hristine Whitehead and Peter Willia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 London Private Finance Semin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5 September 2014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cale of Lending 2008/9 – 2012/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gland 2008/9 £5,887m; down to £1,491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otland £356m in 2009/10; £144.9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les  £123.7m in 2008/9 down to £60m in 2012/1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B £6,367m in 2009/10 down to  £1709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major contraction of market and withdrawal of len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Current Borrowing Facilitie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33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£72.7 bn,  77% in form of bank lo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ound £60bn  is currently drawn 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sh held in sector around £4.2b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pital market funding accounted for over 60% of new funding in latest quar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8 providers make use of free standing derivatives  - some £9b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al debt is expected to increase but refinancing requirements limited over next 2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ivate finance – a successful s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s raised £70 bn (£20 bn for LSV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rms and conditions improved consistently for twenty years but massive changes since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ell organised adjustments in the face of individual HA problems – only a tiny number of insolvencies and minimal lo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ains a fundamentally low risk product even though over 50% of HA revenue comes from DW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ivate finance –a successful stor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ill over-reliance on debt provider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onds have been the answer over last few years – but will this continue long ter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ody’s – 75 investors/£1.7b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ise of private placements &amp; retail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 capital base/reserves increasing  but partly the low interest rate environment - govt wants to recycle more effective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sts likely to be higher in the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ivate finance –a successful stor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latedly reworking moratorium arrangement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aluation issues – reliance on EUV-SH; exploit MV-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FRS and fair val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/off balance sheet exposures and divers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idening range of suppliers – equ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qualified succes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itial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duce public sector borro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gain greater control over subsidy streams by up-front grant rather than open ended revenue subsid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cycle past subsidy and capital g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improve incentives to greater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xpand the role of private finance – both equity and debt – in the provision of housing of all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amentally to lever in private funds from smaller and smaller amounts of subsidy to enable additional housing to be provided at lower cost to the public pu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re 198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74 Housing and Planning A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vate initiatives (HAs; individuals) to fund against existing housing association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wing interest in government/local authority guaran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Home Loans Corporation 19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rth Housing Association initiative using HAG 198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vernment challenge f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85 Act introducing the possibility of LSV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Housing Finance Corporation set 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interest from financial instit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Housing Act 198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sh limited capital grants covering 75% of projected costs ( expected to decline to 5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elopment risks to lie with H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vate finance for resi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ders to have first charge – but no guaran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nts to be set by HA in order to at least break e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ing benefit to continue on rents up to market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roved LSV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itial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mediate interest quite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ck of understanding of the nature of 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mall number of interested banks and even fewer building socie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1991, £2bn mixed funding; £1bn LSVT but margins high at over 200 bp above LI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vernment sponsored initiatives: Housing Corporation Private Finance Unit; THFC; Housing Market Package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et developments: range of products; bond market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1996, £10bn from a full range of lenders; average grant rate 47%; margins 70 bp falling to under 50b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clining/volatile government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tory regime – initial co-location of investment and regulation/move to light touch regulation and separation of 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nt controls – RPI+1% then ½% plus rent restru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ceived threats to housing bene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ustry initiatives  - mergers and group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008 and immediately thereaf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paration of regulation and investment –and bringing together English Partnerships and Investment element of HC into H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itial impact of credit crunch limited BUT by 2009 more signific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ders less willing to lend; renegotiation of existing commitments; rapidly rising margins back to 200bp +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tra collateral for stand alone sw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gative impact of LCHO unsold stock/reduced capacity to cross subsidise/ reductions in S106 contribu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t the time of the 2009 seminar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ural decline in numbers of lenders: few knowledgeable institutions with appet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s seen as more risky; lenders acting more unilaterally; fundamental shortage of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t government were looking to use affordable housing to kick start developments: increasing grant rates and targeting stalled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wing interest in raising bond f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tential for equity inves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cut back public expenditure as soon as some sign of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8037360" y="6008760"/>
            <a:ext cx="669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Coalition’s approa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tion brought within H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ffordable rents regime – 170,000 contracted by HCA to 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lfare reform including ‘bedroom tax’  - first time social rent commitment limi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ifting away from grant to guaran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ffordable Housing Guarantee Scheme organised through subsidiary of THF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ild to rent fund for private renting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39:10Z</dcterms:created>
  <dc:creator>wedlake</dc:creator>
  <dc:description/>
  <dc:language>en-US</dc:language>
  <cp:lastModifiedBy>Administrator</cp:lastModifiedBy>
  <cp:lastPrinted>2014-09-14T09:56:00Z</cp:lastPrinted>
  <dcterms:modified xsi:type="dcterms:W3CDTF">2014-09-25T14:42:34Z</dcterms:modified>
  <cp:revision>20</cp:revision>
  <dc:subject/>
  <dc:title>Development and Change:  Private finance for social housing  in the UK  A Background Paper   Christine Whitehead and Peter Williams</dc:title>
</cp:coreProperties>
</file>