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3555-DAB6-4E27-A5A4-7B19B68CE7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8802-777D-4793-B576-2D6AC4CA4B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151A-121D-4576-9856-5FD90AFDC9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23D6-E761-43D1-8CC9-00156F828E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4497-653A-45E0-B9C1-52ADFA78342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B06B-148F-4F3C-BDB4-5B437C62DC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77ED-3BEC-40FE-9E78-4502093FEE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ABBA-82D2-4C97-AAB1-BCF51C72C5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D7EF-417B-4E5F-8FF4-9106033DAE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D14A-6836-4DCA-84FA-539447B9CD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B7D2-E5A1-4DBC-8AEB-210BBD5629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C8A8-4143-4666-A3A5-3FC4AE0ACF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275-21D6-46EB-812D-2F5307E0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AE5-5FDD-493A-A399-97B9A32E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08DB-E374-41BC-BC91-E662B23DB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D30-BAA3-400D-9AF2-4A82F27C0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479-E4F3-4570-BA1E-75B73E70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250-0A72-4C7A-A492-0F5FCBA8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F05-7AB2-4345-A4C7-EEE00F15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D2C-33E4-42EE-BE0F-25BCBBB9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B63-27C6-48D7-8122-C97A9C47B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425C-5967-4AD9-A5D4-C6254093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37D-464A-421A-844C-3D68B91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477-EC2E-49C5-9158-E33027BE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D7FD-99C6-4CD1-9B83-04ED216BA744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07920"/>
            <a:ext cx="828036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Background paper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ooking Back, Looking Forward: 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inance for Social Housing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rom Guarantee to Guarantee</a:t>
            </a: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Christine Whitehead and Peter William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 London Private Finance Seminar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5 September 2014,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S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cale of Lending 2008/9 – 2012/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ngland 2008/9 £5,887m; down to £1,491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cotland £356m in 2009/10; £144.9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ales  £123.7m in 2008/9 down to £60m in 2012/1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B £6,367m in 2009/10 down to  £1709m in 2012/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o major contraction of market and withdrawal of lend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Current Borrowing Facilities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8360" y="133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£72.7 bn,  77% in form of bank lo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round £60bn  is currently drawn 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sh held in sector around £4.2b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pital market funding accounted for over 60% of new funding in latest quar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8 providers make use of free standing derivatives  - some £9b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tal debt is expected to increase but refinancing requirements limited over next 2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ivate finance – a successful stor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s raised £70 bn (£20 bn for LSV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erms and conditions improved consistently for twenty years but massive changes since 200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ell organised adjustments in the face of individual HA problems – only a tiny number of insolvencies and minimal lo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ains a fundamentally low risk product even though over 50% of HA revenue comes from DW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ivate finance –a successful stor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ill over-reliance on debt provider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onds have been the answer over last few years – but will this continue long ter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oody’s – 75 investors/£1.7b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ise of private placements &amp; retail b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A capital base/reserves increasing  but partly the low interest rate environment - govt wants to recycle more effectivel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sts likely to be higher in the fu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ivate finance –a successful story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latedly reworking moratorium arrangement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Valuation issues – reliance on EUV-SH; exploit MV-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FRS and fair valu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On/off balance sheet exposures and divers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idening range of suppliers – equ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 qualified succes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itial Objec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duce public sector borro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gain greater control over subsidy streams by up-front grant rather than open ended revenue subsid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recycle past subsidy and capital g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improve incentives to greater 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expand the role of private finance – both equity and debt – in the provision of housing of all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amentally to lever in private funds from smaller and smaller amounts of subsidy to enable additional housing to be provided at lower cost to the public pu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re 1988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74 Housing and Planning Ac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vate initiatives (HAs; individuals) to fund against existing housing association ass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wing interest in government/local authority guarant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tional Home Loans Corporation 198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orth Housing Association initiative using HAG 198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vernment challenge f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985 Act introducing the possibility of LSV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Housing Finance Corporation set u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interest from financial institu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Housing Act 198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ash limited capital grants covering 75% of projected costs ( expected to decline to 5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velopment risks to lie with H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ivate finance for resid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ders to have first charge – but no guarant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nts to be set by HA in order to at least break e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ousing benefit to continue on rents up to market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mproved LSVT frame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itial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mediate interest quite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ack of understanding of the nature of H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mall number of interested banks and even fewer building socie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1991, £2bn mixed funding; £1bn LSVT but margins high at over 200 bp above LIB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overnment sponsored initiatives: Housing Corporation Private Finance Unit; THFC; Housing Market Package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et developments: range of products; bond market inte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y 1996, £10bn from a full range of lenders; average grant rate 47%; margins 70 bp falling to under 50b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he Changing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eclining/volatile government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tory regime – initial co-location of investment and regulation/move to light touch regulation and separation of insp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nt controls – RPI+1% then ½% plus rent restructu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erceived threats to housing benef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ndustry initiatives  - mergers and group stru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008 and immediately thereaft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eparation of regulation and investment –and bringing together English Partnerships and Investment element of HC into H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Initial impact of credit crunch limited BUT by 2009 more signific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enders less willing to lend; renegotiation of existing commitments; rapidly rising margins back to 200bp +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tra collateral for stand alone sw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gative impact of LCHO unsold stock/reduced capacity to cross subsidise/ reductions in S106 contribu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t the time of the 2009 seminar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tructural decline in numbers of lenders: few knowledgeable institutions with appet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As seen as more risky; lenders acting more unilaterally; fundamental shortage of f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t government were looking to use affordable housing to kick start developments: increasing grant rates and targeting stalled s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rowing interest in raising bond f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otential for equity invest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cut back public expenditure as soon as some sign of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8037360" y="6008760"/>
            <a:ext cx="669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The Coalition’s approac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gulation brought within H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ffordable rents regime – 170,000 contracted by HCA to 20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elfare reform including ‘bedroom tax’  - first time social rent commitment limi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hifting away from grant to guarante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ffordable Housing Guarantee Scheme organised through subsidiary of THF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uild to rent fund for private renting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7885080" y="5856120"/>
            <a:ext cx="66996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5:39:10Z</dcterms:created>
  <dc:creator>wedlake</dc:creator>
  <dc:description/>
  <dc:language>en-US</dc:language>
  <cp:lastModifiedBy>Administrator</cp:lastModifiedBy>
  <cp:lastPrinted>2014-09-14T09:56:00Z</cp:lastPrinted>
  <dcterms:modified xsi:type="dcterms:W3CDTF">2014-09-25T14:42:34Z</dcterms:modified>
  <cp:revision>20</cp:revision>
  <dc:subject/>
  <dc:title>Development and Change:  Private finance for social housing  in the UK  A Background Paper   Christine Whitehead and Peter Williams</dc:title>
</cp:coreProperties>
</file>