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4EB-D0BC-4717-AFEB-A06F20AE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B7B-2413-4261-8B88-9F2C2A8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538-1A08-4BAB-B0A7-84FA16A6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B06-16EE-4959-8B3F-80DB1EC6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845-6996-4B74-B595-7C0866D4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07B-566D-47A9-BB14-DBDDDE33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78D-EC1C-4457-89BA-0052CF1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B02-35DD-4395-9F33-185F665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52F-AA02-47F8-9A52-EE21CB8B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1F7-EDA4-4325-9013-AC21F2C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351-EAAB-444B-89A3-C6A84F7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8E5-0EEC-4871-B4C7-3E6262D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CB72-92BC-4C52-8CFD-422D9F0D1A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cbre.com/USA/Research/Market+Reports/Global+Market+Rents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st Laid Plans’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nd Economic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‘No Room! No Room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(1987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3520" y="1600200"/>
          <a:ext cx="79246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924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would we expect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ckscher Ohlin theory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d using activities should move elsewhere, i.e.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d intensive activities should become domi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43000" y="1600200"/>
          <a:ext cx="670572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705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8229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efenbrun in the Journal of the Royal Society of Arts, August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d truth is that nobody in Britain has built a major manufacturing company from scratch since the time of the Attlee government of 1945. . . . .No other country has such a pathetic track record of manufacturing business creation. All our major manufacturers pre-date the Second World War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the Town and Country Planning Act of 1947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71600" y="304920"/>
          <a:ext cx="655308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920"/>
                    <a:ext cx="655308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3: Occupation costs in world citie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[i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cbre.com/USA/Research/Market+Reports/Global+Market+Rents/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295280"/>
          <a:ext cx="9144000" cy="5554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95280"/>
                    <a:ext cx="91440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57200"/>
            <a:ext cx="83059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ing and Brown Field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most brown field sites are in a profitable use, the policy of encouraging house building on old factory sites strengthens the pressure on oth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 there was a presumption of separation with land for manufacturing industry being somewhat protected, particularly in the No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57200"/>
            <a:ext cx="83818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Policy 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onal Policy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since Thatcher has a government claimed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, because high land prices were not a consequence of constr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, because simply deterring companies from the South does not mean that they go nor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565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53352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Policy for Urban 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what are the co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Policy for Sustain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lobal, that 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building tall buildings is expensive and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ing manufactured goods from elsewhere in the world does not necessarily reduce CO2 emissions and fuel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45720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onsequences for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living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cost of land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S study of 71 cities round the world (Feb-July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a ‘Weekend Break’ in US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  1,180 U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yo    10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va     9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York 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57200"/>
            <a:ext cx="8458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ious work on housing for Policy Exchange with Oliver Hartwich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affordable Housing: Fables and Myth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February 2005 (Thinktank Publication of the Year,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gger Better Faster More: Why Some Countries Plan Better Than Oth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Jun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tter Homes Greener C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Februar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457200"/>
            <a:ext cx="79246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ing Cost Price Index (inc 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ndon        10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York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ing Cost Index (exc 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lo                12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ndon            1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enhagen     10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. New York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ge Level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London   89.2 (gross)    96.0 (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 Purchasing Power of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   ranks between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60948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is with a measure of the cost of living which excludes 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rent it drops to something like 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BS does not do the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75438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measure- How much does IKEA charge for a standard package of five large i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      £1483  (VAT rate 17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 £1453  (VAT rate  19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     £1450  (VAT rate 20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£12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"/>
            <a:ext cx="79246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non-pri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ace costs have othe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hoice – the clone 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wding – the two (or three) sittings resta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why, on a BBC survey 13% of the population is hoping to emigrate “in search of a better quality of life, better weather and a feeling that the UK is too expen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457200"/>
            <a:ext cx="8001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stribution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on housing favours older home owners at the expense of renters, young would-be owners, and young owners who wish to tr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in other areas favours share owners, those with accumulated pension investments in lan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system of constraint is thoroughly regressive – which is why it’s favoured by the middle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228600"/>
            <a:ext cx="7772400" cy="69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ystemic (non-constraint)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would not be bad if the result were better decisions, but is the system ra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s delay because bureaucracy is buil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s it rational that Kate Barker can investigate the whole system in less than a year, whilst inquiries into a temporary terminal at Coventry Airport lasted years? Should she not have had QCs and expert witnesses and cross-examination and exhibits and so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s delay built in because it keeps objectors happy? Politicians can assure people that they have looked into things thorough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ould less consideration of detail be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76560" y="2833560"/>
          <a:ext cx="119088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6560" y="2833560"/>
                    <a:ext cx="11908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5800" y="291960"/>
            <a:ext cx="739152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830556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rowth Italian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Sorpass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Val Vibrata, in central Italy, “every house has turned into a factory” and growth has been spectacu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late eighti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im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aid that this should be an example to the English of what could be achieved in backward rural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UK planning system would soon put a stop to any such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ould the British as neighb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533520"/>
            <a:ext cx="80010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housing market and endemic rising prices interest rates in the UK are frequently raised to slow down the housing boom. This impacts on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533520"/>
            <a:ext cx="784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ish homes are smaller than those in other countries in Western Europe (except Portugal, Greece, and Fin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homes in the UK are, without exception, the smallest in Wester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density in Germany is about the same as in the UK- new homes are cheaper and substantially lar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chard Rogers thought that this was because they had better architect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295280" y="1371600"/>
          <a:ext cx="693432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934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457200"/>
            <a:ext cx="81532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id of ‘plan led’ pla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hink green belts in the interest of sustain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cial Cost Tariff – the social value of green fields. If this can be paid there should be a presumption in favour of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oncern with detail – promote simplified planning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e to local governments to allow development i.e. they retain the tax income which results. At present there are disincentives rather than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457200"/>
            <a:ext cx="8381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the British so concerned about 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misapprehension (Bar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nda from the CPRE and its al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sychology of the way of life (people are kept away from the country so that they can’t spoil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sychology of inter-urban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tness of England, the south i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, in fact, completely irrational, a matter of faith not r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219320" y="457200"/>
          <a:ext cx="6705360" cy="62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6705360" cy="62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80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ffect is redistributive and divi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aves versus the have-n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ld versus the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"/>
            <a:ext cx="792468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y of Constraint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n Commerce 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– it was not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planned that there would be sufficient land through ‘New Towns’, regional policy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Belts simply prevented wasteful sp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dictions on which the plans were based were wrong,  and so the plans were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ainment of urban England’ was evident by the early seve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09480"/>
            <a:ext cx="7924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ers and government denied until 1992 that the policy of constraint affected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isunderstanding of Ricardian rent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now government accepts that constraints on land availability increase house prices. (Or does i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planners (and politicians) don’t think economically – the Rogers Report had virtually no economic input and was economically illit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up to planners to plan and the market to follow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what if the best land use plan results in a sub-optimal econ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1685880"/>
          <a:ext cx="8305920" cy="41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85880"/>
                    <a:ext cx="83059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45720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ighties residential and industrial land uses tracked each other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iod of change in the early nin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 on residential land use were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lass B1 was introduced combining office and industrial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number of retail developments were per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pping hours were substantially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Residential land prices have risen relative to other land use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3:18:13Z</dcterms:created>
  <dc:creator>Administrator</dc:creator>
  <dc:description/>
  <dc:language>en-US</dc:language>
  <cp:lastModifiedBy>LSE User</cp:lastModifiedBy>
  <dcterms:modified xsi:type="dcterms:W3CDTF">2007-02-28T11:51:39Z</dcterms:modified>
  <cp:revision>18</cp:revision>
  <dc:subject/>
  <dc:title>‘The Best Laid Plans’ or ‘Another Fine Mess’</dc:title>
</cp:coreProperties>
</file>