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5DC7-FB77-4F4A-AC1B-0EA4CA25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35C-BC7F-4DC7-AC44-E981C1BC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4BB-5234-4AD9-B9E3-3BF9A098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B50-3350-464B-B679-7A19D564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84A-D3DA-4028-A17E-EF4050E9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991-5AB1-4A16-B720-624D9664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F11-3836-4D6A-A1C9-1DC75B61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2D3-96C3-46A1-8069-A3CEE41C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313C-8F70-4B98-A0A1-5378C3B4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88D-BB39-4F9B-AA9E-ECA11B14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DB6-613A-439D-A349-DA1F96E3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E7EB-BF35-4F2A-B7B8-FF35268A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D402-1332-407E-A259-870D96664E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www.cbre.com/USA/Research/Market+Reports/Global+Market+Rents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est Laid Plans’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ing and Economic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‘No Room! No Room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(1987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3520" y="1600200"/>
          <a:ext cx="79246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79246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53352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would we expect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ckscher Ohlin theory s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nd using activities should move elsewhere, i.e. 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nd intensive activities should become domi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143000" y="1600200"/>
          <a:ext cx="670572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67057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762120"/>
            <a:ext cx="82296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efenbrun in the Journal of the Royal Society of Arts, August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ad truth is that nobody in Britain has built a major manufacturing company from scratch since the time of the Attlee government of 1945. . . . .No other country has such a pathetic track record of manufacturing business creation. All our major manufacturers pre-date the Second World War’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the Town and Country Planning Act of 1947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371600" y="304920"/>
          <a:ext cx="6553080" cy="70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920"/>
                    <a:ext cx="655308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3: Occupation costs in world cities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[i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2"/>
              </a:rPr>
              <a:t>http://www.cbre.com/USA/Research/Market+Reports/Global+Market+Rents/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295280"/>
          <a:ext cx="9144000" cy="5554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95280"/>
                    <a:ext cx="914400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457200"/>
            <a:ext cx="83059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ing and Brown Field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most brown field sites are in a profitable use, the policy of encouraging house building on old factory sites strengthens the pressure on other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r there was a presumption of separation with land for manufacturing industry being somewhat protected, particularly in the No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457200"/>
            <a:ext cx="838188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Policy 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onal Policy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since Thatcher has a government claimed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, because high land prices were not a consequence of constr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w, because simply deterring companies from the South does not mean that they go nort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56560" y="-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533520"/>
            <a:ext cx="8001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Policy for Urban Re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what are the co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Policy for Sustain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Global, that 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building tall buildings is expensive and 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rting manufactured goods from elsewhere in the world does not necessarily reduce CO2 emissions and fuel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457200"/>
            <a:ext cx="8229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consequences for th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living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the cost of land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S study of 71 cities round the world (Feb-July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a ‘Weekend Break’ in US doll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don  1,180 U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yo    10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va     9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York 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457200"/>
            <a:ext cx="8458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vious work on housing for Policy Exchange with Oliver Hartwich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affordable Housing: Fables and Myth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February 2005 (Thinktank Publication of the Year,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igger Better Faster More: Why Some Countries Plan Better Than Othe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Jun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tter Homes Greener Cit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February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457200"/>
            <a:ext cx="79246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ving Cost Price Index (inc 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ndon        10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York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ving Cost Index (exc 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slo                12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ndon            1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enhagen     10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. New York     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533520"/>
            <a:ext cx="7696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ge Level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London   89.2 (gross)    96.0 (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estic Purchasing Power of 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don   ranks between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609480"/>
            <a:ext cx="8077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is is with a measure of the cost of living which excludes 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rent it drops to something like 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BS does not do the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762120"/>
            <a:ext cx="75438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measure- How much does IKEA charge for a standard package of five large i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       £1483  (VAT rate 17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  £1453  (VAT rate  19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     £1450  (VAT rate 20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 £12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457200"/>
            <a:ext cx="79246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non-pric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ace costs have other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choice – the clone t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wding – the two (or three) sittings resta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why, on a BBC survey 13% of the population is hoping to emigrate “in search of a better quality of life, better weather and a feeling that the UK is too expen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457200"/>
            <a:ext cx="80010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stributiona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 on housing favours older home owners at the expense of renters, young would-be owners, and young owners who wish to trad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 in other areas favours share owners, those with accumulated pension investments in lan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hole system of constraint is thoroughly regressive – which is why it’s favoured by the middle cla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228600"/>
            <a:ext cx="7772400" cy="69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ystemic (non-constraint)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would not be bad if the result were better decisions, but is the system rat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s delay because bureaucracy is built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s it rational that Kate Barker can investigate the whole system in less than a year, whilst inquiries into a temporary terminal at Coventry Airport lasted years? Should she not have had QCs and expert witnesses and cross-examination and exhibits and so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s delay built in because it keeps objectors happy? Politicians can assure people that they have looked into things thorough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ould less consideration of detail be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976560" y="2833560"/>
          <a:ext cx="1190880" cy="11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6560" y="2833560"/>
                    <a:ext cx="119088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85800" y="291960"/>
            <a:ext cx="739152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457200"/>
            <a:ext cx="8305560" cy="55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Growth Italian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l Sorpass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Val Vibrata, in central Italy, “every house has turned into a factory” and growth has been spectacu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late eightie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im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aid that this should be an example to the English of what could be achieved in backward rural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the UK planning system would soon put a stop to any such id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would the British as neighb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533520"/>
            <a:ext cx="80010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e housing market and endemic rising prices interest rates in the UK are frequently raised to slow down the housing boom. This impacts on indus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533520"/>
            <a:ext cx="7848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tish homes are smaller than those in other countries in Western Europe (except Portugal, Greece, and Fin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homes in the UK are, without exception, the smallest in Western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erage density in Germany is about the same as in the UK- new homes are cheaper and substantially lar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chard Rogers thought that this was because they had better architect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295280" y="1371600"/>
          <a:ext cx="693432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9343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457200"/>
            <a:ext cx="81532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rid of ‘plan led’ pla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hink green belts in the interest of sustain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ocial Cost Tariff – the social value of green fields. If this can be paid there should be a presumption in favour of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concern with detail – promote simplified planning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e to local governments to allow development i.e. they retain the tax income which results. At present there are disincentives rather than incen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457200"/>
            <a:ext cx="83818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re the British so concerned about l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misapprehension (Bar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nda from the CPRE and its al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sychology of the way of life (people are kept away from the country so that they can’t spoil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sychology of inter-urban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atness of England, the south in 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, in fact, completely irrational, a matter of faith not r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219320" y="457200"/>
          <a:ext cx="6705360" cy="62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6705360" cy="62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8088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ffect is redistributive and divi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aves versus the have-n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ld versus the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457200"/>
            <a:ext cx="792468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y of Constraint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ffect on Commerce and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– it was not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planned that there would be sufficient land through ‘New Towns’, regional policy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en Belts simply prevented wasteful spra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dictions on which the plans were based were wrong,  and so the plans were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ainment of urban England’ was evident by the early seven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609480"/>
            <a:ext cx="7924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nners and government denied until 1992 that the policy of constraint affected pr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isunderstanding of Ricardian rent the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 now government accepts that constraints on land availability increase house prices. (Or does it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planners (and politicians) don’t think economically – the Rogers Report had virtually no economic input and was economically illite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’s up to planners to plan and the market to follow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what if the best land use plan results in a sub-optimal econom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1685880"/>
          <a:ext cx="8305920" cy="41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85880"/>
                    <a:ext cx="830592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457200"/>
            <a:ext cx="81532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ighties residential and industrial land uses tracked each other in the Sou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iod of change in the early nin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es on residential land use were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lass B1 was introduced combining office and industrial 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rge number of retail developments were per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pping hours were substantially ex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Residential land prices have risen relative to other land use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3:18:13Z</dcterms:created>
  <dc:creator>Administrator</dc:creator>
  <dc:description/>
  <dc:language>en-US</dc:language>
  <cp:lastModifiedBy>LSE User</cp:lastModifiedBy>
  <dcterms:modified xsi:type="dcterms:W3CDTF">2007-02-28T11:51:39Z</dcterms:modified>
  <cp:revision>18</cp:revision>
  <dc:subject/>
  <dc:title>‘The Best Laid Plans’ or ‘Another Fine Mess’</dc:title>
</cp:coreProperties>
</file>