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380880"/>
            <a:ext cx="0" cy="601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371600" y="6629400"/>
            <a:ext cx="739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477120"/>
            <a:ext cx="723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3049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Unicode MS"/>
              </a:rPr>
              <a:t>Some Impacts of Recent Immigration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 Unicode MS"/>
              </a:rPr>
              <a:t>on the London Economy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2971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Ian Gordon and Christine Whitehea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LSE Lond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Seminar, March 17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Unicode MS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 2007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Unicode MS"/>
              </a:rPr>
              <a:t>Long Term Impacts on London Population Change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Conditioned by three main factors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Probabilities of return/onward migra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85760" indent="-217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In steady state boost to population = annual rate of in-migration/prob. of exit (p.a.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85760" indent="-217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Flows of temporary migrants generate one-off increase (and change population composition) but do not produce continuing growth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85760" indent="-217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Flows of permanent migrants (only) produce continuing growth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Displacement effects on other Londoner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85760" indent="-217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May include (i.e. select) a ‘white flight’ elemen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85760" indent="-217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But driven by growing gap between space demands and availability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85760" indent="-217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Displacement i– estimated at 40-45% by Hatton and Tani - is less than 100% primarily because (effective) space demands of new immigrants are less than of average Londoner :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19920" indent="-217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If this doesn’t persist then impact on London population would be step increase, not continuing growth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Child-bearing by a younger migrant population (20-44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Unicode MS"/>
              </a:rPr>
              <a:t>Contrasting Patterns by Area of Origin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1125000"/>
            <a:ext cx="7772400" cy="41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High wage countrie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EU, USA, Old Commonwealth, Japan / Korea)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623880" indent="-239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predominantly white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23880" indent="-239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38% of recent inflow but only 17% of stock growth post-1986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23880" indent="-239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Large temporary element (1996 entry down 50% between 1997 and 2005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23880" indent="-239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Sensitive to cyclical developments in London economy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Asylum countrie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(from where asylum seekers are a large proportion of the UK inflow)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623880" indent="-239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ethnically mixed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23880" indent="-239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12% of recent inflow but 22% of stock growth post-1986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23880" indent="-239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Delays in entering mainstream housing/labour markets – and surveys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23880" indent="-239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Smaller temporary element (1995 entry down 37% between 1997 and 2005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23880" indent="-239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Flows driven by push factors, plus perceptions of control tightness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Other low wage origin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developing and transition countries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623880" indent="-239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lso ethnically mixed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23880" indent="-239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51% of recent inflow but 62% of stock growth post-1986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23880" indent="-239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Small temporary element (1996 entry down 16% between 1997 and 2005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23880" indent="-239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Not evidently sensitive to state of the London economy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23880" indent="-239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8 countries (inc. Poland) as a sub-set – but not particularly concentrated in Lond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All three group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how more education than the average Londoner – but comparable with similarly 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young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natives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623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Unicode MS"/>
              </a:rPr>
              <a:t>Potential Economic Gains 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 Unicode MS"/>
              </a:rPr>
              <a:t>from Immigration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1773000"/>
            <a:ext cx="77724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 more elastic labour suppl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pecific types of labour in short suppl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ly skilled labour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o compensate for short-fall in home supply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o fill specialist nich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o fill jobs rejected by domestic work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acilitating upward mobility of nativ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acilitating trade relations with migrants’ home countri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enefits from cultural diversit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ntributing to supply of exotic products/servic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ncreasing attraction to tourists and mobile ‘talent’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timulating product or process innova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 Unicode MS"/>
              </a:rPr>
              <a:t>Some Evidence from Wider Literature</a:t>
            </a:r>
            <a:endParaRPr b="0" lang="en-US" sz="35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Unicode MS"/>
              </a:rPr>
              <a:t>Surveys of international literature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 (Longhi et al, 2004/6) show diverse results but overall point to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Very small negative effects on both native employment 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(at least in Europe and for women)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 and wag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Unicode MS"/>
              </a:rPr>
              <a:t>For UK, Dustmann et al (2005) show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46200" indent="-248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No overall effect on native employment, though negative effects in intermediate education group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(compensated by probably pos. effect for most educated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A wage effect, which is (if anything) positiv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Unicode MS"/>
              </a:rPr>
              <a:t>At City level, for US, Ottaviano and Peri (2005/6)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report strong positive relations between change in foreign-born population and both wages and rent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And argue this as consequence of positive effects of cultural diversity on  productivity levels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Unicode MS"/>
              </a:rPr>
              <a:t>In relation to A8 migrants to UK, Blanchflower et al (2007) argue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No apparent effect on regional unemployment trend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Probably tended to lower natural rate of unemployment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And higher supply outweighing demand effects should moderate inflation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4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52480" y="1981080"/>
            <a:ext cx="662940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Unicode MS"/>
              </a:rPr>
              <a:t>Economic Activity of 25-44 year olds Among London Immigrant Groups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3" name=""/>
          <p:cNvSpPr/>
          <p:nvPr/>
        </p:nvSpPr>
        <p:spPr>
          <a:xfrm>
            <a:off x="1676520" y="1676520"/>
            <a:ext cx="75960" cy="297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76520" y="6095880"/>
            <a:ext cx="67053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838080" y="2004840"/>
          <a:ext cx="7162920" cy="347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004840"/>
                    <a:ext cx="7162920" cy="34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943600" y="243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86600" y="24382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43800" y="198108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001000" y="198108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342900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05320" y="24382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66"/>
                </a:solidFill>
                <a:latin typeface="Arial Unicode MS"/>
              </a:rPr>
              <a:t>Continuing Differentials in Employment Outcomes</a:t>
            </a:r>
            <a:endParaRPr b="0" lang="en-US" sz="31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ven after 3 years, migrants from poor countries retain significantly lower employment rat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bout half of this differential is associated with racial and religious composition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flecting broader patterns of disadvantage (and some life choices) among resident popula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oles remain exceptional with very high employment rat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nd significantly lower hourly earning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bout 30% lower (controlling for years education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ducing to 22% after control for ethnicity and gender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olish earnings differential seems larger (for 0-3 yrs. only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Unicode MS"/>
              </a:rPr>
              <a:t>Worklessness in London – is there an Immigration Connection?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London has lowest employment rate of any UK region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ttracted attention recently (e.g. GLA, HMT), because of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hift in focus away from unemployment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elative improvement in rates for north and west versus south (as whole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Paradoxical position for reputedly successful economy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Raised question about whether new immigration could explain – with large supply increases still in post-2000 years when job growth stop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However, growth in workless gap (against GSE) has been solely in the group saying they don’t want jobs, which has grown steadily since 1984, independent of demand/supply shifts 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f immigration plays a role, it seems to be only via migrants’ own lower employment rates (whether reflecting choices or competitive failure/discrimination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Unicode MS"/>
              </a:rPr>
              <a:t>Immigration and the Bottom Tier of the London Labour Market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Part of Sassen’s (1991) ‘global city’ thesis was that globalcityisation polarised the employment structure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With growth among worst paid job types as well as at the top end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European researchers challenged this in relation to London, Paris and Amsterdam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suggesting welfare state model made a difference (Hamnett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or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that polarisation in 1980s New York reflected much higher levels of immigration there, offering an elastic labour supply for low paid service jobs (</a:t>
            </a:r>
            <a:r>
              <a:rPr b="0" i="1" lang="en-GB" sz="2000" spc="-1" strike="noStrike">
                <a:solidFill>
                  <a:srgbClr val="000000"/>
                </a:solidFill>
                <a:latin typeface="Arial Unicode MS"/>
              </a:rPr>
              <a:t>Working Capital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hypothesis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Possibly relevant that consumer services have shown much more growth in London during 1990s than in 1980s, alongside the upsurge of immigration her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Visible concentration of some migrant groups in low paid occupations suggested as cause of growth + downward pressure on pay (May, Mills et al, QMUL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52480" y="1981080"/>
            <a:ext cx="662940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Unicode MS"/>
              </a:rPr>
              <a:t>Employment of London Immigrant Groups by High/Low Paid Occupations</a:t>
            </a: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676520" y="1981080"/>
          <a:ext cx="6858000" cy="447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81080"/>
                    <a:ext cx="6858000" cy="44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1676520" y="1676520"/>
            <a:ext cx="75960" cy="297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6095880"/>
            <a:ext cx="67053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46483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77120" y="1981080"/>
            <a:ext cx="0" cy="426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Unicode MS"/>
              </a:rPr>
              <a:t>Trends in Employment Share and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 Unicode MS"/>
              </a:rPr>
              <a:t>Wages for Jobs in the Bottom Quintile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Arial Unicode MS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 Unicode MS"/>
              </a:rPr>
              <a:t>(occupations with lowest hourly pay nationally)</a:t>
            </a:r>
            <a:endParaRPr b="0" lang="en-US" sz="2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Source: analysis by Ioannis Kaplanis of NES microdata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523880" y="1447920"/>
          <a:ext cx="7467840" cy="452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447920"/>
                    <a:ext cx="7467840" cy="45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Outline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lective review/discussion of some (only) of the key issues, focusing on: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ure of flows and LT effects on London populatio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Labour market position of migrants and relation to high worklessness in Londo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Evidence of impacts in bottom quintile of job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mplications for housing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Causal Link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ecent migrants from low wage economies are concentrated in the lowest quintile of jobs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ough concentration reduces with longer stay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igh rates of immigration to London in the later 1990s depress wages in this segment in London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(relative to rest of country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Nominal wage up 5.5% 1995-9 in Lond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902880" indent="-180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f. 14.5% in RUK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ower wages in this segment contribute to its employment growth in London after 1994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Quintile’s share in London employment up from 16.2% in 1995 to 19.2% in 1999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902880" indent="-180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f. from 19.4% to 20.6% in RUK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lasticity of employment with respect to wage in this quintile =  –1.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(from regional panel 1991-9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Implications for Housing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Inmigrants impact on the housing system immediat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London’s projected growth in households heavily concentrated on inmigratio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But inmigrants have lower headship rates than indigenous population – so direct impact les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Direct effects on house prices, access to social housing, utilisation of the stock and homelessnes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60020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 Unicode MS"/>
                <a:ea typeface="Times New Roman"/>
              </a:rPr>
              <a:t>Table 1:   Components of the Projected Increase in Households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 Unicode MS"/>
                <a:ea typeface="Times New Roman"/>
              </a:rPr>
              <a:t>2001-21: Regional Analysi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09480" y="1143000"/>
          <a:ext cx="8283600" cy="4443480"/>
        </p:xfrm>
        <a:graphic>
          <a:graphicData uri="http://schemas.openxmlformats.org/drawingml/2006/table">
            <a:tbl>
              <a:tblPr/>
              <a:tblGrid>
                <a:gridCol w="1462320"/>
                <a:gridCol w="893520"/>
                <a:gridCol w="892440"/>
                <a:gridCol w="974520"/>
                <a:gridCol w="1305000"/>
                <a:gridCol w="887400"/>
                <a:gridCol w="1055520"/>
                <a:gridCol w="812880"/>
              </a:tblGrid>
              <a:tr h="3070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(thousands per yea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Longev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xternal Migr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eparation of Coupl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Household representative rat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Other changes (A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sidu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North E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North We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Yorkshire and Humb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ast Midland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West Midland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ast of Englan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Lond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outh E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outh We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nglan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684360" y="1052640"/>
          <a:ext cx="8064360" cy="4584600"/>
        </p:xfrm>
        <a:graphic>
          <a:graphicData uri="http://schemas.openxmlformats.org/drawingml/2006/table">
            <a:tbl>
              <a:tblPr/>
              <a:tblGrid>
                <a:gridCol w="2846160"/>
                <a:gridCol w="870120"/>
                <a:gridCol w="1106280"/>
                <a:gridCol w="870120"/>
                <a:gridCol w="1027080"/>
                <a:gridCol w="1344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(per cen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6-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5-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0-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5-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65 and ov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 Unicode MS"/>
                        </a:rPr>
                        <a:t>Born outside the U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ntered less than 5 years a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3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7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9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7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9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Entered UK 5 years but less than 10 years a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3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2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7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3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Entered UK 10 years but less than 20 years a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0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5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5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60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0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Entered UK 20 years or more a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3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1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8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60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69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 Unicode MS"/>
                        </a:rPr>
                        <a:t>Born in the U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3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5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7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9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70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Whole private household population (a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3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3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6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9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70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1095480" y="281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281160"/>
            <a:ext cx="79930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ble 2:  Ratios of Household Reference Person to Tot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vate Household Population:  England 2002 to 20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Unicode MS"/>
              </a:rPr>
              <a:t>Competition for Housing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240" y="1412640"/>
            <a:ext cx="7232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Need to distinguish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higher income employed migrants (often shorter term) which affect house pric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Lower income employed migrants who usually enter private renting – often in HMOs initially using less space; relatively low income elasticity?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Refugees and asylum seekers who are mainly dispersed but often return to London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Increased pressure on social housing sector both direct and indirec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834408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834372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1680" y="1052640"/>
            <a:ext cx="857232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Unicode MS"/>
              </a:rPr>
              <a:t>Second Round Effects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240" y="1557000"/>
            <a:ext cx="73040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Continued movement out of more established family households to South East and further afield – different household composition of capita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Effect on quality and stability of local services but also filling important gap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Higher house prices implies less movement out of social sector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even greater pressure on system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Competition for services and its impact on social cohesio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Some Conclusion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Major demographic shift in London population – both in scale and diversity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n long run, principally involving migration from low wage economies – though more flexibility/variety as result of inflow from high wage area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s housing aspirations among new migrants converge on those of rest of London population, overall growth rates should slow down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No evidence yet of effects on overall London employment growth, earnings, productivity or unemployment, but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xtended education among the migrants from low wage economies is not being reflected in short-medium term by absorption into appropriate job typ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Levels of worklessness (principally inactivity) are high among this group of migrants (though partly for cultural reasons, among married Muslim women as well as barriers to accessing jobs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oncentration of this group in bottom quintile jobs – especially during first 3 years – seems to have significantly depressed London wages at the bottom end, and consequentially boosted employment from mid-late 1990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Unicode MS"/>
              </a:rPr>
              <a:t>London and the New International Migration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4040" y="137160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This city has very long history of immigration, by groups who have  played a significant role in its economy, via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 Unicode MS"/>
              </a:rPr>
              <a:t>Flows linked to trade and imperial role; and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 Unicode MS"/>
              </a:rPr>
              <a:t>Periodic waves of refuge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But never sustained migration on scale of the last 10-20 yea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Part of a new (post-Fordist?) international era of migration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qualitatively distinct from that of 1950s/60s, when flows largely shaped by importing major employers/stat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followed by major cut-backs, in context of recession or political opposi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and from 1980s, a combination of: highly skilled movers; new sets of refugees; speculative/clandestine migrants; trafficking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 Unicode MS"/>
              </a:rPr>
              <a:t>Diverse, autonomous, and more strongly urban in character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 Unicode MS"/>
              </a:rPr>
              <a:t>London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Unicode MS"/>
              </a:rPr>
              <a:t>Immigration and London’s Turnaround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134100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 new immigration was directly responsible for the the reversal of London’s 50 year population decline, from the late 1980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s such it is one of two key planks on which the Mayor’s growth-oriented London Plan rest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 other being the continuing growth of employment in the business service sector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ogically, international immigration might be seen as providing the elastic labour supply needed to accommodate this exponential growth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ut how far the two phenomena are – or can be – linked is very unclear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articularly since main immigrant groups are not heavily represented in the sector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London’s overseas-born population 1986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1.17 million – 17.6% of tota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Of whom 76% from former British territori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ajority from just 6 countri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reland, India, Kenya, Jamaica, Cyprus, Bangladesh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London’s overseas-born population 2006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2.23 million – 30.5% of tota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f whom 59% from former British territorie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ost of the increase (60%) among other groups, who grew by 225% over 20 year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25% less Irish but 200% more French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ajority now from 15 countries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evious 6 + Nigeria, Poland, Sri Lanka, Ghana, South Africa, Pakistan, Somalia, USA, Turke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Unicode MS"/>
              </a:rPr>
              <a:t>Sources of Growth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Worldwide trend to higher levels of mobility, associated with enhanced communication of opportunities, air transport, growth of skilled workforce – and proliferation of refugee-generating crises/conflicts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articularly affecting areas which are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conomically attractive and ‘urban’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With existing concentrations of non-native group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ose to ports of entry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Large share of expanded UK immigration in London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rend is not London specific, but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t gets much above average share of inflows (40%+, cf. 30% of outflows); and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nflow rates reflect not only strong time trend, but also previous year’s employment growth in the city – e.g. flat trend since 1999,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s for jobs, after late 1990s growth in both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Unicode MS"/>
              </a:rPr>
              <a:t>National Growth in Migration 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 Unicode MS"/>
              </a:rPr>
              <a:t>but with distinct London elements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2920" y="1628640"/>
            <a:ext cx="7521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Gross International Migration 1985-2004 (000s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692360" y="2276640"/>
          <a:ext cx="7092720" cy="424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276640"/>
                    <a:ext cx="709272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Unicode MS"/>
              </a:rPr>
              <a:t>Who Counts, and Who Gets Counted, as Migrants ?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Formal UK definition = those entrants who had been out of the country for &gt; 1 year and now intend to stay for &gt; than 1 year (plus those ‘visitors’ who later apply to extend their stay beyond a year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Does not relate directly to the degree of involvement in local labour/housing markets (e.g. long term students versus working visitors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Includes as immigrants many returning natives (c. 25%), and as emigrants many returning non-natives (c. 50%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Official data comes from sample surveys of international passengers; plus Home Office (HO) admin data on asylum seekers and status switcher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A general issue is that illegals don’t get counted: HO assumption that 80-100% are in Census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→ estimate of 10-20% understatement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A London issue is significant overcounting in survey of numbers with a final destination within London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Making a similar assumption about residential survey coverage (i.e. migrants of all kinds equally likely to be included – except for new asylum seekers, and some students, in institutional accommodation), we rely heavily on LFS data on non-natives and their dates of arrival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0T08:58:26Z</dcterms:created>
  <dc:creator>ian gordon</dc:creator>
  <dc:description/>
  <dc:language>en-US</dc:language>
  <cp:lastModifiedBy>LSE User</cp:lastModifiedBy>
  <dcterms:modified xsi:type="dcterms:W3CDTF">2007-04-04T10:36:45Z</dcterms:modified>
  <cp:revision>55</cp:revision>
  <dc:subject/>
  <dc:title>London’s Place in the          UK economy</dc:title>
</cp:coreProperties>
</file>