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D74-641D-434A-A947-488E23A7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EE83-EC03-457F-B5E1-0EADBA38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0045-F764-442F-8F05-52B5A2EF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3090-0215-4178-A4F8-4CC57EEC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CC1-13A4-4DEE-96D1-5742BAF5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6A1E-3369-42C2-8F7E-0B8919F3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FA42-83D8-42CD-B2C4-7DC92CD7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6F1-4A85-47F3-B789-A7273CC7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AD5-AEDA-44F4-A328-D41E09B6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94B1-BCF3-41CB-A0E5-185FE2C8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9B39-BE10-4218-AA70-96AF9A36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2A7-F1A6-4F6F-91B6-A024172A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DDB2-8485-4572-B97C-0642FD934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047600"/>
            <a:ext cx="7391520" cy="20163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eda1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09680"/>
            <a:ext cx="7391520" cy="3353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eda1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0" y="1522440"/>
            <a:ext cx="8991720" cy="1828800"/>
          </a:xfrm>
          <a:prstGeom prst="pie">
            <a:avLst/>
          </a:prstGeom>
          <a:solidFill>
            <a:srgbClr val="0d2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2600" y="3098880"/>
            <a:ext cx="8305560" cy="0"/>
          </a:xfrm>
          <a:prstGeom prst="line">
            <a:avLst/>
          </a:prstGeom>
          <a:ln w="50760">
            <a:solidFill>
              <a:srgbClr val="eda1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565280"/>
            <a:ext cx="820908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0080" y="63914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8219" t="11520" r="7230" b="12008"/>
          <a:stretch/>
        </p:blipFill>
        <p:spPr>
          <a:xfrm>
            <a:off x="5791320" y="4113360"/>
            <a:ext cx="2376360" cy="1006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3049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905120"/>
            <a:ext cx="655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spects for the Thames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581280"/>
            <a:ext cx="5486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hael 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O Kent Tham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SE London Seminar Feb 19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13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13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ur  “Transformational Economic Opportunities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anary Whar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jobs to grow from 82000 to 20000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Gateway Port Clus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Tilbury, Purfleet, Thamesport and Sheppey + Shellhave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Ebbsfleet Valle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new commercial centr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atford City &amp; Olym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38088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9: Interim Plan III: Econo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14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14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153280" cy="4672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8600" y="38088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10: Interim Plan IV: Economic Ma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15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60020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lls: guarantee of progression from level 3 to level 4; new HE &amp; F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bitious green commitments: parklands; low carbon developmen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60,000 homes (2001-16) – up from 120,000 – increase mostly in Lond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transport invest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3808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1: Interim Plan V: Commi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16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16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6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98108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aration of costed plan for April 2007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firm commitments till spending review – July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04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12: Interim Plan VI: Next Ste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: The Delivery 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 local regeneration partnerships/LD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urban development corpo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Olympic Deliver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sub regional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regional development ag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Government Off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Regional Assemb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Mayor of London/G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County Counc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don Borough/Unitary and Shire District Counc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partment of Communities and Local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 government departments, the Housing Corporation, English Partnerships, the Highways Agency , the Environment Agency, the Countryside Agency and Natural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Thames Gateway Strategic Part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174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177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304920" y="457200"/>
            <a:ext cx="518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13: Delivery I : Ag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: The Delivery Bodies: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182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185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533520" y="457200"/>
            <a:ext cx="5486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14: Delivery II: 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rcRect l="0" t="12003" r="3740" b="10847"/>
          <a:stretch/>
        </p:blipFill>
        <p:spPr>
          <a:xfrm>
            <a:off x="609480" y="1676520"/>
            <a:ext cx="78487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5: Why the different struc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mes Gateway is asymmetri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rcumstances vary from place to plac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rcumstances dictate nature and pace of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size fits all” model not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192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195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380880" y="380880"/>
            <a:ext cx="5334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16: Delivery III: Wh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199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202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>
            <a:off x="0" y="304920"/>
            <a:ext cx="6324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: Delivery IV: Local Dif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ature of the development opportunity (e.g. Olympics, CTRL, P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tterns of land ownership – is there a public sector land assembly ro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ructure of local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 different systems: - Lond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2 t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uni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208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211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62120" y="1752480"/>
            <a:ext cx="7543800" cy="4148280"/>
            <a:chOff x="762120" y="1752480"/>
            <a:chExt cx="7543800" cy="4148280"/>
          </a:xfrm>
        </p:grpSpPr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762120" y="1752480"/>
              <a:ext cx="7543800" cy="41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 txBox="1"/>
            <p:nvPr/>
          </p:nvSpPr>
          <p:spPr>
            <a:xfrm>
              <a:off x="762120" y="1752480"/>
              <a:ext cx="7543800" cy="414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04920" y="45720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18: Kent Thameside I: M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219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222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9:  Kent Thameside II:  The Golden 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clusters of develop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community and office centre at Ebbsfl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newal of historic centres of Dartford and Graves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9 miles of Thames water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 And Blue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5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5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82880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ames Gateway Interim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nt Thame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0880"/>
            <a:ext cx="297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1: Cont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227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230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0: Kent Thameside III: The Opport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nel Tunnel Rail Lin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ge reserves of brownfield l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rget of 30000 homes and 50000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Transport Oriented Development- Fas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knowledged in draft Strategic Framework as 1 of 4 key Thames Gateway economic transfor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ility: if you want to build new homes in the Sou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st without concreting over the countryside, this is the sort of place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235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238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1: Kent Thameside  IV - Land Ow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er quarries and cement work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ites in and beyond central area in possession of Lafarge/Land Secu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major public sector land assembly role in Ebbsfleet ( though significant SEEDA role in support of districts in town centres and elsewhere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24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24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2: Kent Thameside V: Local Government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tier, 2 districts, 2 local planning auth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local author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nt County Cou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rtford Borough Cou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vesham Borough Cou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254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257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" name=""/>
          <p:cNvSpPr/>
          <p:nvPr/>
        </p:nvSpPr>
        <p:spPr>
          <a:xfrm>
            <a:off x="228600" y="457200"/>
            <a:ext cx="624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: Kent Thameside VI:  Homes and Road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process for Eastern Quarry and o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sites 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ways Agency view that capacity of road network inadequate to support level of planned new housing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cle 14 - enables HA to intervene in planning process to prevent appr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emate for over two years; risk of loss of investor and developer confidence, loss of momentum, and loss of credibility for gateway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26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26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ective partnership working between public sector partners, and with private s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ckage of measures – demand management/public transport/road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ded by public &amp; private sector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er contribution via a tariff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ill a need for a major contribution from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380880"/>
            <a:ext cx="609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4: Kent Thameside VII:   Homes and Roads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                                 The Potential 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272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275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58496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5: Kent Thameside VIII: pro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rack buses started March 30 2006; passenger nos well ahead of forecast; second route summer 2007; some evidence of people moving from car to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TRL Ebbsfleet Station finished  summer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trains November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mestic trains 2009 – 17 minutes to St Panc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ent for 4.5m sq ft of off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spect of 16000 jobs at Ebbsfleet by 20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ministrative and business centre for Thames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office centre to compete in M25 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Ebbsfleet housing starts Feb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281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284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the Gateway make a major contribution to increasing housing supply in the South Ea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the area’s long-standing low growth rates be increa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these aims be achieved while also satisfying the environmental and social aspirations of the Interim Pl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380880"/>
            <a:ext cx="6477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26: Thames Gateway: The Challen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291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294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i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 vision – with Interim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roved structure – with appointment of C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itment to major infrastructure investment – CTRL/A2/ Olympic P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bitious homes and jobs tar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– all depends on CS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380880"/>
            <a:ext cx="609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7: Thames Gateway: The Pro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6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2: Thames Gateway M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23412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7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7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pite the regional policies of successive governments, London and the South East just keep on growi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rlow (19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ibution of Industry Act (194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th East Study (196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ional Plan (19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– increasingly difficult to operate anything like old regional policies in service based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228600"/>
            <a:ext cx="6934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3: Context I : Regional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8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8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ondon region has embarked on a huge experiment of quite breathtaking audacity. It is to become the financial  and - in some respects  - the economic capital of the world…It is driven entirely by market forces, forces that can be resisted but which if successfully accommodated will bring vast benefits to these island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mish McRae, “The Independent”, June 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304920"/>
            <a:ext cx="5105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4: Context II: Lond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9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9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lanned decentralis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unty of London Plan (194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rst wave New Tow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reater London Development Plan (1972/197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portance of London Plan (2000 and subsequentl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licit rejection of planned decentralis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pulation and jobs growing – invest to cope with grow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wers delegated to Lond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28600"/>
            <a:ext cx="5334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5: Context III: Lond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10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10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ce London cannot accommodate its own natural increase, the whole of the population growth of 3½ million will have to be found homes elsewhere – a population increase of well over a third for the area outside London.” (SE Study, 196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Greater South East, many cannot afford to purchase a home and there are very severe shortages of homes to rent for those on low and moderate incomes… As the largest growth area, the Gateway is now playing a prime role in meeting needs in the Greater South East and will continue to do so for the foreseeable future.”  (Thames Gateway Interim Plan, 2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28600"/>
            <a:ext cx="55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6: Context IV: Hou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11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11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trategic framework for the Gateway as a distinctive social and economic unit, there to shape and guide investment, decisions and actions. A framework which joins up development funding and recurrent expenditure. A framework which integrates economic, public service and housing development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vid Miliband, 23 November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28600"/>
            <a:ext cx="6019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7: Interim Plan I: Purp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12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12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mand for economic rat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ison with Northern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pite commitment to sustainable communities, concern that programme driven by housing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rehensive Spending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lym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 to move from aspirational targets to hard forec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04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: Interim Plan II: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15:43:41Z</dcterms:created>
  <dc:creator>BrownR06</dc:creator>
  <dc:description/>
  <dc:language>en-US</dc:language>
  <cp:lastModifiedBy>BrownR06</cp:lastModifiedBy>
  <dcterms:modified xsi:type="dcterms:W3CDTF">2007-02-16T17:01:24Z</dcterms:modified>
  <cp:revision>6</cp:revision>
  <dc:subject/>
  <dc:title>No Slide Title</dc:title>
</cp:coreProperties>
</file>