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68B-3B5D-47FB-B090-B7EE38BD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950-E35F-4DBB-B657-C676CA1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194-24A0-46C6-B180-B528E2A2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8C7-C7BD-447B-9D87-A7A88EBA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1C0-4A49-4D24-A809-0F60D6D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A70-43B4-4337-A294-656F21D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8A4-E50A-47AA-92F3-7E78EEA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76C-007B-44CC-AA10-99E8A1FE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2AD-2887-4F85-8A38-F7A02FD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B7B-A99D-48C6-A253-DF7AE138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171-027E-4DDC-8786-4D64EB3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87B-E889-498F-9B40-8F55BEC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548-1E7F-493C-A861-161539A4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047600"/>
            <a:ext cx="7391520" cy="2016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739152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1522440"/>
            <a:ext cx="8991720" cy="1828800"/>
          </a:xfrm>
          <a:prstGeom prst="pie">
            <a:avLst/>
          </a:prstGeom>
          <a:solidFill>
            <a:srgbClr val="0d2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600" y="3098880"/>
            <a:ext cx="8305560" cy="0"/>
          </a:xfrm>
          <a:prstGeom prst="line">
            <a:avLst/>
          </a:prstGeom>
          <a:ln w="50760">
            <a:solidFill>
              <a:srgbClr val="eda1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6528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0080" y="6391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8219" t="11520" r="7230" b="12008"/>
          <a:stretch/>
        </p:blipFill>
        <p:spPr>
          <a:xfrm>
            <a:off x="5791320" y="4113360"/>
            <a:ext cx="2376360" cy="100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30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90512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spects for the Thames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58128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hael 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O Kent Tham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SE London Seminar Feb 1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3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  “Transformational Economic Opportunities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nary Whar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jobs to grow from 82000 to 2000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ateway Port Clus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ilbury, Purfleet, Thamesport and Sheppey + Shellhave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bbsfleet Valle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new commercial cent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atford City &amp; Olym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8088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9: Interim Plan III: Econo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4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153280" cy="4672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3808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10: Interim Plan IV: Economic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5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lls: guarantee of progression from level 3 to level 4; new HE &amp; 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bitious green commitments: parklands; low carbon develop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0,000 homes (2001-16) – up from 120,000 – increase mostly in Lond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transport inves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80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: Interim Plan V: Commi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9810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 of costed plan for April 200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firm commitments till spending review – July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12: Interim Plan VI: Next Ste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: The Delivery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local regeneration partnerships/LD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urban development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Olympic Deliver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ub regional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regional development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Government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Regional 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ayor of London/G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unty Coun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don Borough/Unitary and Shire District Coun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partment of Communities and Local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government departments, the Housing Corporation, English Partnerships, the Highways Agency , the Environment Agency, the Countryside Agency and Natural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Thames Gateway Strategic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74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30492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13: Delivery I : Ag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: The Delivery Bodies: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8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533520" y="4572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4: Delivery II: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12003" r="3740" b="10847"/>
          <a:stretch/>
        </p:blipFill>
        <p:spPr>
          <a:xfrm>
            <a:off x="609480" y="1676520"/>
            <a:ext cx="7848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: Why the different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mes Gateway is asymmetr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mstances vary from place to plac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mstances dictate nature and pace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size fits all” model not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9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380880" y="380880"/>
            <a:ext cx="53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6: Delivery III: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99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: Delivery IV: Local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ture of the development opportunity (e.g. Olympics, CTRL, 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s of land ownership – is there a public sector land assembly r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ructure of 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different systems: -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un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08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2120" y="1752480"/>
            <a:ext cx="7543800" cy="4148280"/>
            <a:chOff x="762120" y="1752480"/>
            <a:chExt cx="7543800" cy="414828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762120" y="1752480"/>
              <a:ext cx="7543800" cy="41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762120" y="1752480"/>
              <a:ext cx="75438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4920" y="4572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18: Kent Thameside I: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19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:  Kent Thameside II:  The Golden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clusters of develop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community and office centre at Ebbsfl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ewal of historic centres of Dartford and Grave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 miles of Thames water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 And Blu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5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ames Gateway Interi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nt Thame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: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27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30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: Kent Thameside III: The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 Tunnel Rail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reserves of brownfield l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of 30000 homes and 50000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Transport Oriented Development- Fas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knowledged in draft Strategic Framework as 1 of 4 key Thames Gateway economic transfo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ility: if you want to build new homes in the So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without concreting over the countryside, this is the sort of plac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35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1: Kent Thameside  IV - Land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er quarries and cement work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ites in and beyond central area in possession of Lafarge/Land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major public sector land assembly role in Ebbsfleet ( though significant SEEDA role in support of districts in town centres and elsewhere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4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2: Kent Thameside V: Local Govern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tier, 2 districts, 2 local plann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local auth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nt County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rtford Borough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esham Borough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54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228600" y="4572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: Kent Thameside VI:  Homes and Roa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process for Eastern Quarry and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ites 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s Agency view that capacity of road network inadequate to support level of planned new housing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 14 - enables HA to intervene in planning process to prevent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 for over two years; risk of loss of investor and developer confidence, loss of momentum, and loss of credibility for gatewa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ective partnership working between public sector partners, and with private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age of measures – demand management/public transport/road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ed by public &amp; private secto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er contribution via a tarif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ll a need for a major contribution from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3808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4: Kent Thameside VII:   Homes and Roads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                              The Potential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72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75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849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5: Kent Thameside VIII: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rack buses started March 30 2006; passenger nos well ahead of forecast; second route summer 2007; some evidence of people moving from car to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TRL Ebbsfleet Station finished  summ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trains November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estic trains 2009 – 17 minutes to St Panc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nt for 4.5m sq ft of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spect of 16000 jobs at Ebbsfleet by 2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istrative and business centre for Thames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ffice centre to compete in M25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Ebbsfleet housing starts Feb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81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 Gateway make a major contribution to increasing housing supply in the South E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 area’s long-standing low growth rates be increa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se aims be achieved while also satisfying the environmental and social aspirations of the Interim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8088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6: Thames Gateway: The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291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294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vision – with Interi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d structure – with appointment of C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ment to major infrastructure investment – CTRL/A2/ Olympic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bitious homes and jobs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– all depends on CS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808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7: Thames Gateway: Th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6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: Thames Gateway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2341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7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pite the regional policies of successive governments, London and the South East just keep on grow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low (19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ion of Industry Act (194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h East Study (196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Plan (19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– increasingly difficult to operate anything like old regional policies in service base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: Context I : Region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8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don region has embarked on a huge experiment of quite breathtaking audacity. It is to become the financial  and - in some respects  - the economic capital of the world…It is driven entirely by market forces, forces that can be resisted but which if successfully accommodated will bring vast benefits to these island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mish McRae, “The Independent”, June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04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: Context II: Lo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9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ned decentralis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y of London Plan (194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rst wave New Tow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eater London Development Plan (1972/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ortance of London Plan (2000 and subsequent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licit rejection of planned decentralis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pulation and jobs growing – invest to cope with grow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wers delegated to Lond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5334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5: Context III: Lo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0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London cannot accommodate its own natural increase, the whole of the population growth of 3½ million will have to be found homes elsewhere – a population increase of well over a third for the area outside London.” (SE Study, 196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Greater South East, many cannot afford to purchase a home and there are very severe shortages of homes to rent for those on low and moderate incomes… As the largest growth area, the Gateway is now playing a prime role in meeting needs in the Greater South East and will continue to do so for the foreseeable future.”  (Thames Gateway Interim Plan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6: Context IV: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1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rategic framework for the Gateway as a distinctive social and economic unit, there to shape and guide investment, decisions and actions. A framework which joins up development funding and recurrent expenditure. A framework which integrates economic, public service and housing developmen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Miliband, 23 Nov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7: Interim Plan I: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: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52280"/>
            <a:ext cx="8934480" cy="6477120"/>
            <a:chOff x="0" y="152280"/>
            <a:chExt cx="8934480" cy="6477120"/>
          </a:xfrm>
        </p:grpSpPr>
        <p:sp>
          <p:nvSpPr>
            <p:cNvPr id="123" name=""/>
            <p:cNvSpPr/>
            <p:nvPr/>
          </p:nvSpPr>
          <p:spPr>
            <a:xfrm>
              <a:off x="171360" y="533520"/>
              <a:ext cx="8763120" cy="60958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eda1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d2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61120" y="298440"/>
              <a:ext cx="1871640" cy="811080"/>
              <a:chOff x="6261120" y="298440"/>
              <a:chExt cx="1871640" cy="81108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rcRect l="8200" t="11525" r="7260" b="12055"/>
              <a:stretch/>
            </p:blipFill>
            <p:spPr>
              <a:xfrm>
                <a:off x="6261120" y="298440"/>
                <a:ext cx="1871640" cy="792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6261120" y="317520"/>
                <a:ext cx="1871640" cy="792000"/>
              </a:xfrm>
              <a:prstGeom prst="roundRect">
                <a:avLst>
                  <a:gd name="adj" fmla="val 16667"/>
                </a:avLst>
              </a:prstGeom>
              <a:noFill/>
              <a:ln w="165240">
                <a:solidFill>
                  <a:srgbClr val="0d2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533520" y="457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and for economic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 with Northern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pite commitment to sustainable communities, concern that programme driven by housing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hensive Spending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ym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move from aspirational targets to hard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: Interim Plan II: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43:41Z</dcterms:created>
  <dc:creator>BrownR06</dc:creator>
  <dc:description/>
  <dc:language>en-US</dc:language>
  <cp:lastModifiedBy>BrownR06</cp:lastModifiedBy>
  <dcterms:modified xsi:type="dcterms:W3CDTF">2007-02-16T17:01:24Z</dcterms:modified>
  <cp:revision>6</cp:revision>
  <dc:subject/>
  <dc:title>No Slide Title</dc:title>
</cp:coreProperties>
</file>