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8.wmf" ContentType="image/x-wmf"/>
  <Override PartName="/ppt/media/image17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0FF7-F855-494C-B0BF-758C5E17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E573-582E-472F-9F4A-59491866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82E4-0C64-47CA-AACA-0BDB0803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0C5A-6F3D-4DF7-9BF1-FB878D34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2F6A-3EC7-44B2-AEFC-CC8CF6CE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B1CD-C0D2-4CE2-BDF4-DDCD793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EAE4-78E3-4E71-8833-89636C56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7CD1-7FD7-4508-9EFC-00A5AE0E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7085-143E-406E-A882-F6DFBD99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8ACC-BD46-4BA8-A748-699946D6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3B68-CD97-4340-B096-0311983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50C2-1DBB-450C-A354-9DFAE509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7643-B49B-43ED-8AAA-B1FEDC02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8FDE-7368-4391-9CF7-58AA89AB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C328-CD19-45A7-84C4-283F842D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F0C-DAA5-4BAA-B80E-F830932F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CA1E-10DB-4827-9560-A68DAFEB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C3E0-B614-45D1-A43A-81DE6EFA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1D01F-A657-4953-A510-72C8C864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3CB27-1C2E-4322-BD2E-A4E0B2D9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B878-CD19-4523-AC40-A40AEFDD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699B-774D-42B3-AB7A-DD6A759E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DC2B-7AD1-46EA-86B1-8D5B7D05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3C0AA-B96D-41A3-8BAE-91CAE138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D14A-DBA1-4F5E-AB83-E0D613270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E362-AD63-47C1-B375-B186D1F2F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1844280"/>
            <a:ext cx="7850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Buy to let and the   </a:t>
            </a:r>
            <a:br>
              <a:rPr sz="4600"/>
            </a:b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              reconfiguration of    </a:t>
            </a:r>
            <a:br>
              <a:rPr sz="4600"/>
            </a:br>
            <a:r>
              <a:rPr b="1" lang="en-GB" sz="4600" spc="-1" strike="noStrike">
                <a:solidFill>
                  <a:srgbClr val="ffffff"/>
                </a:solidFill>
                <a:latin typeface="Arial"/>
              </a:rPr>
              <a:t> Londons’ housing market</a:t>
            </a:r>
            <a:r>
              <a:rPr b="0" lang="en-GB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78920" y="4962240"/>
            <a:ext cx="881244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Steve Wilco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University of Y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Growth in private rented sector in Lond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628640"/>
          <a:ext cx="86421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642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340000" y="645336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4000" y="63295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LG :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turn in wider Private Rented Sector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lettings to Housing Benefit claimants</a:t>
            </a: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844640"/>
          <a:ext cx="822312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822312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6213600" y="642456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for 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Nearly a half of all moves each year are  into the private rented sector in Engl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1557360"/>
          <a:ext cx="84326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557360"/>
                    <a:ext cx="84326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In London over a half of all moves each year are  into the private rented sector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1628640"/>
          <a:ext cx="84326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4326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564000" y="63295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H : 2006/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n decent homes in the 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3680" y="1628640"/>
          <a:ext cx="82166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28640"/>
                    <a:ext cx="82166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268360" y="640080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: English House Condition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using market affordability i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use price to income rat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Housing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fordability of private 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nting and Buying com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use price to income ratio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12680" y="2133720"/>
          <a:ext cx="71186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2680" y="2133720"/>
                    <a:ext cx="71186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19795" t="17465" r="17706" b="6805"/>
          <a:stretch/>
        </p:blipFill>
        <p:spPr>
          <a:xfrm>
            <a:off x="3203640" y="549360"/>
            <a:ext cx="5689440" cy="6048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2879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use price to income ratios in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80360" y="1268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oad and narrow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mediate housing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924280"/>
            <a:ext cx="7417080" cy="23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3645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3645000"/>
            <a:ext cx="11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364500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t on HB but cannot buy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36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y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Q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3645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bu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Q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2000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4800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rrow intermed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35280" y="587700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using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5877000"/>
            <a:ext cx="251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9080" y="213372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oad intermediate housing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0920" y="2924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2637000"/>
            <a:ext cx="496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road and Narrow Intermediate Housing Market in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00000" y="2205000"/>
          <a:ext cx="723132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05000"/>
                    <a:ext cx="723132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uy to let and the reconfiguration of Londons’ housing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using market tr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use Purchase Afford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rmediate Housing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vate Rents Afford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nting and Bu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uture trends and PRS poli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18501" t="17458" r="14924" b="8116"/>
          <a:stretch/>
        </p:blipFill>
        <p:spPr>
          <a:xfrm>
            <a:off x="3708360" y="260280"/>
            <a:ext cx="5113440" cy="6264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3106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rtion of working households in the Intermediate housing market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08720" y="10731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442440"/>
            <a:ext cx="82090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House prices, mortgage costs, rents and earnings compared (1994 = 100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645336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773360"/>
          <a:ext cx="849780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49780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979640" y="6308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rst time buyer house prices and mortgage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ffordability of private rents and mortgage costs in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9640" y="2205000"/>
          <a:ext cx="80647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05000"/>
                    <a:ext cx="8064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8596" t="14819" r="11913" b="17157"/>
          <a:stretch/>
        </p:blipFill>
        <p:spPr>
          <a:xfrm>
            <a:off x="3247920" y="836640"/>
            <a:ext cx="5664240" cy="60213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ts as a proportion of mortgage costs in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360920" y="5684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ture prospects for private re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38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mographics &amp;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ment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unches &amp;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scal &amp; policy reg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42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004 projections for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8360" y="1628640"/>
          <a:ext cx="820728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0728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ercial rental returns  (U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916280"/>
          <a:ext cx="8229600" cy="4254120"/>
        </p:xfrm>
        <a:graphic>
          <a:graphicData uri="http://schemas.openxmlformats.org/drawingml/2006/table">
            <a:tbl>
              <a:tblPr/>
              <a:tblGrid>
                <a:gridCol w="1452600"/>
                <a:gridCol w="1185840"/>
                <a:gridCol w="1111320"/>
                <a:gridCol w="1111320"/>
                <a:gridCol w="1109520"/>
                <a:gridCol w="1185840"/>
                <a:gridCol w="1073160"/>
              </a:tblGrid>
              <a:tr h="106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684360" y="6324480"/>
            <a:ext cx="799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 : IPD UK Residential Index – based on portfolio of 9,040 dwell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tal returns ( Central Lond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773360"/>
          <a:ext cx="8234280" cy="4397040"/>
        </p:xfrm>
        <a:graphic>
          <a:graphicData uri="http://schemas.openxmlformats.org/drawingml/2006/table">
            <a:tbl>
              <a:tblPr/>
              <a:tblGrid>
                <a:gridCol w="1452600"/>
                <a:gridCol w="1077840"/>
                <a:gridCol w="1079640"/>
                <a:gridCol w="1152360"/>
                <a:gridCol w="1152720"/>
                <a:gridCol w="1079280"/>
                <a:gridCol w="1239840"/>
              </a:tblGrid>
              <a:tr h="110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684360" y="6324480"/>
            <a:ext cx="799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 : IPD UK Residential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ntal returns ( Inner Lond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700280"/>
          <a:ext cx="8010360" cy="4470480"/>
        </p:xfrm>
        <a:graphic>
          <a:graphicData uri="http://schemas.openxmlformats.org/drawingml/2006/table">
            <a:tbl>
              <a:tblPr/>
              <a:tblGrid>
                <a:gridCol w="1452600"/>
                <a:gridCol w="1077840"/>
                <a:gridCol w="1152720"/>
                <a:gridCol w="1079280"/>
                <a:gridCol w="1081080"/>
                <a:gridCol w="1079640"/>
                <a:gridCol w="1087200"/>
              </a:tblGrid>
              <a:tr h="13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u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684360" y="6324480"/>
            <a:ext cx="799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ource : IPD UK Residential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scal &amp; Policy Reg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ugg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pital Gains Tax Re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 landlords or better produ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vate renting and mixed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using market 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6640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use price to income rat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rtgage cost to income rat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gional tr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using market affordability in Great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341360"/>
          <a:ext cx="856908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5690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24000" y="630864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ll full time earnings and first time buyer house pr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gional trends in home owner afford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3040" y="1557360"/>
          <a:ext cx="8210520" cy="49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1557360"/>
                    <a:ext cx="82105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Underlying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6400"/>
            <a:ext cx="8229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ustained economic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wer interest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adequate housing 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vailability buy to let mortg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owth in private rented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8569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growth and house building 1991 - 2003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0000" y="1773360"/>
          <a:ext cx="8244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8244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3516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rowth in new buy to let mortg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600200"/>
          <a:ext cx="8427960" cy="45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00200"/>
                    <a:ext cx="8427960" cy="45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547640" y="623736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: CML website :  New advances per half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Growth in private rented sector in Engla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1628640"/>
          <a:ext cx="864216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6421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340000" y="645336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632952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H :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9:30:43Z</dcterms:created>
  <dc:creator>wilcox</dc:creator>
  <dc:description/>
  <dc:language>en-US</dc:language>
  <cp:lastModifiedBy>hallas</cp:lastModifiedBy>
  <dcterms:modified xsi:type="dcterms:W3CDTF">2008-03-12T17:35:22Z</dcterms:modified>
  <cp:revision>34</cp:revision>
  <dc:subject/>
  <dc:title>Slide 1</dc:title>
</cp:coreProperties>
</file>