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A9C7-8566-45E1-A914-AEDD182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FB3F-307E-4C97-AC29-96797C4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1C9A-BA4D-4604-900E-34EC75ED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73EA-C5BE-4A14-B2F6-6804D407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0A72-B1C1-4A11-B149-A9CEB315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F0F9-84ED-434D-8F26-FFA9B4F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BFE-DACD-4E88-8892-D07B1C1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6B68-7CCA-4D12-B568-33B2606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58D0-0B4E-4CA8-931E-9F58C38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5DB5-59C1-4FA1-BC9B-5CA79F7E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790-EAE2-4C21-B647-812D877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591A-E9AE-46A7-B419-3BCEA22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AE13-4EB8-4802-A307-F595AEB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04C9-2BB3-456F-875E-52ACB26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E381-8997-40A1-BB0D-E2710B5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7A5C-2A6A-4357-BA57-4388C5AD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3AB4-8314-4DCE-B770-AEBCD17F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9778-B415-4AC9-8DD5-55AC963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6A24-9A68-4CFA-B919-CDADD27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0795-C5B5-46E8-9AE3-D08D361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DE75-026A-4B56-998F-A04D6BD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F3CB-7768-4C44-94C5-4BAD628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574B-5A3A-4DAD-B343-3831D32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0469-08AF-4A29-B3E0-DFFB7418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9E3F-3125-4F45-8023-758E4AFEC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A6B-476B-4114-9D71-91284C3CD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1844280"/>
            <a:ext cx="7850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Buy to let and the   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             reconfiguration of    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Londons’ housing market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8920" y="4962240"/>
            <a:ext cx="88124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Steve Wilco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University of Y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Growth in private rented sector in Lond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628640"/>
          <a:ext cx="86421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42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6329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G :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turn in wider Private Rented Sect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lettings to Housing Benefit claimant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844640"/>
          <a:ext cx="822312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2231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213600" y="642456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for 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early a half of all moves each year are  into the private rented sector in Engl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557360"/>
          <a:ext cx="84326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8432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n London over a half of all moves each year are  into the private rented sector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628640"/>
          <a:ext cx="84326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432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64000" y="63295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H : 2006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n decent homes in the 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3680" y="1628640"/>
          <a:ext cx="82166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8640"/>
                    <a:ext cx="8216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68360" y="64008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: English House Condition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using market affordability i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use price to income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Hous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fordability of private 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ting and Buying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 price to income ratio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12680" y="2133720"/>
          <a:ext cx="7118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133720"/>
                    <a:ext cx="7118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9795" t="17465" r="17706" b="6805"/>
          <a:stretch/>
        </p:blipFill>
        <p:spPr>
          <a:xfrm>
            <a:off x="3203640" y="549360"/>
            <a:ext cx="5689440" cy="6048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2879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use price to income ratio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126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oad and narrow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mediate housing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924280"/>
            <a:ext cx="7417080" cy="23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64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3645000"/>
            <a:ext cx="11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3645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t on HB but cannot bu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6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Q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364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u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Q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rrow 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5280" y="587700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87700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9080" y="213372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 intermediate 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09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2637000"/>
            <a:ext cx="496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oad and Narrow Intermediate Housing Market 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00000" y="2205000"/>
          <a:ext cx="72313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05000"/>
                    <a:ext cx="72313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y to let and the reconfiguration of Londons’ housing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ing market tr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e Purchase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mediate Housing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vate Rents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nting and Bu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ture trends and PRS poli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8501" t="17458" r="14924" b="8116"/>
          <a:stretch/>
        </p:blipFill>
        <p:spPr>
          <a:xfrm>
            <a:off x="3708360" y="260280"/>
            <a:ext cx="5113440" cy="6264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106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rtion of working households in the Intermediate housing marke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8720" y="10731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442440"/>
            <a:ext cx="82090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use prices, mortgage costs, rents and earnings compared (1994 = 1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773360"/>
          <a:ext cx="849780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4978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979640" y="63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rst time buyer house prices and mortgag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ffordability of private rents and mortgage cost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2205000"/>
          <a:ext cx="8064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8064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8596" t="14819" r="11913" b="17157"/>
          <a:stretch/>
        </p:blipFill>
        <p:spPr>
          <a:xfrm>
            <a:off x="3247920" y="836640"/>
            <a:ext cx="5664240" cy="6021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s as a proportion of mortgage cost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60920" y="568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prospects for private r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s &amp;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ment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nches &amp;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scal &amp; policy reg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4 projections for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1628640"/>
          <a:ext cx="82072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rcial rental returns  (U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16280"/>
          <a:ext cx="8229600" cy="4254120"/>
        </p:xfrm>
        <a:graphic>
          <a:graphicData uri="http://schemas.openxmlformats.org/drawingml/2006/table">
            <a:tbl>
              <a:tblPr/>
              <a:tblGrid>
                <a:gridCol w="1452600"/>
                <a:gridCol w="1185840"/>
                <a:gridCol w="1111320"/>
                <a:gridCol w="1111320"/>
                <a:gridCol w="1109520"/>
                <a:gridCol w="1185840"/>
                <a:gridCol w="1073160"/>
              </a:tblGrid>
              <a:tr h="106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 – based on portfolio of 9,040 dwel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al returns ( Central Lond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773360"/>
          <a:ext cx="8234280" cy="4397040"/>
        </p:xfrm>
        <a:graphic>
          <a:graphicData uri="http://schemas.openxmlformats.org/drawingml/2006/table">
            <a:tbl>
              <a:tblPr/>
              <a:tblGrid>
                <a:gridCol w="1452600"/>
                <a:gridCol w="1077840"/>
                <a:gridCol w="1079640"/>
                <a:gridCol w="1152360"/>
                <a:gridCol w="1152720"/>
                <a:gridCol w="1079280"/>
                <a:gridCol w="123984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al returns ( Inner Lond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700280"/>
          <a:ext cx="8010360" cy="4470480"/>
        </p:xfrm>
        <a:graphic>
          <a:graphicData uri="http://schemas.openxmlformats.org/drawingml/2006/table">
            <a:tbl>
              <a:tblPr/>
              <a:tblGrid>
                <a:gridCol w="1452600"/>
                <a:gridCol w="1077840"/>
                <a:gridCol w="1152720"/>
                <a:gridCol w="1079280"/>
                <a:gridCol w="1081080"/>
                <a:gridCol w="1079640"/>
                <a:gridCol w="1087200"/>
              </a:tblGrid>
              <a:tr h="13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scal &amp; Policy Reg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ugg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ital Gains Tax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 landlords or better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vate renting and mixe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using marke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e price to income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rtgage cost to income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onal tr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using market affordability in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341360"/>
          <a:ext cx="85690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5690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24000" y="630864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l full time earnings and first time buyer house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onal trends in home owner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3040" y="1557360"/>
          <a:ext cx="82105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557360"/>
                    <a:ext cx="82105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derly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stained economic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wer interest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adequate housing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vailability buy to let mort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owth in private rented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growth and house building 1991 - 2003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773360"/>
          <a:ext cx="8244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8244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351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rowth in new buy to let mortg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600200"/>
          <a:ext cx="842796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842796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547640" y="6237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: CML website :  New advances per half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Growth in private rented sector in Engl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628640"/>
          <a:ext cx="86421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42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63295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H :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9:30:43Z</dcterms:created>
  <dc:creator>wilcox</dc:creator>
  <dc:description/>
  <dc:language>en-US</dc:language>
  <cp:lastModifiedBy>hallas</cp:lastModifiedBy>
  <dcterms:modified xsi:type="dcterms:W3CDTF">2008-03-12T17:35:22Z</dcterms:modified>
  <cp:revision>34</cp:revision>
  <dc:subject/>
  <dc:title>Slide 1</dc:title>
</cp:coreProperties>
</file>