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C21-EE15-4401-B21D-6EAFC930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3CF-9941-443B-A786-A753901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70B-A410-47A7-987F-3ABCB156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CA1-54EF-417B-8176-C04A08FB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529-9C66-4900-8953-1844DED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13A-3864-43B9-A3EE-96F644B5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6D0-92C8-4EB3-932D-008E6037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A07-3F5B-4471-ACC0-00111C2C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444-B3C1-448F-A366-8AE08B2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E5D-1A1E-4F42-A117-72A5C4A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0C7-5BD5-4468-A5CA-43456C4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4F7-75A4-47D1-928B-16EC9FB4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A83A-ED8A-47AB-A3C2-18A875BDE0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ames Gateway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Big numbers or big mistake?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z Richardson and Christine Whitehea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SE Housing and LSE Lond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day 25 April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don School of Econo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Existing Population Benefit?:  Concerns about overstretched   social infrastructure and less interest in maintaining/improving existing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nt H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106 inadequate for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f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Development:  emphasis on numbers; potential for economic re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l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of quality and building for the long ter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ing rather than economic bas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0120" y="556272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Numbers or Big Mista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– costs per unit of development particularly hig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ief in “infinite” economic rent? – too much expected from land valu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se effect on lower profile but higher net value developments elsew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big hits early on with longer term cos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are we just grumpy, and in one case old, wom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ners Gu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3 miles long and 20 miles w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,600 hectares brownfield land plus scraps, but half in flood pl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GL includes 10 London Boroug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.3 m in TGL, up by 13.6% since 1991 over 250 neighbourho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hnic minority population up from 18 to 26% over 10 yea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ndon average owner occupation but social renting high in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ouse prices way below London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vestment gaps in social housing to meet stand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conomic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 of the 10 are in the most depri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gacy of industrial past in skills gaps and unemployment lev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ood links in some places but serious gaps elsewhere and uncertain pla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01000" y="5784840"/>
            <a:ext cx="7826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SE’s 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drop of Sustainable Communitie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ssioned by TGLP and East London Housing Dir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lear identity for sub-region or agreed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sub regions housing strategies in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 out from the city and existing cen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rease the attractions of the London T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infill sites and con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novate and modernise existing h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oid ghettoisation of poor and vulnerable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oid a ‘big bang, big brother’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imise environmental impact and energ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lue the natural as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ocat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-front invest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physical and social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f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er dens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mo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xed 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more integrated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and renovate homes to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est possible eco-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 in high qualit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ban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 and reinstat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ull remedi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cellent eco-standar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mbitious recycling, water use and energy targ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atural landscaping and waterwa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verage densities of new develop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versifying existing council estat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nting and owning more ev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ilding new vs. restoring and repairing existing proper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grating new with existing communi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ttracting young families in essential job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measures of succ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858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e:  the area covered is enormous, including three regions and dozens of local authorities and sub-regions as  well as other ag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lements make it logical to treat as one?  Is it simply the vision? The river? – or are there real economic and social benefi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governance structure in place or is it a way of allowing central government to domin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concentrate development?: clearly cannot address the whole area in one – and no suggestion that shou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areas where development can be brought forward relatively easi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these low cost/low value possibilit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a mechanism for evaluating the relat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nefits of different locations/ configurations etc. – or are we simply seeing plans come off the shel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pact on Existing Areas:  are the new plans being imposed on an existing framework to the cost of other long-run develop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isting town centres – how can they survi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eneration programmes just outside the area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ditionality v. diver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43800" y="5638680"/>
            <a:ext cx="85896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40:49Z</dcterms:created>
  <dc:creator>ITServices</dc:creator>
  <dc:description/>
  <dc:language>en-US</dc:language>
  <cp:lastModifiedBy>ITServices</cp:lastModifiedBy>
  <dcterms:modified xsi:type="dcterms:W3CDTF">2005-04-25T14:06:45Z</dcterms:modified>
  <cp:revision>10</cp:revision>
  <dc:subject/>
  <dc:title>Thames Gateway:  Big numbers or big mistake?  Liz Richardson and Christine Whitehead LSE Housing and LSE London</dc:title>
</cp:coreProperties>
</file>