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12472-92D1-4C58-9AAF-985CEF7B2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88DFB-21E7-4005-8374-771678555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0BE9C-3B82-43B8-B5CD-73CE5244E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2C362-A941-492A-AFF4-EDDA9C195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419C4-DAFE-4621-AA62-E64064CA5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90CD4-9141-4E0D-A4A2-84CF80E2B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65F9F-11B5-48BF-B29E-71E27E539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592E6-8E69-4EF0-9C9B-CF2126AFB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48F24-4000-44FB-8CBE-4D7F518BC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E6A80-9784-4C54-B0C4-BFA2D53FD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272AE-6742-4400-9702-5FF3DF631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4001F-BD2F-4113-9BF8-7DA34DED2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7A9E7-AAD9-4293-8F5A-5DB60BDABD8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838080"/>
            <a:ext cx="784872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Thames Gateway: 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Big numbers or big mistake?</a:t>
            </a:r>
            <a:br>
              <a:rPr sz="4400"/>
            </a:br>
            <a:br>
              <a:rPr sz="4400"/>
            </a:b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Liz Richardson and Christine Whitehead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LSE Housing and LSE Lond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724280"/>
            <a:ext cx="6400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day 25 April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ndon School of Econom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7620120" y="5486400"/>
            <a:ext cx="858600" cy="79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412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ahom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Does the Existing Population Benefit?:  Concerns about overstretched   social infrastructure and less interest in maintaining/improving existing uni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ent Ho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106 inadequate for infra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of benef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7543800" y="5562720"/>
            <a:ext cx="858960" cy="79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379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ypes of Development:  emphasis on numbers; potential for economic regener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fla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wo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of quality and building for the long term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using rather than economic base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7620120" y="5562720"/>
            <a:ext cx="858600" cy="79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3412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8377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g Numbers or Big Mistake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s – costs per unit of development particularly high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lief in “infinite” economic rent? – too much expected from land value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erse effect on lower profile but higher net value developments elsewhere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for big hits early on with longer term cost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 are we just grumpy, and in one case old, women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7772400" y="5715000"/>
            <a:ext cx="858960" cy="79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eginners Guide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Ar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43 miles long and 20 miles wid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4,600 hectares brownfield land plus scraps, but half in flood plai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GL includes 10 London Borough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opu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2.3 m in TGL, up by 13.6% since 1991 over 250 neighbourhoo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ethnic minority population up from 18 to 26% over 10 years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ous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London average owner occupation but social renting high in plac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house prices way below London averag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Investment gaps in social housing to meet standar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conomic 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7 of the 10 are in the most depriv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legacy of industrial past in skills gaps and unemployment level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Good links in some places but serious gaps elsewhere and uncertain pla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8001000" y="5784840"/>
            <a:ext cx="782640" cy="72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LSE’s work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ackdrop of Sustainable Communities Pl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ssioned by TGLP and East London Housing Directo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 clear identity for sub-region or agreed vi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ther sub regions housing strategies in pla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7848720" y="5562720"/>
            <a:ext cx="858600" cy="79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Our goal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Work out from the city and existing cent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Increase the attractions of the London T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Use infill sites and conver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enovate and modernise existing ho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void ghettoisation of poor and vulnerable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void a ‘big bang, big brother’ approa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Minimise environmental impact and energy u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Value the natural ass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7620120" y="5486400"/>
            <a:ext cx="858600" cy="79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from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xisting commun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ocate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up-front investm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n physical and social infra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n for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higher densit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more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ixed us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more integrated commun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and renovate homes to the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highest possible eco-stand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vest in high quality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urban desig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 and reinstate the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natural environ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ahoma"/>
              </a:rPr>
              <a:t>Recommendations</a:t>
            </a: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7620120" y="5486400"/>
            <a:ext cx="858600" cy="79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685440" y="12949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Full remediation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Excellent eco-standard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Ambitious recycling, water use and energy target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Natural landscaping and waterway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Average densities of new development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Diversifying existing council estate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Renting and owning more even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Building new vs. restoring and repairing existing propert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Integrating new with existing communitie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Attracting young families in essential job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Essential measures of succes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7848720" y="5638680"/>
            <a:ext cx="858600" cy="7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jor Issu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8001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-5972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cale:  the area covered is enormous, including three regions and dozens of local authorities and sub-regions as  well as other agenc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9724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97240" indent="-597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elements make it logical to treat as one?  Is it simply the vision? The river? – or are there real economic and social benefit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97240" indent="-597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the governance structure in place or is it a way of allowing central government to dominate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7772400" y="5562720"/>
            <a:ext cx="858960" cy="79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412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concentrate development?: clearly cannot address the whole area in one – and no suggestion that shoul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are areas where development can be brought forward relatively easily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BU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re these low cost/low value possibilitie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there a mechanism for evaluating the relativ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NE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enefits of different locations/ configurations etc. – or are we simply seeing plans come off the shelf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7696080" y="5562720"/>
            <a:ext cx="858960" cy="79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03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8377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Impact on Existing Areas:  are the new plans being imposed on an existing framework to the cost of other long-run development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Existing town centres – how can they survive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egeneration programmes just outside the area?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dditionality v. diversion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7543800" y="5638680"/>
            <a:ext cx="858960" cy="7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5T09:40:49Z</dcterms:created>
  <dc:creator>ITServices</dc:creator>
  <dc:description/>
  <dc:language>en-US</dc:language>
  <cp:lastModifiedBy>ITServices</cp:lastModifiedBy>
  <dcterms:modified xsi:type="dcterms:W3CDTF">2005-04-25T14:06:45Z</dcterms:modified>
  <cp:revision>10</cp:revision>
  <dc:subject/>
  <dc:title>Thames Gateway:  Big numbers or big mistake?  Liz Richardson and Christine Whitehead LSE Housing and LSE London</dc:title>
</cp:coreProperties>
</file>