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wmf" ContentType="image/x-wmf"/>
  <Override PartName="/ppt/media/image14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2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52080" y="1522080"/>
            <a:ext cx="765972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52080" y="3834720"/>
            <a:ext cx="765972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52080" y="1522080"/>
            <a:ext cx="3737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77160" y="1522080"/>
            <a:ext cx="3737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52080" y="3834720"/>
            <a:ext cx="3737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77160" y="3834720"/>
            <a:ext cx="3737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52080" y="1522080"/>
            <a:ext cx="2466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42280" y="1522080"/>
            <a:ext cx="2466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2120" y="1522080"/>
            <a:ext cx="2466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52080" y="3834720"/>
            <a:ext cx="2466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42280" y="3834720"/>
            <a:ext cx="2466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2120" y="3834720"/>
            <a:ext cx="2466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52080" y="1522080"/>
            <a:ext cx="765972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oundry Form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52080" y="1522080"/>
            <a:ext cx="765972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52080" y="1522080"/>
            <a:ext cx="373788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77160" y="1522080"/>
            <a:ext cx="373788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52080" y="107640"/>
            <a:ext cx="765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oundry Form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52080" y="1522080"/>
            <a:ext cx="3737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77160" y="1522080"/>
            <a:ext cx="373788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252080" y="3834720"/>
            <a:ext cx="3737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52080" y="1522080"/>
            <a:ext cx="765972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oundry Form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2080" y="1522080"/>
            <a:ext cx="373788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77160" y="1522080"/>
            <a:ext cx="3737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77160" y="3834720"/>
            <a:ext cx="3737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52080" y="1522080"/>
            <a:ext cx="3737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77160" y="1522080"/>
            <a:ext cx="3737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52080" y="3834720"/>
            <a:ext cx="765972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52080" y="1522080"/>
            <a:ext cx="765972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252080" y="3834720"/>
            <a:ext cx="765972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2080" y="1522080"/>
            <a:ext cx="3737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77160" y="1522080"/>
            <a:ext cx="3737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52080" y="3834720"/>
            <a:ext cx="3737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77160" y="3834720"/>
            <a:ext cx="3737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52080" y="1522080"/>
            <a:ext cx="2466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42280" y="1522080"/>
            <a:ext cx="2466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32120" y="1522080"/>
            <a:ext cx="2466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252080" y="3834720"/>
            <a:ext cx="2466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42280" y="3834720"/>
            <a:ext cx="2466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32120" y="3834720"/>
            <a:ext cx="246636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52080" y="1522080"/>
            <a:ext cx="765972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52080" y="1522080"/>
            <a:ext cx="373788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77160" y="1522080"/>
            <a:ext cx="373788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2080" y="107640"/>
            <a:ext cx="765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Foundry Form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52080" y="1522080"/>
            <a:ext cx="3737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77160" y="1522080"/>
            <a:ext cx="373788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52080" y="3834720"/>
            <a:ext cx="3737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52080" y="1522080"/>
            <a:ext cx="373788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77160" y="1522080"/>
            <a:ext cx="3737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77160" y="3834720"/>
            <a:ext cx="3737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52080" y="1522080"/>
            <a:ext cx="3737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77160" y="1522080"/>
            <a:ext cx="3737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52080" y="3834720"/>
            <a:ext cx="765972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28800" y="0"/>
            <a:ext cx="8215200" cy="1390680"/>
          </a:xfrm>
          <a:prstGeom prst="rect">
            <a:avLst/>
          </a:prstGeom>
          <a:gradFill rotWithShape="0">
            <a:gsLst>
              <a:gs pos="0">
                <a:srgbClr val="262e3c"/>
              </a:gs>
              <a:gs pos="50000">
                <a:srgbClr val="546583"/>
              </a:gs>
              <a:gs pos="100000">
                <a:srgbClr val="262e3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1832"/>
              </a:solidFill>
              <a:latin typeface="Times New Roman"/>
            </a:endParaRPr>
          </a:p>
        </p:txBody>
      </p:sp>
      <p:pic>
        <p:nvPicPr>
          <p:cNvPr id="1" name="GLA%20Economics%20ol%20blue%2072dpi" descr=""/>
          <p:cNvPicPr/>
          <p:nvPr/>
        </p:nvPicPr>
        <p:blipFill>
          <a:blip r:embed="rId2"/>
          <a:stretch/>
        </p:blipFill>
        <p:spPr>
          <a:xfrm>
            <a:off x="6678720" y="6365880"/>
            <a:ext cx="2290680" cy="41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252080" y="1522080"/>
            <a:ext cx="765972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Click to edit the outline text format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1" marL="743040" indent="-285840">
              <a:spcBef>
                <a:spcPts val="700"/>
              </a:spcBef>
              <a:buClr>
                <a:srgbClr val="546583"/>
              </a:buClr>
              <a:buFont typeface="Foundry Form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Second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2" marL="1143000" indent="-228600">
              <a:spcBef>
                <a:spcPts val="700"/>
              </a:spcBef>
              <a:buClr>
                <a:srgbClr val="546583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Third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3" marL="1600200" indent="-228600">
              <a:spcBef>
                <a:spcPts val="700"/>
              </a:spcBef>
              <a:buClr>
                <a:srgbClr val="546583"/>
              </a:buClr>
              <a:buFont typeface="Foundry Form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Fourth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4" marL="2057400" indent="-228600">
              <a:spcBef>
                <a:spcPts val="700"/>
              </a:spcBef>
              <a:buClr>
                <a:srgbClr val="546583"/>
              </a:buClr>
              <a:buFont typeface="Foundry Form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Fifth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5" marL="2057400" indent="-228600">
              <a:spcBef>
                <a:spcPts val="700"/>
              </a:spcBef>
              <a:buClr>
                <a:srgbClr val="021832"/>
              </a:buClr>
              <a:buFont typeface="Foundry Form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Sixth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lvl="6" marL="2057400" indent="-228600">
              <a:spcBef>
                <a:spcPts val="700"/>
              </a:spcBef>
              <a:buClr>
                <a:srgbClr val="021832"/>
              </a:buClr>
              <a:buFont typeface="Foundry Form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Seventh Outline Leve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  <p:pic>
        <p:nvPicPr>
          <p:cNvPr id="4" name="image%20striip" descr=""/>
          <p:cNvPicPr/>
          <p:nvPr/>
        </p:nvPicPr>
        <p:blipFill>
          <a:blip r:embed="rId3"/>
          <a:stretch/>
        </p:blipFill>
        <p:spPr>
          <a:xfrm>
            <a:off x="0" y="0"/>
            <a:ext cx="10638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18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1752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oundry Form San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42" name="GLA%20Economics%20rev%2050%25%20tint" descr=""/>
          <p:cNvPicPr/>
          <p:nvPr/>
        </p:nvPicPr>
        <p:blipFill>
          <a:blip r:embed="rId2"/>
          <a:srcRect l="4400" t="16722" r="7017" b="21484"/>
          <a:stretch/>
        </p:blipFill>
        <p:spPr>
          <a:xfrm>
            <a:off x="6667560" y="6316560"/>
            <a:ext cx="2236680" cy="515880"/>
          </a:xfrm>
          <a:prstGeom prst="rect">
            <a:avLst/>
          </a:prstGeom>
          <a:ln w="0">
            <a:noFill/>
          </a:ln>
        </p:spPr>
      </p:pic>
      <p:pic>
        <p:nvPicPr>
          <p:cNvPr id="43" name="image%20striip" descr=""/>
          <p:cNvPicPr/>
          <p:nvPr/>
        </p:nvPicPr>
        <p:blipFill>
          <a:blip r:embed="rId3"/>
          <a:stretch/>
        </p:blipFill>
        <p:spPr>
          <a:xfrm>
            <a:off x="0" y="0"/>
            <a:ext cx="10638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undry Form San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Foundry Form San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1832"/>
                </a:solidFill>
                <a:latin typeface="Foundry Form Sans"/>
              </a:rPr>
              <a:t>Second Outline Level</a:t>
            </a:r>
            <a:endParaRPr b="0" lang="en-US" sz="2400" spc="-1" strike="noStrike">
              <a:solidFill>
                <a:srgbClr val="021832"/>
              </a:solidFill>
              <a:latin typeface="Foundry Form Sans"/>
            </a:endParaRPr>
          </a:p>
          <a:p>
            <a:pPr lvl="2" marL="914400" algn="ctr">
              <a:spcBef>
                <a:spcPts val="499"/>
              </a:spcBef>
              <a:buClr>
                <a:srgbClr val="546583"/>
              </a:buClr>
              <a:buFont typeface="Foundry Form San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1832"/>
                </a:solidFill>
                <a:latin typeface="Foundry Form Sans"/>
              </a:rPr>
              <a:t>Third Outline Level</a:t>
            </a:r>
            <a:endParaRPr b="0" lang="en-US" sz="2000" spc="-1" strike="noStrike">
              <a:solidFill>
                <a:srgbClr val="021832"/>
              </a:solidFill>
              <a:latin typeface="Foundry Form Sans"/>
            </a:endParaRPr>
          </a:p>
          <a:p>
            <a:pPr lvl="3" marL="1371600" algn="ctr">
              <a:spcBef>
                <a:spcPts val="451"/>
              </a:spcBef>
              <a:buClr>
                <a:srgbClr val="546583"/>
              </a:buClr>
              <a:buFont typeface="Foundry Form San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21832"/>
                </a:solidFill>
                <a:latin typeface="Foundry Form Sans"/>
              </a:rPr>
              <a:t>Fourth Outline Level</a:t>
            </a:r>
            <a:endParaRPr b="0" lang="en-US" sz="1800" spc="-1" strike="noStrike">
              <a:solidFill>
                <a:srgbClr val="021832"/>
              </a:solidFill>
              <a:latin typeface="Foundry Form Sans"/>
            </a:endParaRPr>
          </a:p>
          <a:p>
            <a:pPr lvl="4" marL="1828800" algn="ctr">
              <a:spcBef>
                <a:spcPts val="451"/>
              </a:spcBef>
              <a:buClr>
                <a:srgbClr val="546583"/>
              </a:buClr>
              <a:buFont typeface="Foundry Form San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21832"/>
                </a:solidFill>
                <a:latin typeface="Foundry Form Sans"/>
              </a:rPr>
              <a:t>Fifth Outline Level</a:t>
            </a:r>
            <a:endParaRPr b="0" lang="en-US" sz="1800" spc="-1" strike="noStrike">
              <a:solidFill>
                <a:srgbClr val="021832"/>
              </a:solidFill>
              <a:latin typeface="Foundry Form Sans"/>
            </a:endParaRPr>
          </a:p>
          <a:p>
            <a:pPr lvl="5" marL="1828800">
              <a:spcBef>
                <a:spcPts val="451"/>
              </a:spcBef>
              <a:buClr>
                <a:srgbClr val="021832"/>
              </a:buClr>
              <a:buFont typeface="Foundry Form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21832"/>
                </a:solidFill>
                <a:latin typeface="Foundry Form Sans"/>
              </a:rPr>
              <a:t>Sixth Outline Level</a:t>
            </a:r>
            <a:endParaRPr b="0" lang="en-US" sz="1800" spc="-1" strike="noStrike">
              <a:solidFill>
                <a:srgbClr val="021832"/>
              </a:solidFill>
              <a:latin typeface="Foundry Form Sans"/>
            </a:endParaRPr>
          </a:p>
          <a:p>
            <a:pPr lvl="6" marL="1828800">
              <a:spcBef>
                <a:spcPts val="451"/>
              </a:spcBef>
              <a:buClr>
                <a:srgbClr val="021832"/>
              </a:buClr>
              <a:buFont typeface="Foundry Form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21832"/>
                </a:solidFill>
                <a:latin typeface="Foundry Form Sans"/>
              </a:rPr>
              <a:t>Seventh Outline Level</a:t>
            </a:r>
            <a:endParaRPr b="0" lang="en-US" sz="1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18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480" y="1752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oundry Form Sans"/>
              </a:rPr>
              <a:t>London and the UK Economy</a:t>
            </a:r>
            <a:endParaRPr b="1" lang="en-US" sz="40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752480" y="3032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oundry Form San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undry Form Sans"/>
              </a:rPr>
              <a:t>Duncan Melville</a:t>
            </a:r>
            <a:endParaRPr b="0" lang="en-US" sz="2400" spc="-1" strike="noStrike">
              <a:solidFill>
                <a:srgbClr val="ffffff"/>
              </a:solidFill>
              <a:latin typeface="Foundry Form San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undry Form Sans"/>
              </a:rPr>
              <a:t>Senior Economist, GLA Economics</a:t>
            </a:r>
            <a:endParaRPr b="0" lang="en-US" sz="2400" spc="-1" strike="noStrike">
              <a:solidFill>
                <a:srgbClr val="ffffff"/>
              </a:solidFill>
              <a:latin typeface="Foundry Form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Inflow early in individuals’ careers and then outflow later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06400" y="1392120"/>
            <a:ext cx="681048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Analysis of migration shows: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52080" y="1522080"/>
            <a:ext cx="765972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No one way “brain drain” to London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Rather London acts as training ground 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London gains from the net inflow of talented young people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Rest of the UK gains when people migrate out of London later in their careers taking their skills and experience with them.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Commuting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52080" y="1522080"/>
            <a:ext cx="765972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Commuting helps to integrate London’s housing &amp; labour markets with those in Greater South East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Just under a fifth of London’s jobs are filled by commuters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Around one in ten of employed residents of South East and East of England regions are employed in London.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Commuting 1991-2001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52080" y="1522080"/>
            <a:ext cx="765972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Census data: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1991  In:    673,000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         </a:t>
            </a: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Out:  150,000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         </a:t>
            </a: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Net:  523,000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2001 In:     723,000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         </a:t>
            </a: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Out:  236,000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          </a:t>
            </a: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Net: 487,000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Commuting Trends 1992-2003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8440" y="785880"/>
            <a:ext cx="911556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Commuters in senior occupations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50880" y="1689120"/>
            <a:ext cx="646596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In Commuters more prevalent in Finance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571760" y="1238400"/>
            <a:ext cx="7070760" cy="58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Trade and Specialisation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52080" y="1522080"/>
            <a:ext cx="765972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Trade is driven by specialisation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Individuals, regions, and nations specialise in certain activities and then trade to obtain other goods and services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So the more different the structure of the London economy is from the rest of the UK, the more the potential for gains from trade.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London’s economy is different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81160" y="1298520"/>
            <a:ext cx="668016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287280" y="166680"/>
          <a:ext cx="8856720" cy="5807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66680"/>
                    <a:ext cx="8856720" cy="580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What is GLA Economics?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52080" y="1522080"/>
            <a:ext cx="765972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undry Form Sans"/>
              </a:rPr>
              <a:t>GLA Economics provides expert advice and analysis on London's economy and the economic issues facing the capital. 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undry Form Sans"/>
              </a:rPr>
              <a:t>The unit is funded by the Greater London Authority, Transport for London and the London Development Agency (LDA).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London’s specialist strengths: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2080" y="1522080"/>
            <a:ext cx="765972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Almost all in service sector requiring workers with high levels of human capital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25800" indent="-32580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Bulk of identified specialist strengths produce intermediate products sold to other businesses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25800" indent="-32580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Highly interrelated – finance, business services, ICT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25800" indent="-32580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Often co-located e.g. City obvious centre of finance but 36% of employment in business services.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Agglomeration benefits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52080" y="1522080"/>
            <a:ext cx="765972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Specialist input services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Specialised labour forces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Knowledge spillovers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Challenge from competitive neighbours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Productivity Benefits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065240" y="1411200"/>
            <a:ext cx="6688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Agglomeration benefits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52080" y="1522080"/>
            <a:ext cx="765972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A doubling of “City Type” financial and business services reduces unit costs by around 18 per cent.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32640" indent="-33264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UK – low cost of capital on OECD – both lending rate and spread between deposit and lending rates.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32640" indent="-33264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For UK business the strength of performance of London’s corporate orientated F&amp;B sector is a key source of competitive advantage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London’s regional trade patterns reflect its specialisations. 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28680" y="1467000"/>
            <a:ext cx="791532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London’s international trade pattern is distinct.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200240" y="1366920"/>
            <a:ext cx="794376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London is a World City (whatever that is)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2080" y="1522080"/>
            <a:ext cx="765972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World Cities house corporate HQs, corporate financial services and related business services.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05280" indent="-3052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Together this bundle of activities allows business establishments within world cities to coordinate economic activity across the world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05280" indent="-3052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Empirical analysis centred on the presence &amp; connectedness of finance &amp; business services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05280" indent="-3052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London ranked 1, Manchester 101, Birmingham 106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London’s Global Linkages (1)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238400" y="1279440"/>
            <a:ext cx="790560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London’s Global Linkages (2)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125360" y="1406520"/>
            <a:ext cx="709956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London is a global centre of finance and business services.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77840" y="1386000"/>
            <a:ext cx="735660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This seminar is based on: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2080" y="1522080"/>
            <a:ext cx="765972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GLA Economics Report – “Growing Together: London and the UK Economy”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Available at: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http://www.london.gov.uk/gla/publications/economy.jsp#growing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And this benefits UK business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52080" y="1522080"/>
            <a:ext cx="765972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Potential demand for London’s finance and business services is global. 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32640" indent="-33264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The magnitude of this potential global demand is a key driving force supporting the concentration of these activities in London.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32640" indent="-33264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This leads to greater agglomeration benefits boosting the performance of London’s F&amp;B sectors – to the benefits of its customers.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Attracts Corporate HQs to London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52080" y="1522080"/>
            <a:ext cx="765972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Concentration of strongly performing F&amp;B encourages location of corporate HQs in London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33% of European HQs of Fortune Global 500 companies – well ahead of Paris on 9%, Brussels 6%.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International HQs if not in London are unlikely to be elsewhere in the UK.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Cosmopolitan nature of London is attractive to international migrants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031760" y="1370160"/>
            <a:ext cx="76266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Tax and Public Spending in London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52080" y="1522080"/>
            <a:ext cx="765972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Previous estimates of tax raised in, and public spending in London have consistently suggested that the former outweighs the latter.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32640" indent="-33264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So London exports taxes. Only right as London is </a:t>
            </a:r>
            <a:r>
              <a:rPr b="0" i="1" lang="en-US" sz="2800" spc="-1" strike="noStrike">
                <a:solidFill>
                  <a:srgbClr val="021832"/>
                </a:solidFill>
                <a:latin typeface="Foundry Form Sans"/>
              </a:rPr>
              <a:t>on average</a:t>
            </a: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 a relatively well off part of the country.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32640" indent="-33264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First time we have undertaken a historical analysed this issue – for 1989/90 to 2002/03.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London’s tax export increases with London’s output growth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90520" y="1471680"/>
            <a:ext cx="705024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UK fiscal policy also affects London’s tax export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058760" y="1393920"/>
            <a:ext cx="7477200" cy="54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London’s tax export: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52080" y="1522080"/>
            <a:ext cx="765972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Between £2 bn and £9 bn in 2002/03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London’s contribution to the nation’s coffers is greater the stronger the performance of the London economy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Hence public investment in London to underpin its economic performance is of benefit to the whole of the UK not just London and Londoners.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Summary and Conclusions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52080" y="1522080"/>
            <a:ext cx="765972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London’s contribution to UK rest on its distinctiveness within the UK economy.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Economic growth in London and the rest of the UK move in tandem.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London continues to export taxes to the rest of the UK and was the source of a very large part of the UK public sector financial surpluses of the late 1990s / early 2000s. 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Three views of London UK relationship: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52080" y="1522080"/>
            <a:ext cx="765972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London grows at the expense of the rest of the UK / “the North”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London is </a:t>
            </a:r>
            <a:r>
              <a:rPr b="1" i="1" lang="en-US" sz="2800" spc="-1" strike="noStrike">
                <a:solidFill>
                  <a:srgbClr val="021832"/>
                </a:solidFill>
                <a:latin typeface="Foundry Form Sans"/>
              </a:rPr>
              <a:t>the</a:t>
            </a: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 driver of the UK economy 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Both these views are incorrect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Relationship is one of mutual and positive interdependency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Growth in London and UK moved in tandem for at least 20 years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333440" y="1887480"/>
            <a:ext cx="781056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Many channels via which London and UK interact. Here consider: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52080" y="1522080"/>
            <a:ext cx="765972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Migration and Commuting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Trade and Specialisation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London’s role as a World City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  <a:p>
            <a:pPr marL="343080" indent="-343080">
              <a:spcBef>
                <a:spcPts val="700"/>
              </a:spcBef>
              <a:buClr>
                <a:srgbClr val="5465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1832"/>
                </a:solidFill>
                <a:latin typeface="Foundry Form Sans"/>
              </a:rPr>
              <a:t>London’s Tax Export</a:t>
            </a:r>
            <a:endParaRPr b="0" lang="en-US" sz="2800" spc="-1" strike="noStrike">
              <a:solidFill>
                <a:srgbClr val="021832"/>
              </a:solidFill>
              <a:latin typeface="Foundry Form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More out, than in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432080" y="1276200"/>
            <a:ext cx="74563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Net influx into London by people in their early to mid 20s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77920" y="1698480"/>
            <a:ext cx="7966080" cy="43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2080" y="107640"/>
            <a:ext cx="76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oundry Form Sans"/>
              </a:rPr>
              <a:t>Probably a net inflow of high skilled</a:t>
            </a:r>
            <a:endParaRPr b="1" lang="en-US" sz="3600" spc="-1" strike="noStrike">
              <a:solidFill>
                <a:srgbClr val="ffffff"/>
              </a:solidFill>
              <a:latin typeface="Foundry Form Sans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87680" y="1251000"/>
            <a:ext cx="654516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2:33:13Z</dcterms:created>
  <dc:creator>Eliza Croker</dc:creator>
  <dc:description/>
  <dc:language>en-US</dc:language>
  <cp:lastModifiedBy>ITServices</cp:lastModifiedBy>
  <dcterms:modified xsi:type="dcterms:W3CDTF">2005-05-03T09:41:03Z</dcterms:modified>
  <cp:revision>31</cp:revision>
  <dc:subject/>
  <dc:title>PowerPoint Presentation</dc:title>
</cp:coreProperties>
</file>