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A19F-9237-4118-9018-11400B0F4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5B5B-7EEF-494D-B8C7-0983DE54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433B-4DF5-400B-8F60-8007392A5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7A8E-CF39-404A-A93B-ADA017744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5548-AA39-4AEB-9500-4D3A013C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E807-11D4-498F-9C45-C43D1879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E3AD-F4C2-4D27-AFF2-5FD2D050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0B10-918E-4F95-95BC-50A2E352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B6AD-D1D6-4171-B6CC-69C93D52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D97D-F96C-4E04-B8DD-F788810C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530A-F45D-4FA0-89F7-3054D261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01FB-24AF-461A-85D1-A1CC4B78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1DAC-6271-42DA-A872-3C741B1D0C5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99"/>
                </a:solidFill>
                <a:latin typeface="Arial"/>
                <a:ea typeface="SimSun"/>
              </a:rPr>
              <a:t>Effective Cross-Border </a:t>
            </a:r>
            <a:br>
              <a:rPr sz="4400"/>
            </a:br>
            <a:r>
              <a:rPr b="0" lang="en-GB" sz="4400" spc="-1" strike="noStrike">
                <a:solidFill>
                  <a:srgbClr val="ffcc99"/>
                </a:solidFill>
                <a:latin typeface="Arial"/>
                <a:ea typeface="SimSun"/>
              </a:rPr>
              <a:t>Regional Planning? </a:t>
            </a:r>
            <a:br>
              <a:rPr sz="4400"/>
            </a:br>
            <a:br>
              <a:rPr sz="44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SimSun"/>
              </a:rPr>
              <a:t>London and the Rest of the South East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SimSun"/>
              </a:rPr>
              <a:t>Martin Simm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-171720"/>
            <a:ext cx="932508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South East draft RSS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(1 / 2)</a:t>
            </a: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Jan 05 current pre-submission consul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939636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SimSun"/>
              </a:rPr>
              <a:t>Core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SimSun"/>
              </a:rPr>
              <a:t>Focus development on TG and other eastern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SimSun"/>
              </a:rPr>
              <a:t>Housing not matching employment in the w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SimSun"/>
              </a:rPr>
              <a:t>Issues Ar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SimSun"/>
              </a:rPr>
              <a:t>Employmen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SimSun"/>
              </a:rPr>
              <a:t> projections need London dim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SimSun"/>
              </a:rPr>
              <a:t>Labour marke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SimSun"/>
              </a:rPr>
              <a:t> imbalances in TG/e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SimSun"/>
              </a:rPr>
              <a:t>Transpor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SimSun"/>
              </a:rPr>
              <a:t> focus on Hubs not carried thr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SimSun"/>
              </a:rPr>
              <a:t>Town cent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SimSun"/>
              </a:rPr>
              <a:t> policy needs coherence (cf. polycentric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SimSun"/>
              </a:rPr>
              <a:t>Implications/solutions sought within own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SimSun"/>
              </a:rPr>
              <a:t>Sub-Regional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SimSun"/>
              </a:rPr>
              <a:t>Definitional problem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SimSun"/>
              </a:rPr>
              <a:t>: London Fringe; Gatwick Area; W Corri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SimSun"/>
              </a:rPr>
              <a:t>London Fring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SimSun"/>
              </a:rPr>
              <a:t>: lack of relationship with South Lond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SimSun"/>
              </a:rPr>
              <a:t>Dominant cent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SimSun"/>
              </a:rPr>
              <a:t> (Croydon, Kingston)  ign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SimSun"/>
              </a:rPr>
              <a:t>Gatwick Are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SimSun"/>
              </a:rPr>
              <a:t>; excludes Redhill hub and Croydon corri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SimSun"/>
              </a:rPr>
              <a:t>Further work envisaged:  ?London dimension?  SRDF link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South East draft RSS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2 / 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8820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SimSun"/>
              </a:rPr>
              <a:t>Western Corridor / Western W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SimSun"/>
              </a:rPr>
              <a:t>Draft Sub-Regional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SimSun"/>
              </a:rPr>
              <a:t>Key Issue – more jobs than work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SimSun"/>
              </a:rPr>
              <a:t>Can economic buoyancy be sust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SimSun"/>
              </a:rPr>
              <a:t>Fails to answer: against faster hou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SimSun"/>
              </a:rPr>
              <a:t>Joint 2002 study (Arup) promotes Western Wedge 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SimSun"/>
              </a:rPr>
              <a:t>London Plan endor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SimSun"/>
              </a:rPr>
              <a:t>SEERA strategy ignores   (so far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SimSun"/>
              </a:rPr>
              <a:t>Need for further work acknowled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SimSun"/>
              </a:rPr>
              <a:t>But purpose not indi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SimSun"/>
              </a:rPr>
              <a:t>Should it become a ‘Sustainable Communities Plan Growth are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SimSun"/>
              </a:rPr>
              <a:t>Or should the implications of restraint be faced up to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SimSun"/>
              </a:rPr>
              <a:t>Advantages of an integrated Western Wedge sub-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SimSun"/>
              </a:rPr>
              <a:t>Nb. Heathrow; Crossrail; Centre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SimSun"/>
              </a:rPr>
              <a:t>          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SimSun"/>
              </a:rPr>
              <a:t>Development and labour capacit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SimSun"/>
              </a:rPr>
              <a:t>Chance to improve: West London SRDF; South East E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SimSun"/>
              </a:rPr>
              <a:t>Or danger of serious regional planning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438280" y="186696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590920" y="20192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2743200" y="21718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2895480" y="232416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3048120" y="24764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3200400" y="26290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3352680" y="278136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9"/>
          <a:stretch/>
        </p:blipFill>
        <p:spPr>
          <a:xfrm>
            <a:off x="3505320" y="2933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79280" y="907920"/>
            <a:ext cx="8964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s of Mar 05, evidence largely confirms starting pro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224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ndon Plan intentions there, but no real delivery y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224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SimSun"/>
              </a:rPr>
              <a:t>Key tests later this year: London SRDFs; East of England EiP; South East submitted R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224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SimSun"/>
              </a:rPr>
              <a:t>Is the London Mayor able to lead on effective collabor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224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SimSun"/>
              </a:rPr>
              <a:t>Or will Government need to act, extending the Growth Area strate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224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SimSun"/>
              </a:rPr>
              <a:t>Are SEERA and EERA sustainable as Regional Planning Bod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-171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99"/>
                </a:solidFill>
                <a:latin typeface="Arial"/>
                <a:ea typeface="SimSun"/>
              </a:rPr>
              <a:t>Pro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425080" cy="48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sent organisation of regional planning inhibits effective planning for the wider functional metropolitan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London boundary is a planning barri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438280" y="186696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590920" y="20192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743200" y="21718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895480" y="232416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3048120" y="24764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3200400" y="26290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3352680" y="278136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3505320" y="2933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1844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Regional Planning Administration post-2000 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fter SERPLAN and RPG 9)</a:t>
            </a:r>
            <a:br>
              <a:rPr sz="3200"/>
            </a:b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351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 region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yor of London: prepares and after EiP publishes SDS &gt;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ondon Pla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ast of England &amp; South East Regional Assemblies: 2004 PCP Act - prepare draft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S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, EiP, Government modifies and publishes – 2006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Key Inter-Regional/Functional Metropolitan Region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24880" indent="-142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opulatio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: extent of movement out of London and housing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24880" indent="-142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abour Marke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: central London’s reach; cross-border commuting in and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24880" indent="-142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cation of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conomic developmen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: central London; locations beyond M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24880" indent="-142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ndon Plan and SCP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rowth Area Spatial Strategi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: key corri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24880" indent="-142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olycentricit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: ‘hub’ growth – competing or complementar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24880" indent="-142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ranspor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: road use/congestion; rail route utilisation strategies/ Mayoral p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24880" indent="-142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vironmen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: green belt; waste/recycling,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ames Gate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1269720"/>
            <a:ext cx="874872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sui generis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- established regeneration area straddling the 3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overnment-led since 1995 (RPG 9a) &gt; Sustainable Communities Plan Growth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ter-Regional Forum produces 2004 joint planning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London Plan 2004 </a:t>
            </a:r>
            <a:br>
              <a:rPr sz="4000"/>
            </a:b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Cross-border inten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91440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43020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entre of a metropolitan region’: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ter-regional collaboration acknowled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43020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ub-regional scale: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velopment frameworks (SRDFs) to involve adjoining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ituation/evidence to da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43020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ter-Regional Forum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5 reps. each) meets 3 times/year; agrees joint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43020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  <a:tab algn="l" pos="5500800"/>
                <a:tab algn="l" pos="576252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merging SRDFs: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tent there, but no real collaboration ev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09480" y="-27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London Plan Key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4920" y="1055520"/>
            <a:ext cx="910908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East of England draft RSS 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Dec 04 current consul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8920" y="1773000"/>
            <a:ext cx="87598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re strategy refers to London influence, but no policy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b-regional strategies ignore adjacent parts of London, particularly evident in ‘Stansted/M11’ part of London-Stansted-Cambridge SCP Growth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pportunity to rectify at EiP this autu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6T00:43:39Z</dcterms:created>
  <dc:creator>Suzanne Maguire</dc:creator>
  <dc:description/>
  <dc:language>en-US</dc:language>
  <cp:lastModifiedBy>ITServices</cp:lastModifiedBy>
  <dcterms:modified xsi:type="dcterms:W3CDTF">2005-05-03T09:47:55Z</dcterms:modified>
  <cp:revision>15</cp:revision>
  <dc:subject/>
  <dc:title>London Regional Situation</dc:title>
</cp:coreProperties>
</file>