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F14-5BB9-43C0-9E41-CAA90B7E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991-FD04-425D-B858-A3D0FD6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139-1247-45A3-B0D9-75D3411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75C-69A9-40A6-97C5-27241C0A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93-BCB4-4B6E-B518-89668279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75F-9545-4646-AF67-ED477725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864-7A51-4938-BCB3-2135421C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AD2-D846-4783-8108-82756C71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B1D-7EE2-49F5-93C5-0FCA6424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76C-EA7B-41AF-B611-A596159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E31-991B-4F92-9DC8-9280642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F27-A042-4897-B3EC-BFD8F516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8347-32AC-4C12-BBFB-71D2F14183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Effective Cross-Border </a:t>
            </a:r>
            <a:br>
              <a:rPr sz="4400"/>
            </a:b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Regional Planning? 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London and the Rest of the South East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Martin Si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32508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South East draft RS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1 / 2)</a:t>
            </a: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n 05 current pre-submission consul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9396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Cor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Focus development on TG and other easter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Housing not matching employment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Issues Ar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Employme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projections need Londo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Labour mark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imbalances in TG/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Transpor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focus on Hubs not carried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Town cent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policy needs coherence (cf. polycentr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Implications/solutions sought within own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Sub-Regional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Definitional problem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: London Fringe; Gatwick Area; W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London Fring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: lack of relationship with South Lon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Dominant cent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(Croydon, Kingston) 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Gatwick Ar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; excludes Redhill hub and Croydon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Further work envisaged:  ?London dimension?  SRDF lin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South East draft RS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2 / 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Western Corridor / Western W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Draft Sub-Regional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Key Issue – more jobs than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Can economic buoyancy be sus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Fails to answer: against faster 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Joint 2002 study (Arup) promotes Western Wedg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London Plan end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SEERA strategy ignores   (so fa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Need for further work acknowled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But purpose not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Should it become a ‘Sustainable Communities Plan Growth are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Or should the implications of restraint be faced up to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Advantages of an integrated Western Wedge sub-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Nb. Heathrow; Crossrail; Cent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Development and labour capac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Chance to improve: West London SRDF; South East E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Or danger of serious regional planning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38280" y="1866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90920" y="2019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2171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895480" y="23241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8120" y="24764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3200400" y="2629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352680" y="2781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505320" y="2933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90792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of Mar 05, evidence largely confirms starting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don Plan intentions there, but no real delivery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Key tests later this year: London SRDFs; East of England EiP; South East submitted R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Is the London Mayor able to lead on effective collabo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Or will Government need to act, extending the Growth Area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Are SEERA and EERA sustainable as Regional Planning Bo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-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Pro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organisation of regional planning inhibits effective planning for the wider functional metropolita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ondon boundary is a planning barri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1866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90920" y="2019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3200" y="2171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95480" y="23241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48120" y="24764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200400" y="2629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352680" y="2781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505320" y="2933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Regional Planning Administration post-2000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SERPLAN and RPG 9)</a:t>
            </a:r>
            <a:br>
              <a:rPr sz="32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reg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or of London: prepares and after EiP publishes SDS &gt;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don Pla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t of England &amp; South East Regional Assemblies: 2004 PCP Act - prepare draf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, EiP, Government modifies and publishes – 200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Key Inter-Regional/Functional Metropolitan Reg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extent of movement out of London and housing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bour Marke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central London’s reach; cross-border commuting in an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ion of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central London; locations beyond M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Plan and SCP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wth Area Spatial Strateg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key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ly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‘hub’ growth – competing or complementa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road use/congestion; rail route utilisation strategies/ Mayo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green belt; waste/recycling,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ames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9720"/>
            <a:ext cx="87487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ui generi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- established regeneration area straddling the 3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overnment-led since 1995 (RPG 9a) &gt; Sustainable Communities Plan Growth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-Regional Forum produces 2004 joint plann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London Plan 2004 </a:t>
            </a: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Cross-border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ntre of a metropolitan region’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-regional collaboration 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b-regional scal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frameworks (SRDFs) to involve adjoining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tuation/evidence to d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-Regional Forum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5 reps. each) meets 3 times/year; agrees join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merging SRDFs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nt there, but no real collaboration ev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-27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London Plan Key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1055520"/>
            <a:ext cx="91090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ast of England draft RSS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 04 current consul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598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e strategy refers to London influence, but no policy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-regional strategies ignore adjacent parts of London, particularly evident in ‘Stansted/M11’ part of London-Stansted-Cambridge SCP Growt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portunity to rectify at EiP this 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0:43:39Z</dcterms:created>
  <dc:creator>Suzanne Maguire</dc:creator>
  <dc:description/>
  <dc:language>en-US</dc:language>
  <cp:lastModifiedBy>ITServices</cp:lastModifiedBy>
  <dcterms:modified xsi:type="dcterms:W3CDTF">2005-05-03T09:47:55Z</dcterms:modified>
  <cp:revision>15</cp:revision>
  <dc:subject/>
  <dc:title>London Regional Situation</dc:title>
</cp:coreProperties>
</file>