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4e4e4"/>
              </a:gs>
              <a:gs pos="50000">
                <a:srgbClr val="ffffff"/>
              </a:gs>
              <a:gs pos="100000">
                <a:srgbClr val="e4e4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4928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e4e4e4"/>
              </a:gs>
              <a:gs pos="50000">
                <a:srgbClr val="ffffff"/>
              </a:gs>
              <a:gs pos="100000">
                <a:srgbClr val="e4e4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4e4e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4e4e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e4e4e4"/>
              </a:gs>
              <a:gs pos="50000">
                <a:srgbClr val="ffffff"/>
              </a:gs>
              <a:gs pos="100000">
                <a:srgbClr val="e4e4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4e4e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5575320"/>
            <a:ext cx="9283680" cy="1371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don, February 200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g Clar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SE  Seminar Programm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practitioners do with urban resear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 years of urban and regional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don and World C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&amp; L/LPAC 1990 to Working Capital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ties and Urban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the Impact of Urban Policy 1996 to State of the Cities 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ban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 BIDs, 1996 study, 2004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Practitioner Perspec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ing from oth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ract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Good and B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; not poli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ors that promote effective imple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ors that inhibit effective imple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ea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chie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n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not just 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copying policies from elsewhere without understanding what makes them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trategy and policy is very important but meaningless without imple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implementation occurs even without good strategy and polic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the reality of how to get things 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luence policy to make it more implementation-rea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ECD city responses to Globalisation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pportunities and challenges. 1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sion, strategy, foresight, resource mobilisation, alig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arcelona, Melbourne, Tur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dentity, Marketing, Branding, Promo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ntreal, Sydney, Frankfu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nectivity, Openness, Internal and External Recep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is, Athens, Ams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ality of Life/Place and Public service excellence, esp workfo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ancouver, Melbourne, Vienna, Copenh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tropolitan and city regional scale and govern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shington DC, Toronto, London, Auck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jor Catalytic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rcelona, Bilbao, Turin, Mi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ECD city responses to Globalisation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pportunities and challenges. 7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erse Economy, Productive/Innovative Milieu. Business Netwo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lsinki, Los Angeles, Ly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w national interface. Clout and flexible inves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w York, Berlin, Dubl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w population access and sett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ami, Toronto, Lond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the Urban Management tool 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hicago, Berlin, London, Rome, Rotterd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conomic Inclusion pa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lasgow, Dublin, Amsterd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eating Assets and Building Capa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, Philadelphi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ECD city initiatives for economic i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bour market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formal economy strate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vestment instruments with local rea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ttlement and conversion program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ew forms of entrepreneur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urement and supply chain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ople and place progressing together. Place equ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rporate responsibility and tackling discrimin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01-07-09T07:51:38Z</cp:lastPrinted>
  <dcterms:modified xsi:type="dcterms:W3CDTF">2004-02-23T18:01:05Z</dcterms:modified>
  <cp:revision>28</cp:revision>
  <dc:subject/>
  <dc:title>No Slide Title</dc:title>
</cp:coreProperties>
</file>